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006B-7682-48E0-848C-3E213D4DCE7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C60B-B6B2-4F17-A0DA-5A12B29940D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4973-83C1-41A5-B4DE-7862FBA8E5D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BABC-09BE-4E1B-94E9-304F77A9A73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AFA5-C6B1-4570-93E8-24528C7BB53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9BA9-9CC0-4229-9EEC-9B3481AF8E1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7ADB-D8DC-4F12-B3DC-D45A07E0231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4A3F-7842-4574-81E8-E70D9438D98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3193-A936-436C-B00F-A6917CE1C50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2CD1-02E5-4C8B-842E-0B99FAAA809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zepisy wskazane powyżej stanowią podstawę dla realizacji działań polegających na wyborze przez IZ RPO instrumentów inżynierii finansowej takich jak fundusze pożyczkowe i poręczeniow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B3F9-FFC3-4A02-B097-038300D0EA8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4591-E105-4D60-8281-E7B274C0E4C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8458-7A2B-44DA-B7D5-F95207A5AEB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B698-C68C-4ED4-ABD3-8868E80DABE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ED58-78CF-4C6A-A2A8-033AF4544DA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9618-9B58-4130-A696-4EB6847FD8D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BEA1-4E45-45E3-B8D6-39136EB1954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1900-25FB-4DE9-B814-6233A6F81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BBD0-CEF8-4E4C-9E29-8DD2E20A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7775-E0D6-4F4F-8EC4-BE8C4B2C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0C7E-A42C-4638-B3B6-666BB93BF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D6C8-F527-4D56-B425-34BE7F81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DAFA-40D6-4B42-AF8A-F654EB53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04F2-B1FA-49BA-9633-734FCC39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15EE-52B5-4C39-89DD-4223DDE7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35FA-10A3-4C09-BD77-1F0F297F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E110-AEA5-4672-81C0-8B3B1FB2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E965-770C-4EA5-9223-CB4A8C7C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525D-0249-4672-8E4B-03C8FA7E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9145-4FD0-44A1-AF23-FFB7BE4FF011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Polityki Regional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857160" y="1785960"/>
            <a:ext cx="778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54" name="Prostokąt 7"/>
          <p:cNvSpPr/>
          <p:nvPr/>
        </p:nvSpPr>
        <p:spPr>
          <a:xfrm>
            <a:off x="928800" y="1643040"/>
            <a:ext cx="785808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000000"/>
                </a:solidFill>
                <a:latin typeface="Corbel"/>
              </a:rPr>
              <a:t>Zasady udzielania wsparc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400" spc="-1" strike="noStrike">
                <a:solidFill>
                  <a:srgbClr val="000000"/>
                </a:solidFill>
                <a:latin typeface="Corbel"/>
              </a:rPr>
              <a:t>instrumentom inżynierii finansowej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orbel"/>
              </a:rPr>
              <a:t>Toruń, wrzesień 2009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Polityki Regional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857160" y="1428840"/>
            <a:ext cx="778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34" name="Prostokąt 7"/>
          <p:cNvSpPr/>
          <p:nvPr/>
        </p:nvSpPr>
        <p:spPr>
          <a:xfrm>
            <a:off x="928800" y="1571760"/>
            <a:ext cx="77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rostokąt 8"/>
          <p:cNvSpPr/>
          <p:nvPr/>
        </p:nvSpPr>
        <p:spPr>
          <a:xfrm>
            <a:off x="928800" y="1571760"/>
            <a:ext cx="79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rostokąt 9"/>
          <p:cNvSpPr/>
          <p:nvPr/>
        </p:nvSpPr>
        <p:spPr>
          <a:xfrm>
            <a:off x="1000080" y="2000160"/>
            <a:ext cx="77868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orbel"/>
              </a:rPr>
              <a:t>11. 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Pożyczki/poręczenia będą udzielane przedsiębiorcom „na etapie ich powstawania, wczesnej działalności (włącznie z kapitałem na rozruch) lub przy rozszerzaniu działalności tych przedsiębiorstw, i tylko w działania, które osoby zarządzające instrumentami inżynierii finansowej oceniają jako </a:t>
            </a:r>
            <a:r>
              <a:rPr b="1" lang="pl-PL" sz="1800" spc="-1" strike="noStrike">
                <a:solidFill>
                  <a:srgbClr val="000000"/>
                </a:solidFill>
                <a:latin typeface="Corbel"/>
              </a:rPr>
              <a:t>potencjalnie gospodarczo rentowne” 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(art. 45 Rozporządzenia 1828/200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Ocena rentowności gospodarczej działań inwestycyjnych w ramach instrumentu inżynierii finansowej (art. 43(2) Rozporządzenia 1828/200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orbel"/>
              </a:rPr>
              <a:t>Rentowność wsparcia w ramach instrumentu inżynierii finansowej jest wobec tego istotna przy podejmowaniu decyzji o dokonaniu wkładu na rzecz przedsiębiorst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Corbel"/>
              </a:rPr>
              <a:t>Zakaz inwestowania w przedsiębiorstwa, które znajdują się w trudnej sytuacji w rozumieniu </a:t>
            </a:r>
            <a:r>
              <a:rPr b="1" i="1" lang="pl-PL" sz="1800" spc="-1" strike="noStrike">
                <a:solidFill>
                  <a:srgbClr val="ff0000"/>
                </a:solidFill>
                <a:latin typeface="Corbel"/>
              </a:rPr>
              <a:t>Wytycznych wspólnotowych dotyczących pomocy państwa w celu ratowania i restrukturyzacji zagrożonych przedsiębiorstw (Dz. U. UE C 244 z 1.10.2004r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rostokąt 10"/>
          <p:cNvSpPr/>
          <p:nvPr/>
        </p:nvSpPr>
        <p:spPr>
          <a:xfrm>
            <a:off x="2341440" y="1428840"/>
            <a:ext cx="446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22268"/>
                </a:solidFill>
                <a:latin typeface="Corbel"/>
              </a:rPr>
              <a:t>Zasady wsparcia pośredników finansow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Polityki Regional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857160" y="1785960"/>
            <a:ext cx="778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44" name="Prostokąt 7"/>
          <p:cNvSpPr/>
          <p:nvPr/>
        </p:nvSpPr>
        <p:spPr>
          <a:xfrm>
            <a:off x="857160" y="1428840"/>
            <a:ext cx="785808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Corbel"/>
              </a:rPr>
              <a:t>Podmiot w trudnej sytuacji ekonomiczn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ffff00"/>
              </a:buClr>
              <a:buSzPct val="150000"/>
              <a:buFont typeface="Corbe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rbel"/>
              </a:rPr>
              <a:t>Przedsiębiorstwo zagrożone</a:t>
            </a:r>
            <a:r>
              <a:rPr b="0" lang="en-GB" sz="1800" spc="-1" strike="noStrike">
                <a:solidFill>
                  <a:srgbClr val="000000"/>
                </a:solidFill>
                <a:latin typeface="Corbe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rbel"/>
              </a:rPr>
              <a:t>przy pomocy środków własnych, ani środków, które mogłoby uzyskać od właścicieli (akcjonariuszy) lub wierzycieli, nie jest w stanie powstrzymać strat, które bez zewnętrznej interwencji władz publicznych prawie na pewno doprowadzą do zniknięcia z rynku przedsiębiorstwa w perspektywie krótko- lub średnioterminowe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ffff00"/>
              </a:buClr>
              <a:buSzPct val="150000"/>
              <a:buFont typeface="Corbe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rbel"/>
              </a:rPr>
              <a:t>Sztywne przesłanki przedsiębiorstwa zagrożonego (pkt. 10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rbel"/>
              </a:rPr>
              <a:t>ponad połowa kapitału spółki została utracona, w tym ponad ¼ w okresie ostatnich 12 miesięc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rbel"/>
              </a:rPr>
              <a:t>spółka spełnia przesłanki upadłoś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51"/>
              </a:spcBef>
              <a:buClr>
                <a:srgbClr val="ffff00"/>
              </a:buClr>
              <a:buSzPct val="150000"/>
              <a:buFont typeface="Corbe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rbel"/>
              </a:rPr>
              <a:t>Miękkie przesłanki przedsiębiorstwa zagrożonego (pkt. 1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5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rbel"/>
              </a:rPr>
              <a:t>rosnące straty, malejący obrót, zwiększanie się zapasów, nadwyżka produkcji, zmniejszający się przepływ środków finansowych, rosnące zadłużenie, rosnące kwoty odsetek, zmniejszająca się lub zerowa wartość aktywów net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Polityki Regional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857160" y="1785960"/>
            <a:ext cx="778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51" name="Prostokąt 7"/>
          <p:cNvSpPr/>
          <p:nvPr/>
        </p:nvSpPr>
        <p:spPr>
          <a:xfrm>
            <a:off x="1000080" y="1643040"/>
            <a:ext cx="75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rostokąt 9"/>
          <p:cNvSpPr/>
          <p:nvPr/>
        </p:nvSpPr>
        <p:spPr>
          <a:xfrm>
            <a:off x="1000080" y="328608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rostokąt 10"/>
          <p:cNvSpPr/>
          <p:nvPr/>
        </p:nvSpPr>
        <p:spPr>
          <a:xfrm>
            <a:off x="928800" y="1500120"/>
            <a:ext cx="8001000" cy="46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rbel"/>
              </a:rPr>
              <a:t>Podmiot w trudnej sytuacji ekonomicznej</a:t>
            </a:r>
            <a:r>
              <a:rPr b="1" lang="pl-PL" sz="2000" spc="-1" strike="noStrike">
                <a:solidFill>
                  <a:srgbClr val="ff0000"/>
                </a:solidFill>
                <a:latin typeface="Corbel"/>
              </a:rPr>
              <a:t> c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ffff00"/>
              </a:buClr>
              <a:buSzPct val="150000"/>
              <a:buFont typeface="Corbe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rbel"/>
              </a:rPr>
              <a:t>W przypadku spółki kapitałowe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rbel"/>
              </a:rPr>
              <a:t>strata z lat ubiegłych oraz strata z bieżącego roku podatkowego łącznie wynosiła więcej niż 50% kapitału zakładowego (założycielskiego, początkowego) spółki, or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rbel"/>
              </a:rPr>
              <a:t>strata z poprzedniego roku podatkowego będzie wynosiła więcej niż 25% kapitału zakładowego (założycielskiego, początkowego) spół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ffff00"/>
              </a:buClr>
              <a:buSzPct val="150000"/>
              <a:buFont typeface="Corbe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rbel"/>
              </a:rPr>
              <a:t>W przypadku podmiotu nie będącego spółką kapitałową –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rbel"/>
              </a:rPr>
              <a:t>strata z lat ubiegłych oraz strata z bieżącego roku podatkowego łącznie wynosiła więcej niż 50% majątku przedsiębiorstwa, or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rbel"/>
              </a:rPr>
              <a:t>strata z poprzedniego roku podatkowego będzie wynosiła więcej niż 25% majątku przedsiębiorst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buClr>
                <a:srgbClr val="ffff00"/>
              </a:buClr>
              <a:buSzPct val="150000"/>
              <a:buFont typeface="Corbe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rbel"/>
              </a:rPr>
              <a:t>Objęty postępowaniem upadłościowym (zgodnie z ustawą z dnia 28.02.2003 r. - 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Corbel"/>
              </a:rPr>
              <a:t>Prawo upadłościowe i naprawcze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buClr>
                <a:srgbClr val="ffff00"/>
              </a:buClr>
              <a:buSzPct val="150000"/>
              <a:buFont typeface="Corbe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rbel"/>
              </a:rPr>
              <a:t>Przedsiębiorca ubiegający się o pomoc na ratowanie i restrukturyzacj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Polityki Regional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59" name="Prostokąt 7"/>
          <p:cNvSpPr/>
          <p:nvPr/>
        </p:nvSpPr>
        <p:spPr>
          <a:xfrm>
            <a:off x="1000080" y="1643040"/>
            <a:ext cx="75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rostokąt 8"/>
          <p:cNvSpPr/>
          <p:nvPr/>
        </p:nvSpPr>
        <p:spPr>
          <a:xfrm>
            <a:off x="1285920" y="171468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rostokąt 9"/>
          <p:cNvSpPr/>
          <p:nvPr/>
        </p:nvSpPr>
        <p:spPr>
          <a:xfrm>
            <a:off x="1000080" y="328608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rostokąt 10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rostokąt 11"/>
          <p:cNvSpPr/>
          <p:nvPr/>
        </p:nvSpPr>
        <p:spPr>
          <a:xfrm>
            <a:off x="785880" y="1428840"/>
            <a:ext cx="7858080" cy="56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pl-PL" sz="1800" spc="-1" strike="noStrike">
                <a:solidFill>
                  <a:srgbClr val="000000"/>
                </a:solidFill>
                <a:latin typeface="Corbel"/>
              </a:rPr>
              <a:t>12. Recykling wkładów do MŚ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Wszelkie przychody osiągnięte dzięki gospodarowaniu środkami funduszu powiększają kapitał fundusz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Art. 78(7) Rozporządzenia nr 1083/2006  stanowi: „</a:t>
            </a:r>
            <a:r>
              <a:rPr b="0" i="1" lang="pl-PL" sz="1800" spc="-1" strike="noStrike">
                <a:solidFill>
                  <a:srgbClr val="000000"/>
                </a:solidFill>
                <a:latin typeface="Corbel"/>
              </a:rPr>
              <a:t>zasoby zwrócone na rzecz operacji z inwestycji dokonanych z funduszy (…) lub pozostałe po uwzględnieniu wszystkich gwarancji zostają powtórnie wykorzystane (…) na rzecz MŚP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W odniesieniu do funduszy pożyczkowych i poręczeniowych zasoby zwrócone obejmują </a:t>
            </a:r>
            <a:r>
              <a:rPr b="1" lang="pl-PL" sz="1800" spc="-1" strike="noStrike">
                <a:solidFill>
                  <a:srgbClr val="000000"/>
                </a:solidFill>
                <a:latin typeface="Corbel"/>
              </a:rPr>
              <a:t>odsetki, spłaty pożyczek oraz zyski kapitałowe 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(COCOF 08/0002/03-EN).</a:t>
            </a:r>
            <a:r>
              <a:rPr b="0" i="1" lang="pl-PL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orbel"/>
              </a:rPr>
              <a:t>Plan operacyjny 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(biznes plan) winien zawierać informacje na temat m.in. ponownego wykorzystania środków zwróconych do instrumentu inżynierii finansowej w następstwie inwestycji lub nadwyżek pozostałych po wykorzystaniu wszystkich gwarancji przypisanych do wkładu programu operacyjn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orbel"/>
              </a:rPr>
              <a:t>Strategia inwestycyjna 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– dokument określający główne kierunki  alokacji wkładu z programu operacyjnego (zał. do umowy o dofinansowani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orbe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Polityki Regional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69" name="Prostokąt 7"/>
          <p:cNvSpPr/>
          <p:nvPr/>
        </p:nvSpPr>
        <p:spPr>
          <a:xfrm>
            <a:off x="1000080" y="1643040"/>
            <a:ext cx="75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rostokąt 8"/>
          <p:cNvSpPr/>
          <p:nvPr/>
        </p:nvSpPr>
        <p:spPr>
          <a:xfrm>
            <a:off x="1357200" y="171468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rostokąt 9"/>
          <p:cNvSpPr/>
          <p:nvPr/>
        </p:nvSpPr>
        <p:spPr>
          <a:xfrm>
            <a:off x="1000080" y="328608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rostokąt 10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rostokąt 11"/>
          <p:cNvSpPr/>
          <p:nvPr/>
        </p:nvSpPr>
        <p:spPr>
          <a:xfrm>
            <a:off x="785880" y="3286080"/>
            <a:ext cx="7858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rostokąt 12"/>
          <p:cNvSpPr/>
          <p:nvPr/>
        </p:nvSpPr>
        <p:spPr>
          <a:xfrm>
            <a:off x="785880" y="1428840"/>
            <a:ext cx="8215200" cy="60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orbel"/>
              </a:rPr>
              <a:t>13. 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Fundusz powinien mieć wdrożony „</a:t>
            </a:r>
            <a:r>
              <a:rPr b="1" lang="pl-PL" sz="1800" spc="-1" strike="noStrike">
                <a:solidFill>
                  <a:srgbClr val="000000"/>
                </a:solidFill>
                <a:latin typeface="Corbel"/>
              </a:rPr>
              <a:t>standard organizacyjny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” oraz „</a:t>
            </a:r>
            <a:r>
              <a:rPr b="1" lang="pl-PL" sz="1800" spc="-1" strike="noStrike">
                <a:solidFill>
                  <a:srgbClr val="000000"/>
                </a:solidFill>
                <a:latin typeface="Corbel"/>
              </a:rPr>
              <a:t>standard świadczenia usług pożyczkowych/poręczeniowych (regulamin)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Corbel"/>
              </a:rPr>
              <a:t>Minimalny zakres postanowień regulaminu funduszu pożyczkowego  lub poręczeniowe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rbel"/>
              </a:rPr>
              <a:t>oznaczenie regulaminu oraz załączników (logotypy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orbel"/>
              </a:rPr>
              <a:t>postanowienia ogólne (definicje pojęć, w tym m.in. pożyczkobiorcy lub poręczeniobiorcy  (mikro, małe lub średnie przedsiębiorstwo w rozumieniu zał. 1 do Rozp. KE Nr 800/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orbel"/>
              </a:rPr>
              <a:t>wyraźne odniesienie do źródeł finansowania funduszu, w szczególności środków EFRR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Corbel"/>
              </a:rPr>
              <a:t>w ramach V Osi priorytetowej RPO WK-P Działanie 5.1.,  w tym określenie źródeł przychodów funduszu na etapie jego funkcjonowani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orbel"/>
              </a:rPr>
              <a:t>opis z możliwości skorzystania z pożyczek/poręczeń preferencyjnyc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orbel"/>
              </a:rPr>
              <a:t>opis grup docelowych, do których skierowana jest działalność fundusz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orbel"/>
              </a:rPr>
              <a:t>ograniczenia przedmiotow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rbel"/>
              </a:rPr>
              <a:t>warunki udzielania pożyczek/poręczeń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orbel"/>
              </a:rPr>
              <a:t>opis procedury przyznawania pożyczek/poręczeń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orbel"/>
              </a:rPr>
              <a:t>sposób i warunki wypłaty pożyczki/udzielenia poręczeni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orbel"/>
              </a:rPr>
              <a:t>zasady spłaty pożyczek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orbel"/>
              </a:rPr>
              <a:t>obowiązki pożyczkobiorcy/poręczeniobiorc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orbel"/>
              </a:rPr>
              <a:t>warunki wypowiedzenia umowy pożyczki/poręczeni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orbel"/>
              </a:rPr>
              <a:t>proponowane wzory podstawowych dokumentów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Polityki Regional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857160" y="1500120"/>
            <a:ext cx="778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81" name="Prostokąt 7"/>
          <p:cNvSpPr/>
          <p:nvPr/>
        </p:nvSpPr>
        <p:spPr>
          <a:xfrm>
            <a:off x="1000080" y="1643040"/>
            <a:ext cx="75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rostokąt 8"/>
          <p:cNvSpPr/>
          <p:nvPr/>
        </p:nvSpPr>
        <p:spPr>
          <a:xfrm>
            <a:off x="857160" y="1357200"/>
            <a:ext cx="8143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22268"/>
                </a:solidFill>
                <a:latin typeface="Corbel"/>
              </a:rPr>
              <a:t>Pomoc publiczna a inżynieria finanso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Co do zasady narzędzie inwestycyjne  samo w sobie  nie jest beneficjentem pomocy, jest bowiem narzędziem pośrednim dla transferu pomocy dla przedsiębiorstw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w które się inwestuje. Warunkiem koniecznym jest aby inwestycja dokonywana była na warunkach , które byłyby możliwe do przyjęcia dla normalnego podmiotu gospodarczego w kontekście gospodarki rynkowe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orbel"/>
              </a:rPr>
              <a:t>Pkt 3.2. Wytycznych wspólnotowych w sprawie pomocy państwa na wspieranie inwestycji kapitału podwyższonego ryzyka w MŚP (Dz.Urz. UE C 194 z 18.08.2006): „pomoc dla zarządców funduszu lub przedsiębiorstwa zarządzającego funduszem występuje wtedy, gdy ich wynagrodzenie nie odzwierciedla w pełni poziomu wynagrodzenia rynkowego w podobnych sytuacjach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2268"/>
                </a:solidFill>
                <a:latin typeface="Corbel"/>
              </a:rPr>
              <a:t>Pułapy dla kosztów zarządzania ustalone w maksymalnej średniorocznej  wysokości (art. 43(4) Rozporządzenia nr 1828/2006), odzwierciedlają aktualne wynagrodzenie rynkow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rostokąt 9"/>
          <p:cNvSpPr/>
          <p:nvPr/>
        </p:nvSpPr>
        <p:spPr>
          <a:xfrm>
            <a:off x="1000080" y="328608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rostokąt 10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rostokąt 11"/>
          <p:cNvSpPr/>
          <p:nvPr/>
        </p:nvSpPr>
        <p:spPr>
          <a:xfrm>
            <a:off x="785880" y="3286080"/>
            <a:ext cx="7858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Polityki Regional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91" name="Prostokąt 7"/>
          <p:cNvSpPr/>
          <p:nvPr/>
        </p:nvSpPr>
        <p:spPr>
          <a:xfrm>
            <a:off x="642960" y="2786040"/>
            <a:ext cx="8501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6000" spc="-1" strike="noStrike">
                <a:solidFill>
                  <a:srgbClr val="222268"/>
                </a:solidFill>
                <a:latin typeface="Corbel"/>
              </a:rPr>
              <a:t>Dziękuje za uwag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Polityki Regional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857160" y="1785960"/>
            <a:ext cx="778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61" name="Prostokąt 8"/>
          <p:cNvSpPr/>
          <p:nvPr/>
        </p:nvSpPr>
        <p:spPr>
          <a:xfrm>
            <a:off x="1643040" y="2643120"/>
            <a:ext cx="653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rostokąt 9"/>
          <p:cNvSpPr/>
          <p:nvPr/>
        </p:nvSpPr>
        <p:spPr>
          <a:xfrm>
            <a:off x="928800" y="164304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222268"/>
                </a:solidFill>
                <a:latin typeface="Corbel"/>
              </a:rPr>
              <a:t>Wspólnotowe podstawy praw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rostokąt 10"/>
          <p:cNvSpPr/>
          <p:nvPr/>
        </p:nvSpPr>
        <p:spPr>
          <a:xfrm>
            <a:off x="1000080" y="2357280"/>
            <a:ext cx="7715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art. 44 Rozporządzenia Rady (WE) nr 1083/2006 z 11.07.2006r. ustanawiającego przepisy ogólne dotyczące Europejskiego Funduszu Rozwoju Regionalnego, Europejskiego Funduszu Społecznego oraz Funduszu Spójnośc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i uchylającego rozporządzenie (WE) nr 1260/199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art. 43-46 Rozporządzenia Komisji nr 1828/2006 z 8.12.2006r. W sprawie szczegółowych zasad wykonania rozporządzenia Rady (WE)  nr 1083/2006 ustanawiającego przepisy ogólne dotyczące Europejskiego Funduszu Rozwoju Regionalnego, Europejskiego Funduszu Społecznego oraz Funduszu Spójności  oraz rozporządzenia (WE) nr 1080/2006 Parlamentu Europejskiego i Rad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w sprawie Europejskiego Funduszu Rozwoju Regionalneg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Noty Służb Komisji z 16.07.2007r. (COCOF/07/0018/01—EN FINAL) oraz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z 22.12.2008r. (COCOF/08/0002/03-EN FIN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Polityki Regional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857160" y="1785960"/>
            <a:ext cx="778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70" name="Prostokąt 8"/>
          <p:cNvSpPr/>
          <p:nvPr/>
        </p:nvSpPr>
        <p:spPr>
          <a:xfrm>
            <a:off x="1643040" y="2643120"/>
            <a:ext cx="653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rostokąt 9"/>
          <p:cNvSpPr/>
          <p:nvPr/>
        </p:nvSpPr>
        <p:spPr>
          <a:xfrm>
            <a:off x="928800" y="142884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22268"/>
                </a:solidFill>
                <a:latin typeface="Corbel"/>
              </a:rPr>
              <a:t>Zasady wsparcia pośredników finansow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rostokąt 10"/>
          <p:cNvSpPr/>
          <p:nvPr/>
        </p:nvSpPr>
        <p:spPr>
          <a:xfrm>
            <a:off x="785880" y="1857240"/>
            <a:ext cx="8143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. Zdaniem KE w zakresie wszystkich instrumentów inżynierii finansowej wsparcie udzielone pośrednikom finansowym w perspektywie finansowej 2007-2013 może następować w formie bezzwrotnej pomocy finansowej (dotacj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Warunkiem zakwalifikowania wpłat jako formy inżynierii finansowej jest aby wpłaty na rzecz przedsiębiorstw nie odbywały się w formie  wkładów bezzwrotnych , ale jako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Corbel"/>
              </a:rPr>
              <a:t>inwestycje zwrotne 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lub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Corbel"/>
              </a:rPr>
              <a:t>jako poręczenia inwestycji podlegających zwrotow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orbel"/>
              </a:rPr>
              <a:t>2.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Corbel"/>
              </a:rPr>
              <a:t>Operacją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zgodnie z zapisami rozporządzenia nr 1083/2006  jest projekt lub grupa projektów pozwalająca na</a:t>
            </a:r>
            <a:r>
              <a:rPr b="0" lang="pl-PL" sz="18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osiągnięcie celów osi priorytetowej, do której odnosi się ta operacj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2268"/>
                </a:solidFill>
                <a:latin typeface="Corbel"/>
              </a:rPr>
              <a:t>Na operację składa się zarówno wkład z programu operacyjnego w instrument inżynierii finansowej, jak i późniejsze inwestycje tego instrumentu </a:t>
            </a:r>
            <a:br>
              <a:rPr sz="1800"/>
            </a:br>
            <a:r>
              <a:rPr b="0" lang="pl-PL" sz="1800" spc="-1" strike="noStrike">
                <a:solidFill>
                  <a:srgbClr val="222268"/>
                </a:solidFill>
                <a:latin typeface="Corbel"/>
              </a:rPr>
              <a:t>w przedsiębiorstwa lub przekazywanie im pożyczek lub poręczeń w zakresie programu operacyjn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Polityki Regional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857160" y="1785960"/>
            <a:ext cx="778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79" name="Prostokąt 8"/>
          <p:cNvSpPr/>
          <p:nvPr/>
        </p:nvSpPr>
        <p:spPr>
          <a:xfrm>
            <a:off x="1643040" y="2643120"/>
            <a:ext cx="653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rostokąt 9"/>
          <p:cNvSpPr/>
          <p:nvPr/>
        </p:nvSpPr>
        <p:spPr>
          <a:xfrm>
            <a:off x="928800" y="142884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22268"/>
                </a:solidFill>
                <a:latin typeface="Corbel"/>
              </a:rPr>
              <a:t>Zasady wsparcia pośredników finansow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rostokąt 10"/>
          <p:cNvSpPr/>
          <p:nvPr/>
        </p:nvSpPr>
        <p:spPr>
          <a:xfrm>
            <a:off x="785880" y="1857240"/>
            <a:ext cx="8143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orbel"/>
              </a:rPr>
              <a:t>3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Corbel"/>
              </a:rPr>
              <a:t>Beneficjentem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jest instrument inżynierii finansowej (cały proc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pl-PL" sz="1800" spc="-1" strike="noStrike">
                <a:solidFill>
                  <a:srgbClr val="000000"/>
                </a:solidFill>
                <a:latin typeface="Corbel"/>
              </a:rPr>
              <a:t>IZ RPO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                      </a:t>
            </a:r>
            <a:r>
              <a:rPr b="1" lang="pl-PL" sz="1800" spc="-1" strike="noStrike">
                <a:solidFill>
                  <a:srgbClr val="000000"/>
                </a:solidFill>
                <a:latin typeface="Corbel"/>
              </a:rPr>
              <a:t>pośrednicy finansowi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                    </a:t>
            </a:r>
            <a:r>
              <a:rPr b="1" lang="pl-PL" sz="1800" spc="-1" strike="noStrike">
                <a:solidFill>
                  <a:srgbClr val="000000"/>
                </a:solidFill>
                <a:latin typeface="Corbel"/>
              </a:rPr>
              <a:t>pożyczki/gwaranc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</a:t>
            </a:r>
            <a:r>
              <a:rPr b="1" lang="pl-PL" sz="1800" spc="-1" strike="noStrike">
                <a:solidFill>
                  <a:srgbClr val="000000"/>
                </a:solidFill>
                <a:latin typeface="Corbel"/>
              </a:rPr>
              <a:t>przedsiębiorstwa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2268"/>
                </a:solidFill>
                <a:latin typeface="Corbe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2268"/>
                </a:solidFill>
                <a:latin typeface="Corbel"/>
              </a:rPr>
              <a:t>Instrument inżynierii finansowej realizuje operacje poprzez wspomagan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2268"/>
                </a:solidFill>
                <a:latin typeface="Corbel"/>
              </a:rPr>
              <a:t>     </a:t>
            </a:r>
            <a:r>
              <a:rPr b="0" lang="pl-PL" sz="1800" spc="-1" strike="noStrike">
                <a:solidFill>
                  <a:srgbClr val="222268"/>
                </a:solidFill>
                <a:latin typeface="Corbel"/>
              </a:rPr>
              <a:t>przedsiębiorstw w formie pożyczek i poręcze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orbel"/>
              </a:rPr>
              <a:t>4. 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Umowa o dofinansowanie pomiędzy IZ RPO a pośrednikiem finansowym musi zawierać zapisy, na podstawie których zobowiąże pośrednika do realizacji wszelkich obowiązków typowego beneficjenta  m.in. w zakresie monitoringu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i sprawozdawczości, kontroli, informacji i promocji ze strony podmiotów, którym zostało udzielone wsparcie w formie pożyczek i poręcze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załka w prawo 10"/>
          <p:cNvSpPr/>
          <p:nvPr/>
        </p:nvSpPr>
        <p:spPr>
          <a:xfrm>
            <a:off x="1928880" y="2428920"/>
            <a:ext cx="691920" cy="341280"/>
          </a:xfrm>
          <a:prstGeom prst="rightArrow">
            <a:avLst>
              <a:gd name="adj1" fmla="val 0"/>
              <a:gd name="adj2" fmla="val 4999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załka w prawo 11"/>
          <p:cNvSpPr/>
          <p:nvPr/>
        </p:nvSpPr>
        <p:spPr>
          <a:xfrm>
            <a:off x="4929120" y="2428920"/>
            <a:ext cx="642960" cy="341280"/>
          </a:xfrm>
          <a:prstGeom prst="rightArrow">
            <a:avLst>
              <a:gd name="adj1" fmla="val 0"/>
              <a:gd name="adj2" fmla="val 5000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załka w prawo 12"/>
          <p:cNvSpPr/>
          <p:nvPr/>
        </p:nvSpPr>
        <p:spPr>
          <a:xfrm>
            <a:off x="2928960" y="3000240"/>
            <a:ext cx="714240" cy="341280"/>
          </a:xfrm>
          <a:prstGeom prst="rightArrow">
            <a:avLst>
              <a:gd name="adj1" fmla="val 0"/>
              <a:gd name="adj2" fmla="val 4999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Polityki Regional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857160" y="1785960"/>
            <a:ext cx="778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91" name="Prostokąt 8"/>
          <p:cNvSpPr/>
          <p:nvPr/>
        </p:nvSpPr>
        <p:spPr>
          <a:xfrm>
            <a:off x="1643040" y="2643120"/>
            <a:ext cx="653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rostokąt 9"/>
          <p:cNvSpPr/>
          <p:nvPr/>
        </p:nvSpPr>
        <p:spPr>
          <a:xfrm>
            <a:off x="928800" y="142884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22268"/>
                </a:solidFill>
                <a:latin typeface="Corbel"/>
              </a:rPr>
              <a:t>Zasady wsparcia pośredników finansow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rostokąt 10"/>
          <p:cNvSpPr/>
          <p:nvPr/>
        </p:nvSpPr>
        <p:spPr>
          <a:xfrm>
            <a:off x="785880" y="1857240"/>
            <a:ext cx="81439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orbel"/>
              </a:rPr>
              <a:t>5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. Umowa o dofinansowanie pomiędzy IZ RPO a pośrednikiem finansowym musi zawierać regulacje dot. polityki wychodzenia z instrumentu inżynierii finansowej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w odniesieniu do wkładu wniesionego przez program operacyjny, a także ponownego wykorzystania środków zwróconych z inwestycji do instrumentu inżynierii finansowej lub nadwyżek pozostałych po wykorzystaniu wszystkich gwarancji przypisanych do wkładu z programu operacyjne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orbel"/>
              </a:rPr>
              <a:t>6. Likwidacja funduszu nie jest konieczna. 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Konieczne jest  jednak, aby określony został czas rozliczenia realizacji projektu rozumiany jako okres kwalifikowalności wydatków pochodzących z EFRR, realizowanych przez fundusz pożyczkowy/poręczeniowy.  W ramach RPO WK-P jest to </a:t>
            </a:r>
            <a:r>
              <a:rPr b="1" lang="pl-PL" sz="1800" spc="-1" strike="noStrike">
                <a:solidFill>
                  <a:srgbClr val="000000"/>
                </a:solidFill>
                <a:latin typeface="Corbel"/>
              </a:rPr>
              <a:t>30.06.2015 r. 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Do tego czasu powinny zostać udzielone pożyczki/poręczenia rozliczane w ramach proje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Po prawidłowym rozliczeniu projektu, publiczne środki finansowe pochodzące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z programu operacyjnego mogą pozostać w kasie funduszu, który dalej wykorzystywałby je do udzielania wsparcia MŚP lub mogą zostać zwrócone IZ R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Polityki Regional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857160" y="1785960"/>
            <a:ext cx="778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00" name="Prostokąt 8"/>
          <p:cNvSpPr/>
          <p:nvPr/>
        </p:nvSpPr>
        <p:spPr>
          <a:xfrm>
            <a:off x="1643040" y="2643120"/>
            <a:ext cx="653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rostokąt 9"/>
          <p:cNvSpPr/>
          <p:nvPr/>
        </p:nvSpPr>
        <p:spPr>
          <a:xfrm>
            <a:off x="928800" y="142884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22268"/>
                </a:solidFill>
                <a:latin typeface="Corbel"/>
              </a:rPr>
              <a:t>Zasady wsparcia pośredników finansow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rostokąt 10"/>
          <p:cNvSpPr/>
          <p:nvPr/>
        </p:nvSpPr>
        <p:spPr>
          <a:xfrm>
            <a:off x="785880" y="1857240"/>
            <a:ext cx="8143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orbel"/>
              </a:rPr>
              <a:t>7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. W 2015 r. następować będzie </a:t>
            </a:r>
            <a:r>
              <a:rPr b="1" lang="pl-PL" sz="1800" spc="-1" strike="noStrike">
                <a:solidFill>
                  <a:srgbClr val="000000"/>
                </a:solidFill>
                <a:latin typeface="Corbel"/>
              </a:rPr>
              <a:t>rozliczenie realizacji projektu 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przez  fundusz. Rozliczenie takie składać się będzie m.in. z zestawienia zawierającego następujące informac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kwota pierwotnie otrzymana z RPO jako kapitał fundusz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liczby i kwoty udzielonych z przyznanego kapitału pożyczek i poręczeń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kwoty przychodów, które powiększyły kapitał fundusz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kwoty utraconej przez fundusz (w postaci niespłaconych i nieściągalnych pożyczek lub wypłaconych i nieściągalnych  poręczeń) wraz z opisem wszystkich przypadk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Po dokonaniu rozliczenia opisanego powyżej, możliwe są dwa schematy działań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zwrócenie do IZ RPO pozostałych po rozliczeniu projektu środków finansowy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dalsze wykorzystywanie pozostałych środków w celu wsparcia przedsiębiorst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Polityki Regional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857160" y="1785960"/>
            <a:ext cx="778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09" name="Prostokąt 7"/>
          <p:cNvSpPr/>
          <p:nvPr/>
        </p:nvSpPr>
        <p:spPr>
          <a:xfrm>
            <a:off x="928800" y="2071800"/>
            <a:ext cx="807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rostokąt 8"/>
          <p:cNvSpPr/>
          <p:nvPr/>
        </p:nvSpPr>
        <p:spPr>
          <a:xfrm>
            <a:off x="1000080" y="1428840"/>
            <a:ext cx="764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22268"/>
                </a:solidFill>
                <a:latin typeface="Corbel"/>
              </a:rPr>
              <a:t>Zasady wsparcia pośredników finansow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rostokąt 9"/>
          <p:cNvSpPr/>
          <p:nvPr/>
        </p:nvSpPr>
        <p:spPr>
          <a:xfrm>
            <a:off x="857160" y="1928880"/>
            <a:ext cx="8072640" cy="38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orbel"/>
              </a:rPr>
              <a:t>8</a:t>
            </a:r>
            <a:r>
              <a:rPr b="1" lang="pl-PL" sz="18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Ograniczenie średniorocznych pułapów w zakresie kosztów zarządzania określonych w art.  43(4) Rozporządzenia 1828/2006 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orbel"/>
              </a:rPr>
              <a:t>2%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w przypadku funduszy gwarancyj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orbel"/>
              </a:rPr>
              <a:t>3%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w przypadku funduszy udzielających pożyczek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Corbel"/>
              </a:rPr>
              <a:t>wyłącznie mikroprzedsiębiorstw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orbel"/>
              </a:rPr>
              <a:t>4%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w przypadku pozostałych funduszy pożyczkow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Kwalifikowalne kwoty kosztów zarządzania są obliczane mając na względzie wkład wniesiony przez program operacyjny do instrumentów inżynierii finansowe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Pojęcie „</a:t>
            </a:r>
            <a:r>
              <a:rPr b="1" lang="pl-PL" sz="1800" spc="-1" strike="noStrike">
                <a:solidFill>
                  <a:srgbClr val="000000"/>
                </a:solidFill>
                <a:latin typeface="Corbel"/>
              </a:rPr>
              <a:t>średnioroczne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” rozumiane jest w ten sposób, iż </a:t>
            </a:r>
            <a:r>
              <a:rPr b="1" lang="pl-PL" sz="1800" spc="-1" strike="noStrike">
                <a:solidFill>
                  <a:srgbClr val="222268"/>
                </a:solidFill>
                <a:latin typeface="Corbel"/>
              </a:rPr>
              <a:t>wynik podzielenia sumy kosztów zarządzania w okresie realizacji projektu przez liczbę lat realizacji projektu nie może przekroczyć odpowiednio 2%,3% lub 4% kapitału wniesionego przez program operacyj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Polityki Regional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857160" y="1428840"/>
            <a:ext cx="778356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rbel"/>
              </a:rPr>
              <a:t>9. 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Zarządzanie wolnymi środkami fundus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Kapitał przeznaczony na realizację projektu, nie zaangażowany bezpośrednio we wdrażanie instrumentu pożyczkowego/poręczeniowego, musi być lokowan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w </a:t>
            </a:r>
            <a:r>
              <a:rPr b="1" lang="pl-PL" sz="1800" spc="-1" strike="noStrike">
                <a:solidFill>
                  <a:srgbClr val="000000"/>
                </a:solidFill>
                <a:latin typeface="Corbel"/>
              </a:rPr>
              <a:t>bezpiecznych i płynnych instrumentach finansowych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:  obligacjach Skarbu Państwa, papierach wartościowych emitowanych przez NBP i depozytach bankowych bądź w jednostkach uczestnictwa funduszy rynku pieniężnego, działających na podstawie ustawy z 27.05.2004r. o funduszach inwestycyjnych (Dz.U. Nr 146, poz. 1546) oraz obligacjach komunalnych z gwarancją emisji dojścia do skutku, udzieloną przez bank organizujący emisj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222268"/>
                </a:solidFill>
                <a:latin typeface="Corbel"/>
              </a:rPr>
              <a:t>Kierunki rozwoju funduszy pożyczkowych i poręczeniowych dla małych i średnich przedsiębiorstw w latach 2009-2013 </a:t>
            </a:r>
            <a:r>
              <a:rPr b="0" i="1" lang="pl-PL" sz="1800" spc="-1" strike="noStrike">
                <a:solidFill>
                  <a:srgbClr val="000000"/>
                </a:solidFill>
                <a:latin typeface="Corbel"/>
              </a:rPr>
              <a:t>– 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dokument przyjęty przez Radę Ministrów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w dniu 3.02.2009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18" name="Prostokąt 7"/>
          <p:cNvSpPr/>
          <p:nvPr/>
        </p:nvSpPr>
        <p:spPr>
          <a:xfrm>
            <a:off x="928800" y="1571760"/>
            <a:ext cx="77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222268"/>
                </a:solidFill>
                <a:latin typeface="Corbel"/>
              </a:rPr>
              <a:t>Zasady wsparcia pośredników finansow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0" y="0"/>
            <a:ext cx="684360" cy="6453360"/>
          </a:xfrm>
          <a:prstGeom prst="rect">
            <a:avLst/>
          </a:prstGeom>
          <a:solidFill>
            <a:srgbClr val="ffe6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6453360"/>
            <a:ext cx="684360" cy="404640"/>
          </a:xfrm>
          <a:prstGeom prst="rect">
            <a:avLst/>
          </a:prstGeom>
          <a:solidFill>
            <a:srgbClr val="ffd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84360" y="6453360"/>
            <a:ext cx="8459640" cy="404640"/>
          </a:xfrm>
          <a:prstGeom prst="rect">
            <a:avLst/>
          </a:prstGeom>
          <a:solidFill>
            <a:srgbClr val="ff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971640" y="649116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ament Polityki Regional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857160" y="1428840"/>
            <a:ext cx="778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C:\Documents and Settings\j.araszewicz\Pulpit\wzory RPO\listownik_naglowek.png"/>
          <p:cNvPicPr/>
          <p:nvPr/>
        </p:nvPicPr>
        <p:blipFill>
          <a:blip r:embed="rId1"/>
          <a:stretch/>
        </p:blipFill>
        <p:spPr>
          <a:xfrm>
            <a:off x="785880" y="0"/>
            <a:ext cx="7558200" cy="1560600"/>
          </a:xfrm>
          <a:prstGeom prst="rect">
            <a:avLst/>
          </a:prstGeom>
          <a:ln w="0">
            <a:noFill/>
          </a:ln>
        </p:spPr>
      </p:pic>
      <p:sp>
        <p:nvSpPr>
          <p:cNvPr id="125" name="Prostokąt 7"/>
          <p:cNvSpPr/>
          <p:nvPr/>
        </p:nvSpPr>
        <p:spPr>
          <a:xfrm>
            <a:off x="928800" y="1571760"/>
            <a:ext cx="77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rostokąt 8"/>
          <p:cNvSpPr/>
          <p:nvPr/>
        </p:nvSpPr>
        <p:spPr>
          <a:xfrm>
            <a:off x="928800" y="1571760"/>
            <a:ext cx="7929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orbel"/>
              </a:rPr>
              <a:t>10.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 Warunkiem rozliczenia projektu jest </a:t>
            </a:r>
            <a:r>
              <a:rPr b="1" lang="pl-PL" sz="1800" spc="-1" strike="noStrike">
                <a:solidFill>
                  <a:srgbClr val="000000"/>
                </a:solidFill>
                <a:latin typeface="Corbel"/>
              </a:rPr>
              <a:t>jednokrotny obrót kapitał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Definicja</a:t>
            </a:r>
            <a:r>
              <a:rPr b="1" lang="pl-PL" sz="1800" spc="-1" strike="noStrike">
                <a:solidFill>
                  <a:srgbClr val="000000"/>
                </a:solidFill>
                <a:latin typeface="Corbel"/>
              </a:rPr>
              <a:t> „jednokrotnego obrotu kapitałem” 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– udzielenie pożyczek lub poręczeń na rzecz MŚP (zainwestowanie kapitału w MŚP) o łącznej wartości równej kapitałowi przeznaczonemu na realizacje projek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222268"/>
                </a:solidFill>
                <a:latin typeface="Corbel"/>
              </a:rPr>
              <a:t>„… </a:t>
            </a:r>
            <a:r>
              <a:rPr b="0" lang="pl-PL" sz="1800" spc="-1" strike="noStrike">
                <a:solidFill>
                  <a:srgbClr val="222268"/>
                </a:solidFill>
                <a:latin typeface="Corbel"/>
              </a:rPr>
              <a:t>zasoby będące przedmiotem wkładu z programów operacyjnych na rzecz instrumentów inżynierii finansowej muszą być co najmniej raz zainwestowane </a:t>
            </a:r>
            <a:br>
              <a:rPr sz="1800"/>
            </a:br>
            <a:r>
              <a:rPr b="0" lang="pl-PL" sz="1800" spc="-1" strike="noStrike">
                <a:solidFill>
                  <a:srgbClr val="222268"/>
                </a:solidFill>
                <a:latin typeface="Corbel"/>
              </a:rPr>
              <a:t>w MŚP lub udostępnione w ramach gwarancji (patrz art. 78(6) Rozporządzenia Nr 1083/2006)” – </a:t>
            </a:r>
            <a:r>
              <a:rPr b="0" lang="pl-PL" sz="1800" spc="-1" strike="noStrike">
                <a:solidFill>
                  <a:srgbClr val="000000"/>
                </a:solidFill>
                <a:latin typeface="Corbel"/>
              </a:rPr>
              <a:t>stanowisko sformułowane w piśmie DG REGIO z 2.12.2008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rostokąt 9"/>
          <p:cNvSpPr/>
          <p:nvPr/>
        </p:nvSpPr>
        <p:spPr>
          <a:xfrm>
            <a:off x="928800" y="157176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222268"/>
                </a:solidFill>
                <a:latin typeface="Corbel"/>
              </a:rPr>
              <a:t>Zasady wsparcia pośredników finansow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2:14:37Z</dcterms:created>
  <dc:creator>b.jesionowska</dc:creator>
  <dc:description/>
  <dc:language>en-US</dc:language>
  <cp:lastModifiedBy>b.jesionowska</cp:lastModifiedBy>
  <dcterms:modified xsi:type="dcterms:W3CDTF">2009-09-07T05:49:30Z</dcterms:modified>
  <cp:revision>106</cp:revision>
  <dc:subject/>
  <dc:title>Slajd 1</dc:title>
</cp:coreProperties>
</file>