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96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624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260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624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F8B6-80B6-4837-B953-2AB2FAECFFF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7C0B-C318-4281-B995-6B6E6B1954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1294-A254-41E9-8534-ED1234F2C3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2C65-131C-440F-A12D-EF033D0B9A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00DE-5729-41AC-8704-D3E4B64BF8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E1F2-FCE1-4CA2-B906-EC64A03D478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AE8E-21CF-4E18-AB8D-1C86174A050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3BF4-14AE-4F90-A915-38BBA1F6B48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6140-484A-4DD3-B77B-306E066324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64E1-09C6-4A4E-9382-75384C3D5F7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3B44-1F54-4DDE-AF1D-890EDCFF47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8044-67AE-4CBC-BF68-6043C0420C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8A0-E0BB-4D80-8AC1-763E5FDD2E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2E99-AEE6-4B65-AEB4-7A98CFAE49A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AAD4-5413-46D1-8AFC-64DAFC7CDDA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5783-3794-46A1-A5CA-0680D22909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542F-0BD5-4E15-9978-071A0FD8CB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1695-26C3-4638-9616-5B0CAAC7F2E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37AF-1108-4C1F-A055-442E507D86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E862-DFF8-4F0C-9E5F-2E336F81F0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00BB-8EBF-43DB-B3A6-41ECBE6DFE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1A7C-E570-4338-ADB8-4E109F1BC7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C39D-AA86-4DD4-9A74-8A9F22B274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69A3-76A3-4E88-A134-7C75FD79EBC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F282-BE64-431B-ADFA-35048FDC3B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E2F9-603B-4290-A6A8-1751015A2A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A83B-152A-405A-B69C-F412DDC9EAB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EEF-F67E-4B3D-8514-F5B09AD803E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51CE-B2ED-45B1-84DF-E72E8551E0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F2EA-4A8C-428A-BA29-951D18753B8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6600" y="9431280"/>
            <a:ext cx="2941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34A9-4A28-4ABF-A839-CF6E68DF3F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CF5-17CD-48B7-AB51-4815EAF5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A29-F426-44BC-9823-FA2D11C8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7F67-BAC7-4D2E-AA41-C360F49C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9D8-F866-4DA3-870B-FE75FCF9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5E0-EA67-4BA2-B3FB-989F97BE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12D-4E6A-4169-ADC6-7F596E0F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1C0-AB6B-488D-94A4-63A63808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817-22F1-471B-A3A5-81870A48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9C0-FD67-4E3E-A4E0-3EA55878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9DB-1D7E-429A-BCFC-433063E4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037-BE59-40AE-82A5-83CEEB27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E03-C62B-44BE-800B-0DDF4E22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0BBB-D41D-4BA7-8E8A-4A052C8F7B72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1214280" y="6524640"/>
            <a:ext cx="792972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920" y="2636640"/>
            <a:ext cx="7058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Sprawozdawczość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i monitorowanie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w ramach RPO </a:t>
            </a:r>
            <a:br>
              <a:rPr sz="2800"/>
            </a:br>
            <a:br>
              <a:rPr sz="2800"/>
            </a:b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Sprawozdanie okresowe z realizacji RPO WK- P </a:t>
            </a:r>
            <a:br>
              <a:rPr sz="2400"/>
            </a:b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za I półrocze 2009 roku</a:t>
            </a:r>
            <a:br>
              <a:rPr sz="2400"/>
            </a:br>
            <a:br>
              <a:rPr sz="28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Regionalny Program Operacyjny</a:t>
            </a:r>
            <a:br>
              <a:rPr sz="20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Województwa Kujawsko – Pomorskiego </a:t>
            </a:r>
            <a:br>
              <a:rPr sz="2000"/>
            </a:b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na lata 2007 - 2013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oruń, 9 września 2009 r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214280" y="6521400"/>
            <a:ext cx="753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 / Wydział Zarządzania RPO/ Biuro 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0" y="652140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0F83-F653-44F8-8A8D-49B3B78B7ECB}" type="slidenum">
              <a:rPr b="0" lang="pl-PL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75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400" y="1356840"/>
            <a:ext cx="8429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OKRES SPRAWOZDAWCZ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1 stycznia - 31 czerwca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 ramach RPO WK-P został wykazany postęp finansowy oraz rzeczow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okresie sprawozdawczym kontynuowane były prace nad dokumentacją, warunkującą sprawne i efektywne wdrażanie RPO w województwie kujawsko-pomorskim oraz ogłaszanie kolejnych naborów wniosków w ramach poszczególnych działań Program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tym miejscu wymienić należy między inny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działania w zakresie zmian w Szczegółowym opisie osi priorytetowych RPO WK-P na   lata 2007-201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miany Opisu Systemu Zarządzania i Kontrol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miany w procedurach wewnętrznych instytucji - Instrukcji Wykonawczej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zmiany wytycznych obowiązujących w ramach program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opracowywanie i zmiany wzorów dokumentów dla beneficjentów (wniosek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 dofinansowanie projektu, umowa o dofinansowanie, wniosek o płatnoś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pierwszym półroczu 2009 roku ogłoszono 9 konkursó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na łączną kwotę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88 220 172,00 €, co daje 482 819 927,97 zł, w ramach następujących działa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1 Infrastruktura drogowa  - Drogi powiatowe (bez powiatów grodzkich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1 Infrastruktura drogowa – Drogi gminne poza obszarami wiejskimi (bez miast grodzkich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3 Rozwój infrastruktury w zakresie ochrony powietr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4 Infrastruktura energetyczna przyjazna środowisk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3.2  Rozwój infrastruktury ochrony zdrowia i pomocy społecznej (schemat: pomoc społeczna w tym opiekuńczo-wychowawcza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4.3 Rozwój komercyjnych e-usłu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5.3 Wspieranie przedsiębiorstw w zakresie dostosowania do wymogów ochrony środowisk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5.5 Promocja i rozwój markowych produktów – konkurs otwart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6.2 Rozwój usług turystycznych i uzdrowisk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1" descr="logotypy"/>
          <p:cNvPicPr/>
          <p:nvPr/>
        </p:nvPicPr>
        <p:blipFill>
          <a:blip r:embed="rId1"/>
          <a:stretch/>
        </p:blipFill>
        <p:spPr>
          <a:xfrm>
            <a:off x="42876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 I półroczu 2009r. miało miejsce 7 naborów wniosk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1 Infrastruktura drogowa  - Drogi powiatowe (bez powiatów grodzkich): 16-27.03.2009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1 Infrastruktura drogowa – Drogi gminne poza obszarami wiejskimi (bez miast grodzkich): 17-30.04.2009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3 Rozwój infrastruktury w zakresie ochrony powietrza: 18-29.05.2009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4.3 Rozwój komercyjnych e-usług: 18-29.05.2009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5.5 Promocja i rozwój markowych produktów – konkurs otwarty – od 6 kwietnia 2009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6.2 Rozwój usług turystycznych i uzdrowiskowych: 15-26.06.2009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7.1 Rewitalizacja zdegradowanych dzielnic miast: 02.02.-26.06.2009r. – konkurs został ogłoszony w listopadzie 2008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d uruchomienia programu do końca czerwca w ramach RPO WK-P ogłoszono łącznie 16 naborów wniosków, z czego 5 konkursów zostało zakończonych(1.1-drogi gminne na obszarach wiejskich, 2.1, 3.2-szpitale powiatowe, 5.2.1,5.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I półroczu 2009r. podpisano 206 umów/decyzji o dofinansowanie projektów, co łącznie daje liczbę 222 umów/wydanych decyzji w obecnym okresie programowania. Łącznie na rzecz beneficjentów dokonane zostały płatności odpowiadające środkom UE w kwocie 24 020 844,25 z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Łącznie planowane dofinansowanie ze środków Unii Europejskiej dla całego RPO wynosi 951 003 820 euro. Umowy zawarto na 9,85 % alokacji, natomiast Beneficjentom przekazano 0,56 % przyznanej alok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jbardziej zaawansowana jest realizacja Osi Priorytetowej  5, 1, 3 i 8, najmniej 2, 4 i 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Do końca czerwca 2009r. złożono wnioski o płatność końcową dla projek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Oś Priorytetowa 1 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łączenie drogi ekspresowej S-10 z korytarzem TEN-T VIa, drogą  ekspresową S-5. Odcinek drogi wojewódzkiej Nr 246 Nakło - Szubin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Oś Priorytetowa 3 - „Rozwój oraz dostosowanie do wymaganych standardów wysokospecjalistycznych procedur leczniczych i operacyjnych poprzez zakup nowoczesnej aparatury medycznej”, realizowany przez Szpital Uniwersytecki Nr 2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m. dr Jana Biziela w Bydgoszcz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ś Priorytetowa 5 - „Zwiększenie konkurencyjności firmy ZPHU MAL-MET Marek Malak przez zakup pionowego centrum obróbczego CNC oraz wprowadzenie do oferty nowych produktów”, „Podniesienie konkurencyjności gabinetu i dywersyfikacja usług stomatologicznych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Oś Priorytetowa 8 - „Zapewnienie sprawnego procesu zarządzania i wdrażania dla Regionalnego Programu Operacyjnego Województwa Kujawsko-Pomorski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2007r.”,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„Oceny i ekspertyzy związane z zarządzaniem i wdrażaniem RPO WK-P w 2008r.”, „Promocja Regionalnego Programu Operacyjnego Województwa Kujawsko-Pomorskiego w 2008r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siągnięto wskaźniki produ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ługość przebudowanych dróg wojewódzkich” - 14,40 k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doposażonych instytucji ochrony zdrowia” – 1,00 szt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przedsiębiorstw wspartych przez inwestycje” – 2,00 szt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przeprowadzonych szkoleń, warsztatów, treningów, wizy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udyjnych” –    32 szt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ocen, ekspertyz, analiz, studiów, opracowań i koncepcji wykonanych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z ewaluatorów” – wartość 5 szt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zorganizowanych konferencji, spotkań, seminariów”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27 szt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Liczba utworzonych miejsc pracy finansowanych ze środków programu” (wyłącznie umowy o pracę)  jednostka wskaźnika etatomiesiąc – 4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kty klucz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I półroczu 2009r. kontynuowane było wdrażanie projektów kluczowych oraz dokonano zmian w indykatywnym wykazie indywidualnych projektów kluczowych współfinansowanych w ramach RPO WK-P na lata 2007-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 dnia 30 stycznia 2009r. trwały konsultacje społeczne 12-tu projek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uzyskane w wyniku przeprowadzonych dodatkowych naboró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 projekt w ramach działania 1.1 i 3 projekty w ramach działania 2.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8 projektów z wyka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dniu 17 marca 2009r. Zarząd Województwa Kujawsko-Pomorskiego przyjął Uchwałą nr 21/248/09 zaktualizowany Indykatywny Wykaz Indywidualnych Projektów Kluczowych współfinansowanych w ramach Regionalnego Programu Operacyjnego Województwa Kujawsko-Pomorskiego na lata 2007-2013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a którym ostatecznie znalazło się 98 projektów. Stosowny komunikat ukazał się w Dzienniku Urzędowym Województwa Kujawsko-Pomorskiego Nr 31 poz. 642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 dnia 1 kwietnia 2009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zaktualizowanym Wykazie znalazło się 8 projektów kluczowych, dla których przeprowadzono ponowne konsultacje społeczne w związku ze zmianami zakresów rzeczowych oraz nowe projekty, w ramach przeprowadzonych naborów z Działania 1.1. oraz Działania 2.5. Aktualizacji poddano również wartości całkowite projektów ze względu na zmianę kursu e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 końca czerwca br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łożono 45 wniosków o dofinansowa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okonano oceny formalnej i merytorycznej 24 projek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ybrano 24 wnioski do dofinans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pisano 87 pre-um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pisano 21 umów/decyzji o dofinans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 2009 roku kontynuowane był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ace nad dokumentacją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warunkującą sprawne i efektywne wdrażanie RPO w województwie kujawsko-pomorskim. Prace nad dokumentacją dotyczył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ian w Szczegółowym opisie osi priorytetowych RPO WK-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ian Opisu Systemu Zarządzania i Kontrol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mian w procedurach wewnętrznych instytucji – Instrukcji   Wykonawczej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PO WK-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racowywania i zmian wytycznych obowiązujących w rama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program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pracowywania i zmian wzorów dokumentów dla beneficjent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(karty oceny formalnej, umowy o dofinansowani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nadto, trwały prace nad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ryteriami wyboru projektów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Instytucja Zarządzająca przygotowywała propozycje kryteriów w ramach poszczególnych Osi Priorytetowych, które następnie były przedstawian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akceptowane w drodze uchwał Komitetu Monitorującego R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 I półroczu 2009r. odbyły się 2 posiedzeni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omitetu Monitorującego RPO WK-P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w dniu 11 marca oraz 23 czerw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42920" y="1500120"/>
            <a:ext cx="87501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orządzenie Rady (WE) nr 1083/2006 ustanawiające przepisy ogóln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dotyczące Europejskiego Funduszu Rozwoju Regionalneg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orządzenie Komisji (WE) nr 1828/2006 ustanawiające szczegółowe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zasady wykonania rozporządzenia Rady (WE) nr 1083/2006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ozporządzenie (WE) nr 1080/2006 Parlamentu Europejskiego i Rad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w sprawie Europejskiego  Funduszu Rozwoju Regionaln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tawa z dnia 6 grudnia 2006r. o zasadach prowadzenia polityki rozwoju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(Dz. U. z 2009r. Nr 84 poz. 712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tyczne MRR w zakresie sprawozdawczości MRR/H/4/(3)/06/2009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z dnia 9 czerwca 2009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 I półroczu 2009r. na rzecz beneficjentów przekazano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aliczk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w wysokości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31 998 092,82 zł, od początku realizacji programu w wysokości 42 511 643,71 z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artość środków przekazanych beneficjentom w formie zaliczki, a następnie przedstawionych do rozliczenia i uznanych za kwalifikowalne wyniosła 10 926 402,52 z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 okresie sprawozdawczy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ie zidentyfikowano nieprawidłowości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w trakcie realizacji Regionalnego Programu Operacyjnego Województwa Kujawsko-Pomorskiego na lata 2007-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1280" y="13413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K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dnia 8 stycznia 2009r. Do Departamentu Wdrażania RPO UM przekazane zostało  Sprawozdanie z zadania audytowego przeprowadzonego w ramach kontroli systemowej w temacie: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„Audyt wstępny - prowadzenie oceny i koordynacja procesu oceny, zgodnie z zapisami Regionalnego Programu Operacyjnego, Uszczegółowieniem programu i innymi wiążącymi dokumentami”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które miało miejsce od 1 kwietnia do 30 września 2008r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dniach od 23 lutego do dnia 30 kwietnia 2009r. w Wydziale Koordynacji Departamentu Polityki Regionalnej Urzędu Marszałkowskiego prowadzone było zadanie audytowe –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„Ocena działań informacyjno-promocyjnych w obszarze Regionalnego Programu Operacyjnego Województwa Kujawsko-Pomorskiego na lata 2007-2013”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(do końca okresu sprawozdawczego do Instytucji Zarządzającej nie wpłynęło przedmiotowe Sprawozdani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od 29 września 2008 roku do 30 stycznia 2009r. miała miejsce kontrola przeprowadzana przez kontrolerów Najwyższej Izby Kontroli Delegatury w Bydgoszczy, której przedmiotem była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„Prawidłowość przydzielania funduszy unijnych przez województwa oraz ich wykorzystania przez beneficjentów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wybranych  Regionalnych Programów na lata 2007-2013”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5280" y="13413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dniach 23-31 marca 2009r., miała miejsce, przeprowadzana przez Instytucję Pośredniczącą w Certyfikacji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kontrola sprawdzająca planowa – kontrola wydatków przedstawionych przez Instytucję Zarządzającą w „Poświadczeniach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deklaracjach wydatków oraz wnioskach o płatność”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d kątem uzyskania uzasadnionej pewności, że są spełnione warunki zawarte w art.61 lit. b) (i) Rozporządzenia nr 1083/200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d 20 maja do 2 czerwca 2009r. miała miejsce przeprowadzona przez Instytucję Pośredniczącą w Certyfikacji (5 osób przeprowadzających kontrolę)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kontrola/wizyta  sprawdzająca planowa systemy zarządzania i kontroli oraz stosowanie procedur zawartych w Instrukcji Wykonawczej RPO WK- na lata 2007-2013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ramach osi 5 i osi 8 przeprowadzono po dwie kontrole planowe na koniec realizacji projektów, przeprowadzane przez pracowników Biura Kontroli Wdrażania RPO Urzędu Marszałkowski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2876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ryzys gospodarczy zarówno w Polsce jak i na całym świecie spowodował znaczne pogorszenie sytuacji finansowej wielu podmiotów w tym także potencjalnych beneficjentów Regionalnego Programu Operacyjnego Województwa Kujawsko – Pomorskiego na lata 2007-2013. Przekłada się to na zagrożenie niewydatkowania środków w ramach program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związku z tym, Zarząd Województwa Kujawsko – Pomorskiego wychodząc naprzeciw powstałym trudnościom stworzył plan usprawniający realizację założeń RPO WK-P –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akiet rozwiązań antykryzysowych w związku z realizacją Regionalnego Programu Operacyjnego Województwa Kujawsko – Pomorskiego na lata 2007-2013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przyjęty uchwałą Nr 43/622/09 Zarządu WK-P z dnia 2 czerwca 2009r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712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Założenia pakietu antykryzysowe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natychmiast po wejściu w życie Rozporządzenia Ministra Rozwoju Regionalnego zmieniającego rozporządzenie w sprawie wydatków związanych z realizacją programów operacyjnych (obowiązuje od 12.02.2009r.), w dniu 26 lutego 2009r. Zarząd Województwa Kujawsko-Pomorskiego zdecydował o uruchomieniu zaliczek dla wszystkich beneficjentów Regionalnego Programu Operacyjnego Województwa Kujawsko-Pomorskiego (wcześniej taką możliwość miały j.s.t.). Przyjęto, że wypłacana zaliczkowo kwota nie może przekroczyć 35% przyznanego dofinansowania. Następnie zwiększono maksymalną wysokość zaliczki do 80% przyznanego dofinansowania.  Zaznaczyć należy również, że w szczególnie uzasadnionych przypadkach Instytucja Zarządzająca RPO WK - P może zwiększyć wysokość przyznanej zaliczki dla projektów realizowanych przez jednostki sektora finansów publicznych (z wyłączeniem projektów objętych pomocą publiczną), ale nie więcej niż do 95% dofinansow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712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Instytucja Zarządzająca RPO wychodzi naprzeciw beneficjentom, podejmując decyzję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 zwiększeniu alokacji na konkurs w przypadku dużego zainteresowania ze strony wnioskodawc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harmonogram konkursów został zmieniony w taki sposób, że przyspieszono terminy ogłoszenia konkursów planowanych dla przedsiębiorców, jednocześnie zwiększając ich alokację ze względu na duże zainteresowanie potencjalnych beneficjent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ś priorytetowa 5 Działanie 5.1 Rozwój instytucji otoczenia biznesu - ogłoszenie dodatkowego konkursu w sierpniu 2009r., skierowanego do funduszy pożyczkow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poręczeniowych. Poziom dofinansowania wynosić będzie 100% kosztów kwalifikowanyc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Oś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iorytetowa 5 Działanie 5.2.2 Wsparcie inwestycji przedsiębiorstw - ogłoszenie dodatkowego konkursu w 2009 r. na projekty już zrealizowane bądź z okresem realizacji do 3 miesięcy (schemat de minimi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Oś priorytetowa 7 Wspieranie przemian w miastach i w obszarach wymagających odnowy Działanie 7.1 Rewitalizacja zdegradowanych dzielnic mia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skrócenie czasu na ocenę Lokalnych Programów Rewitalizacji dokonywaną przez pracowników Urzędu Marszałkowskiego, ocena formalna skrócona z 10 do 5 dni, ocena merytoryczna z 30 do 20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wprowadzenie zasady, iż każde miasto powinno wykorzystać  kwotę w wysokości ok. 1/7 przyznanej alokacji z EFRR do 30.09.2010r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przeprowadzenie naboru uzupełniającego do Indykatywnego Wykazu Indywidualnych Projektów Kluczowych na projekty beneficjentów, którzy zrealizowali już inny projekt w ramach Regionalnego Programu Operacyjnego Województwa Kujawsko – Pomorskiego na lata 2007-2013 (oprócz działania 5.5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IZ RPO podjęła decyzję o tym, aby do kolejnych ogłoszonych konkursów nie stosować etapu preselekcji ze względu na niepotrzebnie wydłużony proces naboru wniosków o dofinansowan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na stronie internetowej Instytucji Zarządzającej została zamieszczona karta oceny formalnej, co umożliwia potencjalnym beneficjentom wstępną weryfikację poprawności sporządzenia wnios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indent="-263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moc techni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ramach pomocy technicznej realizowane były proje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.)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Zapewnienie sprawnego procesu zarządzania i wdrażania RPO WK-P w 2009 rok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ałkowita wartość projektu – 3 764 727,00 z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wota dofinansowania – 3 200 017,95 z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„Zatrudnienie osób zaangażowanych we wdrażanie, zarządzanie, promocję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informację RPO WK-P w 2009 rok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ałkowita wartość projektu – 8.776.539,00 z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Kwota dofinansowania – 7.460.058,00  z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„Oceny, ekspertyzy i badania ewaluacyjne RPO WK-P w 2009 roku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4. )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„Wynajem samochodów wraz z kosztami paliwa na potrzeby realizacji RPO WK-P na lata 2009-2012”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)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„Promocja Regionalnego Programu Operacyjnego Województwa Kujawsko-    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Pomorskiego w 2009 r.”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olejne dwa projekty t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Remont Budynku Głównego UM na potrzeby realizacji RPO WK-P w 2009r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7)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tudia podyplomowe i dokształcanie pracowników w latach 2009-2010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ą na etapie zatwierdzania. Beneficjent planuje rozpocząć ich realizację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w II półroczu 2009 ro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ojekty realizowane są na podstawie zaakceptowanego Rocznego Planu Działań Pomocy Technicznej Regionalnego Programu Operacyjnego Województwa Kujawsko-Pomorskiego na rok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1000080" y="1285920"/>
            <a:ext cx="7273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ś Priorytetowa 8 Pomoc techni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okresie objętym sprawozdaniem wydano decyzje/uchwały na realizację 5 projektów. Decyzje/umowy zawarto na łączną kwotę 15 917 442,00 zł, w tym dofinansowanie ze środków UE wynosi 13 529 825,55 zł. Łącznie, od początku uruchomienia programu decyzje wydano na kwotę 34 343 435,98 zł, w tym dofinansowanie z EFRR wynosi 29 191 920,43 z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Zaplanowany wkład ze środków unijnych na Oś 8 wynosi 28 530 115 euro. Alokacja jest wykorzystana w 22,76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d uruchomienia programu do dnia 30 czerwca 2009r. złożono wnioski o płatność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których wydatki całkowite wynosiły 8 444 831,40 zł, w tym wydatki kwalifikowaln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 takiej samej wys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łatności zrealizowane na rzecz Beneficjentów w części odpowiadającej środkom UE wyniosły od początku uruchomienia programu 7 091 393,75 z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285920" y="6524640"/>
            <a:ext cx="750096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14280" y="6524640"/>
            <a:ext cx="77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50920" y="1700280"/>
            <a:ext cx="864216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rawozdawczość odbywa się systematycznie i terminowo przez cały okres programowania. Realizowana jest na wszystkich poziomach instytucjonalnych wdrażania programu oraz przez wszystkich beneficjentów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nitorowanie programu służy zagwarantowaniu realizacji celów strategicznych i cząstkowych określonych w programie. Prawidłowy przebieg procesu monitorowania pozwala m.in. na bieżąco śledzić postęp finansowy i rzeczowy program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826920" y="1557360"/>
            <a:ext cx="777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826920" y="4437000"/>
            <a:ext cx="7490160" cy="792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611280" y="4508640"/>
            <a:ext cx="7632720" cy="649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979640" y="328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4"/>
          <p:cNvSpPr/>
          <p:nvPr/>
        </p:nvSpPr>
        <p:spPr>
          <a:xfrm>
            <a:off x="684360" y="3573360"/>
            <a:ext cx="485640" cy="976320"/>
          </a:xfrm>
          <a:prstGeom prst="downArrow">
            <a:avLst>
              <a:gd name="adj1" fmla="val 49676"/>
              <a:gd name="adj2" fmla="val 169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</a:rPr>
              <a:t>Informacja i promoc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prowadzone były liczne działania mające na cel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mocję Unii Europejskiej i RPO WK-P, a także podniesienie poziomu wiedzy oraz świadomości ogółu społeczeństwa w regionie na temat możliwości korzystania z Funduszy Europejskich w ramach RPO WK-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kazanie roli UE w rozwoju społecznym i gospodarczym region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kraj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powszechnianie w świadomości społecznej korzyści płynąc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 członkostwa w Unii Europejskiej i z wykorzystania środków unij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upowszechnianie informacji o projektach realizowanych w ramach RPO WK-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7868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2876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wadzone działania koncentrowały się na sześciu głównych obszarac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ja (Punkty informacyjne, konsultacja, spotkania, publikacj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cja (współpraca z mediami, materiały informacyjno-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cyjne w formie drukowanej – plakaty i ulotki, gadżety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cyjne, targi, ekspozycje projektów, event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kacja (szkolenia, konkurs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(serwis internetowy, biuletyn elektroniczny, newsletter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waluac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miana doświadcz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826920" y="1125360"/>
            <a:ext cx="7274160" cy="59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ękuję Państwu za uwag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ząd Marszałkowski Województwa Kujawsko-Pomorski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ament Polityki Regionaln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4000" y="1700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755640" y="1428840"/>
            <a:ext cx="7848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godnie z wytycznymi Ministerstwa Rozwoju Regionalnego MRR/H/4(3)06/2009 w zakresie sprawozdawczości z d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9 czerwca 2009 roku na Instytucje Zarządzające RPO został nałożony obowiązek sprawozdawczości, który obejmuje zbieranie informacji dotyczących realizacji programu operacyjnego z uwzględnieniem działań/grup operacji, osi priorytetowych, w postaci danych liczbowych, finansowych, w tym wskaźników rzeczowych i finansowych. Sprawozdawczość realizowana jest na wszystkich poziomach instytucjonalnych wdrażania program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642960" y="4143240"/>
            <a:ext cx="7489800" cy="792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611280" y="4508640"/>
            <a:ext cx="7632720" cy="6490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1" descr="logotypy"/>
          <p:cNvPicPr/>
          <p:nvPr/>
        </p:nvPicPr>
        <p:blipFill>
          <a:blip r:embed="rId1"/>
          <a:stretch/>
        </p:blipFill>
        <p:spPr>
          <a:xfrm>
            <a:off x="42876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03280" y="6524640"/>
            <a:ext cx="74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50920" y="1357200"/>
            <a:ext cx="8642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Z RP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zobowiązana jest sporządzić i przekazać sprawozdanie okresowe do wiadomości IK RPO oraz IPOC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terminie 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60 dni kalendarzowych po upływie okresu sprawozdawczego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ie ogranicza to prawa do opiniowania sprawozdania przez przedstawicieli tych instytucji, uczestniczących w pracach Komitetu Monitorującego RPO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403280" y="6524640"/>
            <a:ext cx="774072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403280" y="6524640"/>
            <a:ext cx="745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250920" y="1700280"/>
            <a:ext cx="86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250920" y="2071800"/>
            <a:ext cx="849780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prawozdanie okresowe z realizacji RPO WK-P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 I półrocze 2009 roku przekazane zostało do IK RPO oraz IPOC pismem o sygnaturze PRO.II.0232-31/09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dnia 26 sierpnia 2009r. oraz drogą e-mailow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dniu 27 sierpnia 200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684360" y="162864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920" y="1357200"/>
            <a:ext cx="8642160" cy="64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prawozdanie okresowe z realizacji RPO WK-P za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 półrocze 2009 roku zawiera informacje dotyczą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stępu fizycznego i finansowego program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tanu realizacji prognozy finansowej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lanowanego postępu finansowe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dsetek narosłych od środków zgromadzonych na realizację              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program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liczek przekazanych na rzecz beneficjentó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ziału wykorzystania funduszy wg kategorii interwen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50920" y="1428840"/>
            <a:ext cx="864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  <p:sp>
        <p:nvSpPr>
          <p:cNvPr id="118" name="Prostokąt 9"/>
          <p:cNvSpPr/>
          <p:nvPr/>
        </p:nvSpPr>
        <p:spPr>
          <a:xfrm>
            <a:off x="500040" y="1357200"/>
            <a:ext cx="79297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y jakościowej: opis zmian w dokumentach programowych (Uszczegółowienie RPO), procedurach wewnętrznych instytucji (Opis Systemu Zarządzania i Kontroli, Instrukcja Wykonawcza), wytycznych obowiązujących w ramach program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je nt. przygotowywania i zmian wzorów dokumentów dla                 beneficjentów, prac nad kryteriami wyboru projektó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stępu rzeczowego i finansowego, analizy jakościowej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w zakresie poszczególnych Osi Priorytetowyc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nalizę stopnia osiągnięcia wskaźników fizycznych i finansowyc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je dot. listy projektów kluczowych oraz jej weryfika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je dotyczące ewaluacj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apotkanych problemów we wdrażaniu wraz z opisem podjęty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działań zaradczy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6524640"/>
            <a:ext cx="1441440" cy="33336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403280" y="6524640"/>
            <a:ext cx="7489800" cy="33336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03280" y="6524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Departament Polityki Regionalnej/ Wydział Zarządzania RPO/ Biuro Monitoringu i Sprawozdawczości 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50920" y="652464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6524640"/>
            <a:ext cx="14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0920" y="1428840"/>
            <a:ext cx="864216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je dotyczące przeprowadzonych kontroli realizacji programu,       kontrolach podjętych przez inne instytucje (np. NIK), informacj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 działaniach podjętych w ramach kontroli realizacji projektów według Osi Priorytetowyc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ane dotyczące wykorzystania pomocy publicznej w ramach program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- informacje nt. wykorzystania pomocy technicznej oraz wypełnienia zobowiązań   w zakresie promocji i inform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826920" y="1125360"/>
            <a:ext cx="727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1" descr="logotypy"/>
          <p:cNvPicPr/>
          <p:nvPr/>
        </p:nvPicPr>
        <p:blipFill>
          <a:blip r:embed="rId1"/>
          <a:stretch/>
        </p:blipFill>
        <p:spPr>
          <a:xfrm>
            <a:off x="419040" y="0"/>
            <a:ext cx="8082000" cy="144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2:00:14Z</dcterms:created>
  <dc:creator>m.orzechowski</dc:creator>
  <dc:description/>
  <dc:language>en-US</dc:language>
  <cp:lastModifiedBy>k.kaminska</cp:lastModifiedBy>
  <dcterms:modified xsi:type="dcterms:W3CDTF">2009-09-08T06:25:35Z</dcterms:modified>
  <cp:revision>558</cp:revision>
  <dc:subject/>
  <dc:title>Slajd 1</dc:title>
</cp:coreProperties>
</file>