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29AC-0796-45A7-BDC1-4992FCC164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2B84-F759-4A19-89D9-CE73444486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247F-EFD2-4105-A067-01E9707E6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E923-160C-40E9-83DC-E0DF730BE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4AD6-4E12-47A5-9935-F0945ABCB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042C-FE28-4222-9C7D-268C16E433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E9CF-EE57-4110-BFB5-8ACC61115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CF77-4DDB-4234-8027-BFCCE392C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7683-35D4-4386-B848-771CC71F5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AB62-0910-4A44-AD68-DBAAC6DD2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4233-BEA7-43A8-BA55-1C8E7A5AE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F37D-D33E-4F67-8975-C4F846E88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11B1-670E-4A6D-92AE-95CA765E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5A15-558B-4DCE-80CF-F5905A613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277920" y="6408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6F90DD81-B3AC-4005-A01F-7E8482A17CC7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6" descr="logotypy"/>
          <p:cNvPicPr/>
          <p:nvPr/>
        </p:nvPicPr>
        <p:blipFill>
          <a:blip r:embed="rId2"/>
          <a:stretch/>
        </p:blipFill>
        <p:spPr>
          <a:xfrm>
            <a:off x="714240" y="0"/>
            <a:ext cx="7858440" cy="1703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1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2"/>
          <p:cNvGrpSpPr/>
          <p:nvPr/>
        </p:nvGrpSpPr>
        <p:grpSpPr>
          <a:xfrm>
            <a:off x="0" y="6453360"/>
            <a:ext cx="9144000" cy="404640"/>
            <a:chOff x="0" y="6453360"/>
            <a:chExt cx="9144000" cy="404640"/>
          </a:xfrm>
        </p:grpSpPr>
        <p:sp>
          <p:nvSpPr>
            <p:cNvPr id="5" name="Rectangle 13"/>
            <p:cNvSpPr/>
            <p:nvPr/>
          </p:nvSpPr>
          <p:spPr>
            <a:xfrm>
              <a:off x="0" y="6453360"/>
              <a:ext cx="684360" cy="40464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Text Box 14"/>
            <p:cNvSpPr/>
            <p:nvPr/>
          </p:nvSpPr>
          <p:spPr>
            <a:xfrm>
              <a:off x="428760" y="6491160"/>
              <a:ext cx="871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partament Polityki Regionalnej</a:t>
              </a:r>
              <a:r>
                <a:rPr b="1" lang="pl-PL" sz="1400" spc="-1" strike="noStrike">
                  <a:solidFill>
                    <a:srgbClr val="ffffff"/>
                  </a:solidFill>
                  <a:latin typeface="Arial"/>
                </a:rPr>
                <a:t>, Wydział Zarządzania RPO, Biuro Ewaluacji RP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1"/>
          <p:cNvSpPr/>
          <p:nvPr/>
        </p:nvSpPr>
        <p:spPr>
          <a:xfrm>
            <a:off x="1857240" y="221472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Ocena potencjału rynkowego mar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Regionalnego Programu Operacyj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3366"/>
                </a:solidFill>
                <a:latin typeface="Tahoma"/>
              </a:rPr>
              <a:t>Województwa Kujawsko-Pomorskiego na lata 2007–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9"/>
          <p:cNvSpPr/>
          <p:nvPr/>
        </p:nvSpPr>
        <p:spPr>
          <a:xfrm>
            <a:off x="785880" y="5148720"/>
            <a:ext cx="864216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3366"/>
                </a:solidFill>
                <a:latin typeface="Tahoma"/>
                <a:ea typeface="Times New Roman"/>
              </a:rPr>
              <a:t>Toruń, 9.09.200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  <a:ea typeface="Times New Roman"/>
              </a:rPr>
              <a:t>Badanie współfinansowane przez Unię Europejską z Europejskiego Funduszu Rozwoju Regionalnego oraz z budżetu Samorządu Województwa Kujawsko-Pomorskiego w ramach Regionalnego Programu Operacyjnego Województwa Kujawsko-Pomorskiego na lata 2007–2013.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BFFACB37-286E-4005-882D-874E4F1B6782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74672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993760" y="157176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Oceny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301760" y="2642400"/>
            <a:ext cx="680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OCENY ŁATWOŚCI UZYSKANIA DOFINANSOWANIA W RAMACH RPO WK-P WG BENEFICJENTÓW PROGRAM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571840" y="6071400"/>
            <a:ext cx="42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8"/>
          <p:cNvGraphicFramePr/>
          <p:nvPr/>
        </p:nvGraphicFramePr>
        <p:xfrm>
          <a:off x="1928880" y="3071880"/>
          <a:ext cx="551484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3071880"/>
                    <a:ext cx="551484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2A05BDFF-FC93-4DAA-9680-6405EBAFAAB8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228040" y="1714680"/>
            <a:ext cx="45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Korzyści związane z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 rot="16200000">
            <a:off x="318240" y="2824560"/>
            <a:ext cx="1513080" cy="863640"/>
          </a:xfrm>
          <a:prstGeom prst="downArrowCallout">
            <a:avLst>
              <a:gd name="adj1" fmla="val 42570"/>
              <a:gd name="adj2" fmla="val 37554"/>
              <a:gd name="adj3" fmla="val 16667"/>
              <a:gd name="adj4" fmla="val 66667"/>
            </a:avLst>
          </a:prstGeom>
          <a:solidFill>
            <a:srgbClr val="99cc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OGÓL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 rot="16200000">
            <a:off x="710280" y="4932720"/>
            <a:ext cx="1942920" cy="792000"/>
          </a:xfrm>
          <a:prstGeom prst="downArrowCallout">
            <a:avLst>
              <a:gd name="adj1" fmla="val 59609"/>
              <a:gd name="adj2" fmla="val 52584"/>
              <a:gd name="adj3" fmla="val 16667"/>
              <a:gd name="adj4" fmla="val 66667"/>
            </a:avLst>
          </a:prstGeom>
          <a:solidFill>
            <a:srgbClr val="99cc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SZCZEGÓŁO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71760" y="2643120"/>
            <a:ext cx="742932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ebf6"/>
              </a:gs>
              <a:gs pos="50000">
                <a:srgbClr val="ffffff"/>
              </a:gs>
              <a:gs pos="100000">
                <a:srgbClr val="e4ebf6"/>
              </a:gs>
            </a:gsLst>
            <a:lin ang="5400000"/>
          </a:gradFill>
          <a:ln w="9360">
            <a:solidFill>
              <a:srgbClr val="274577"/>
            </a:solidFill>
            <a:miter/>
          </a:ln>
          <a:effectLst>
            <a:outerShdw dist="107932" dir="2700000" blurRad="0" rotWithShape="0">
              <a:srgbClr val="2745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522360" indent="-522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Równanie w górę, przyspieszenie rozwoju, wzrost wied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Korzyści społeczne (nauka i rozwó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Poszukiwanie nowych rozwiązań, poszerzanie obszarów działania, pobudzanie do dział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Innowacyjne projekty, m.in. eduk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Możliwość działania, przeprowadzania zmian, zmieniania rzeczywist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522360" algn="just">
              <a:lnSpc>
                <a:spcPct val="100000"/>
              </a:lnSpc>
              <a:buClr>
                <a:srgbClr val="495677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2357280" y="4286160"/>
            <a:ext cx="424836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4ebf6"/>
              </a:gs>
              <a:gs pos="50000">
                <a:srgbClr val="ffffff"/>
              </a:gs>
              <a:gs pos="100000">
                <a:srgbClr val="e4ebf6"/>
              </a:gs>
            </a:gsLst>
            <a:lin ang="5400000"/>
          </a:gradFill>
          <a:ln w="9360">
            <a:solidFill>
              <a:srgbClr val="274577"/>
            </a:solidFill>
            <a:miter/>
          </a:ln>
          <a:effectLst>
            <a:outerShdw dist="107932" dir="2700000" blurRad="0" rotWithShape="0">
              <a:srgbClr val="2745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Promocja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Inwestycje drog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Ścieżki rower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Podnoszenie umiejętności i kwalifik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Wzrost bezpieczeń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Ochrona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Wsparcie rolnic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Pomoc bezrobotny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522360" algn="just">
              <a:lnSpc>
                <a:spcPct val="100000"/>
              </a:lnSpc>
              <a:buClr>
                <a:srgbClr val="495677"/>
              </a:buClr>
              <a:buSzPct val="8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</a:rPr>
              <a:t>Ochrona zdrow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74672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8B8A372E-2E26-4C98-B4B1-547F2F34AAF3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120320" y="142884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Mocne i słabe strony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500040" y="1571760"/>
            <a:ext cx="37148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0" spc="-1" strike="noStrike">
                <a:solidFill>
                  <a:srgbClr val="85ff85"/>
                </a:solidFill>
                <a:latin typeface="Wingdings"/>
                <a:ea typeface="Wingdings"/>
              </a:rPr>
              <a:t>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750920" y="1577880"/>
            <a:ext cx="3990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0" spc="-1" strike="noStrike">
                <a:solidFill>
                  <a:srgbClr val="ff5b5b"/>
                </a:solidFill>
                <a:latin typeface="Wingdings"/>
                <a:ea typeface="Wingdings"/>
              </a:rPr>
              <a:t>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000080" y="2214720"/>
            <a:ext cx="3782880" cy="439236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anchor="ctr">
            <a:noAutofit/>
          </a:bodyPr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to, że j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możliwość dofinansowania interesujących projek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możliwość rozwoju firm i rynku 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obry podział działań związanych z przedsiębiorczości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zachodzące zmiany, weryfikacje działa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mowanie innowacy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zaangażowanie i dobra wola osób pracujących w IZ RPO WK-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lan działania dla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wieloletni harmonogram konkur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214960" y="2357280"/>
            <a:ext cx="3746520" cy="4176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anchor="ctr">
            <a:noAutofit/>
          </a:bodyPr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czas (złożenie – dotacj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konieczność zawarcia we wniosku parametrów dotyczących m.in. zatrudni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ejasne proced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mesy kredy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załączanie zbędnych dokumentów (specyfikac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kwestia innowacy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casus firm ze strat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e najlepsza współpraca beneficjentów z IZ RPO WK-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łaba polityka informacyj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zielenie środków „z automatu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zbyt małe środki w stosunku do potrzeb regio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928800" y="1857240"/>
            <a:ext cx="3854160" cy="576360"/>
          </a:xfrm>
          <a:prstGeom prst="downArrowCallout">
            <a:avLst>
              <a:gd name="adj1" fmla="val 156418"/>
              <a:gd name="adj2" fmla="val 138013"/>
              <a:gd name="adj3" fmla="val 16667"/>
              <a:gd name="adj4" fmla="val 66667"/>
            </a:avLst>
          </a:prstGeom>
          <a:solidFill>
            <a:srgbClr val="bbe0e3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MOCNE STR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214960" y="1857240"/>
            <a:ext cx="3833640" cy="576360"/>
          </a:xfrm>
          <a:prstGeom prst="downArrowCallout">
            <a:avLst>
              <a:gd name="adj1" fmla="val 155585"/>
              <a:gd name="adj2" fmla="val 137279"/>
              <a:gd name="adj3" fmla="val 16667"/>
              <a:gd name="adj4" fmla="val 66667"/>
            </a:avLst>
          </a:prstGeom>
          <a:solidFill>
            <a:srgbClr val="bbe0e3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SŁABE STR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67508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958B5059-DDFC-4CA8-AFB5-2F3D6DDEF0DF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78080" y="1714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Wizerunek emocjonal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G70402"/>
          <p:cNvPicPr/>
          <p:nvPr/>
        </p:nvPicPr>
        <p:blipFill>
          <a:blip r:embed="rId1"/>
          <a:stretch/>
        </p:blipFill>
        <p:spPr>
          <a:xfrm>
            <a:off x="1214280" y="2714760"/>
            <a:ext cx="2405160" cy="367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Eurostar_3012_Waterloo_500"/>
          <p:cNvPicPr/>
          <p:nvPr/>
        </p:nvPicPr>
        <p:blipFill>
          <a:blip r:embed="rId2"/>
          <a:stretch/>
        </p:blipFill>
        <p:spPr>
          <a:xfrm>
            <a:off x="4857840" y="3357720"/>
            <a:ext cx="3403440" cy="22683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67508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3D9540AC-9371-4AA0-A5BC-1ED098C4B082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77960" y="142884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Wizerunek emocjonal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2857680" y="1857240"/>
            <a:ext cx="1766880" cy="642960"/>
          </a:xfrm>
          <a:prstGeom prst="downArrowCallout">
            <a:avLst>
              <a:gd name="adj1" fmla="val 71710"/>
              <a:gd name="adj2" fmla="val 63281"/>
              <a:gd name="adj3" fmla="val 16667"/>
              <a:gd name="adj4" fmla="val 66667"/>
            </a:avLst>
          </a:prstGeom>
          <a:solidFill>
            <a:srgbClr val="99cc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BENEFICJENC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ole tekstowe 11"/>
          <p:cNvSpPr/>
          <p:nvPr/>
        </p:nvSpPr>
        <p:spPr>
          <a:xfrm>
            <a:off x="3000240" y="2500200"/>
            <a:ext cx="144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Brak dystansu Młod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Otwart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Cierpliw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4929120" y="1785960"/>
            <a:ext cx="1871640" cy="720720"/>
          </a:xfrm>
          <a:prstGeom prst="downArrowCallout">
            <a:avLst>
              <a:gd name="adj1" fmla="val 60744"/>
              <a:gd name="adj2" fmla="val 53597"/>
              <a:gd name="adj3" fmla="val 16667"/>
              <a:gd name="adj4" fmla="val 66667"/>
            </a:avLst>
          </a:prstGeom>
          <a:solidFill>
            <a:srgbClr val="99cc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POTENCJAL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BENEFICJENC</a:t>
            </a:r>
            <a:r>
              <a:rPr b="1" lang="pl-PL" sz="1400" spc="-1" strike="noStrike">
                <a:solidFill>
                  <a:srgbClr val="003366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7072200" y="1785960"/>
            <a:ext cx="1727280" cy="714240"/>
          </a:xfrm>
          <a:prstGeom prst="downArrowCallout">
            <a:avLst>
              <a:gd name="adj1" fmla="val 70116"/>
              <a:gd name="adj2" fmla="val 61880"/>
              <a:gd name="adj3" fmla="val 16667"/>
              <a:gd name="adj4" fmla="val 66667"/>
            </a:avLst>
          </a:prstGeom>
          <a:solidFill>
            <a:srgbClr val="99ccf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MIESZKAŃ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857160" y="2714760"/>
            <a:ext cx="1728720" cy="485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personaliz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857160" y="4214880"/>
            <a:ext cx="1728720" cy="4856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pocią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857160" y="5572080"/>
            <a:ext cx="1728720" cy="486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chiński port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ole tekstowe 11"/>
          <p:cNvSpPr/>
          <p:nvPr/>
        </p:nvSpPr>
        <p:spPr>
          <a:xfrm>
            <a:off x="5214960" y="2500200"/>
            <a:ext cx="14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yst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Chłó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epew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jak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ole tekstowe 11"/>
          <p:cNvSpPr/>
          <p:nvPr/>
        </p:nvSpPr>
        <p:spPr>
          <a:xfrm>
            <a:off x="7143840" y="250020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ozytywne myś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Blisk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Ciepł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Bezpośredni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ympat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2806560" y="3857760"/>
            <a:ext cx="633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Luksusowy i bardzo szybki (potencjal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e za bardzo przystosowany do polskich tor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ajnowsza generacja pociąg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tatyczny: stoi na każdej stacji lub dopiero się rozpęd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Świetny jakościowo, ale jazda nie jest pły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Ma duże opóźni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2806560" y="5286240"/>
            <a:ext cx="633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Biurko lub szafa z wieloma zakamarkami i przegródk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Masywny me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Twa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Trwał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Niezniszczal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60380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E56C4F6E-1587-400D-9A7E-32E39AC3F177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39360" y="135720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Ocena Urzędu Marszałkowskiego jako 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71680" y="1785960"/>
            <a:ext cx="3714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0" spc="-1" strike="noStrike">
                <a:solidFill>
                  <a:srgbClr val="85ff85"/>
                </a:solidFill>
                <a:latin typeface="Wingdings"/>
                <a:ea typeface="Wingdings"/>
              </a:rPr>
              <a:t>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750920" y="1577880"/>
            <a:ext cx="39906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0" spc="-1" strike="noStrike">
                <a:solidFill>
                  <a:srgbClr val="ff5b5b"/>
                </a:solidFill>
                <a:latin typeface="Wingdings"/>
                <a:ea typeface="Wingdings"/>
              </a:rPr>
              <a:t>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857160" y="2214720"/>
            <a:ext cx="3783240" cy="4392360"/>
          </a:xfrm>
          <a:prstGeom prst="rect">
            <a:avLst/>
          </a:prstGeom>
          <a:noFill/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anchor="ctr">
            <a:noAutofit/>
          </a:bodyPr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zaangaż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życzliw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kompetencje, merytoryczne przygotowanie niektórych pracownik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33cc33"/>
              </a:buClr>
              <a:buFont typeface="Wingdings" charset="2"/>
              <a:buChar char="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zmiany na leps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929120" y="2214720"/>
            <a:ext cx="3746520" cy="4176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anchor="ctr">
            <a:noAutofit/>
          </a:bodyPr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kłopoty kompeten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udzielanie sprzecznych odpowied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bardzo słaby kontakt telefonicz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kwestia braku odpowiedzialności urzędników za udzielane odpowied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zróżnicowana ocena działań pracowników w kontekście szkole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nadmierna biurokr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nieprzyjaz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0000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pl-PL" sz="1400" spc="-1" strike="noStrike">
                <a:solidFill>
                  <a:srgbClr val="003366"/>
                </a:solidFill>
                <a:latin typeface="Verdana"/>
              </a:rPr>
              <a:t>dystans ze strony beneficjentów (test zdań niedokończony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714240" y="1785960"/>
            <a:ext cx="3854520" cy="576360"/>
          </a:xfrm>
          <a:prstGeom prst="downArrowCallout">
            <a:avLst>
              <a:gd name="adj1" fmla="val 156432"/>
              <a:gd name="adj2" fmla="val 138026"/>
              <a:gd name="adj3" fmla="val 16667"/>
              <a:gd name="adj4" fmla="val 66667"/>
            </a:avLst>
          </a:prstGeom>
          <a:solidFill>
            <a:srgbClr val="bbe0e3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MOCNE STR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4857840" y="1785960"/>
            <a:ext cx="3833640" cy="576360"/>
          </a:xfrm>
          <a:prstGeom prst="downArrowCallout">
            <a:avLst>
              <a:gd name="adj1" fmla="val 155585"/>
              <a:gd name="adj2" fmla="val 137279"/>
              <a:gd name="adj3" fmla="val 16667"/>
              <a:gd name="adj4" fmla="val 66667"/>
            </a:avLst>
          </a:prstGeom>
          <a:solidFill>
            <a:srgbClr val="bbe0e3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Verdana"/>
                <a:ea typeface="Arial"/>
              </a:rPr>
              <a:t>SŁABE STRO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668240" y="0"/>
            <a:ext cx="70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B. POSTRZEGANIE URZĘDU MARSZAŁKOW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564C9866-1C50-45E2-BF4F-C4BB667A4BE0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2628000" y="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C. SKUTECZNOŚĆ KOMUNIKACJI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14720" y="164304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Oceny działań informacyj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71680" y="2642400"/>
            <a:ext cx="416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OCENY ILOŚCI DOSTĘPNYCH INFORMACJI O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357120" y="60714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979880" y="2642400"/>
            <a:ext cx="4164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OCENY ŁATWOŚCI UZYSKANIA INFORMACJI O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9"/>
          <p:cNvGraphicFramePr/>
          <p:nvPr/>
        </p:nvGraphicFramePr>
        <p:xfrm>
          <a:off x="4429080" y="3071880"/>
          <a:ext cx="4714920" cy="314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3071880"/>
                    <a:ext cx="47149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10"/>
          <p:cNvGraphicFramePr/>
          <p:nvPr/>
        </p:nvGraphicFramePr>
        <p:xfrm>
          <a:off x="500040" y="3000240"/>
          <a:ext cx="4029120" cy="33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040" y="3000240"/>
                    <a:ext cx="402912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AD89912D-707B-43E2-A8AB-CC1904792060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815400" y="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D. OCENY I PREFERENCJE WOBEC ŹRÓDEŁ INFORM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91000" y="1428840"/>
            <a:ext cx="55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Działania kierowane do mieszkań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857840" y="1785240"/>
            <a:ext cx="416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SKUTECZNOŚĆ POSZCZEGÓLNYCH KANAŁ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57120" y="6285960"/>
            <a:ext cx="85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10"/>
          <p:cNvGraphicFramePr/>
          <p:nvPr/>
        </p:nvGraphicFramePr>
        <p:xfrm>
          <a:off x="2071800" y="1928880"/>
          <a:ext cx="442908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928880"/>
                    <a:ext cx="442908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16DE6216-A53F-40FC-919E-1303D3C6556F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15400" y="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D. OCENY I PREFERENCJE WOBEC ŹRÓDEŁ INFORM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686600" y="1500120"/>
            <a:ext cx="57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Działania kierowane do beneficjen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85880" y="2356920"/>
            <a:ext cx="3948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MIEJSCA, W KTÓRYCH BENEFICJEN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ETKNĘLI SIĘ Z INFORMACJAMI O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57120" y="6214320"/>
            <a:ext cx="856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398920" y="2571120"/>
            <a:ext cx="374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PODSTAWOWE ŹRÓDŁA WIEDZY O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0"/>
          <p:cNvGraphicFramePr/>
          <p:nvPr/>
        </p:nvGraphicFramePr>
        <p:xfrm>
          <a:off x="5000760" y="3071880"/>
          <a:ext cx="4000320" cy="31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3071880"/>
                    <a:ext cx="400032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1"/>
          <p:cNvGraphicFramePr/>
          <p:nvPr/>
        </p:nvGraphicFramePr>
        <p:xfrm>
          <a:off x="357120" y="2928960"/>
          <a:ext cx="4838760" cy="3190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2928960"/>
                    <a:ext cx="483876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F29913ED-C9D8-4941-844B-31054DD84DCE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815400" y="0"/>
            <a:ext cx="78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D. OCENY I PREFERENCJE WOBEC ŹRÓDEŁ INFORM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566360" y="1500120"/>
            <a:ext cx="46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Preferowane źródła inform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57120" y="607140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 oraz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604520" y="2428200"/>
            <a:ext cx="58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ŹRÓDŁA INFORMACJI O RPO WK-P PREFEROWANE PRZEZ MIESZKAŃCÓW I BENEFICJENTÓ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8"/>
          <p:cNvGraphicFramePr/>
          <p:nvPr/>
        </p:nvGraphicFramePr>
        <p:xfrm>
          <a:off x="2000160" y="2643120"/>
          <a:ext cx="51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643120"/>
                    <a:ext cx="51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5"/>
          <p:cNvSpPr/>
          <p:nvPr/>
        </p:nvSpPr>
        <p:spPr>
          <a:xfrm>
            <a:off x="647640" y="1428840"/>
            <a:ext cx="849636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TYTUŁ PROJEK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Ocena potencjału rynkowego marki Regionalnego Programu Operacyjnego Województwa Kujawsko-Pomorskiego na lata 2007-201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AMAWIAJĄ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Urząd Marszałkowski Województwa Kujawsko-Pomorskieg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WYKONAW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PBS DGA Sp. z o.o., 81-812 Sopot, ul. Junaków 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Termin wykonywania badania:  22.05. – 24.07. 2009 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SCHEMAT REALIZACJI BAD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badanie jakościowe metodą FGI (5 FG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badanie ilościowe metodą CATI (215 wywiadó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badanie ilościowe metodą PAPI (319 wywiadó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PRÓB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mieszkańcy województwa kujawsko-pomorskiego (1 FGI oraz 319 PAP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potencjalni oraz rzeczywiści beneficjenci RPO WK-P (4 FGI oraz 215 CA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Beneficjenci potencjalni 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RPO WK-P – osoby, które uczestniczyły w szkoleniach dotyczących RPO WK-P lub przygotowywały wniosek o dofinansowanie projektu w ramach RPO WK-P i aktualnie nie uczestniczą w realizacji takiego projekt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7604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Beneficjenci rzeczywiści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RPO WK-P – osoby, które uczestniczą w realizacji projektu współfinansowanego ze środków RPO WK-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5EF2D7E1-5E06-4407-806F-17B1331101B0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4061160" y="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SCHEMAT REALIZACJI BAD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381FC6AA-AF4F-4909-8218-E83289A0391A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056600" y="0"/>
            <a:ext cx="76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E. OCENY I PREFERENCJE DOT. ZAKRESU INFORM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945800" y="150012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Oczekiwane rodzaje inform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914840" y="2428200"/>
            <a:ext cx="203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MIESZKAŃCY WOJEWÓDZT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6421680" y="242820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BENEFICJENCI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500040" y="614304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5429160" y="6071400"/>
            <a:ext cx="39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14"/>
          <p:cNvGraphicFramePr/>
          <p:nvPr/>
        </p:nvGraphicFramePr>
        <p:xfrm>
          <a:off x="571680" y="2643120"/>
          <a:ext cx="4352760" cy="34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643120"/>
                    <a:ext cx="435276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5"/>
          <p:cNvGraphicFramePr/>
          <p:nvPr/>
        </p:nvGraphicFramePr>
        <p:xfrm>
          <a:off x="4572000" y="2714760"/>
          <a:ext cx="4714920" cy="3457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14760"/>
                    <a:ext cx="471492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3AD329A1-5D87-4EA8-B470-CB64A0A1C582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861200" y="142884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ekomendacje prioryt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260960" y="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G. WNIOSKI I REKOMEND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7"/>
          <p:cNvSpPr/>
          <p:nvPr/>
        </p:nvSpPr>
        <p:spPr>
          <a:xfrm>
            <a:off x="642960" y="2000160"/>
            <a:ext cx="835812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Tahoma"/>
              </a:rPr>
              <a:t>Stopień postrzegania Urzędu Marszałkowskiego - negatywny wpływ na stosunkowo dobrą ocenę pracy Urzędu Marszałkowskiego jako IZ RPO WK-P mają aspekty związane z przygotowaniem merytorycznym pracowników oraz oceną skuteczności wydatkowania środków pochodzących z RPO WK-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  <a:ea typeface="Times New Roman"/>
              </a:rPr>
              <a:t>Fundusze Europejskie są odbierane przez rynek poprzez indywidualne doświadczenie beneficjenta, co prowadzi do sytuacji, że każdy urzędnik jest reprezentantem Funduszy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  <a:ea typeface="Times New Roman"/>
              </a:rPr>
              <a:t>(Strategia Komunikacji Funduszy Europejskich w Polsce w ramach Narodowej Strategii spójności na lata 2007 – 2013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Zweryfikowanie systemu szkoleń nowo przychodzącej kadry wsparte dodatkowo warsztatami prowadzonymi przez doświadczonych pracowników; Weryfikacja systemu motywacji płacowej i pozapłacowej dla pracowników z doświadczenie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Jedna na dziesięć osób (beneficjenci, potencjalni beneficjenci, mieszkańcy) jest zdania, że IZ RPO WK-P uda się do 2013 roku wydać całość przeznaczonej na województwo kwo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Regularne informowanie o postępach w wydatkowaniu środków w odniesieniu do sumy przeznaczonej na cały rok i w odniesieniu do pełnej kwo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200" spc="-1" strike="noStrike">
                <a:solidFill>
                  <a:srgbClr val="003366"/>
                </a:solidFill>
                <a:latin typeface="Verdana"/>
                <a:ea typeface="Times New Roman"/>
              </a:rPr>
              <a:t>Naczelnik Wydziału Wyboru Projektów</a:t>
            </a:r>
            <a:r>
              <a:rPr b="0" lang="pl-PL" sz="1200" spc="-1" strike="noStrike">
                <a:solidFill>
                  <a:srgbClr val="003366"/>
                </a:solidFill>
                <a:latin typeface="Verdana"/>
              </a:rPr>
              <a:t>; </a:t>
            </a:r>
            <a:r>
              <a:rPr b="0" lang="pl-PL" sz="1200" spc="-1" strike="noStrike">
                <a:solidFill>
                  <a:srgbClr val="003366"/>
                </a:solidFill>
                <a:latin typeface="Verdana"/>
                <a:ea typeface="Times New Roman"/>
              </a:rPr>
              <a:t>Naczelnik Wydziału Wdrażania Projektów</a:t>
            </a:r>
            <a:r>
              <a:rPr b="0" lang="pl-PL" sz="12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200" spc="-1" strike="noStrike">
                <a:solidFill>
                  <a:srgbClr val="003366"/>
                </a:solidFill>
                <a:latin typeface="Tahoma"/>
              </a:rPr>
              <a:t> do końca 2009 ro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F430CED3-782D-4F3B-87FF-02424ABC6453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861200" y="157176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ekomendacje prioryt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332600" y="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G. WNIOSKI I REKOMEND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42960" y="2286000"/>
            <a:ext cx="820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ziałania promocyjne i informacyjne – pomimo tego, że istnieje pełen wachlarz narzędzi bazujących zarówno na komunikacji pośredniej, jak i bezpośredniej, beneficjenci, potencjalni beneficjenci i mieszkańcy podkreślają fakt swojej niewystarczającej wiedzy na temat Progra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Strona www jest najważniejszym narzędziem informacyjnym. O ile jest ona dobrze oceniana przez osoby często wykorzystujące to źródło informacji, o tyle korzystanie  z niej stwarza trudności potencjalnym beneficjentom i mieszkańco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W stosunku do strony www należy zachować szczególną dbałość w związku z następującymi elementami: przejrzystość strony; wysoki poziom merytoryczny; aktualizacje. Dodatkowo, aby strona była bardziej przyjazna dla mieszkańców województwa, proponujemy wprowadzenie zakładki typu: Moje pierwsze kroki w RPO WK-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Wydział Koordynacji, Wydział Zarządzania RPO WK-P, Wydział Wyboru Projektów, Wydział Wdrażania Projekt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działanie ciągł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6E9C2D0D-23F3-4099-AE50-1E58EAAAEA72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1789560" y="142884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ekomendacje prioryt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4332600" y="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G. WNIOSKI I REKOMEND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85880" y="1928880"/>
            <a:ext cx="820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ziałania promocyjne i informacyjne – pomimo tego, że istnieje pełen wachlarz narzędzi bazujących zarówno na komunikacji pośredniej, jak i bezpośredniej, beneficjenci, potencjalni beneficjenci i mieszkańcy podkreślają fakt swojej niewystarczającej wiedzy na temat Progra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Niewystarczająca wiedza wśród badanych na temat istnienia newslettera dedykowanego RPO WK-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Podjęcie działań promujących newsletter dedykowany RPO WK-P poprzez np. zamieszczenie na stronie www banerów informujących o możliwościach skorzystania z tego narzędz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Otrzymywanie przez badanych – za pośrednictwem newslettera – informacji zbyt ogól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Możliwość zdefiniowania przez osoby prenumerujące newsletter typów informacji, które chciałyby otrzymywać, np. tylko o naborach wniosków w ramach danego Prioryte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Administrator strony www; Wydział Koordyna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do końca 2009 r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95B6C0FC-0AFD-4C98-A81C-346B9CDBAFA4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718280" y="150012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ekomendacje prioryt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4469040" y="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G. WNIOSKI I REKOMEND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642960" y="1928880"/>
            <a:ext cx="8209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Działania promocyjne i informacyjne – pomimo tego, że istnieje pełen wachlarz narzędzi bazujących zarówno na komunikacji pośredniej, jak i bezpośredniej, beneficjenci, potencjalni beneficjenci i mieszkańcy podkreślają fakt swojej niewystarczającej wiedzy na temat Progra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Ocena szkoleń nie zawsze wypada pozytywnie, zwłaszcza pod względem merytorycznego przygotowania prowadzących. Z badania wynika, że respondenci przywiązują ogromną wagę do szkoleń, traktując je jako główne – obok Internetu – źródło informacji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Położenie większego nacisku na analizę danych pochodzących z ankiet ewaluacyjnych (zawierających m.in. elementy oceny przygotowania merytorycznego, sposobu prowadzenia i umiejętności interpersonalnych trenerów). Regularne udzielanie informacji zwrotnych trenero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Część firm/instytucji nie otrzymuje informacji związanych z interesującą ich ofertą informacyjno-szkoleniową w ramach RPO WK-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Tworzenie i regularne uaktualnianie branżowych baz danych osób, które skorzystały ze szkoleń w ramach RPO WK-P. Wykorzystywanie tych danych do regularnej wysyłki informacji o planowanych szkoleniach, spotkaniach, konferencjach z uwzględnieniem bran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Wydział Koordynacj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do końca 2009 r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9476FE7A-D079-4484-B8FD-C0E2ED55430E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718280" y="142884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ekomendacje prioryte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332600" y="0"/>
            <a:ext cx="44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G. WNIOSKI I REKOMENDA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785880" y="1857240"/>
            <a:ext cx="8208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Rekomendacje związane z podstawowymi problemami dotyczącymi postrzegania RPO WK-P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Długi czas oceny wniosku sprawia, że niektóre dokumenty tracą ważność, np. ważny 3 miesiące KRS firm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Zrewidowanie listy wymaganych załączników składanych na etapie aplikowania wyłącznie do dokumentów niezbędnych do oceny wniosku w pierwszym etap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Biuro Oceny Formalnej Projekt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do końca 2009 r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Problem:</a:t>
            </a:r>
            <a:r>
              <a:rPr b="0" i="1" lang="pl-PL" sz="1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Beneficjenci i potencjalni beneficjenci składający dany wniosek nie są świadomi zmian, które zachodzą w dokumentacji składanego wniosk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c00000"/>
                </a:solidFill>
                <a:latin typeface="Tahoma"/>
              </a:rPr>
              <a:t>Rekomendacja: </a:t>
            </a:r>
            <a:r>
              <a:rPr b="0" lang="pl-PL" sz="1400" spc="-1" strike="noStrike">
                <a:solidFill>
                  <a:srgbClr val="c00000"/>
                </a:solidFill>
                <a:latin typeface="Tahoma"/>
              </a:rPr>
              <a:t>Poprawa działań informacyjnych związanych z wprowadzaniem jakichkolwiek zmian podczas składania wniosków, np. wyróżnienie kolorystyczne zmian na stronie WWW; wysyłanie e-mailem informacji do subskrybentów newslett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Adresat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Administrator strony ww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3366"/>
                </a:solidFill>
                <a:latin typeface="Tahoma"/>
              </a:rPr>
              <a:t>Sugerowany termin realizacji rekomendacji:</a:t>
            </a:r>
            <a:r>
              <a:rPr b="0" lang="pl-PL" sz="1400" spc="-1" strike="noStrike">
                <a:solidFill>
                  <a:srgbClr val="003366"/>
                </a:solidFill>
                <a:latin typeface="Tahoma"/>
              </a:rPr>
              <a:t> do końca 2009 ro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A684BA1B-D72D-4907-B218-76C07D7E490A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24000" y="2781360"/>
            <a:ext cx="820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3366"/>
                </a:solidFill>
                <a:latin typeface="Tahoma"/>
              </a:rPr>
              <a:t>Dziękuję za uwag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ahoma"/>
              </a:rPr>
              <a:t>Wydział Zarządzania 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3366"/>
                </a:solidFill>
                <a:latin typeface="Tahoma"/>
              </a:rPr>
              <a:t>Biuro Ewaluacji 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0593252C-BDD5-41F2-8063-28EE62D8EBCE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061160" y="142920"/>
            <a:ext cx="45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SCHEMAT REALIZACJI BAD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97920" y="1571760"/>
            <a:ext cx="61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akres tematyczny projektu badawcz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r"/>
          <p:cNvPicPr/>
          <p:nvPr/>
        </p:nvPicPr>
        <p:blipFill>
          <a:blip r:embed="rId1"/>
          <a:stretch/>
        </p:blipFill>
        <p:spPr>
          <a:xfrm>
            <a:off x="2357280" y="2428920"/>
            <a:ext cx="456120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4AB441D1-99A1-4226-B215-47E06505E32E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004760" y="22860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Definicja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460880" y="164304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08480" y="2928960"/>
            <a:ext cx="60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Rozpoznawalność hasła i logo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53240" y="378612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nazwy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77000" y="450072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zakresu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D79CE5BB-DA10-4D90-BA81-5C434E8773DA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67508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96200" y="1643040"/>
            <a:ext cx="42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nazwy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8"/>
          <p:cNvGraphicFramePr/>
          <p:nvPr/>
        </p:nvGraphicFramePr>
        <p:xfrm>
          <a:off x="285840" y="2500200"/>
          <a:ext cx="4686120" cy="302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2500200"/>
                    <a:ext cx="46861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9"/>
          <p:cNvGraphicFramePr/>
          <p:nvPr/>
        </p:nvGraphicFramePr>
        <p:xfrm>
          <a:off x="4857840" y="2357280"/>
          <a:ext cx="4695840" cy="303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2357280"/>
                    <a:ext cx="469584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10"/>
          <p:cNvSpPr/>
          <p:nvPr/>
        </p:nvSpPr>
        <p:spPr>
          <a:xfrm>
            <a:off x="1890360" y="2285280"/>
            <a:ext cx="19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SPONTANICZ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6312960" y="228528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501480" y="5572080"/>
            <a:ext cx="86425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spontaniczn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– 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  <a:ea typeface="Times New Roman"/>
              </a:rPr>
              <a:t>procent grupy docelowej, który podaje np. naz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</a:rPr>
              <a:t>wę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  <a:ea typeface="Times New Roman"/>
              </a:rPr>
              <a:t> programu samodzielnie bez pomocy ankieter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– 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  <a:ea typeface="Times New Roman"/>
              </a:rPr>
              <a:t>procent grupy docelowej, który deklaruje znajom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</a:rPr>
              <a:t>ość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  <a:ea typeface="Times New Roman"/>
              </a:rPr>
              <a:t> np. nazwy programu po jej wyczytaniu przez ankieter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428760" y="5357160"/>
            <a:ext cx="42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4941720" y="528552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15"/>
          <p:cNvGraphicFramePr/>
          <p:nvPr/>
        </p:nvGraphicFramePr>
        <p:xfrm>
          <a:off x="4448160" y="2571840"/>
          <a:ext cx="4695840" cy="327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8160" y="2571840"/>
                    <a:ext cx="46958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45C8CED9-0233-4853-82A7-7DFE1884C0D7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74672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850040" y="1714680"/>
            <a:ext cx="46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logotypu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104480" y="2714040"/>
            <a:ext cx="19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SPONTANICZ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741280" y="249948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642960" y="5857920"/>
            <a:ext cx="864216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spontaniczn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– 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</a:rPr>
              <a:t>odsetek osób deklarujących, że wiedzą, jak wygląda logotyp RPO WK-P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– 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</a:rPr>
              <a:t>odsetki osób, które wskazały poszczególne logotypy, jako logotypy RPO WK-P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357120" y="550008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786200" y="550008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4"/>
          <p:cNvGraphicFramePr/>
          <p:nvPr/>
        </p:nvGraphicFramePr>
        <p:xfrm>
          <a:off x="0" y="2857680"/>
          <a:ext cx="4695840" cy="3081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857680"/>
                    <a:ext cx="4695840" cy="30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128B73AE-01FF-4627-A419-598B57BBB003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508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12080" y="178596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hasła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669480" y="249948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42960" y="6000840"/>
            <a:ext cx="864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Znajomość wspomagana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 – </a:t>
            </a:r>
            <a:r>
              <a:rPr b="0" lang="pl-PL" sz="1000" spc="-1" strike="noStrike">
                <a:solidFill>
                  <a:srgbClr val="003366"/>
                </a:solidFill>
                <a:latin typeface="Verdana"/>
              </a:rPr>
              <a:t>odsetki osób, które wskazały poszczególne hasła, jako hasła RPO WK-P</a:t>
            </a:r>
            <a:r>
              <a:rPr b="0" lang="pl-PL" sz="10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428920" y="5571360"/>
            <a:ext cx="42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3"/>
          <p:cNvGraphicFramePr/>
          <p:nvPr/>
        </p:nvGraphicFramePr>
        <p:xfrm>
          <a:off x="1357200" y="2643120"/>
          <a:ext cx="6096240" cy="32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2643120"/>
                    <a:ext cx="60962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16"/>
          <p:cNvGraphicFramePr/>
          <p:nvPr/>
        </p:nvGraphicFramePr>
        <p:xfrm>
          <a:off x="0" y="2428920"/>
          <a:ext cx="469584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469584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4"/>
          <p:cNvGraphicFramePr/>
          <p:nvPr/>
        </p:nvGraphicFramePr>
        <p:xfrm>
          <a:off x="4421160" y="2428920"/>
          <a:ext cx="4722840" cy="4138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1160" y="2428920"/>
                    <a:ext cx="472284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8C86F348-2EE6-45E7-AC1E-97B44B92FF2C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7508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705320" y="157176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Znajomość zakresu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343520" y="2142360"/>
            <a:ext cx="203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MIESZKAŃCY WOJEWÓDZT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921640" y="2142360"/>
            <a:ext cx="170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BENEFICJENCI RPO WK-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57120" y="614448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PAPI mieszkańców województwa kujawsko-pomorskiego (N=319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5072040" y="6143040"/>
            <a:ext cx="39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277920" y="64087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- </a:t>
            </a:r>
            <a:fld id="{EF3DF82D-6ED8-4995-96A6-D6F4B07C8B84}" type="slidenum">
              <a:rPr b="1" lang="pl-PL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r>
              <a:rPr b="1" lang="pl-PL" sz="1000" spc="-1" strike="noStrike">
                <a:solidFill>
                  <a:srgbClr val="808080"/>
                </a:solidFill>
                <a:latin typeface="Tahoma"/>
              </a:rPr>
              <a:t> 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746720" y="0"/>
            <a:ext cx="68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c0c0c0"/>
                </a:solidFill>
                <a:latin typeface="Tahoma"/>
              </a:rPr>
              <a:t>A. ZNAJOMOŚĆ ORAZ POSTRZEGANIE RPO WK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207960" y="157176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3366"/>
                </a:solidFill>
                <a:latin typeface="Tahoma"/>
              </a:rPr>
              <a:t>Oceny RPO WK-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173600" y="2642400"/>
            <a:ext cx="682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3366"/>
                </a:solidFill>
                <a:latin typeface="Tahoma"/>
              </a:rPr>
              <a:t>OCENY STOPNIA DOPASOWANIA RPO WK-P DO POTRZEB WOJEWÓDZTWA WG BENEFICJENTÓW PROGRAM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500200" y="6071400"/>
            <a:ext cx="42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808080"/>
                </a:solidFill>
                <a:latin typeface="Tahoma"/>
                <a:ea typeface="Times New Roman"/>
              </a:rPr>
              <a:t>Źródło: Badanie CATI beneficjentów RPO WK-P (N=215)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1571760" y="2857680"/>
          <a:ext cx="6095880" cy="331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2857680"/>
                    <a:ext cx="60958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07:38:19Z</dcterms:created>
  <dc:creator>Katarzyna Nalysz</dc:creator>
  <dc:description/>
  <dc:language>en-US</dc:language>
  <cp:lastModifiedBy>k.zachwieja</cp:lastModifiedBy>
  <dcterms:modified xsi:type="dcterms:W3CDTF">2009-09-07T06:04:42Z</dcterms:modified>
  <cp:revision>77</cp:revision>
  <dc:subject/>
  <dc:title>Slajd 1</dc:title>
</cp:coreProperties>
</file>