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6966-9C87-4BD3-B697-8B3CE81E6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5F7EC-2B52-4D31-88ED-4085F5E8748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599D1-7BC5-423F-8938-3C9EFA34B7C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80460-46C9-46A0-8737-5B92004980B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F6D9FF-6452-4908-B688-E829BE73BE8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D1443D-E697-4AD2-9403-4416D44BDD1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97711A-DBBE-488A-87C4-07CB8950D77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BD798-EDDC-4224-8880-69D951738A5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39FCC2-0F22-4B54-A832-2EBF011A3F0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8015CB-3096-4E29-9D79-47780701319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6666E-56EE-4539-91DC-2FBBF86D953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FD8A5-F31B-4181-BE58-291B7508F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2BF8-9C0C-4CFC-9230-9FEF62B69D0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07EDD-818D-4014-B728-95BDBB02286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99C84-D4C2-4FD6-AAF9-77D85535C90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BC7B6-00AA-48F3-92F6-FB97AA17287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47BDD-5A63-431A-A04D-C40469554F8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25B9B-D8FA-4B44-8A12-535203E2D05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601D7-5062-46FD-ABF8-D97A3AE5A2E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37F71-E3E4-412F-9293-31F20A0DA10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148A9-DF3E-41DB-A52E-759DF7C8885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6906D-D0A2-45A9-BD5F-F2FDCC0057C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292995-F207-4447-82A7-E320926A3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743D-E120-4A5B-86BE-5995D35D6A3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E06C7-D533-4C72-8B75-03C1FA9500B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AE75-A3AB-4EEB-A3BD-6969543D77A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5B0CD-1D36-4618-AC86-D3F40D41FFB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37D0C-CA57-4BE0-AC16-650B1664168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D908-9B9B-4D0B-8931-D1D65B25B88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2F851-434B-44A5-9E84-8EFE700883A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BCA1D-4BD6-4BD0-8D8B-93EC706BD32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20776-E943-473D-876A-8C915167AD7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746A9-7F16-4F04-8438-802AC527685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1C291-6E31-46DD-A616-69E29CA8D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B10A0-B884-41DF-9B90-691028A2E18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33D44-CF68-4A62-81D5-83EC33693B9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4F87-4487-415E-A755-15F5C4E42EA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69C7E1-EDC2-4B85-8186-60E75ED9DF8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4B6BC-EB32-4022-8725-DF022320690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510E24-E676-463B-9575-B47A2654A4A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CD965-23E6-4A32-A973-C4E3A5A9983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BBA07-6FA6-4E9C-BAD0-3436264C82C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3B66B3-61A5-4DD0-BDC4-C6AAE53232D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61F5CA-D6C2-4F3F-B628-2248A4A30D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6D5365-D29D-403E-945F-592AA305556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427EA4-582D-4DEC-A819-6BBB059FBA9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0CB39A-B394-48DF-AD9C-7FD30BE1898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264DB-8470-49E5-86D5-F1904813F9A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DF3E26-F6DA-4E29-9ED2-4FED1B7A38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5507-DAB1-475C-9EEA-988E97548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C075-31F8-486A-B012-3E346080051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0FD3B-B8D4-4E00-A3F8-1361DB1086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4AA9-000E-4A09-850B-25533D36DD3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62657-3308-4290-A81E-D61751F0B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EE11-342C-46DA-9A00-A0685AD717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70B91-27E5-463D-8314-019272A3EB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6B86-B873-4B4A-9A03-A8BA52E898F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D216-8BCB-4373-BB30-6D9A853AE2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577B8-1ACE-4304-A098-3EB76A0CE5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00F6-35B4-4AF0-ADB9-DF6E2132F2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D16C5-7B97-4E4A-954B-00312082FB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30ED3-9229-43CD-972F-AE8CD4AC4E1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E722E-E473-45EC-8BD3-112B91AC1F3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E17F9-33C4-44DF-8031-3E3EE72E726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6909-8B17-4C2D-B2D9-610DA6F59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9A0A-EE63-4183-84B2-A2E98D2AB20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E35-E27C-4B01-8596-E180BBB933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7A6-7888-4DA9-9751-F5E212F3E0F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801-DEBF-4192-A9BE-C2FA87030F7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D10-4B85-48F8-80E3-D84510559A0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EA6-DA9B-4DE8-9FD9-D82744DD027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DAA-CD9A-4439-88FE-ADAF6D44C1E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EDB-76BE-4748-9CD6-A9A2754B070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C0A-95F0-4CD5-AF5F-E3DCDBFADF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2F88-49EE-4646-993C-184B8F16651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38F3-B7F0-4265-A70D-82469B5B7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163E6-CFAA-44C5-8B07-68E3CBF9FD9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D12-F3F4-48AB-9BD7-F6CCEE37F58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1692F-F40F-4244-91B8-5B2729B81B8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ECAEB-8075-4400-B95D-3B81581A9A8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ADB98-3878-45C3-AD5F-688CE230F35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70FE1-6FFF-4CAD-8594-47F35D68188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DE7A9-54BD-4A4E-AE89-E80031238CE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228F3-E879-4348-AA79-B589E7C0758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1B788-31A0-4619-B2E8-D04E1535502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90A57-31D9-4061-A659-115A6BF2B35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BBCEA-BD8E-4EB4-9BAF-B53452D72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FA52-8E72-498E-80C9-30C41DF379A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B048D-3CE4-480B-977F-F49DC125CBD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B79C5-FEC8-4247-8B62-AF797285F75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4B0E7-35BD-45B0-ADC9-742F1AFDECB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25FC1-F3FC-498D-8F80-D70527D1C2B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A87E2-E330-49C6-84B2-08EF4ED38D2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1BCE0-FFF4-419F-AFAC-080CBDE2326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4F18A-CCBA-4EF2-951D-E9429CA215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14B6E-8E77-4FA6-9ECA-52A57025B2B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80B32-E49B-4D97-A5E6-B9E30C2680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8E855-C5B2-4964-9FAE-A6F6B323C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BABC-5667-4168-9E01-60779839FA4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68423-91E5-4F32-B3CD-352AF989131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3F5B4-BF6D-4A81-8CDF-92EFACFC6F9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970DC-2C2C-41C7-80AE-AD5BC61D4BA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B4F96-66ED-4565-9DFC-9E084D437E5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ADA51-F0BA-4B16-87A3-73A38BA9D15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01C4-306A-4069-A681-A30F5406BE7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1322-75E9-4068-BF16-961F4B1472F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45F1-52D6-4FB8-8FCA-4BF2819BE1A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D370-46D9-4B1C-BA3D-81DF474F690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473C-E7EA-46BD-8A5E-726F52D77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2DFD-832F-4827-BEC6-DAE0E387158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28560" y="958320"/>
            <a:ext cx="7886880" cy="43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B2D7-7574-42C7-8EB6-45EC72115C7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EF94-C196-4C83-AB2F-AA619270529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05C0-23C8-4B3F-A6B6-766319570A0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5D3A-F8E9-4125-AF28-AAF393F337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8560" y="4403160"/>
            <a:ext cx="788688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0191-6C4A-4C41-88AF-D98AED0AB78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280" y="246384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2856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0280" y="4403160"/>
            <a:ext cx="384876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25D6-BEC7-44BB-99AB-7CAB6EAB3A5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9544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62320" y="246384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2856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9544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62320" y="4403160"/>
            <a:ext cx="2539440" cy="17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4C39-29A5-4C7D-86D3-A8591B8C76B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B3419-725C-49A0-81CE-4C58F092937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75B7A0-03D7-4002-95A6-4D9E8BE216E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E2A302-1994-4938-A405-3823AEC54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43B4-2945-49C6-A379-A3AD9D06EA5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Obraz 4" descr=""/>
          <p:cNvPicPr/>
          <p:nvPr/>
        </p:nvPicPr>
        <p:blipFill>
          <a:blip r:embed="rId3"/>
          <a:stretch/>
        </p:blipFill>
        <p:spPr>
          <a:xfrm>
            <a:off x="4743360" y="-11160"/>
            <a:ext cx="4400640" cy="9795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36DB-7AA3-4F68-9AF9-DC8C959915F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Obraz 4" descr=""/>
          <p:cNvPicPr/>
          <p:nvPr/>
        </p:nvPicPr>
        <p:blipFill>
          <a:blip r:embed="rId3"/>
          <a:stretch/>
        </p:blipFill>
        <p:spPr>
          <a:xfrm>
            <a:off x="4743360" y="-11160"/>
            <a:ext cx="4400640" cy="979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8240-6C37-449A-85AE-42DAA9863E8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Obraz 4" descr=""/>
          <p:cNvPicPr/>
          <p:nvPr/>
        </p:nvPicPr>
        <p:blipFill>
          <a:blip r:embed="rId3"/>
          <a:stretch/>
        </p:blipFill>
        <p:spPr>
          <a:xfrm>
            <a:off x="4743360" y="-11160"/>
            <a:ext cx="4400640" cy="9795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1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2A91-5E93-454F-AF37-FDEC86EE33D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ymbol zastępczy tytułu 1"/>
          <p:cNvSpPr/>
          <p:nvPr/>
        </p:nvSpPr>
        <p:spPr>
          <a:xfrm>
            <a:off x="628560" y="4834080"/>
            <a:ext cx="78868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Obraz 6" descr=""/>
          <p:cNvPicPr/>
          <p:nvPr/>
        </p:nvPicPr>
        <p:blipFill>
          <a:blip r:embed="rId3"/>
          <a:stretch/>
        </p:blipFill>
        <p:spPr>
          <a:xfrm>
            <a:off x="50760" y="-114480"/>
            <a:ext cx="4648320" cy="11559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ymbol zastępczy tytułu 1"/>
          <p:cNvSpPr/>
          <p:nvPr/>
        </p:nvSpPr>
        <p:spPr>
          <a:xfrm>
            <a:off x="628560" y="4834080"/>
            <a:ext cx="78868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ff"/>
                </a:solidFill>
                <a:latin typeface="Calibri"/>
              </a:rPr>
              <a:t>Fundusze unijne na lata 2014-20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6" descr=""/>
          <p:cNvPicPr/>
          <p:nvPr/>
        </p:nvPicPr>
        <p:blipFill>
          <a:blip r:embed="rId3"/>
          <a:stretch/>
        </p:blipFill>
        <p:spPr>
          <a:xfrm>
            <a:off x="50760" y="-114480"/>
            <a:ext cx="4648320" cy="1155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Obraz 4" descr=""/>
          <p:cNvPicPr/>
          <p:nvPr/>
        </p:nvPicPr>
        <p:blipFill>
          <a:blip r:embed="rId3"/>
          <a:stretch/>
        </p:blipFill>
        <p:spPr>
          <a:xfrm>
            <a:off x="4743360" y="-11160"/>
            <a:ext cx="4400640" cy="979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F085-83D1-4EC0-BCA6-739DDA7DEE0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Obraz 4" descr=""/>
          <p:cNvPicPr/>
          <p:nvPr/>
        </p:nvPicPr>
        <p:blipFill>
          <a:blip r:embed="rId3"/>
          <a:stretch/>
        </p:blipFill>
        <p:spPr>
          <a:xfrm>
            <a:off x="4743360" y="-11160"/>
            <a:ext cx="4400640" cy="979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8367-0F61-484C-81AD-29C36D19D96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raz 4" descr=""/>
          <p:cNvPicPr/>
          <p:nvPr/>
        </p:nvPicPr>
        <p:blipFill>
          <a:blip r:embed="rId3"/>
          <a:stretch/>
        </p:blipFill>
        <p:spPr>
          <a:xfrm>
            <a:off x="4743360" y="-11160"/>
            <a:ext cx="4400640" cy="9795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5414-1E2A-4312-AC86-3F46C85C708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Obraz 4" descr=""/>
          <p:cNvPicPr/>
          <p:nvPr/>
        </p:nvPicPr>
        <p:blipFill>
          <a:blip r:embed="rId3"/>
          <a:stretch/>
        </p:blipFill>
        <p:spPr>
          <a:xfrm>
            <a:off x="4743360" y="-11160"/>
            <a:ext cx="4400640" cy="9795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0F46-EAFF-44DC-9C7C-7FA5268C5E5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Obraz 4" descr=""/>
          <p:cNvPicPr/>
          <p:nvPr/>
        </p:nvPicPr>
        <p:blipFill>
          <a:blip r:embed="rId3"/>
          <a:stretch/>
        </p:blipFill>
        <p:spPr>
          <a:xfrm>
            <a:off x="4743360" y="-11160"/>
            <a:ext cx="4400640" cy="9795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DA9B-1A9B-4D61-8CDA-38F990704CD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Obraz 4" descr=""/>
          <p:cNvPicPr/>
          <p:nvPr/>
        </p:nvPicPr>
        <p:blipFill>
          <a:blip r:embed="rId3"/>
          <a:stretch/>
        </p:blipFill>
        <p:spPr>
          <a:xfrm>
            <a:off x="4743360" y="-11160"/>
            <a:ext cx="4400640" cy="9795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28560" y="2463840"/>
            <a:ext cx="7886880" cy="37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3C5A-9EEC-44CA-86CB-EB63399F661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j.rudnicka@kujawsko-pomorskie.pl" TargetMode="External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395280" y="1988640"/>
            <a:ext cx="84628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EWAULACJA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Regionalnego Programu Operacyjnego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Województwa Kujawsko-Pomorskiego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na lata 2014-2020</a:t>
            </a:r>
            <a:br>
              <a:rPr sz="3600"/>
            </a:br>
            <a:r>
              <a:rPr b="1" i="1" lang="pl-PL" sz="4000" spc="-1" strike="noStrike">
                <a:solidFill>
                  <a:srgbClr val="000000"/>
                </a:solidFill>
                <a:latin typeface="Calibri"/>
              </a:rPr>
              <a:t>– rola i zadania KM w nowej perspektywie w zakresie ewalu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628560" y="5756400"/>
            <a:ext cx="78868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Calibri"/>
              </a:rPr>
              <a:t>Chełmno, 8 czerwiec 2015 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8893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lan ewaluacji – Wytyczne KE i Wytyczne kraj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23640" y="148428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 procesie tworzenia planów ewaluacji należy wziąć pod uwagę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rawidłowe zlokalizowanie badań w ramach cyklu realizowanej interwencji, uwzględniające jej specyfikę tematyczną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aplanowanie sposobu zapewnienia danych niezbędnych do realizacji ewaluacji, ze szczególnym uwzględnieniem potrzeb ewaluacji kontrfaktycznyc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apewnienie odpowiednich do realizacji planów zasobów kadrowych i finansowyc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apewnienie kompletnego i spójnego charakteru procesu ewaluacji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zobowiązania odnośnie terminów i tematów badań ewaluacyjnych koniecznych do realizacji, wynikające z zapisów dokumentów unijnych i krajowy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DB98-43C3-4E99-9B3C-DC4BEE07B34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8893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lan Ewaluacji - system monitorowania i aktualizacji pla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0" name="Group 2"/>
          <p:cNvGrpSpPr/>
          <p:nvPr/>
        </p:nvGrpSpPr>
        <p:grpSpPr>
          <a:xfrm>
            <a:off x="250920" y="1386000"/>
            <a:ext cx="8066160" cy="5472000"/>
            <a:chOff x="250920" y="1386000"/>
            <a:chExt cx="8066160" cy="5472000"/>
          </a:xfrm>
        </p:grpSpPr>
        <p:sp>
          <p:nvSpPr>
            <p:cNvPr id="531" name="Oval 3"/>
            <p:cNvSpPr/>
            <p:nvPr/>
          </p:nvSpPr>
          <p:spPr>
            <a:xfrm>
              <a:off x="3460680" y="2318040"/>
              <a:ext cx="2498040" cy="101880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Plan Ewaluacji RPO WK-P 2014-20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(PE RPO 2014-202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4"/>
            <p:cNvSpPr/>
            <p:nvPr/>
          </p:nvSpPr>
          <p:spPr>
            <a:xfrm>
              <a:off x="1934280" y="1386000"/>
              <a:ext cx="3879000" cy="7862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PRZEGLĄD PE RPO 2014-20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alibri"/>
                </a:rPr>
                <a:t>konsultacje aktualności badań ewaluacyj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I kwartał ro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5"/>
            <p:cNvSpPr/>
            <p:nvPr/>
          </p:nvSpPr>
          <p:spPr>
            <a:xfrm>
              <a:off x="4471920" y="3531960"/>
              <a:ext cx="3844800" cy="703440"/>
            </a:xfrm>
            <a:prstGeom prst="roundRect">
              <a:avLst>
                <a:gd name="adj" fmla="val 16667"/>
              </a:avLst>
            </a:prstGeom>
            <a:solidFill>
              <a:srgbClr val="ed7d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AKTUALIZACJA PE RPO WK-P 2014-20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alibri"/>
                </a:rPr>
                <a:t>w przypadku propozycji zmian w dokumencie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II kwartał ro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6"/>
            <p:cNvSpPr/>
            <p:nvPr/>
          </p:nvSpPr>
          <p:spPr>
            <a:xfrm>
              <a:off x="997920" y="2671200"/>
              <a:ext cx="1878480" cy="75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alibri"/>
                </a:rPr>
                <a:t>Komitet Monitorujący RPO WK-P 2014-20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7"/>
            <p:cNvSpPr/>
            <p:nvPr/>
          </p:nvSpPr>
          <p:spPr>
            <a:xfrm>
              <a:off x="623520" y="3515400"/>
              <a:ext cx="2037240" cy="84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alibri"/>
                </a:rPr>
                <a:t>Jednostki zaangażowane w realizację RPO WK-P 2014-20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8"/>
            <p:cNvSpPr/>
            <p:nvPr/>
          </p:nvSpPr>
          <p:spPr>
            <a:xfrm>
              <a:off x="5232240" y="4505760"/>
              <a:ext cx="3084840" cy="538920"/>
            </a:xfrm>
            <a:prstGeom prst="roundRect">
              <a:avLst>
                <a:gd name="adj" fmla="val 16667"/>
              </a:avLst>
            </a:prstGeom>
            <a:solidFill>
              <a:srgbClr val="ed7d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alibri"/>
                </a:rPr>
                <a:t>Opiniowanie aktualizowanego PE RPO WK-P 2014-2020 przez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K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9"/>
            <p:cNvSpPr/>
            <p:nvPr/>
          </p:nvSpPr>
          <p:spPr>
            <a:xfrm>
              <a:off x="4561560" y="5314680"/>
              <a:ext cx="3532320" cy="569520"/>
            </a:xfrm>
            <a:prstGeom prst="roundRect">
              <a:avLst>
                <a:gd name="adj" fmla="val 16667"/>
              </a:avLst>
            </a:prstGeom>
            <a:solidFill>
              <a:srgbClr val="ed7d31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alibri"/>
                </a:rPr>
                <a:t>Przekazanie aktualizowanego planu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KM RPO WK-P 2014-2020</a:t>
              </a:r>
              <a:r>
                <a:rPr b="0" lang="pl-PL" sz="1400" spc="-1" strike="noStrike">
                  <a:solidFill>
                    <a:srgbClr val="000000"/>
                  </a:solidFill>
                  <a:latin typeface="Calibri"/>
                </a:rPr>
                <a:t> do zatwierdze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0"/>
            <p:cNvSpPr/>
            <p:nvPr/>
          </p:nvSpPr>
          <p:spPr>
            <a:xfrm>
              <a:off x="3700800" y="6116400"/>
              <a:ext cx="3710880" cy="741600"/>
            </a:xfrm>
            <a:prstGeom prst="roundRect">
              <a:avLst>
                <a:gd name="adj" fmla="val 16667"/>
              </a:avLst>
            </a:prstGeom>
            <a:solidFill>
              <a:srgbClr val="ed7d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alibri"/>
                </a:rPr>
                <a:t>Przekazanie zatwierdzonego zaktualizowanego PE RPO WK-P 2014-2020 do </a:t>
              </a: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KJE </a:t>
              </a:r>
              <a:r>
                <a:rPr b="0" lang="pl-PL" sz="1400" spc="-1" strike="noStrike">
                  <a:solidFill>
                    <a:srgbClr val="000000"/>
                  </a:solidFill>
                  <a:latin typeface="Calibri"/>
                </a:rPr>
                <a:t>w celu upublicznie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1"/>
            <p:cNvSpPr/>
            <p:nvPr/>
          </p:nvSpPr>
          <p:spPr>
            <a:xfrm rot="16200000">
              <a:off x="2746080" y="2053440"/>
              <a:ext cx="595800" cy="832320"/>
            </a:xfrm>
            <a:custGeom>
              <a:avLst/>
              <a:gdLst>
                <a:gd name="textAreaLeft" fmla="*/ 342720 w 595800"/>
                <a:gd name="textAreaRight" fmla="*/ 502920 w 595800"/>
                <a:gd name="textAreaTop" fmla="*/ 111600 h 832320"/>
                <a:gd name="textAreaBottom" fmla="*/ 356040 h 83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AutoShape 12"/>
            <p:cNvSpPr/>
            <p:nvPr/>
          </p:nvSpPr>
          <p:spPr>
            <a:xfrm rot="5400000">
              <a:off x="6050160" y="2799000"/>
              <a:ext cx="596880" cy="834840"/>
            </a:xfrm>
            <a:custGeom>
              <a:avLst/>
              <a:gdLst>
                <a:gd name="textAreaLeft" fmla="*/ 343440 w 596880"/>
                <a:gd name="textAreaRight" fmla="*/ 504000 w 596880"/>
                <a:gd name="textAreaTop" fmla="*/ 112680 h 834840"/>
                <a:gd name="textAreaBottom" fmla="*/ 35712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ed7d3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1" name="AutoShape 13"/>
            <p:cNvCxnSpPr/>
            <p:nvPr/>
          </p:nvCxnSpPr>
          <p:spPr>
            <a:xfrm rot="5400000">
              <a:off x="1573200" y="2095200"/>
              <a:ext cx="489600" cy="643320"/>
            </a:xfrm>
            <a:prstGeom prst="bentConnector3">
              <a:avLst>
                <a:gd name="adj1" fmla="val 4988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2" name="AutoShape 14"/>
            <p:cNvCxnSpPr/>
            <p:nvPr/>
          </p:nvCxnSpPr>
          <p:spPr>
            <a:xfrm rot="5400000">
              <a:off x="254520" y="2500200"/>
              <a:ext cx="1615680" cy="415440"/>
            </a:xfrm>
            <a:prstGeom prst="bentConnector3">
              <a:avLst>
                <a:gd name="adj1" fmla="val 27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3" name="AutoShape 15"/>
            <p:cNvCxnSpPr/>
            <p:nvPr/>
          </p:nvCxnSpPr>
          <p:spPr>
            <a:xfrm>
              <a:off x="1270440" y="1908000"/>
              <a:ext cx="676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4" name="AutoShape 16"/>
            <p:cNvCxnSpPr/>
            <p:nvPr/>
          </p:nvCxnSpPr>
          <p:spPr>
            <a:xfrm>
              <a:off x="6461280" y="4235040"/>
              <a:ext cx="1080" cy="28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AutoShape 17"/>
            <p:cNvCxnSpPr/>
            <p:nvPr/>
          </p:nvCxnSpPr>
          <p:spPr>
            <a:xfrm>
              <a:off x="6036840" y="5044680"/>
              <a:ext cx="12240" cy="27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6" name="AutoShape 18"/>
            <p:cNvCxnSpPr/>
            <p:nvPr/>
          </p:nvCxnSpPr>
          <p:spPr>
            <a:xfrm>
              <a:off x="5231880" y="5883840"/>
              <a:ext cx="1080" cy="23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7" name="AutoShape 19"/>
            <p:cNvSpPr/>
            <p:nvPr/>
          </p:nvSpPr>
          <p:spPr>
            <a:xfrm>
              <a:off x="250920" y="4447800"/>
              <a:ext cx="1889280" cy="84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alibri"/>
                </a:rPr>
                <a:t>Grupa Sterująca Ewaluacją RPO 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Calibri"/>
                </a:rPr>
                <a:t>WK-P 2014-20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8" name="AutoShape 20"/>
            <p:cNvCxnSpPr/>
            <p:nvPr/>
          </p:nvCxnSpPr>
          <p:spPr>
            <a:xfrm rot="5400000">
              <a:off x="-831240" y="2909520"/>
              <a:ext cx="2829240" cy="247320"/>
            </a:xfrm>
            <a:prstGeom prst="bentConnector3">
              <a:avLst>
                <a:gd name="adj1" fmla="val 2131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9" name="AutoShape 21"/>
            <p:cNvCxnSpPr/>
            <p:nvPr/>
          </p:nvCxnSpPr>
          <p:spPr>
            <a:xfrm>
              <a:off x="719640" y="1618560"/>
              <a:ext cx="1227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50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A1FE-1E46-4B61-A405-B41BB25D74D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29840" y="98064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bligatoryjne badania ewaluacyj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79280" y="184428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waluacja bieżąca kryteriów i systemu wyboru projektów RPO WK-P na lata 2014-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waluacja mid-term dotycząca postępu rzeczowego RPO WK-P 2014-2020 dla potrzeb przeglądu śródokresowego, w tym realizacji zapisów ram i rezerwy wykon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cena realizacji celów polityk horyzontalnych w RPO WK-P 2014-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waluacja wpływu RPO WK-P 2014-2020 na rozwój społeczny województw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realizacji celów Strategii EUROPA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waluacja podsumowująca system realizacji RPO WK-P 2014-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waluacja podsumowująca postęp rzeczowy i rezultaty RPO WK-P 2014-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waluacja wskaźników  rezultatu długoterminowego EFS (9 wskaźników) –  ok.  10 bada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waluacje wpływu wdrażanej interwencji na realizację celów każdej osi priorytetowej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łącznie nawet kilkanaście ewalua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waluacja ex-ante RPO WK-P 2021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4660-554F-4C55-8534-43F59C824C1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120" y="980640"/>
            <a:ext cx="8642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Współpraca w zakresie ewaluacj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79280" y="2060280"/>
            <a:ext cx="89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Współpraca z Krajową Jednostką Ewaluacji 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w MIi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Współpraca z </a:t>
            </a: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Komitetem Monitorującym RP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Współpraca z Grupą Sterującą Ewaluacją RPO</a:t>
            </a:r>
            <a:br>
              <a:rPr sz="3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dla RPO WK-P 2007-2013 grupa funkcjonowała od 24 lipca 2008r.  -  Uchwała nr 56/731/08 Zarządu Województwa Kujawsko-Pomorskieg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3A21-E366-4C0E-A00F-BDDBA27A710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Rola i zadania KM w zakresie ewaluacji program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50560" y="1557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W świetle art. 49 rozporządzenia ogólnego zadania KM obejmują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przedstawianie uwag dotyczących wdrażania i ewaluacji RPO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, w tym przedsięwzięć na rzecz zmniejszania obciążenia administracyjnego dla beneficjentów i monitorowanie działań podjętych w ich następstw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W świetle art. 56 IZ ma za zadanie przeprowadzenie ewaluacji na podstawie Planu ewaluacji.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Wszystkie ewaluacje powinny być rozpatrywane przez KM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i przesyłane do K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W świetle art. 110 ust 1 oraz art. 116 ust 3 rozporządzenia ogólnego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KM rozpatruje w szczególności postępy w realizacji planu ewaluacji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oraz ewaluacje dotyczące danego RPO, w tym wyniki ewaluacji oraz ich wykorzystan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KM, na podstawie art. 110 ust. 2 rozporządzenia ogólnego, </a:t>
            </a: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rozpatruje i zatwierdza plan ewaluacji dla RPO i wszelkie zmiany planu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0000"/>
                </a:solidFill>
                <a:latin typeface="Calibri"/>
              </a:rPr>
              <a:t>Przedstawiciele KM uczestniczą w pracach Grupy Sterującej Ewaluacj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A5D4-896F-4F3B-8A42-DF4B23F866B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Udział członków KM w Grupie Sterującej Ewaluacją RPO 2014-202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68360" y="1773000"/>
            <a:ext cx="8245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ład członków G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dstawiciele departamentów merytorycznych UM WK-P, gł. zaangażowanych w realizację progra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zedstawiciele Komitetu Monitorując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artnerzy społeczni, gospodarcz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dstawiciele środowiska naukow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dstawiciele Regionalnego Obserwatorium Terytorialneg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acownicy Jednostki Ewaluacyj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B77D-D3C7-466E-87AD-D926E06259A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dania GSE RPO WK-P 2014-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50560" y="1673280"/>
            <a:ext cx="889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nsultowanie Planu Ewaluacji dla RPO WK-P 2014-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parcie dla Jednostki Ewaluacyjnej w zakresie oceny raportów metodologicznych, wstępnych wersji raportów końcowych lub raportów cząstk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poznawanie się z dokumentacją dotyczącą zagadnień omawianych na spotkaniach, w tym dot. koncepcji badawcz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moc w budowaniu potencjału ewaluacyjnego poprze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powszechnianie wyników przeprowadzonych ewalu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romadzenie i szerzenie wiedzy w zakresie ewalu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parcie metodologiczne w zakresie ewalu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dentyfikację potrzeb szkoleniowych w zakresie ewaluacji/monitoring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parcie dla Jednostki Ewaluacyjnej w zakresie prac nad perspektywą 2021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2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ymbol zastępczy numeru slajd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FEAF-125E-4955-B27C-2FECA72A875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proszenie do zgłaszania się do prac w G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0" y="1413000"/>
            <a:ext cx="9144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celu wypełnienia zasady partnerstwa i operacyjności Grupy Sterującej Ewaluacją uprzejmie proszę o zgłoszenie się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aksymalnie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5 przedstawicieli KM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prezentujących następujące środowisk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dministrację rządową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dministrację samorządową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rodowisko naukow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acje pozarządow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rzedsiębiorc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głoszenia proszę przesyłać do sekretariatu Komitetu Monitorującego na adr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.sawicka@kujawsko-pomorskie.p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 terminie do 19 czerwca 2015 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AA3E-3805-4E1A-9EF5-07AC84728F4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68360" y="1125360"/>
            <a:ext cx="813600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olanta Rudnic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uro Ewaluacj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dział Analiz i Ewaluac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partament Rozwoju Regional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rząd Marszałkowski Województwa Kujawsko-Pomorskieg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tel. (56) 62 18 65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j.rudnicka@kujawsko-pomorskie.pl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ymbol zastępczy numeru slajd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958320"/>
            <a:ext cx="788688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Ewalua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78920" y="1916280"/>
            <a:ext cx="8496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iektywna ocena projektu, programu lub polityki na wszystkich etapach, tj. planowania, realizacji i mierzenia rezultatów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inna ona dostarczyć rzetelnych i przydatnych informacji (dowodów) pozwalając wykorzystać zdobytą w ten sposób wiedzę w procesie decyzyjny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DA4C-38A5-401F-8A0E-4884C16E77E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179280" y="1773000"/>
            <a:ext cx="878544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rt.54 i 56. Rozporządzenia Parlamentu Europejskiego i Rady (UE) nr 1303/2013 z dnia 17 grudnia 2013 r. ustanawiającego wspólne przepisy dotyczące Europejskiego Funduszu Rozwoju Regionalnego, Europejskiego Funduszu Społecznego, Funduszu Spójności, Europejskiego Funduszu Rolnego na rzecz Rozwoju Obszarów wiejskich oraz Europejskiego Funduszu Morskiego i Rybackiego oraz (…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Rozdział 5.5. Umowy Partnerstwa przyjętej przez KE 23 maja 2014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Wytyczne w zakresie ewaluacji polityki spójności na lata 2014-2020 (Wytyczne MIiR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Monitoring i ewaluacja europejskiej polityki spójności -  Europejski Fundusz Rozwoju Regionalnego, Europejski Fundusz Społeczny, Fundusz Spójności  (Wytyczne Komisji Europejskiej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Zapisy RPO WK-P 2014-2020 w zakresie ewaluacji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ymbol zastępczy numeru slajd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AD3D-6E3A-405E-AA3C-D7078A13175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rostokąt 3"/>
          <p:cNvSpPr/>
          <p:nvPr/>
        </p:nvSpPr>
        <p:spPr>
          <a:xfrm>
            <a:off x="0" y="105264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Ewaluacja  programu 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-  obowiązek państw członkowski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958680"/>
            <a:ext cx="788688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Artykuł 54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50920" y="2060640"/>
            <a:ext cx="864216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. Ewaluacje przeprowadza się w celu poprawy jakości projektowania i wdrażania programów, jak również w celu analizy ich skuteczności, efektywności, i wpływu. Wpływ programów jest ewaluowany w świetle zadań każdego z EFSI w odniesieniu do wymiernych celów unijnej strategii na rzecz inteligentnego, zrównoważonego wzrostu sprzyjającego włączeniu społecznemu, i z uwzględnieniem wielkości programu, w odniesieniu do PKB oraz poziomu bezrobocia na terenie objętym programem, w stosownych przypadka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19D5-7BA5-40D5-BD0E-A18A91D33D9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958680"/>
            <a:ext cx="788688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Artykuł 56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79280" y="1699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3. Podczas okresu programowania instytucja zarządzająca zapewnia, aby ewaluacje zostały przeprowadzone, w tym ewaluacje w celu analizy skuteczności, efektywności i wpływu każdego programu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na podstawie planu ewaluacj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oraz by każda ewaluacja podlegała odpowiednim działaniom następczym zgodnie z przepisami dotyczącymi poszczególnych funduszy. Co najmniej raz podczas okresu programowania ewaluacja obejmuje analizę sposobu, w jaki wsparcie z EFSI przyczyniło się do osiągnięcia celów każdego priorytetu.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szystkie ewaluacje powinny być rozpatrywane przez komitet monitorujący i przesłane do Komis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C135-28DF-4B28-A598-E3D63C97387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Calibri"/>
              </a:rPr>
              <a:t>Artykuł 50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1628640"/>
            <a:ext cx="914400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prawozdania z wdrażania  - wykorzystanie ewalua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1. Od 2016 do 2023 r. włącznie każde państwo członkowskie przedstawia Komisji coroczne sprawozdanie z wdrażania programu w poprzednim roku budżetowym. (…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2. (…) W sprawozdaniach tych przedstawia się również </a:t>
            </a: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syntezę wyników wszystkich ewaluacji programu dostępnych dla poprzedniego roku 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budżetowego, a także wszelkie kwestie, które wpływają na wykonanie programu, oraz podjęte działania. (…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4. W rocznym sprawozdaniu z wdrażania, które ma zostać przedłożone w 2017 r., określa się i ocenia informacje, o których mowa w ust. 2, a także postępy poczynione na drodze do osiągnięcia celów programu, w tym wkład EFSI w zmiany wartości wskaźników rezultatu, jeżeli </a:t>
            </a: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dostępne są dowody pochodzące ze stosownych ewaluacji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.(…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5. Roczne sprawozdanie z wdrażania, które ma zostać przedłożone w 2019 r., oraz końcowe sprawozdanie z wdrażania odnoszące się do EFSI zawierają, oprócz informacji i oceny, o których mowa w ust. 2 i 3, </a:t>
            </a: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informacje i oceny dotyczące postępów na drodze do osiągnięcia celów programu i jego wkładu w realizację unijnej strategii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 na rzecz inteligentnego zrównoważonego wzrostu sprzyjającego włączeniu społecznemu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4AFE-1E1A-4CD6-8F1D-8B6FB088F27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dmioty zaangażowane w proces ewaluac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962E-C7C5-4F21-86BB-3CC62832C15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60"/>
          <p:cNvGrpSpPr/>
          <p:nvPr/>
        </p:nvGrpSpPr>
        <p:grpSpPr>
          <a:xfrm>
            <a:off x="250920" y="1528920"/>
            <a:ext cx="8543880" cy="5329080"/>
            <a:chOff x="250920" y="1528920"/>
            <a:chExt cx="8543880" cy="5329080"/>
          </a:xfrm>
        </p:grpSpPr>
        <p:cxnSp>
          <p:nvCxnSpPr>
            <p:cNvPr id="499" name="AutoShape 61"/>
            <p:cNvCxnSpPr/>
            <p:nvPr/>
          </p:nvCxnSpPr>
          <p:spPr>
            <a:xfrm>
              <a:off x="2578680" y="1900080"/>
              <a:ext cx="165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0" name="AutoShape 62"/>
            <p:cNvCxnSpPr/>
            <p:nvPr/>
          </p:nvCxnSpPr>
          <p:spPr>
            <a:xfrm>
              <a:off x="6330960" y="4602600"/>
              <a:ext cx="1080" cy="44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1" name="AutoShape 63"/>
            <p:cNvCxnSpPr/>
            <p:nvPr/>
          </p:nvCxnSpPr>
          <p:spPr>
            <a:xfrm>
              <a:off x="8104680" y="4602600"/>
              <a:ext cx="1080" cy="44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2" name="AutoShape 64"/>
            <p:cNvCxnSpPr/>
            <p:nvPr/>
          </p:nvCxnSpPr>
          <p:spPr>
            <a:xfrm>
              <a:off x="5424480" y="4351320"/>
              <a:ext cx="524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03" name="AutoShape 65"/>
            <p:cNvCxnSpPr/>
            <p:nvPr/>
          </p:nvCxnSpPr>
          <p:spPr>
            <a:xfrm>
              <a:off x="7197480" y="4604760"/>
              <a:ext cx="1440" cy="44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AutoShape 66"/>
            <p:cNvSpPr/>
            <p:nvPr/>
          </p:nvSpPr>
          <p:spPr>
            <a:xfrm>
              <a:off x="1785240" y="3874320"/>
              <a:ext cx="340560" cy="997200"/>
            </a:xfrm>
            <a:custGeom>
              <a:avLst/>
              <a:gdLst>
                <a:gd name="textAreaLeft" fmla="*/ 0 w 340560"/>
                <a:gd name="textAreaRight" fmla="*/ 239040 w 340560"/>
                <a:gd name="textAreaTop" fmla="*/ 41400 h 997200"/>
                <a:gd name="textAreaBottom" fmla="*/ 955800 h 99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67"/>
            <p:cNvSpPr/>
            <p:nvPr/>
          </p:nvSpPr>
          <p:spPr>
            <a:xfrm>
              <a:off x="2743560" y="1528920"/>
              <a:ext cx="2588040" cy="1003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e3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Instytucja Zarządzają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Zarząd Województwa Kujawsko-Pomorski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68"/>
            <p:cNvSpPr/>
            <p:nvPr/>
          </p:nvSpPr>
          <p:spPr>
            <a:xfrm>
              <a:off x="250920" y="1528920"/>
              <a:ext cx="2328120" cy="10033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9080">
              <a:solidFill>
                <a:srgbClr val="e3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Calibri"/>
                </a:rPr>
                <a:t>Komitet Monitorujący </a:t>
              </a:r>
              <a:br>
                <a:rPr sz="1600"/>
              </a:br>
              <a:r>
                <a:rPr b="1" lang="pl-PL" sz="1600" spc="-1" strike="noStrike">
                  <a:solidFill>
                    <a:srgbClr val="000000"/>
                  </a:solidFill>
                  <a:latin typeface="Calibri"/>
                </a:rPr>
                <a:t>RPO WK-P 2014-20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69"/>
            <p:cNvSpPr/>
            <p:nvPr/>
          </p:nvSpPr>
          <p:spPr>
            <a:xfrm>
              <a:off x="2838240" y="3578400"/>
              <a:ext cx="2585880" cy="155664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19080">
              <a:solidFill>
                <a:srgbClr val="e3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Calibri"/>
                </a:rPr>
                <a:t>Jednostka Ewaluacyj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Calibri"/>
                </a:rPr>
                <a:t>Komórka właściwa ds. ewaluacji funkcjonalnie niezależna od podmiotów odpowiedzialnych za programowanie i wdrażanie RPO WK-P 2014-20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AutoShape 70"/>
            <p:cNvSpPr/>
            <p:nvPr/>
          </p:nvSpPr>
          <p:spPr>
            <a:xfrm>
              <a:off x="5947920" y="4089240"/>
              <a:ext cx="2584080" cy="515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19080">
              <a:solidFill>
                <a:srgbClr val="e3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Grupa Sterująca Ewaluacją </a:t>
              </a:r>
              <a:br>
                <a:rPr sz="1400"/>
              </a:b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RPO WK-P 2014-20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AutoShape 71"/>
            <p:cNvSpPr/>
            <p:nvPr/>
          </p:nvSpPr>
          <p:spPr>
            <a:xfrm>
              <a:off x="5580000" y="5057640"/>
              <a:ext cx="1062000" cy="941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e3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Calibri"/>
                </a:rPr>
                <a:t>Środowiska eksperckie </a:t>
              </a:r>
              <a:br>
                <a:rPr sz="1000"/>
              </a:br>
              <a:r>
                <a:rPr b="1" lang="pl-PL" sz="1000" spc="-1" strike="noStrike">
                  <a:solidFill>
                    <a:srgbClr val="000000"/>
                  </a:solidFill>
                  <a:latin typeface="Calibri"/>
                </a:rPr>
                <a:t>i akademick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72"/>
            <p:cNvSpPr/>
            <p:nvPr/>
          </p:nvSpPr>
          <p:spPr>
            <a:xfrm>
              <a:off x="6731640" y="5050080"/>
              <a:ext cx="1008360" cy="943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e3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000000"/>
                  </a:solidFill>
                  <a:latin typeface="Calibri"/>
                </a:rPr>
                <a:t>Partnerzy społeczno- gospodarcz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73"/>
            <p:cNvSpPr/>
            <p:nvPr/>
          </p:nvSpPr>
          <p:spPr>
            <a:xfrm>
              <a:off x="506880" y="3578400"/>
              <a:ext cx="1278360" cy="67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e3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Ewaluatorz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74"/>
            <p:cNvSpPr/>
            <p:nvPr/>
          </p:nvSpPr>
          <p:spPr>
            <a:xfrm>
              <a:off x="506880" y="4461120"/>
              <a:ext cx="1278360" cy="676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e3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Responden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3" name="AutoShape 75"/>
            <p:cNvCxnSpPr/>
            <p:nvPr/>
          </p:nvCxnSpPr>
          <p:spPr>
            <a:xfrm>
              <a:off x="2126160" y="4351320"/>
              <a:ext cx="712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14" name="AutoShape 76"/>
            <p:cNvSpPr/>
            <p:nvPr/>
          </p:nvSpPr>
          <p:spPr>
            <a:xfrm>
              <a:off x="7812000" y="5057640"/>
              <a:ext cx="982800" cy="935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e3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Calibri"/>
                </a:rPr>
                <a:t>Pracownicy Instytucji Zarządzającej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5" name="AutoShape 77"/>
            <p:cNvCxnSpPr/>
            <p:nvPr/>
          </p:nvCxnSpPr>
          <p:spPr>
            <a:xfrm>
              <a:off x="1898640" y="2532240"/>
              <a:ext cx="939960" cy="12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16" name="AutoShape 78"/>
            <p:cNvCxnSpPr/>
            <p:nvPr/>
          </p:nvCxnSpPr>
          <p:spPr>
            <a:xfrm>
              <a:off x="4024080" y="2531880"/>
              <a:ext cx="1440" cy="104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17" name="AutoShape 79"/>
            <p:cNvCxnSpPr/>
            <p:nvPr/>
          </p:nvCxnSpPr>
          <p:spPr>
            <a:xfrm>
              <a:off x="4023000" y="5134680"/>
              <a:ext cx="1440" cy="104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518" name="AutoShape 80"/>
            <p:cNvSpPr/>
            <p:nvPr/>
          </p:nvSpPr>
          <p:spPr>
            <a:xfrm>
              <a:off x="2838240" y="6181200"/>
              <a:ext cx="2411280" cy="67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e3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Calibri"/>
                </a:rPr>
                <a:t>Adresaci wyników badań ewaluacyj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712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ces ewaluacji RPO WK-P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Diagram 1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064720" cy="4896000"/>
          </a:xfrm>
          <a:prstGeom prst="rect">
            <a:avLst/>
          </a:prstGeom>
          <a:ln w="0">
            <a:noFill/>
          </a:ln>
        </p:spPr>
      </p:pic>
      <p:sp>
        <p:nvSpPr>
          <p:cNvPr id="521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290D-C9B8-4F28-B2D9-4ABCCA39C688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Elipsa 4"/>
          <p:cNvSpPr/>
          <p:nvPr/>
        </p:nvSpPr>
        <p:spPr>
          <a:xfrm>
            <a:off x="2987640" y="2781360"/>
            <a:ext cx="1584360" cy="1152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Plan ewaluacji – wymogi praw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2400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orządzenie parlamentu europejskiego i rady (UE)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r 1303/2013 z dnia 17 grudnia 2013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Artykuł 5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Instytucja zarządzająca lub państwo członkowskie sporządza plan ewaluacji, który może obejmować więcej niż jeden program. Plan ten jest przedkładany zgodnie z przepisami dotyczącymi poszczególnych fundusz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Artykuł 11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1. Plan ewaluacji jest sporządzany przez instytucję zarządzającą lub państwo członkowskie dla jednego lub kilku programów operacyjnych. </a:t>
            </a:r>
            <a:r>
              <a:rPr b="0" i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Plan ewaluacji przedstawiany jest Komitetowi Monitorującemu nie później niż rok po przyjęciu programu operacyjn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ymbol zastępczy numeru slajdu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2291-763F-4265-ADDD-1FF542C35C8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5:58:48Z</dcterms:created>
  <dc:creator>j.rudnicka</dc:creator>
  <dc:description/>
  <dc:language>en-US</dc:language>
  <cp:lastModifiedBy>j.rudnicka</cp:lastModifiedBy>
  <dcterms:modified xsi:type="dcterms:W3CDTF">2015-06-02T13:12:33Z</dcterms:modified>
  <cp:revision>115</cp:revision>
  <dc:subject/>
  <dc:title>Slajd 1</dc:title>
</cp:coreProperties>
</file>