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440"/>
            <a:ext cx="493704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DA0A-F40F-4414-92EE-8D6DA4D56F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BAEB-6DE7-4191-999C-A8C1CCC71E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4C7-ED26-434D-92E7-37564B1DBF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334E-4F83-4141-B1E4-E45F83F15D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84FB-94C7-4E26-A307-37D550DC2A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1D7-FF76-4174-9051-2727B5AAA0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5207-A412-4F2B-8C0A-FFE50ABEAC0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7A8-488F-4CC3-8C15-B1AB8089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C85-35F3-4C7C-9011-5C254729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E49-8A28-4DCA-A2DB-476F9AC0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66D-676B-4337-85B9-64DDE47D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0ACD-A5A8-4096-8137-69E86807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622-1F90-44B0-B712-ECEC8FA1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7AF-F3EB-4A7F-B738-744C3D3F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831-EC54-480D-9DDE-54C88566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A52-3185-4781-916C-3A008692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71AA-AD44-4724-8BF0-23A0DF96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358A-CC46-4DF9-8ED6-E9D662E2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89B-6E87-4774-ACB5-93EF4DEA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EFF8-6C4D-44C9-B5F1-65C0D75ECF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71200" y="2204640"/>
            <a:ext cx="7472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-15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Postęp prac w zakresie ewaluacji ex-an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680" indent="-15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Kujawsko-Pomorskiego Regionalnego Programu Operacyjneg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680" indent="-15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na lata 2014-202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7680" indent="-157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7680" indent="-157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7680" indent="-157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7680" indent="-157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7680" indent="-157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7680" indent="-15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50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4000" y="982800"/>
            <a:ext cx="83516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ostęp prac w zakresie ewaluacji ex-ante Kujawsko-Pomorskiego Regionalnego Programu Operacyjnego na lata 2014-2020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ramach trwającego procesu programowania perspektywy 2014-2020 Biuro Ewaluacji RPO Wydziału Zarządzania RPO w Departamencie Zarządzania Funduszami i Projektami Unijnymi zleciło badanie „Ewaluacja ex-ante kujawsko-pomorskiego regionalnego programu operacyjnego na lata 2014-2020”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konawcą badania jest konsorcjum firm Agrotec Polska Sp. z o.o. i Ecorys Sp. z o.o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 Warszaw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ealizacja badania rozpoczęła się 10 czerwca  2013 r. i potrwa do 25 sierpnia 2014 r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57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13880" y="907920"/>
            <a:ext cx="839484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Postęp prac w zakresie ewaluacji ex-ante Kujawsko-Pomorskiego Regionalnego Programu Operacyjnego na lata 2014-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Do tej pory w ramach procesu ewalaucji ex-ante wykonano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Dnia 17.07.2013 r. została zaakceptowana ostateczna wersja Raportu metodologiczneg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Opracowano  wyniki przeprowadzonych w okresie od  25 lipca do 8 sierpnia 2013 r. 8 warsztatów, których celem było  wypracowanie logiki interwencji poszczególnych osi priorytetowych programu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spotkaniach uczestniczyli członkowie Grupy roboczej wspierającej przygotowanie K-P RPO na lata 2014-2020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oraz pracownicy odpowiedzialni za programowanie nowej perspektywy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onadto przeprowadzone zostały  wywiady indywidualne pogłębione z przedstawicielami instytucji zaangażowanych w realizację RPO WK-P 2007-2013 oraz komponentu regionalnego POKL,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 zewnętrznymi ekspertami dziedzinowymi oraz z przedstawicielami Ministerstwa Rozwoju Regionalnego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rzeprowadzono badanie delfickie, w którym wzięli udział przedstawiciele regionalnych środowisk eksperckich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odczas II spotkania Grupy roboczej wspierającej przygotowanie K-P RPO na lata 2014-2020 zaprezentowano wyniki warsztatów tematycznych, prowadzonych na przełomie lipca i sierpnia br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oraz przedstawiono pierwsze rekomendacje do zapisów projektu dokumentu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o otrzymaniu ostatecznej listy wskaźników na poziomie regionalnym i PI przeanalizowano koszty jednostkowe wskaźników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64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4000" y="1197000"/>
            <a:ext cx="828036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ostęp prac w zakresie ewaluacji ex-ante Kujawsko-Pomorskiego Regionalnego Programu Operacyjnego na lata 2014-20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  <a:ea typeface="Arial"/>
              </a:rPr>
              <a:t>Aktualnie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w ramach procesu ewalaucji ex-ante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Trwa druga tura warsztatów w której uczestniczą osoby odpowiedzialne za przygotowywanie programu w zakresie poszczególnych osi priorytetowych oraz systemu zarządzania. Warsztaty rozpoczęły się 23 października i potrwają do 29 listopada 2013 r. Wśród zaplanowanych 7 tematycznych spotkań 4 z nich poświęcone zostały wskaźnikom wybranym dla każdej osi priorytetowej. Omawiane są poszczególne definicje wskaźników (produktu, rezultatu strategicznego, kamienie milowe), rozważana jest zasadność ich zastosowania w kontekście celu głównego, celów szczegółowych i zaplanowanej alokacji, a także omawiany jest sposób wyliczenia wartości docelowych wskaźników oraz weryfikowana i oceniana jest realność ich osiągnięcia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 uwzględnieniem czynników zewnętrznych. Pozostałe 3 warsztaty pozwolą na analizę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i uporządkowanie wiedzy z zakresu logiki interwencji programu, zaplanowanego systemu zarządzania (wraz z oceną i możliwościami potencjału administracyjnego) oraz zasad interwencji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ramach polityki terytorialnej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  <a:ea typeface="Arial"/>
              </a:rPr>
              <a:t>Ponadto, dobiega końca 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badanie CAWI realizowane wśród potencjalnych beneficjentów programu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71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14240" y="1196640"/>
            <a:ext cx="83217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Postęp prac w zakresie ewaluacji ex-ante Kujawsko-Pomorskiego Regionalnego Programu Operacyjnego na lata 2014-20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Pozostałe działania do zrealizowania w ramach procesu ewaluacji ex-ante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Udział ewaluatorów w konsultacjach społecznych K-P RPO na lata 2014-2020 (w okresie od 7 listopada do 17 grudnia 2013 r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rzeprowadzenie wywiadów fokusowych z ekspertami opracowującymi prognozę oddziaływania na środowisko dla K-P RPO na lata 2014-202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rzygotowanie projektu Raportu końcowego (w terminie do 20 listopada 2013 r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rzekazanie ostatecznej wersji Raportu końcowego (w terminie do 11 grudnia 2013 r.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rzygotowywanie i przedstawienie prezentacji z wynikami badania (w terminie ustalonym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 Zamawiającym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Udział ewaluatorów w negocjacjach K-P RPO na lata 2014-2020 z Komisją Europejską (w terminie od 25 listopada do 25 sierpnia 2014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78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71200" y="2817720"/>
            <a:ext cx="74725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Dziękuję za uwag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85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0:57:06Z</dcterms:created>
  <dc:creator>Agnieszka</dc:creator>
  <dc:description/>
  <dc:language>en-US</dc:language>
  <cp:lastModifiedBy>j.rudnicka</cp:lastModifiedBy>
  <dcterms:modified xsi:type="dcterms:W3CDTF">2013-11-21T12:47:36Z</dcterms:modified>
  <cp:revision>759</cp:revision>
  <dc:subject/>
  <dc:title>Regionalny Program Operacyjny Województwa  Kujawsko-Pomorskiego   Działanie 4.3. RPO WK-P Rozwój komercyjnych e-usług</dc:title>
</cp:coreProperties>
</file>