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440"/>
            <a:ext cx="493704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AAE4-B4C6-446D-A6BB-E48296589AD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B7AE-864F-4AA0-8FC3-27EDCB113F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8D46-ACCC-4B65-9CDD-664FF47F65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8394-5E5E-423C-B535-EE9A90608F1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45AC-24B0-4858-A80C-FEF876E23E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E9F6-1361-4B4A-B8D0-EE668B8C2A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C2A-EBC6-475A-9C71-621C9E375E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DB4F-7EBC-497B-9115-87D6542BD66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63D4-776B-45EA-876F-3979F108B29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ECF4-4597-45A7-B2E9-EEFCBEB9D8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A55B-3104-4AB9-BA88-22019C3187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F7C4-9039-49B3-8DFC-CC0C049B2B2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E1B6-0211-40C0-8D64-8A6F312AC97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6FE2-5205-4A3B-BDDF-80B50478DBC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B5E6-83E4-48CE-8ECD-90B93EA3036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816B-2811-4EC2-A613-BF49A0241E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9DB-7718-4188-AD34-B8AAF4AB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082-E275-42AB-89A6-4640B940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33FD-301F-45BD-86DE-B8F08A5C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8ACC-51BB-44C8-8063-C23E7DB9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0C1-1C86-4EBA-A1D3-E4D4829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7AE-59DF-43D8-93FB-7202C109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8B9-A1CA-4839-A416-3E4C3C1E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C9C-E937-4FA9-B081-F2756AC1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76A-8DF6-4AB3-AF71-79E614E2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DF0-A7EF-455D-839D-F30134C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87F2-9CB8-4F3E-8641-401960C0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F23-7AEF-4378-AA75-F5D192B1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3E1A-3787-475A-B717-274EB4FBC88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jregion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341000"/>
            <a:ext cx="792000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f79646"/>
                </a:solidFill>
                <a:latin typeface="Calibri"/>
              </a:rPr>
              <a:t>Spotkanie Grupy Sterującej Ewaluacją RPO</a:t>
            </a:r>
            <a:br>
              <a:rPr sz="24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000" spc="-1" strike="noStrike">
                <a:solidFill>
                  <a:srgbClr val="f79646"/>
                </a:solidFill>
                <a:latin typeface="Calibri"/>
                <a:ea typeface="Calibri"/>
              </a:rPr>
              <a:t>Toruń, 08.11.2013 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a 11"/>
          <p:cNvGrpSpPr/>
          <p:nvPr/>
        </p:nvGrpSpPr>
        <p:grpSpPr>
          <a:xfrm>
            <a:off x="0" y="-214200"/>
            <a:ext cx="9144000" cy="7348680"/>
            <a:chOff x="0" y="-214200"/>
            <a:chExt cx="9144000" cy="7348680"/>
          </a:xfrm>
        </p:grpSpPr>
        <p:sp>
          <p:nvSpPr>
            <p:cNvPr id="50" name="Prostokąt 3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rostokąt 4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0" y="0"/>
              <a:ext cx="714240" cy="6501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683280" y="6491880"/>
              <a:ext cx="84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ffffff"/>
                  </a:solidFill>
                  <a:latin typeface="Calibri"/>
                </a:rPr>
                <a:t>Departament Zarządzania  Funduszami i Projektami Unijnymi, Wydział Zarządzania R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20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rostokąt 9"/>
          <p:cNvSpPr/>
          <p:nvPr/>
        </p:nvSpPr>
        <p:spPr>
          <a:xfrm>
            <a:off x="1042920" y="24922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waluacja działań informacyjnych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 promocyjnych w ramach RPO WK-P na lata 2007-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27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rostokąt 9"/>
          <p:cNvSpPr/>
          <p:nvPr/>
        </p:nvSpPr>
        <p:spPr>
          <a:xfrm>
            <a:off x="1116000" y="1773360"/>
            <a:ext cx="75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realizowane badania Info-Pr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009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ena dotychczasowych działań informacyjno-promocyjnych prowadzonych przez IZ RPO WK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011 -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waluacja działań informacyjno-promocyjnych realizowanych w ramach RPO WK-P oraz nowego portal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 funduszach -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ojregion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6920" y="1915920"/>
            <a:ext cx="8066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000"/>
                </a:solidFill>
                <a:latin typeface="Calibri"/>
                <a:ea typeface="Arial"/>
              </a:rPr>
              <a:t>Z czego wynika konieczność realizacji bada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Zgodnie z art. 4 ust. 2 Rozporządzenia Komisji (WE) nr 1828/2006 z dnia 8 grudnia 2006r. sprawozdanie końcowe z realizacji Strategii komunikacji zawiera rozdział poświęcony ocenie rezultatów działań informacyjnych i promocyjnych pod kątem efektywności ścieżek dotarcia i skuteczności w budowaniu świadomości społecznej o programach operacyjnych oraz o roli odgrywanej przez Wspólnot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Zapisy Strategii komunikacji Funduszy Europejskich w Polsce w ramach Narodowej strategii Spójności na lata 2007-2014 (w szczególności pkt. 12.2) nakładają na IZ PO/RPO obowiązek przeprowadzenia ewaluacji strategicznej na potrzeby sprawozdania końc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35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8"/>
          <p:cNvSpPr/>
          <p:nvPr/>
        </p:nvSpPr>
        <p:spPr>
          <a:xfrm>
            <a:off x="900000" y="119700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ożenia do badania ewaluacyjnego dotyczącego działań informacyjnych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 promocyjnych w ramach RPO WK-P na lat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6920" y="1915920"/>
            <a:ext cx="80661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000"/>
                </a:solidFill>
                <a:latin typeface="Calibri"/>
                <a:ea typeface="Arial"/>
              </a:rPr>
              <a:t>Warunki brzegowe przeprowadzenia ewaluacji strategicznej działań informacyjno-promocyjnych na potrzeby sprawozdania końcoweg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Należy uwzględnić specyfikę RPO oraz zapisy Planu komunikacji,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w tym system wskaźnik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Uwzględnienie w ewaluacji strategicznej kryteriów ewaluacyjnych dla ewaluacji ex-post, tj. skuteczności, efektywności, użyteczności i trwałości działań informacyjno-promocyj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Na potrzeby ewaluacji IZ powinna pozyskać dane pierwotne z badań grup docelowych komunikacji uwzględnionych w Planie komunikacji RPO. Na potrzeby IK NSRO przebadane muszą być następujące grupy: ogół społeczeństwa, potencjalni beneficjenci oraz beneficjen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12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43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rostokąt 8"/>
          <p:cNvSpPr/>
          <p:nvPr/>
        </p:nvSpPr>
        <p:spPr>
          <a:xfrm>
            <a:off x="900000" y="1197000"/>
            <a:ext cx="75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ałożenia do badania ewaluacyjnego dotyczącego działań informacyjnych i promocyjnych w ramach RPO WK-P na lat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10920" y="1915920"/>
            <a:ext cx="8281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1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c000"/>
                </a:solidFill>
                <a:latin typeface="Calibri"/>
                <a:ea typeface="Arial"/>
              </a:rPr>
              <a:t>Pozostałe informacje dotyczące przeprowadzenia ewaluacji strategicznej działań informacyjno-promocyjnyc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Badanie należy przeprowadzić w I lub II kwartale 2014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Decyzja dotycząca terminu przeprowadzenia badania powinna uwzględniać stan realizacji programów, planowane zakończenie ostatnich projektów realizowanych w perspektywie 2007-2013, jak również działań skierowanych do różnych typów beneficjen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Termin przeprowadzenia badania powinien być związany z zapisami Planu komunikacji RPO i koniecznością pomiaru wartości wskaźników monitoringowy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IZ RPO może rozszerzyć zakres badania z zachowaniem wymaganych warunków wskazanych przez MR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IK NSRO w I kw. 2014r. przeprowadzi cykliczne badanie ogółu społeczeństwa reprezentatywne również dla województw. Wyniki badania będą mogły być wykorzystane przez IZ RP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9280" indent="129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51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rostokąt 8"/>
          <p:cNvSpPr/>
          <p:nvPr/>
        </p:nvSpPr>
        <p:spPr>
          <a:xfrm>
            <a:off x="900000" y="1197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łożenia do badania ewaluacyjnego dotyczącego działań informacyjno-promocyjnych w ramach RPO WK-P na lata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71200" y="2817720"/>
            <a:ext cx="7472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79646"/>
                </a:solidFill>
                <a:latin typeface="Calibri"/>
                <a:ea typeface="Arial"/>
              </a:rPr>
              <a:t>Dziękujemy za uwagę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59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000" y="155700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79646"/>
                </a:solidFill>
                <a:latin typeface="Calibri"/>
                <a:ea typeface="Arial"/>
              </a:rPr>
              <a:t>Cel spotka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formacja z realizacji działań Biura Ewaluacji w 2013 r.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mówienie propozycji tematów badań na 2014r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dstawienie postępu prac nad ewaluacją ex-ante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-P RPO na lata 2014-2020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łożenia do badania ewaluacyjnego dotyczącego działań informacyjno-promocyjnych w ramach RPO WK-P na lata 2007-2013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nne kwestie bieżą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57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ozycje tematów badań do OPE na 2014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a 3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sp>
          <p:nvSpPr>
            <p:cNvPr id="64" name="Prostokąt 4"/>
            <p:cNvSpPr/>
            <p:nvPr/>
          </p:nvSpPr>
          <p:spPr>
            <a:xfrm>
              <a:off x="547200" y="6511680"/>
              <a:ext cx="8596800" cy="3463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rostokąt 5"/>
            <p:cNvSpPr/>
            <p:nvPr/>
          </p:nvSpPr>
          <p:spPr>
            <a:xfrm>
              <a:off x="-181080" y="6511680"/>
              <a:ext cx="728280" cy="3463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-181080" y="0"/>
              <a:ext cx="728280" cy="6511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620280" y="0"/>
              <a:ext cx="7707960" cy="16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ytuł 8"/>
          <p:cNvSpPr/>
          <p:nvPr/>
        </p:nvSpPr>
        <p:spPr>
          <a:xfrm>
            <a:off x="684360" y="1916280"/>
            <a:ext cx="82296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ie z Instrukcją Wykonawczą do 20 grudnia każdego roku Jednostka Ewaluacyjna przygotowuje Okresowy Plan Ewaluacji na dany rok przyjęty Decyzją Marszał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stępnie do 31 grudnia przyjęty Okresowy Plan Ewaluacji przesyła do Krajowej Jednostki Ewaluacyjnej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pozycje tematów badań do OPE na 2014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upa 3"/>
          <p:cNvGrpSpPr/>
          <p:nvPr/>
        </p:nvGrpSpPr>
        <p:grpSpPr>
          <a:xfrm>
            <a:off x="-181080" y="0"/>
            <a:ext cx="9325080" cy="6858000"/>
            <a:chOff x="-181080" y="0"/>
            <a:chExt cx="9325080" cy="6858000"/>
          </a:xfrm>
        </p:grpSpPr>
        <p:sp>
          <p:nvSpPr>
            <p:cNvPr id="72" name="Prostokąt 4"/>
            <p:cNvSpPr/>
            <p:nvPr/>
          </p:nvSpPr>
          <p:spPr>
            <a:xfrm>
              <a:off x="547200" y="6511680"/>
              <a:ext cx="8596800" cy="3463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rostokąt 5"/>
            <p:cNvSpPr/>
            <p:nvPr/>
          </p:nvSpPr>
          <p:spPr>
            <a:xfrm>
              <a:off x="-181080" y="6511680"/>
              <a:ext cx="728280" cy="3463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"/>
            <p:cNvSpPr/>
            <p:nvPr/>
          </p:nvSpPr>
          <p:spPr>
            <a:xfrm>
              <a:off x="-181080" y="0"/>
              <a:ext cx="728280" cy="6511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620280" y="0"/>
              <a:ext cx="7707960" cy="141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ole tekstowe 9"/>
          <p:cNvSpPr/>
          <p:nvPr/>
        </p:nvSpPr>
        <p:spPr>
          <a:xfrm>
            <a:off x="826920" y="1628640"/>
            <a:ext cx="79930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280" y="1988640"/>
            <a:ext cx="8425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kresie od 18 września 2013r. do 2 października 2013r. były zbierane tematy do Okresowego Planu Ewaluacji na 2014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pytania wysłano 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łonków GSE R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itetu Monitorując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nych jednostek zainteresowa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trzymano łącznie 8 tema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adto 3 tematy zostały zidentyfikowane i przeniesione z ubiegłych l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55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eryfikacja i ocena wpływu otrzymania wsparcia finansowego na rozwój przedsiębiorczości na rzeczywisty wzrost konkurencyjności firm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eryfikacja i ocena problemów z jakimi spotykali się przedsiębiorcy aplikujący o dotację, a także realizujący i rozliczający uzyskane wsparc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cena efektywności nakładów poniesionych (z budżetu RPO) na infrastrukturę techniczną i społeczną z punktu widze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wpływu na inwestycje gospodarcze kreujące nowe miejsca prac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na poprawę stanu środowiska (przyrodniczego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na poprawę jakości życia lud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ekroju terytorialnym powiatów województwa kujawsko-pomorski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dentyfikacja (i ocena) barier w sięganiu po środki RPO ( i innych PO NSRO 2007-2013) przez JST i MŚ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cena oddziaływania poszczególnych interwencji Regionalnego Programu Operacyjnego Województwa Kujawsko-Pomorski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81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rostokąt 8"/>
          <p:cNvSpPr/>
          <p:nvPr/>
        </p:nvSpPr>
        <p:spPr>
          <a:xfrm>
            <a:off x="900000" y="1197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pozycje tematów badań do OPE na 2014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5528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 realizacji projektów zrealizowanych w ramach RPO WK-P  w latach 2007-2013 na zatrudnienie w województwie kujawsko-pomorsk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e ewaluacyjne dotyczące problematyki efektywności zrealizowanych projektów na cele RPO WK-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waluacja efektów realizacji inwestycji drogowych dofinanso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RPO WK-P i komplementarności z budową dróg w ramach  POIiŚ, ZPORR, SPO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 wszystkie projekty kluczowe przyczyniają się do rozwoju ekonomicznego region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rost jakości i ilości usług dla ludności w szpitalach wnioskujących o dofinansowanie w ramach osi priorytetowej 3. Rozwój infrastruktury społecznej RPO WK-P na lata 2007-201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e działań informacyjno-promocyjnych w ramach RPO WK-P na lata 2007-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89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ostokąt 8"/>
          <p:cNvSpPr/>
          <p:nvPr/>
        </p:nvSpPr>
        <p:spPr>
          <a:xfrm>
            <a:off x="900000" y="119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pozycje tematów badań do OPE na 2014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e działań informacyjno-promocyjnych w ramach RPO WK-P na lata 2007-2013 – obligatoryjne ze Strategii Komunikacji I kw.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 wszystkie projekty kluczowe przyczyniają się do rozwoju ekonomicznego regionu? – III kw. 2014 lub I kw.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ływ realizacji projektów zrealizowanych w ramach RPO WK-P  w latach 2007-2013 na zatrudnienie w województwie kujawsko-pomorsk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97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8"/>
          <p:cNvSpPr/>
          <p:nvPr/>
        </p:nvSpPr>
        <p:spPr>
          <a:xfrm>
            <a:off x="900000" y="1197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maty wstępnie zaakceptowane do OPE na 2014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75528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eryfikacja i ocena wpływu otrzymania wsparcia finansowego na rozwój przedsiębiorczości na rzeczywisty wzrost konkurencyjności firmy. – badanie dotyczące przedsiębiorczości było realizowane w 2012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Badanie ewaluacyjne dotyczące problematyki efektywności zrealizowanych projektów na cele RPO WK-P – badanie celów RPO WK-P było realizowane w 2013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Ocena oddziaływania poszczególnych interwencji Regionalnego Programu Operacyjnego Województwa Kujawsko-Pomorskiego – w dużej części zakres tego tematu realizowały badania z lat 2012/2013, tzn. badania dotyczące przedsiębiorczości i analiza celów RP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05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8"/>
          <p:cNvSpPr/>
          <p:nvPr/>
        </p:nvSpPr>
        <p:spPr>
          <a:xfrm>
            <a:off x="900000" y="1197000"/>
            <a:ext cx="75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maty odrzuc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5528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zrost jakości i ilości usług dla ludności w szpitalach wnioskujących o dofinansowanie w ramach osi priorytetowej 3. Rozwój infrastruktury społecznej RPO WK-P na lata 2007-2013. – propozycja całkowitej rezygnacji z temat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eryfikacja i ocena problemów z jakimi spotykali się przedsiębiorcy aplikujący o dotację, a także realizujący i rozliczający uzyskane wsparcie oraz Identyfikacja (i ocena) barier w sięganiu po środki RPO ( i innych PO NSRO 2007-2013) przez JST i MŚP – połączone 2 tema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a efektywności nakładów poniesionych (z budżetu RPO) na infrastrukturę techniczną i społeczną z punktu widzenia: wpływu na inwestycje gospodarcze kreujące nowe miejsca pracy, na poprawę stanu środowiska (przyrodniczego), na poprawę jakości życia ludności, w przekroju terytorialnym powiatów województwa kujawsko-pomorskiego oraz Ewaluacja efektów realizacji inwestycji drogowych dofinansowanych z RPO WK-P i komplementarności z budową dróg w ramach  POIiŚ, ZPORR, SPOT – połączone 2 tema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113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rostokąt 8"/>
          <p:cNvSpPr/>
          <p:nvPr/>
        </p:nvSpPr>
        <p:spPr>
          <a:xfrm>
            <a:off x="900000" y="119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maty do dyskus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0:57:06Z</dcterms:created>
  <dc:creator>Agnieszka</dc:creator>
  <dc:description/>
  <dc:language>en-US</dc:language>
  <cp:lastModifiedBy>j.rudnicka</cp:lastModifiedBy>
  <dcterms:modified xsi:type="dcterms:W3CDTF">2013-11-21T12:47:14Z</dcterms:modified>
  <cp:revision>762</cp:revision>
  <dc:subject/>
  <dc:title>Regionalny Program Operacyjny Województwa  Kujawsko-Pomorskiego   Działanie 4.3. RPO WK-P Rozwój komercyjnych e-usług</dc:title>
</cp:coreProperties>
</file>