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440"/>
            <a:ext cx="493704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6E17-EC71-4A73-9524-6631DC8EA9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25DF-F4C2-4FB3-A929-BBD89337D52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F3FB-CA87-4F2D-9961-594D44C4855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A10D-97AA-4B77-90A3-3CAD6526C7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5CC4-860B-4AD1-81B4-948816F4311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132-9E56-49CC-BC82-F0B2F22B95D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B56F-63A5-4767-A3A3-75C099500E0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1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0760" y="4689360"/>
            <a:ext cx="54385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ymbol zastępczy numeru slajdu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B680-26BC-41FD-B889-2013CAF7274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A8C8-25FE-41A7-9B6E-24557746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DF1-CF18-484D-9F4B-40D83ACD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458-3385-4D23-BF1D-83D644F6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9AD-E1E0-49A3-BE48-F1E302CF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488-AC18-4F8C-B9B7-8BC04FA6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17F-591B-4877-B87C-2251A6E3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DB9-E1CF-4CB9-8C05-263EAD66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50B-6AE5-430C-8B80-9D54F087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BD87-46DD-430E-8E69-8BA9C438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8F4-177B-4EC7-8845-479E1C99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431-0F5E-4F12-9A12-0F34AF59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437-357F-4F04-9029-28EFA08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3DD4-79D9-4783-8110-00ADAEF320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ojregion.e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71200" y="2817720"/>
            <a:ext cx="74725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formacja z realizacji działa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iura Ewaluacji RPO w 2013 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50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33320" y="1125000"/>
            <a:ext cx="83757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  <a:ea typeface="Arial"/>
              </a:rPr>
              <a:t>Działania ewaluacyjne podjęte w roku 201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W roku 2013 zrealizowano następujące badania ewaluacyjn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Ewaluacja osiągnięcia założonych celów RPO WK-P na lata 2007-2013 (strategicznego i szczegółowyc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adanie wykonała firma Pracownia Badań SOMA z Torunia w okresie od 24.10.2012 do 18.04.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Głównym celem badania była ocena stopnia realizacji założonego celu strategicznego oraz celów szczegółowych programu poprzez pryzmat osiągniętych wartości wskaźników, statystyk publicznych oraz w oparciu o opinie beneficjentów i mieszkańców regionu. Przeprowadzona analiza pozwoliła również na ocenę relacji między poniesionymi nakładami w ramach programu a uzyskanymi efektami, w oparciu o które przedstawione zostały także czynniki wpływające na efektywność podjętych działań (definiowane przez badanych ekspertów), zależne od Instytucji Zarządzającej i od niej niezależne. Ostatecznym rezultatem realizacji badania była identyfikacja problemów i zagrożeń w realizacji celów RPO WK-P na lata 2007-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Ewaluacja wpływu projektów rewitalizacyjnych realizowanych w ramach RPO WK-P na lata 2007-2013 na poprawę sytuacji społeczno-gospodarczej obszarów objętych rewitalizacj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Badanie wykonała firma Pracownia Badań i Doradztwa „Re-Source” z Poznania w okresie od 24.01.2013 do 17.05.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Głównym celem badania była analiza wpływu projektów rewitalizacyjnych realizowanych / zrealizowan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w ramach RPO WK-P na lata 2007-2013 na jakość życia mieszkańców miast, w tym szczególnie z obszarów wytypowanych do rewitalizacji w ramach Lokalnych Programów Rewitalizacj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57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26560" y="1197000"/>
            <a:ext cx="820908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Działania ewaluacyjne podjęte w roku 2013 </a:t>
            </a:r>
            <a:r>
              <a:rPr b="1" i="1" lang="pl-PL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badania ewaluacyj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W roku 2013 zrealizowano następujące badania ewaluacyjne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Analiza wsparcia przedsiębiorczości w ramach RPO WK-P na lata 2007-2013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Badanie wykonała firma Agrotec Polska Sp. z o.o. z siedzibą w Warszawie w okresie od 25.02.2013 r. do 18.06.2013 r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Głównym celem badania było określenie skuteczności i efektywności zaangażowania środków RPO WK-P na dofinansowanie projektów, skierowanych na bezpośrednie i pośrednie wsparcie przedsiębiorczości w regionie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ramach badania przeanalizowano m.in. na ile realizacja projektów RPO WK-P przez przedsiębiorców wpłynęła na ich sytuację ekonomiczną. Dokonano tego poprzez porównanie kondycji ekonomicznej dwóch grup firm: będących beneficjentami RPO oraz tych, którzy nie skorzystali ze wsparcia (tzw. grupa kontrfaktyczna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  <a:ea typeface="Arial"/>
              </a:rPr>
              <a:t>Wszystkie raporty końcowe z zaprezentowanych badań ewaluacyjnych znajdują się na stronie </a:t>
            </a:r>
            <a:r>
              <a:rPr b="0" lang="pl-PL" sz="15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mojregion.eu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  <a:ea typeface="Arial"/>
              </a:rPr>
              <a:t> w zakładce RPO - Ewaluacj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64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2" descr="C:\Documents and Settings\j.araszewicz\Pulpit\wzory RPO\listownik_naglowek.png"/>
            <p:cNvPicPr/>
            <p:nvPr/>
          </p:nvPicPr>
          <p:blipFill>
            <a:blip r:embed="rId2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71560" y="1196640"/>
            <a:ext cx="802152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  <a:ea typeface="Arial"/>
              </a:rPr>
              <a:t>Działania ewaluacyjne podjęte w roku 2013 </a:t>
            </a:r>
            <a:r>
              <a:rPr b="1" i="1" lang="pl-PL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badania ewaluacyj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Obecnie realizowane są następujące badania ewaluacyjne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Ewaluacja ex-ante kujawsko-pomorskiego regionalnego programu operacyjnego na lata 2014-202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dniu 10.06.2013 r., w ramach trwającego procesu programowania perspektywy 2014-2020, rozpoczęła się realizacja ewaluacji ex-ante K-P RPO na lata 2014-2020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ykonawcą usługi jest konsorcjum firm Agrotec Polska Sp. z o.o. i Ecorys Sp. z o.o. z Warszawy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37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Realizacja zobowiązań wynikających z dyrektyw UE w zakresie zrównoważonego rozwoju poprzez działania współfinansowane z Regionalnego Programu Operacyjnego Województwa Kujawsko-Pomorskiego na lata 2007-2013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Badanie wykonuje firma ASM- Centrum Badań i Analiz Rynku z siedzibą w Kutnie. Realizacja ewaluacji potrwa od 30.10.2013 do 4.03.2014.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Głównym celem badania jest określenie wpływu projektów współfinansowanych z RPO WK-P na działania związane z ochroną środowiska i ochroną przyrody. Badanie pozwoli ocenić jak, oraz w jakim stopniu program operacyjny realizuje zobowiązania wynikające z dyrektyw UE w obszarze ochrony środowiska, ochrony przyrody, gospodarki wodnej i odpadowej oraz w zakresie zrównoważonego rozwoju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71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13880" y="1197000"/>
            <a:ext cx="817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ozostałe działania ewaluacyjne podjęte przez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Jednostkę Ewaluacyjną w roku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Międzyregionalna Konferencja Ewaluacyj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W dniach 25-26 czerwca 2013 r. zorganizowano i przeprowadzono Międzyregionalną Konferencję Ewaluacyjną pn.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Ewaluacja programów operacyjnych - wyzwania, inspiracje, przyszłość. 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Podczas konferencji poruszone zostały takie zagadnienia jak: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związki między ewaluacją, a analizą  polityk publicznych, społeczne  uwarunkowania procesu ewaluacji, rozwój badań ewaluacyjnych, a także metodologia procesów i badań ewaluacyjnych. Ponadto przeprowadzona została debata nad przyszłością i rolą ewaluacji w nowym okresie programowania 2014-2020. Adresatami konferencji byli przedstawiciele Jednostek Ewaluacyjnych RPO poszczególnych województw, administracji samorządowej i rządowej, środowiska akademickiego, a także firm badawczo-konsultingowych, beneficjentów Programu i innych zainteresowanych tematyką ewaluacji. W konferencji udział wzięło blisko 100 uczestników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78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267920"/>
            <a:ext cx="80661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Pozostałe działania ewaluacyjne podjęte przez </a:t>
            </a:r>
            <a:br>
              <a:rPr sz="2200"/>
            </a:b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Jednostkę Ewaluacyjną w roku 201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500" spc="-1" strike="noStrike">
                <a:solidFill>
                  <a:srgbClr val="000000"/>
                </a:solidFill>
                <a:latin typeface="Calibri"/>
              </a:rPr>
              <a:t>Wydruk publikacji pokonferencyjnej i </a:t>
            </a:r>
            <a:r>
              <a:rPr b="1" lang="pl-PL" sz="1500" spc="-1" strike="noStrike">
                <a:solidFill>
                  <a:srgbClr val="000000"/>
                </a:solidFill>
                <a:latin typeface="Calibri"/>
                <a:ea typeface="Arial"/>
              </a:rPr>
              <a:t>raportów ewaluacyjnych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Aktualnie w Biurze Ewaluacji RPO zakończyło się przygotowywanie dokumentacji do wydruku publikacji pokonferencyjnej pt. „Ewaluacja programów operacyjnych - wyzwania, inspiracje, przyszłość”. Publikacja zawiera referaty i artykuły przedstawiające zagadnienia poruszone na tegorocznej Konferencji Ewaluacyjnej. Ponadto, w związku z planowanym wydrukiem zlecona została usługa recenzji tejże publikacji, której dokonał Pan Krzysztof Piątek profesor w Zakładzie Polityki Społecznej Instytutu Socjologii Uniwersytetu Mikołaja Kopernika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Calibri"/>
                <a:ea typeface="Arial"/>
              </a:rPr>
              <a:t>Równocześnie trwały prace nad przygotowywaniem dokumentacji na wydruk raportów z 5 zrealizowanych badań ewaluacyjnych: 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„Analiza potrzeb rozwojowych województwa kujawsko-pomorskiego w kontekście</a:t>
            </a:r>
            <a:r>
              <a:rPr b="0" i="1" lang="pl-PL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Calibri"/>
              </a:rPr>
              <a:t>nowej perspektywy finansowej UE 2014-2020”, „Ocena wpływu RPO WK-P na lata 2007-2013 na zwiększenie potencjału ośrodków stołecznych regionu, w tym na rozwój funkcji metropolitalnych”, „Ewaluacja wpływu projektów rewitalizacyjnych realizowanych w ramach RPO WK-P na lata 2007-2013 na poprawę sytuacji społeczno-gospodarczej obszarów objętych rewitalizacją”, „Ewaluacja osiągnięcia założonych celów RPO WK-P na lata 2007-2013 (strategicznego i szczegółowych” oraz „Analiza wsparcia przedsiębiorczości w ramach RPO WK-P na lata 2007 – 2013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85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71200" y="2817720"/>
            <a:ext cx="74725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Arial"/>
              </a:rPr>
              <a:t>Dziękuję za uwag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Grupa 3"/>
          <p:cNvGrpSpPr/>
          <p:nvPr/>
        </p:nvGrpSpPr>
        <p:grpSpPr>
          <a:xfrm>
            <a:off x="0" y="-214200"/>
            <a:ext cx="9144000" cy="7072200"/>
            <a:chOff x="0" y="-214200"/>
            <a:chExt cx="9144000" cy="7072200"/>
          </a:xfrm>
        </p:grpSpPr>
        <p:sp>
          <p:nvSpPr>
            <p:cNvPr id="92" name="Prostokąt 4"/>
            <p:cNvSpPr/>
            <p:nvPr/>
          </p:nvSpPr>
          <p:spPr>
            <a:xfrm>
              <a:off x="714240" y="6500880"/>
              <a:ext cx="8429760" cy="357120"/>
            </a:xfrm>
            <a:prstGeom prst="rect">
              <a:avLst/>
            </a:pr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rostokąt 5"/>
            <p:cNvSpPr/>
            <p:nvPr/>
          </p:nvSpPr>
          <p:spPr>
            <a:xfrm>
              <a:off x="0" y="6500880"/>
              <a:ext cx="714240" cy="357120"/>
            </a:xfrm>
            <a:prstGeom prst="rect">
              <a:avLst/>
            </a:prstGeom>
            <a:solidFill>
              <a:srgbClr val="ffd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"/>
            <p:cNvSpPr/>
            <p:nvPr/>
          </p:nvSpPr>
          <p:spPr>
            <a:xfrm>
              <a:off x="0" y="0"/>
              <a:ext cx="714240" cy="65008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2" descr="C:\Documents and Settings\j.araszewicz\Pulpit\wzory RPO\listownik_naglowek.png"/>
            <p:cNvPicPr/>
            <p:nvPr/>
          </p:nvPicPr>
          <p:blipFill>
            <a:blip r:embed="rId1"/>
            <a:stretch/>
          </p:blipFill>
          <p:spPr>
            <a:xfrm>
              <a:off x="785520" y="-214200"/>
              <a:ext cx="7558200" cy="156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Text Box 6"/>
          <p:cNvSpPr/>
          <p:nvPr/>
        </p:nvSpPr>
        <p:spPr>
          <a:xfrm>
            <a:off x="684360" y="64911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Departament Zarządzania  Funduszami i Projektami Unijnymi, Wydział Zarządzania 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20:57:06Z</dcterms:created>
  <dc:creator>Agnieszka</dc:creator>
  <dc:description/>
  <dc:language>en-US</dc:language>
  <cp:lastModifiedBy>j.rudnicka</cp:lastModifiedBy>
  <dcterms:modified xsi:type="dcterms:W3CDTF">2013-11-21T12:46:54Z</dcterms:modified>
  <cp:revision>753</cp:revision>
  <dc:subject/>
  <dc:title>Regionalny Program Operacyjny Województwa  Kujawsko-Pomorskiego   Działanie 4.3. RPO WK-P Rozwój komercyjnych e-usług</dc:title>
</cp:coreProperties>
</file>