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CED8-AB13-45EA-A5D6-E2D0ED431EC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F02F-5617-4AC1-9205-BECEA452AE4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EC4C-233D-4C1A-9C19-770C7CB804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FAC-312A-4306-9FCF-E5C9972F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258-0C5B-4FD8-B8C5-5D9AE624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C011D-0BBE-491F-96AE-23D309CE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E4CB0-E768-414D-AC5B-8065148A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73BCE-BC03-4F39-9D84-525EB96C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92415-A423-467F-88DB-955EA58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0AA38-97D6-430B-9E54-4C8C24F5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2A450-0F5F-4843-B3F7-3B7B31B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1178B-0A38-4144-848B-1710EFB7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48332-37D5-401B-9F0F-A2C280F3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6DBBE-1A94-44A7-BB8B-F61A4760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AC181-6B80-49AE-ACB2-1C58C0B6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ADE-B8C9-4C94-8117-5C96E9CD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6AC01-0E49-4E7E-A2C5-CA9507DD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75EA43-CC88-4E8B-AFA0-3DE232D2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B0535-52AC-4008-9F6C-E7AE9A6A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A673D-E1C8-4E83-BE9F-068F87FD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070A5-5BCD-42B9-811E-B597F2C8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2BF11-57B4-4B7C-9862-FF3AB13E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DA74A-577A-4F92-B032-5572601D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AEA06-1952-4EAA-8CB3-B816F97D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E51A5-31FE-4AC8-A2A4-4A3EE02D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9EA19-BEB7-4F83-887B-C4930A1F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AD8-7654-41B2-B049-96E3F719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E53FC-08F8-48F5-8D65-C06FFC68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4B248-5649-43C7-ACAE-A2946585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0C72B-7005-4C6F-914E-3A2F53C2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61040-9903-4A90-9E7D-8B101F51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10A40-FA65-4743-930E-BD90F689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3D2F5-02E2-4DF7-8292-A0C4D62C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48609-0409-4A84-9AB7-4D3C0B78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E2FEE-86F2-4696-AAE6-45A1D540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BB687-E7E6-4CD7-A63C-2A0E4737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EB9DE-D844-4591-A641-5E3709DF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9E6B-A45A-4905-9EC6-4EF11D38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F20A93-8B3F-4DC1-858C-F25EF9F2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2FF4D-8F96-4B4C-901C-B1A631FC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B841F-4343-4CFC-8E12-FA2EEB99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5D983-FCCA-4708-9C53-5B28A4F4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93FBF-0074-43CE-9B2C-E251B63D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69C73-3156-4FDD-8CE0-5606371D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89673-B75A-484B-9E47-F1BDE042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CADA5-753F-41CE-9B41-95A59097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C3673-1829-4E3E-A201-10B07727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775EF-224F-4669-80CD-E0CCEB38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95D1-69BF-4083-BFB1-B859523E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A3E38-6E3D-4440-98C2-CEB175D0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8DBEB-C755-45D9-A536-9A32CF1C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8FFBE-DEB6-459C-BD6E-62C43091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25D8A-9843-45D8-9063-72B901F2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5F2EF-59EB-46DC-AFA3-5F19996A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7912-99A1-41F5-A4CF-856033B5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0A2E-D6F4-4B9E-A80D-86109890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0685-ACBF-43FB-99CB-D5431373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0DB4-242D-4E8F-9D75-5A9AB2F3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F534-972F-4F6F-B797-ED04E2F7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828-5536-4061-86BC-8BBCBBC5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9021-0A34-4DEF-9C8B-1AE2C1C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27C2-3FD3-42FA-B808-69EDB3C4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5E27-C0FA-4DC1-B913-C22CD905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4FDF-E0E1-4443-A787-761B75F0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B1E8-8C5F-4AA4-B196-6A6027B5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FC14-3FA8-480C-970F-C9AB1456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2987-B248-42B3-BC36-1C157B73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343BF-ABCB-43FF-9C0D-BCD30955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F8940-3487-4621-901C-2211B06A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3E97-9A3B-467D-9385-31783727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3AB-D25C-4738-8211-3AA55C3E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6C05-58C2-4FA8-B03B-2BDA8E34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3EE1-AFBB-4921-AA63-709F37D7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AFEE-DF1C-4F5E-8C6F-E1D4B577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91EC-8432-425A-894A-EE9E2C33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DF53E-E425-418F-9454-B8E20E13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49E2-EC11-4426-9C69-99761FDD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2876B-852C-4D7E-AD1F-7D56E849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FB46-1000-4D57-AD6F-CB6309EA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80246-1ABA-4E16-A916-18AAB98F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03652-A58C-4B08-AA0C-1C57A01C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2AB-6D9E-47C5-A4FF-C84BAA00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6046F-DE1B-4A7C-9313-7EC0F7F0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0A596-077D-4392-A3CA-E1156A18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D08E8-F573-44CB-9C4D-2832237D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B0692-1229-4106-B192-0D0C64A8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04959-2BBD-4A39-B0B2-0B4FAE45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C9CEA-9405-44A7-BF40-21638A8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77E6D-BCDB-4378-A9AC-C553ED02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A6FB-315C-4FCC-B971-28E1FF80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37A0E-2D6D-4C2E-8E78-B8B3CC51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3681C-103C-46BC-8EDE-39011142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167-3CF5-4A2D-96AB-ECC00EC9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87FCC-612D-41E7-9042-A0FB161E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AACFB-7A8D-419A-BCB0-91F3D63E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B12BD-1123-4404-812E-92AF4D63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AA7EE-4952-4B19-B317-BA35D94A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8B900-8C71-44D2-86B7-9F9616B7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4F87F-AC0B-4AD3-BD67-3A0A1C41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1B531-25CA-4370-B436-92D2A92F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AD990-30C4-4703-A6AA-79C47256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1F02-2F7B-47EB-9371-A98CE34D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8393-17FA-4AB5-8994-CE329EA9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12F-100A-436F-AEE4-DED8255F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3DF1D-2D5E-41A4-9E8D-29ED04BE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FAB40-DA44-4E5A-BF20-4715023B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7F024-3544-4020-8E5F-6A42EDE7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6938C-4579-4FF8-A5AE-BFE7036F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5B58C-F0AB-4D59-9535-59FF8DB9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242E3-EE58-4762-9D34-DE08EB4B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A2F19-5478-4D4E-ACA8-AFF86F2C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1BD2D-D318-490B-B511-F6673E65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C2CB7-862C-44DE-BC34-1FA1FC57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F6C14-E635-4E84-BD32-961E22BE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B04-9AFA-452F-8BF7-0C6C66B2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1FC48-75AA-4662-8DDC-D9E4C99B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4B01E-A00E-4F69-B110-6D494CEA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61E9C-F8AF-440B-A6A8-54F11CDC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A176-3432-409C-A87E-BEF3B813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0B6EF-455D-4846-AF57-8EBEAA37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963F0-03FE-4AC6-B7F3-65C8B6EE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58EEC-EA42-4567-9B32-8B2C2CF5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C4B5D-CD2C-49FF-BCC6-97E45378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66AE9-DD28-4928-9C84-7D3EE109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73E74-C790-4817-8C47-DEE1E6DC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506C-96BE-4CB9-AFA1-26FDD4EF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27CF8-845F-4D3F-B573-46AA3D53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8DB7B-6837-43A1-8160-4EEE4D2C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8B46A-92FC-4157-8BB6-7FB07341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3190F-5015-4146-B59E-83A89CC9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A1A14-A52E-4CE9-840F-A35D6953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66F33-6A11-41E6-BAF3-AC15BA15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41E11-CCD9-47EE-9098-A7B2A51F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4A69C-F911-4CC6-A70D-0CF2C4C7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39043-1F59-4424-8939-C1B6890F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1A016-A66E-48F6-A70F-0C52FB97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AFA-3D7E-4A71-8E02-BAA89CED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68360" y="585360"/>
            <a:ext cx="83707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19C87-B140-4A38-A629-C08D3B06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6D38C-BFEF-425F-8937-BCACB424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BD5FC-0DC1-42BD-B221-0C7D60AC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E8222-C78B-40C4-8C62-FB557608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360" y="4004640"/>
            <a:ext cx="837072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5DFA5-6FAF-4B6A-925E-E522066D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57400" y="195732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836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757400" y="4004640"/>
            <a:ext cx="40845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BC87-60FC-4D79-93B4-355E5835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9832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28640" y="195732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836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9832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28640" y="4004640"/>
            <a:ext cx="2694960" cy="18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5AD4B-FDAB-4D35-9320-348DF742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2A9FD-FFD0-41DC-96DC-BADF1CEE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2DBF5-A35E-4ADF-BEA4-88006FEB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5C0B6-5C72-4485-9BE2-4B69E194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</a:rPr>
              <a:t>Realizacja zobowiązań wynikających z dyrektyw UE </a:t>
            </a: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Times New Roman"/>
              </a:rPr>
              <a:t>w zakresie zrównoważonego rozwoju poprzez działania współfinansowane z Regionalnego Programu Operacyjnego Województwa Kujawsko-Pomorskiego na lata 2007-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CAA5-3B18-41C2-9C5F-2B8FDF91FE4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DE28-E378-4D2A-A8FE-B24E8C80E5E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4429-2175-4594-846B-EBD946CFDAD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AEFC-7FD5-461D-B4C6-8F43EBBE2D1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</a:rPr>
              <a:t>Realizacja zobowiązań wynikających z dyrektyw UE </a:t>
            </a: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Times New Roman"/>
              </a:rPr>
              <a:t>w zakresie zrównoważonego rozwoju poprzez działania współfinansowane z Regionalnego Programu Operacyjnego Województwa Kujawsko-Pomorskiego na lata 2007-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imes New Roman"/>
              </a:rPr>
              <a:t>Realizacja zobowiązań wynikających z dyrektyw UE </a:t>
            </a: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Times New Roman"/>
              </a:rPr>
              <a:t>w zakresie zrównoważonego rozwoju poprzez działania współfinansowane z Regionalnego Programu Operacyjnego Województwa Kujawsko-Pomorskiego na lata 2007-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EA27-1B7A-4089-AF77-D7C9BB37D146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8584-A434-4CD3-BDFE-D9278E0D9E6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D802-BD7A-4837-9766-2A70510B4041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A531-7C9D-48AE-B240-FA3E52AEF12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AAA8-2A4B-479D-9A0F-2B8B9A48357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06D4-DA4C-4FB1-AA71-023CF78484C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Obraz 22" descr="E:\P1335 - KUJAWSKO-POMORSKIE\RAPORT KOŃCOWY\logotypy.jpg"/>
          <p:cNvPicPr/>
          <p:nvPr/>
        </p:nvPicPr>
        <p:blipFill>
          <a:blip r:embed="rId3"/>
          <a:stretch/>
        </p:blipFill>
        <p:spPr>
          <a:xfrm>
            <a:off x="324000" y="476280"/>
            <a:ext cx="8280360" cy="100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585360"/>
            <a:ext cx="837072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63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68360" y="1957320"/>
            <a:ext cx="837072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2" marL="108576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3" marL="151992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4" marL="1954440" indent="-217080"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63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771280" y="6092640"/>
            <a:ext cx="6056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0B99-9AA8-496A-9173-7D3F0CD6C1F3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1592280" y="2641680"/>
            <a:ext cx="73454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6600"/>
                </a:solidFill>
                <a:latin typeface="Trebuchet MS"/>
              </a:rPr>
              <a:t>Prezentacja wyników badania ewaluacyjnego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3366"/>
                </a:solidFill>
                <a:latin typeface="Trebuchet MS"/>
              </a:rPr>
              <a:t>Realizacja zobowiązań wynikających z dyrektyw UE </a:t>
            </a:r>
            <a:br>
              <a:rPr sz="2000"/>
            </a:br>
            <a:r>
              <a:rPr b="0" lang="pl-PL" sz="2000" spc="-1" strike="noStrike">
                <a:solidFill>
                  <a:srgbClr val="003366"/>
                </a:solidFill>
                <a:latin typeface="Trebuchet MS"/>
              </a:rPr>
              <a:t>w zakresie zrównoważonego rozwoju poprzez działania współfinansowane z Regionalnego Programu Operacyjnego Województwa Kujawsko-Pomorskiego na lata 2007-201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ole tekstowe 1"/>
          <p:cNvSpPr/>
          <p:nvPr/>
        </p:nvSpPr>
        <p:spPr>
          <a:xfrm>
            <a:off x="671400" y="1727280"/>
            <a:ext cx="820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rebuchet MS"/>
              </a:rPr>
              <a:t>Projekt jest finansowany ze Śródków Europejskiego Funduszu Rozwoju Regionalnego w ramach Regionalnego Programu Operacyjnego Województwa Kujawsko-Pomorskiego na lata 2007-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Charakterystyka działań realizowanych w ramach projektów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8360" y="2708280"/>
            <a:ext cx="837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79 przedsięwzięć miało na celu poprawę wydajności energetycznej.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29040" indent="-3290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3 projekty dotyczyły rozbudowy oczyszczalni ścieków, zwiększenia przepustowości i ilości oczyszczanych ścieków.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29040" indent="-3290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13 projektów było realizowanych  z zakresu termomodernizacji.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29040" indent="-3290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8 projektów przyczyniło się do realizacji selektywnego zbierania, ponownego wykorzystania oraz recyklingu materiałów odpadowych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29040" indent="-3290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7 projektów obejmowało zagadnienia związane z hałasem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29040" indent="-3290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31 beneficjentów w swoich projektach zawarło zagadnienia z zakresu wsparcia ochrony przyrody </a:t>
            </a:r>
            <a:br>
              <a:rPr sz="1400"/>
            </a:b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i edukacji ekologicznej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29040" indent="-3290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25 projektów realizowanych było na obszarach objętych ochroną, w tym na obszarze Natura 2000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29040" indent="-3290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Żaden z analizowanych projektów nie zakładał zniszczenia lub degradacji siedlisk (roślin, grzybów, ptaków, nietoperzy, zwierząt)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29040" indent="-3290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29040" indent="-329040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75840" y="1341000"/>
            <a:ext cx="8371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rebuchet MS"/>
              </a:rPr>
              <a:t>Dyrektywy uwzględniane przez wnioskodawców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33" name="Symbol zastępczy zawartości 2"/>
          <p:cNvSpPr/>
          <p:nvPr/>
        </p:nvSpPr>
        <p:spPr>
          <a:xfrm>
            <a:off x="1187280" y="6346800"/>
            <a:ext cx="756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rebuchet MS"/>
              </a:rPr>
              <a:t>Źródło: Opracowanie własne ASM na podstawie wyników badania CATI z przedstawicielami projektów zrealizowanych w ramach RPO WK-P na lata 2007-2013. (N=219). Procenty nie sumują się do 100% ponieważ respondenci mogli wskazać więcej niż jedną dyrektywę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Obraz 4" descr=""/>
          <p:cNvPicPr/>
          <p:nvPr/>
        </p:nvPicPr>
        <p:blipFill>
          <a:blip r:embed="rId1"/>
          <a:stretch/>
        </p:blipFill>
        <p:spPr>
          <a:xfrm>
            <a:off x="1187280" y="2206800"/>
            <a:ext cx="7345440" cy="39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Udział środków przeznaczonych na realizację celów osi </a:t>
            </a:r>
            <a:br>
              <a:rPr sz="2400"/>
            </a:b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w ogólnej kwocie wkładu wspólnotowego (EFRR)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611280" y="2565360"/>
          <a:ext cx="8208720" cy="3119400"/>
        </p:xfrm>
        <a:graphic>
          <a:graphicData uri="http://schemas.openxmlformats.org/drawingml/2006/table">
            <a:tbl>
              <a:tblPr/>
              <a:tblGrid>
                <a:gridCol w="8208720"/>
              </a:tblGrid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193863"/>
                          </a:solidFill>
                          <a:latin typeface="Trebuchet MS"/>
                        </a:rPr>
                        <a:t>Podział środków Europejskiego Funduszu Rozwoju Regionalnego w Regionalnym Programie Operacyjnym Województwa Kujawsko-Pomorskiego na lata 2007-2013 na poszczególne osie priorytet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Oś Priorytetowa 2</a:t>
                      </a: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 Zachowanie i racjonalne użytkowanie środowiska - </a:t>
                      </a: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11,84%, tj. </a:t>
                      </a:r>
                      <a:r>
                        <a:rPr b="1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117 924 474 euro</a:t>
                      </a: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3874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Działania środowiskowe są także przewidziane w ramach </a:t>
                      </a:r>
                      <a:r>
                        <a:rPr b="1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Osi Priorytetowej 1 </a:t>
                      </a: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Ro</a:t>
                      </a: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zwój infrastruktury technicznej</a:t>
                      </a: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 (Działania 1.1 – infrastruktura drogowa, 1.2 – infrastruktura transportu publicznego i 1.3 – infrastruktura kolejowa), </a:t>
                      </a:r>
                      <a:r>
                        <a:rPr b="1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Osi Priorytetowej 5</a:t>
                      </a: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 Wzmocnienie konkurencyjności przedsiębiorstw (Działanie 5.3 – wspieranie przedsiębiorstw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w zakresie dostosowania do wymogów ochrony środowiska) i </a:t>
                      </a:r>
                      <a:r>
                        <a:rPr b="1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Osi Priorytetowej 6</a:t>
                      </a: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 Wsparcie rozwoju turystyki (Działanie 6.1 – rozwój usług turystycznych w oparciu o zasoby przyrodnicze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Łączna alokacja z EFRR dla działań 1.1, 1.2, 1.3, 5.3 i 6.1 wynosi 65 887 773 euro. </a:t>
                      </a: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W tym, w ramach osi 1 tj. 56 523 040 euro; w ramach osi 5 tj. 3 239 638 euro i w ramach osi 6 tj. 6 125 095 eur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Adekwatność alokacji przewidzianej w RPO WK-P na lata 2007-2013 w obszarze środowiskowym do potrzeb i możliwości beneficjentów</a:t>
            </a:r>
            <a:br>
              <a:rPr sz="2400"/>
            </a:b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11280" y="2781360"/>
            <a:ext cx="837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Badanie miało także na celu określenie czy według beneficjentów otrzymane przez nich wsparcie finansowe działań o charakterze środowiskowym było wystarczające. 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193863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rebuchet MS (Tekst podstawowy)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rebuchet MS (Tekst podstawowy)"/>
              </a:rPr>
              <a:t>	</a:t>
            </a:r>
            <a:r>
              <a:rPr b="0" i="1" lang="pl-PL" sz="1000" spc="-1" strike="noStrike">
                <a:solidFill>
                  <a:srgbClr val="000000"/>
                </a:solidFill>
                <a:latin typeface="Trebuchet MS (Tekst podstawowy)"/>
              </a:rPr>
              <a:t>Źródło: Opracowanie własne ASM na podstawie wyników badania CATI z przedstawicielami projektów zrealizowanych w       </a:t>
            </a:r>
            <a:r>
              <a:rPr b="0" i="1" lang="pl-PL" sz="1000" spc="-1" strike="noStrike">
                <a:solidFill>
                  <a:srgbClr val="000000"/>
                </a:solidFill>
                <a:latin typeface="Trebuchet MS (Tekst podstawowy)"/>
              </a:rPr>
              <a:t>	</a:t>
            </a:r>
            <a:r>
              <a:rPr b="0" i="1" lang="pl-PL" sz="1000" spc="-1" strike="noStrike">
                <a:solidFill>
                  <a:srgbClr val="000000"/>
                </a:solidFill>
                <a:latin typeface="Trebuchet MS (Tekst podstawowy)"/>
              </a:rPr>
              <a:t>ramach RPO WK-P  na lata 2007-2013. (N=219). </a:t>
            </a:r>
            <a:endParaRPr b="0" lang="en-US" sz="10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193863"/>
                </a:solidFill>
                <a:latin typeface="Trebuchet MS"/>
              </a:rPr>
              <a:t> </a:t>
            </a:r>
            <a:endParaRPr b="0" lang="en-US" sz="9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224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193863"/>
              </a:solidFill>
              <a:latin typeface="Trebuchet MS"/>
            </a:endParaRPr>
          </a:p>
        </p:txBody>
      </p:sp>
      <p:pic>
        <p:nvPicPr>
          <p:cNvPr id="539" name="Wykres 5" descr=""/>
          <p:cNvPicPr/>
          <p:nvPr/>
        </p:nvPicPr>
        <p:blipFill>
          <a:blip r:embed="rId1"/>
          <a:stretch/>
        </p:blipFill>
        <p:spPr>
          <a:xfrm>
            <a:off x="1401840" y="3498840"/>
            <a:ext cx="641988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7640" y="2060280"/>
            <a:ext cx="3600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Utrudnienia związane    z realizacją projektu zgodnie                                 z poszczególnymi Dyrektywami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41" name="Prostokąt 2"/>
          <p:cNvSpPr/>
          <p:nvPr/>
        </p:nvSpPr>
        <p:spPr>
          <a:xfrm>
            <a:off x="3851280" y="6462720"/>
            <a:ext cx="52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rebuchet MS"/>
              </a:rPr>
              <a:t>Źródło: Opracowanie własne ASM na podstawie wyników badania CATI z przedstawicielami projektów  zrealizowanych w ramach RPO WK-P na lata 2007-2013. (N=219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Obraz 5" descr=""/>
          <p:cNvPicPr/>
          <p:nvPr/>
        </p:nvPicPr>
        <p:blipFill>
          <a:blip r:embed="rId1"/>
          <a:stretch/>
        </p:blipFill>
        <p:spPr>
          <a:xfrm>
            <a:off x="3132000" y="1413000"/>
            <a:ext cx="612324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Główne przyczyny utrudnień związanych z wdrażaniem projektów zgodnie z Dyrektywami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250920" y="2565360"/>
            <a:ext cx="83707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26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93863"/>
              </a:solidFill>
              <a:latin typeface="Trebuchet MS"/>
            </a:endParaRPr>
          </a:p>
          <a:p>
            <a:pPr marL="325800" indent="-325800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93863"/>
                </a:solidFill>
                <a:latin typeface="Trebuchet MS"/>
              </a:rPr>
              <a:t>Dyrektywa w sprawie jakości powietrza (Dyrektywa 5)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275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193863"/>
                </a:solidFill>
                <a:latin typeface="Trebuchet MS"/>
              </a:rPr>
              <a:t>Konieczność wykonywania dodatkowych badań i audytów dotyczących wskaźników jakości powietrza (w tym pyłów).</a:t>
            </a:r>
            <a:endParaRPr b="0" lang="en-US" sz="11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275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193863"/>
                </a:solidFill>
                <a:latin typeface="Trebuchet MS"/>
              </a:rPr>
              <a:t>Konieczność zmiany założeń  i zakresu termomodernizacji m. in. zmiany parametrów materiałów termoizolacyjnych, systemów grzewczych, metod docieplania budynków</a:t>
            </a:r>
            <a:r>
              <a:rPr b="1" lang="pl-PL" sz="1100" spc="-1" strike="noStrike">
                <a:solidFill>
                  <a:srgbClr val="193863"/>
                </a:solidFill>
                <a:latin typeface="Trebuchet MS"/>
              </a:rPr>
              <a:t>)</a:t>
            </a:r>
            <a:r>
              <a:rPr b="0" i="1" lang="pl-PL" sz="1100" spc="-1" strike="noStrike">
                <a:solidFill>
                  <a:srgbClr val="193863"/>
                </a:solidFill>
                <a:latin typeface="Trebuchet MS"/>
              </a:rPr>
              <a:t>. </a:t>
            </a:r>
            <a:endParaRPr b="0" lang="en-US" sz="1100" spc="-1" strike="noStrike">
              <a:solidFill>
                <a:srgbClr val="193863"/>
              </a:solidFill>
              <a:latin typeface="Trebuchet MS"/>
            </a:endParaRPr>
          </a:p>
          <a:p>
            <a:pPr marL="325800" indent="-325800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93863"/>
                </a:solidFill>
                <a:latin typeface="Trebuchet MS"/>
              </a:rPr>
              <a:t>Dyrektywa dotyczącą oceny i zarządzania poziomem hałasu w środowisku (Dyrektywa 6)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275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193863"/>
                </a:solidFill>
                <a:latin typeface="Trebuchet MS"/>
              </a:rPr>
              <a:t>Wydłużenie przygotowania procesu inwestycji/realizacji projektu w związku z koniecznością uwzględnienia wytycznych zawartych w Dyrektywie. </a:t>
            </a:r>
            <a:endParaRPr b="0" lang="en-US" sz="1100" spc="-1" strike="noStrike">
              <a:solidFill>
                <a:srgbClr val="193863"/>
              </a:solidFill>
              <a:latin typeface="Trebuchet MS"/>
            </a:endParaRPr>
          </a:p>
          <a:p>
            <a:pPr marL="325800" indent="-325800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93863"/>
                </a:solidFill>
                <a:latin typeface="Trebuchet MS"/>
              </a:rPr>
              <a:t>Dyrektywa dotyczącą ochrony dzikiego ptactwa (Dyrektywa 7)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275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193863"/>
                </a:solidFill>
                <a:latin typeface="Trebuchet MS"/>
              </a:rPr>
              <a:t>Zalecenie dotyczące konieczności oznakowania mostu lub budowy wież.</a:t>
            </a:r>
            <a:endParaRPr b="0" lang="en-US" sz="11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275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193863"/>
                </a:solidFill>
                <a:latin typeface="Trebuchet MS"/>
              </a:rPr>
              <a:t>Konieczność wykonywania dodatkowych opracowań  np. ekspertyz związanych z oddziaływaniem inwestycji na obszary Natura 2000.</a:t>
            </a:r>
            <a:endParaRPr b="0" lang="en-US" sz="1100" spc="-1" strike="noStrike">
              <a:solidFill>
                <a:srgbClr val="193863"/>
              </a:solidFill>
              <a:latin typeface="Trebuchet MS"/>
            </a:endParaRPr>
          </a:p>
          <a:p>
            <a:pPr marL="325800" indent="-325800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93863"/>
                </a:solidFill>
                <a:latin typeface="Trebuchet MS"/>
              </a:rPr>
              <a:t>Dyrektywa w sprawie ochrony siedlisk przyrodniczych oraz dzikiej fauny i flory (Dyrektywa 8)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lvl="1" marL="705600" indent="-271440">
              <a:spcBef>
                <a:spcPts val="275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193863"/>
                </a:solidFill>
                <a:latin typeface="Trebuchet MS"/>
              </a:rPr>
              <a:t>Wydłużenie procesu przygotowania  inwestycji oraz ich realizacji z uwagi na konieczność wykonania powtórnych ocen oddziaływania na środowisko. </a:t>
            </a:r>
            <a:endParaRPr b="0" lang="en-US" sz="11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Czynniki wpływające na dotychczasową realizację wymogów wynikających z dyrektyw UE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8360" y="2708280"/>
            <a:ext cx="837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Respondenci badania CATI zostali poproszeni o ocenę, </a:t>
            </a:r>
            <a:r>
              <a:rPr b="1" lang="pl-PL" sz="1600" spc="-1" strike="noStrike">
                <a:solidFill>
                  <a:srgbClr val="193863"/>
                </a:solidFill>
                <a:latin typeface="Trebuchet MS"/>
              </a:rPr>
              <a:t>czy obowiązujące regulacje dotyczące wskaźników i wymogów w obszarze środowiskowym są powiązane z częstotliwością ubiegania się o środki z Regionalnego Programu Operacyjnego przez beneficjentów</a:t>
            </a: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</p:txBody>
      </p:sp>
      <p:pic>
        <p:nvPicPr>
          <p:cNvPr id="547" name="Wykres 3" descr=""/>
          <p:cNvPicPr/>
          <p:nvPr/>
        </p:nvPicPr>
        <p:blipFill>
          <a:blip r:embed="rId1"/>
          <a:stretch/>
        </p:blipFill>
        <p:spPr>
          <a:xfrm>
            <a:off x="2266920" y="4078440"/>
            <a:ext cx="5402160" cy="1725480"/>
          </a:xfrm>
          <a:prstGeom prst="rect">
            <a:avLst/>
          </a:prstGeom>
          <a:ln w="0">
            <a:noFill/>
          </a:ln>
        </p:spPr>
      </p:pic>
      <p:sp>
        <p:nvSpPr>
          <p:cNvPr id="548" name="Prostokąt 5"/>
          <p:cNvSpPr/>
          <p:nvPr/>
        </p:nvSpPr>
        <p:spPr>
          <a:xfrm>
            <a:off x="1855800" y="595008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900" spc="-1" strike="noStrike">
                <a:solidFill>
                  <a:srgbClr val="000000"/>
                </a:solidFill>
                <a:latin typeface="Trebuchet MS"/>
              </a:rPr>
              <a:t>Źródło: Opracowanie własne ASM na podstawie wyników badania CATI  z przedstawicielami projektów zrealizowanych w ramach RPO WK-P na lata 2007-2013. (N=219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Potencjalne zagrożenia i problemy w wypełnianiu Dyrektyw </a:t>
            </a:r>
            <a:br>
              <a:rPr sz="2400"/>
            </a:b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22360" y="2565360"/>
            <a:ext cx="837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Dzięki danym uzyskanym z badania przeprowadzonego metodą CATI oraz </a:t>
            </a:r>
            <a:br>
              <a:rPr sz="1700"/>
            </a:b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w oparciu o informacje wynikające ze zrealizowanych wywiadów pogłębionych udało się określić </a:t>
            </a:r>
            <a:r>
              <a:rPr b="1" lang="pl-PL" sz="1700" spc="-1" strike="noStrike">
                <a:solidFill>
                  <a:srgbClr val="193863"/>
                </a:solidFill>
                <a:latin typeface="Trebuchet MS"/>
              </a:rPr>
              <a:t>potencjalne zagrożenia i problemy związane z wypełnianiem dyrektyw UE objętych badaniem. </a:t>
            </a: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Do najważniejszych zagrożeń zaliczono: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brak wiedzy o obowiązkach wynikających z dyrektyw unijnych, a także</a:t>
            </a:r>
            <a:br>
              <a:rPr sz="1600"/>
            </a:b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o konsekwencjach wynikających z ich nieprzestrzegania,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brak wyspecjalizowanej kadry u projektodawców, 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niepełne wdrożenie prawa unijnego do prawa krajowego oraz niejasności </a:t>
            </a:r>
            <a:br>
              <a:rPr sz="1600"/>
            </a:b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w interpretacji przepisów prawa,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nieprawidłowości na etapie realizacji projektów. 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Uniknięcie zagrożeń w przyszłej perspektywie finansowej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68360" y="2708280"/>
            <a:ext cx="837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3863"/>
                </a:solidFill>
                <a:latin typeface="Trebuchet MS"/>
              </a:rPr>
              <a:t>Według respondentów (IZ i wnioskodawcy) uniknięcie zagrożeń w przyszłej perspektywie finansowej jest możliwe poprzez: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wprowadzanie jasnych procedur i przepisów, 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dokonanie jednoznacznego przełożenia prawa wspólnotowego na krajowe,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informowanie o zmianach w przepisach z odpowiednim wyprzedzeniem oraz pokazanie praktycznych jego aspektów,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zwiększenia działalności informacyjno-promocyjnej</a:t>
            </a:r>
            <a:r>
              <a:rPr b="0" lang="en-GB" sz="1600" spc="-1" strike="noStrike">
                <a:solidFill>
                  <a:srgbClr val="193863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Dobre praktyki przyczyniające się do skutecznej realizacji dyrektyw UE</a:t>
            </a:r>
            <a:br>
              <a:rPr sz="2400"/>
            </a:b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68360" y="2565360"/>
            <a:ext cx="837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93863"/>
                </a:solidFill>
                <a:latin typeface="Trebuchet MS"/>
              </a:rPr>
              <a:t>Szkolenia</a:t>
            </a: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 </a:t>
            </a:r>
            <a:r>
              <a:rPr b="1" lang="pl-PL" sz="1600" spc="-1" strike="noStrike">
                <a:solidFill>
                  <a:srgbClr val="193863"/>
                </a:solidFill>
                <a:latin typeface="Trebuchet MS"/>
              </a:rPr>
              <a:t>oraz warsztaty </a:t>
            </a: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dla beneficjentów na etapie oceny formalnej i konkursów, które miały na celu przybliżenie celów realizowanego działania w ramach RPO. 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22200" indent="-32220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93863"/>
                </a:solidFill>
                <a:latin typeface="Trebuchet MS"/>
              </a:rPr>
              <a:t>Punkty informacyjne</a:t>
            </a: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, których celem jest wsparcie beneficjentów w zakresie kontynuowania rozpoczętych lub planowanych przedsięwzięć w ramach obowiązujących ustaleń oraz programów.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22200" indent="-32220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93863"/>
                </a:solidFill>
                <a:latin typeface="Trebuchet MS"/>
              </a:rPr>
              <a:t>Wsparcie potencjalnych beneficjentów </a:t>
            </a: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przy tworzeniu wniosku i przygotowaniu projektu, a w następnie współpraca z opiekunem projektu w fazie jego wdrażania.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22200" indent="-322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22200" indent="-32220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93863"/>
                </a:solidFill>
                <a:latin typeface="Trebuchet MS"/>
              </a:rPr>
              <a:t>Współpraca IZ z innymi instytucjami czy podmiotami</a:t>
            </a: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, które specjalizują się </a:t>
            </a:r>
            <a:br>
              <a:rPr sz="1600"/>
            </a:b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w ochronie środowiska oraz działają w tym obszarze.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68360" y="1700280"/>
            <a:ext cx="837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Trebuchet MS"/>
              </a:rPr>
              <a:t>WYKONAWCA BADANIA:</a:t>
            </a:r>
            <a:r>
              <a:rPr b="1" lang="pl-PL" sz="1800" spc="-1" strike="noStrike">
                <a:solidFill>
                  <a:srgbClr val="193863"/>
                </a:solidFill>
                <a:latin typeface="Trebuchet MS"/>
              </a:rPr>
              <a:t> </a:t>
            </a:r>
            <a:r>
              <a:rPr b="0" lang="pl-PL" sz="1800" spc="-1" strike="noStrike">
                <a:solidFill>
                  <a:srgbClr val="193863"/>
                </a:solidFill>
                <a:latin typeface="Trebuchet MS"/>
              </a:rPr>
              <a:t>ASM – Centrum Badań i Analiz Rynku Sp. z .o.                          ul. Grunwaldzka 5, 99-301 Kutno</a:t>
            </a:r>
            <a:endParaRPr b="0" lang="en-US" sz="18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6600"/>
                </a:solidFill>
                <a:latin typeface="Trebuchet MS"/>
              </a:rPr>
              <a:t>ZAMAWIAJĄCY</a:t>
            </a:r>
            <a:r>
              <a:rPr b="0" lang="pl-PL" sz="1800" spc="-1" strike="noStrike">
                <a:solidFill>
                  <a:srgbClr val="ff6600"/>
                </a:solidFill>
                <a:latin typeface="Trebuchet MS"/>
              </a:rPr>
              <a:t>:</a:t>
            </a:r>
            <a:r>
              <a:rPr b="0" lang="pl-PL" sz="1800" spc="-1" strike="noStrike">
                <a:solidFill>
                  <a:srgbClr val="193863"/>
                </a:solidFill>
                <a:latin typeface="Trebuchet MS"/>
              </a:rPr>
              <a:t> Urząd Marszałkowski Województwa Kujawsko-Pomorskiego                  w Toruniu, Plac Teatralny 2, 87-100 Toruń   </a:t>
            </a:r>
            <a:endParaRPr b="0" lang="en-US" sz="18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3863"/>
              </a:solidFill>
              <a:latin typeface="Trebuchet MS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93863"/>
                </a:solidFill>
                <a:latin typeface="Trebuchet MS"/>
              </a:rPr>
              <a:t>TERMIN REALIZACJI BADANIA: </a:t>
            </a:r>
            <a:br>
              <a:rPr sz="1800"/>
            </a:br>
            <a:r>
              <a:rPr b="0" lang="en-GB" sz="1800" spc="-1" strike="noStrike">
                <a:solidFill>
                  <a:srgbClr val="193863"/>
                </a:solidFill>
                <a:latin typeface="Trebuchet MS"/>
              </a:rPr>
              <a:t>październik 2013 r. - </a:t>
            </a:r>
            <a:r>
              <a:rPr b="0" lang="pl-PL" sz="1800" spc="-1" strike="noStrike">
                <a:solidFill>
                  <a:srgbClr val="193863"/>
                </a:solidFill>
                <a:latin typeface="Trebuchet MS"/>
              </a:rPr>
              <a:t>kwiecień</a:t>
            </a:r>
            <a:r>
              <a:rPr b="0" lang="en-GB" sz="1800" spc="-1" strike="noStrike">
                <a:solidFill>
                  <a:srgbClr val="193863"/>
                </a:solidFill>
                <a:latin typeface="Trebuchet MS"/>
              </a:rPr>
              <a:t> 2014 r</a:t>
            </a:r>
            <a:r>
              <a:rPr b="0" lang="pl-PL" sz="1800" spc="-1" strike="noStrike">
                <a:solidFill>
                  <a:srgbClr val="193863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193863"/>
              </a:solidFill>
              <a:latin typeface="Trebuchet MS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3863"/>
              </a:solidFill>
              <a:latin typeface="Trebuchet MS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Prezentacja przedstawia główne wyniki oraz wnioski i rekomendacje z badania. Pełny opis można znaleźć w raporcie końcowym znajdującym się na stronie internetowej pod adresem: </a:t>
            </a:r>
            <a:r>
              <a:rPr b="0" lang="pl-PL" sz="1400" spc="-1" strike="noStrike" u="sng">
                <a:solidFill>
                  <a:srgbClr val="193863"/>
                </a:solidFill>
                <a:uFillTx/>
                <a:latin typeface="Trebuchet MS"/>
              </a:rPr>
              <a:t>http://www.mojregion.eu/regionalny-program-operacyjny-wojewodztwa-kujawsko-pomorskiego/ewaluacja/baza-badan.html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</p:txBody>
      </p:sp>
      <p:pic>
        <p:nvPicPr>
          <p:cNvPr id="514" name="Obraz 8" descr="D:\Moje foldery - Ewelina Dabrowska\Desktop\181659_130557240345905_6485389_n.jpg"/>
          <p:cNvPicPr/>
          <p:nvPr/>
        </p:nvPicPr>
        <p:blipFill>
          <a:blip r:embed="rId1"/>
          <a:stretch/>
        </p:blipFill>
        <p:spPr>
          <a:xfrm>
            <a:off x="7043760" y="2139840"/>
            <a:ext cx="509400" cy="497160"/>
          </a:xfrm>
          <a:prstGeom prst="rect">
            <a:avLst/>
          </a:prstGeom>
          <a:ln w="0">
            <a:noFill/>
          </a:ln>
        </p:spPr>
      </p:pic>
      <p:pic>
        <p:nvPicPr>
          <p:cNvPr id="515" name="Obraz 9" descr="D:\Moje foldery - Ewelina Dabrowska\Desktop\3394_img1_c60195f2fb887e97e8ada3e4ba3a59ba.jpg"/>
          <p:cNvPicPr/>
          <p:nvPr/>
        </p:nvPicPr>
        <p:blipFill>
          <a:blip r:embed="rId2"/>
          <a:stretch/>
        </p:blipFill>
        <p:spPr>
          <a:xfrm>
            <a:off x="6931080" y="3284640"/>
            <a:ext cx="736560" cy="6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Czynniki zewnętrzne osłabiające wpływ Programu na realizację wytycznych wynikających z dyrektyw UE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68360" y="2708280"/>
            <a:ext cx="837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93863"/>
                </a:solidFill>
                <a:latin typeface="Trebuchet MS"/>
              </a:rPr>
              <a:t>Uwarunkowania proceduralne </a:t>
            </a: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czyli brak dostosowania norm i przepisów unijnych do realiów krajowych i regionalnych w taki sposób, aby mogłyby być natychmiast wdrażane. 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93863"/>
                </a:solidFill>
                <a:latin typeface="Trebuchet MS"/>
              </a:rPr>
              <a:t>Kryzys przekładający się na mniejsze dochody jednostek</a:t>
            </a: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, a co za tym idzie, skutkujący brakiem lub ograniczeniami w zakresie środków własnych na inwestycje i działania. 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 </a:t>
            </a:r>
            <a:r>
              <a:rPr b="1" lang="pl-PL" sz="1600" spc="-1" strike="noStrike">
                <a:solidFill>
                  <a:srgbClr val="193863"/>
                </a:solidFill>
                <a:latin typeface="Trebuchet MS"/>
              </a:rPr>
              <a:t>Proces informacyjny</a:t>
            </a: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, czyli brak wiedzy na temat dyrektyw i ich treści na różnych szczeblach.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Główne pytania badawcze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2276280"/>
            <a:ext cx="83707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64920" indent="-3322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  <a:ea typeface="Calibri"/>
              </a:rPr>
              <a:t>Czy przedsięwzięcie przyczyniło się do poprawy stanu chemicznego i ekologicznego wód powierzchniowych i podziemnych?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64920" indent="-3322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  <a:ea typeface="Calibri"/>
              </a:rPr>
              <a:t>Czy przedsięwzięcie przyczyniło się do realizacji selektywnego zbierania oraz ponownego wykorzystania i recyklingu materiałów odpadowych?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64920" indent="-3322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  <a:ea typeface="Calibri"/>
              </a:rPr>
              <a:t>Czy przedsięwzięcie przyczyniło się do ograniczenia masy odpadów komunalnych ulegających biodegradacji przekazywanych na składowiska?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64920" indent="-3322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Czy w wyniku realizacji projektu doszło do poprawy wydajności energetycznej?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64920" indent="-3322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Czy przedsięwzięcie przyczyniło się do ograniczenia zużycia energii?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64920" indent="-3322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Czy przedsięwzięcie przyczyniło się do zmniejszenia emisji dwutlenku siarki, pyłu zawieszonego PM10 i PM2,5, ołowiu i tlenku węgla w powietrzu?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64920" indent="-3322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  <a:ea typeface="Calibri"/>
              </a:rPr>
              <a:t>Czy przedsięwzięcie przyczyniło się do zmniejszenia hałasu?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64920" indent="-3322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64920" indent="-3322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37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Główne pytania badawcze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68360" y="2205000"/>
            <a:ext cx="837072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58080" indent="-3286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  <a:ea typeface="Calibri"/>
              </a:rPr>
              <a:t>Czy realizacja projektu przyczyniła się do zniszczenia lub degradacji siedlisk (roślin, grzybów, ptaków, nietoperzy, zwierząt)?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58080" indent="-3286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  <a:ea typeface="Calibri"/>
              </a:rPr>
              <a:t>Czy projekt był realizowany na obszarach objętych ochroną, w tym na obszarach Natura 2000?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58080" indent="-3286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  <a:ea typeface="Calibri"/>
              </a:rPr>
              <a:t>Czy i w jakiej skali badane projekty realizowały zagadnienia z zakresu transportu przyjaznego środowisku (transport kolejowy, transport miejski, ścieżki rowerowe)?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58080" indent="-3286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  <a:ea typeface="Calibri"/>
              </a:rPr>
              <a:t>Czy i w jakiej skali badane projekty realizowały zagadnienia z zakresu odnawialnych źródeł energii?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58080" indent="-3286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  <a:ea typeface="Calibri"/>
              </a:rPr>
              <a:t>Czy i w jakiej skali badane projekty realizowały zagadnienia z zakresu gospodarki ściekowej?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58080" indent="-3286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Trebuchet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  <a:ea typeface="Calibri"/>
              </a:rPr>
              <a:t>Czy realizacja wytycznych wynikających dyrektyw UE może wiązać się z negatywnymi konsekwencjami dla regionu ?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658080" indent="-3286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658080" indent="-328680">
              <a:lnSpc>
                <a:spcPct val="115000"/>
              </a:lnSpc>
              <a:spcBef>
                <a:spcPts val="601"/>
              </a:spcBef>
              <a:buClr>
                <a:srgbClr val="50a931"/>
              </a:buClr>
              <a:buSzPct val="70000"/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  <a:p>
            <a:pPr marL="658080" indent="-328680">
              <a:lnSpc>
                <a:spcPct val="100000"/>
              </a:lnSpc>
              <a:spcBef>
                <a:spcPts val="79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rebuchet MS"/>
              </a:rPr>
              <a:t>Główne wnioski i rekomendacje </a:t>
            </a:r>
            <a:br>
              <a:rPr sz="2400"/>
            </a:b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47640" y="2060640"/>
          <a:ext cx="7056720" cy="4568760"/>
        </p:xfrm>
        <a:graphic>
          <a:graphicData uri="http://schemas.openxmlformats.org/drawingml/2006/table">
            <a:tbl>
              <a:tblPr/>
              <a:tblGrid>
                <a:gridCol w="3544920"/>
                <a:gridCol w="3511800"/>
              </a:tblGrid>
              <a:tr h="26784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Wnios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Rekomendac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Trudności w uzyskaniu pełnych danych liczbowych na temat realizacji celów dyrektyw ze względu na brak wskaźników osiągnięcia celów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w dokumentacjach projektó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buClr>
                          <a:srgbClr val="193863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Niezbędne jest opracowanie zestawu wskaźników odnoszących się do poszczególnych dyrektyw środowiskowych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Nie realizowano żadnego projektu z zakresu budowy nowych oczyszczalni, a jedynie rozbudowy i modernizacji już istniejącyc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buClr>
                          <a:srgbClr val="193863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Konieczne jest wsparcie instytucjonalne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i proceduralne dla projektów z zakresu budowy nowych oczyszczaln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260712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Brak realizacji inwestycji przyczyniających się do polepszenia stanu wód (za wyjątkiem dwóch </a:t>
                      </a: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projektów: „Remont grobli przy moście na Zgłowiączce w miejscowości Nowy Młyn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w ciągu drogi powiatowej nr 2906 Polówka-Stary Brześć” projekt „Wzmocnienie wstecznego, prawobrzeżnego wału przeciwpowodziowego kanału zrzutowego od oczyszczalni ścieków Kapuściska do rzeki Wisły” – oba objęte były analizą zgodności z RDW i pośrednio przyczyniły się do poprawy stanu wód, chociaż ich głównym celem była ochrona przeciwpowodziowa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W okresie programowania 2014-20 należy opracować preferencyjne warunki wyboru projektów nastawionych na osiągnięcie dobrego stanu wód powierzchniowych i podziemnych, np. zabiegi renaturyzacji dolin rzecznyc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Trebuchet MS"/>
              </a:rPr>
              <a:t>Główne wnioski I rekomendacje </a:t>
            </a:r>
            <a:br>
              <a:rPr sz="2400"/>
            </a:b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19280" y="2133720"/>
          <a:ext cx="7273800" cy="4467240"/>
        </p:xfrm>
        <a:graphic>
          <a:graphicData uri="http://schemas.openxmlformats.org/drawingml/2006/table">
            <a:tbl>
              <a:tblPr/>
              <a:tblGrid>
                <a:gridCol w="3530520"/>
                <a:gridCol w="3743280"/>
              </a:tblGrid>
              <a:tr h="268200"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Wnios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Rekomendac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04364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Nie zrealizowano żadnego projektu z zakresu zapobiegania powstawaniu odpadów, a jedynie te dotyczące zagospodarowania już powstałych odpadó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Niezbędna jest promocja projektów przyczyniających się do ograniczenia powstawania odpadów, w tym zmiana wzorców konsumpcj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buClr>
                          <a:srgbClr val="193863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Brak realizacji zakładanej mocy pochodzącej ze źródeł odnawialnyc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buClr>
                          <a:srgbClr val="193863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Należy promować inwestycje z zakresu OZ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Niewielka liczba projektów (2) związanych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z unikaniem powstawania zanieczyszczeń powietrza, zdecydowana większość projektów nastawiona jest na uzyskanie efektywności energetyczne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Należy promować projekty związane z likwidacją zanieczyszczeń „u źródła”, w tym: modernizacją istniejących systemów grzewczych, likwidacją niskiej emisj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buClr>
                          <a:srgbClr val="193863"/>
                        </a:buClr>
                        <a:buFont typeface="Trebuchet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406520"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Niska liczba projektów (7) w sposób bezpośredni przyczyniająca się do realizacji celów dyrektyw, w tym zatrzymania utraty różnorodności biologicznej oraz utrzymania właściwego stanu gatunków i siedlisk, realizowane projekty nastawione są na promowanie walorów, a nie na ich ochronę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Należy stosować preferencyjne warunki wyboru projektów nastawionych na zachowanie konkretnych gatunków i siedli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193863"/>
                          </a:solidFill>
                          <a:latin typeface="Trebuchet MS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6600"/>
                      </a:solidFill>
                    </a:lnL>
                    <a:lnR w="5760">
                      <a:solidFill>
                        <a:srgbClr val="ff6600"/>
                      </a:solidFill>
                    </a:lnR>
                    <a:lnT w="5760">
                      <a:solidFill>
                        <a:srgbClr val="ff6600"/>
                      </a:solidFill>
                    </a:lnT>
                    <a:lnB w="576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Cel badania 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68360" y="2708280"/>
            <a:ext cx="837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25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Określenie wpływu projektów współfinansowanych z RPO WK-P na lata 2007-2013 na poprawę stanu środowiska i realizację ochrony przyrody.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425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Ocena jak oraz w jakim stopniu RPO WK-P na lata 2007-2013 zrealizował zobowiązania wynikające z dyrektyw UE w obszarze: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ochrony środowiska,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ochrony przyrody,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gospodarki wodnej i odpadowej,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oraz w zakresie zrównoważonego rozwoju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Metodologia badania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8360" y="2492280"/>
            <a:ext cx="837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93863"/>
                </a:solidFill>
                <a:latin typeface="Trebuchet MS"/>
              </a:rPr>
              <a:t>BADANIE JAKOŚCIOWE </a:t>
            </a: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– Indywidulane wywiady pogłębione z przedstawicielami Instytucji Zarządzającej RPO WK-P, N=10 (osoby zajmujące się zarządzaniem </a:t>
            </a:r>
            <a:br>
              <a:rPr sz="1600"/>
            </a:br>
            <a:r>
              <a:rPr b="0" lang="pl-PL" sz="1600" spc="-1" strike="noStrike">
                <a:solidFill>
                  <a:srgbClr val="193863"/>
                </a:solidFill>
                <a:latin typeface="Trebuchet MS"/>
              </a:rPr>
              <a:t>i wdrażaniem działań objętych badaniem oraz osoby zajmujące się monitorowaniem, analizą i sprawozdawczością realizacji programu).</a:t>
            </a:r>
            <a:endParaRPr b="0" lang="en-US" sz="16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601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3863"/>
                </a:solidFill>
                <a:latin typeface="Trebuchet MS"/>
              </a:rPr>
              <a:t>BADANIE ILOŚCIOWE </a:t>
            </a: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– wywiady telefoniczne CATI z przedstawicielami projektów zrealizowanych w ramach RPO WK-P na lata 2007-2013, N=219.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601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3863"/>
                </a:solidFill>
                <a:latin typeface="Trebuchet MS"/>
              </a:rPr>
              <a:t>ANALIZA CASE STUDY</a:t>
            </a: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, N=8.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601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3863"/>
                </a:solidFill>
                <a:latin typeface="Trebuchet MS"/>
              </a:rPr>
              <a:t>PANEL EKSPERCKI </a:t>
            </a: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- do dyskusji zostało zaproszonych 10 osób. 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601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93863"/>
                </a:solidFill>
                <a:latin typeface="Trebuchet MS"/>
              </a:rPr>
              <a:t>ANALIZA DANYCH ZASTANYCH 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>
              <a:spcBef>
                <a:spcPts val="425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>
              <a:spcBef>
                <a:spcPts val="425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Analiza danych zastanych _ Dyrektywy 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68360" y="2563920"/>
            <a:ext cx="837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Dyrektywa 2008/50/WE w sprawie jakości powietrza i czystszego powietrza dla Europy (Dyrektywa 1)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35880" indent="-3358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Dyrektywa 92/43/EWG w sprawie ochrony siedlisk przyrodniczych oraz dzikiej fauny </a:t>
            </a:r>
            <a:br>
              <a:rPr sz="1400"/>
            </a:b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i flory (Dyrektywa 2)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35880" indent="-3358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Dyrektywa 2009/14/WE w sprawie ochrony dzikiego ptactwa (Dyrektywa 3)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35880" indent="-3358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Dyrektywa 91/271/EWG dotycząca oczyszczania ścieków komunalnych (Dyrektywa 4)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35880" indent="-3358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Dyrektywa 2000/60/WE ustanawiająca ramy wspólnotowego działania w dziedzinie Polityki wodnej (Dyrektywa 5)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35880" indent="-3358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Dyrektywa 2009/28/WE w sprawie promowania stosowania energii ze źródeł odnawialnych (Dyrektywa 6)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35880" indent="-3358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Dyrektywa 2008/98/WE w sprawie odpadów oraz uchylająca niektóre dyrektywy (Dyrektywa 7)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35880" indent="-3358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Dyrektywa 2002/49/WE odnosząca się do oceny i zarządzania poziomem hałasu </a:t>
            </a:r>
            <a:br>
              <a:rPr sz="1400"/>
            </a:b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w środowisku (Dyrektywa 8).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Analiza danych zastanych _ Projekty 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8360" y="2708280"/>
            <a:ext cx="837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Za główny czynnik wyboru do analizy projektów w ramach RPO WK-P na lata 2007-2013, uznano kategorię interwencji.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W zależności od kategorii interwencji, w którą wpisuje się dany projekt, został on przeanalizowany pod kątem różnych pytań badawczych.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93863"/>
                </a:solidFill>
                <a:latin typeface="Trebuchet MS"/>
              </a:rPr>
              <a:t>Analizie zostały poddane informacje pochodzące z umów o dofinansowanie projektów oraz wniosków końcowych o płatność (w przypadku projektów, które się już zakończyły). </a:t>
            </a: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349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93863"/>
              </a:solidFill>
              <a:latin typeface="Trebuchet MS"/>
            </a:endParaRPr>
          </a:p>
          <a:p>
            <a:pPr lvl="1" marL="743040" indent="-285840">
              <a:spcBef>
                <a:spcPts val="300"/>
              </a:spcBef>
              <a:buClr>
                <a:srgbClr val="50a93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>
              <a:spcBef>
                <a:spcPts val="300"/>
              </a:spcBef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37072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Analiza danych zastanych _ Projekty 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826920" y="2055960"/>
          <a:ext cx="8209080" cy="4605120"/>
        </p:xfrm>
        <a:graphic>
          <a:graphicData uri="http://schemas.openxmlformats.org/drawingml/2006/table">
            <a:tbl>
              <a:tblPr/>
              <a:tblGrid>
                <a:gridCol w="673200"/>
                <a:gridCol w="3078360"/>
                <a:gridCol w="3797280"/>
                <a:gridCol w="660240"/>
              </a:tblGrid>
              <a:tr h="473400"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Nr działan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Nazwa działan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Kategoria interwencj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Liczba projektó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Infrastruktura drogow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Ścieżki rowerow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20124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Infrastruktura transportu publiczn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Transport miejs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20268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Infrastruktura kolejow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Kolej/ Tabor kolejow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Rozwój infrastruktury wodno-ściekow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Oczyszczanie ściekó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Gospodarka odpada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Gospodarka odpadami komunalnymi i przemysłowy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Rozwój infrastruktury w zakresie ochrony powietr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Efektywność energetyczna, produkcja skojarzona (kogeneracja), zarządzanie energią/ Jakość powietrza/ Zintegrowany system zapobiegania i kontroli zanieczyszcze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Infrastruktura energetyczna przyjazna środowisk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Gaz ziemny/ Energia odnawialna: słoneczna, biomasa, hydroelektryczna, geotermalna i pozostał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Rozwój infrastruktury bezpieczeństwa powodziowego i przeciwdziałanie zagrożeniom środowi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Zapobieganie zagrożeniom naturalnym i technologicznym oraz Inne działania na rzecz ochrony środowi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Ochrona i promocja zasobów przyrodniczy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Promowanie bioróżnorodności i ochrony przyrody (w tym NATURA 200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Wspieranie przedsiębiorstw w zakresie dostosowania do wymogów ochrony środowi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Wsparcie na rzecz MŚP w zakresie promocji produktów                          i procesów przyjaznych dla środowi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Rozwój usług turystycznych w oparciu </a:t>
                      </a:r>
                      <a:br>
                        <a:rPr sz="1000"/>
                      </a:b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o zasoby przyrodnic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Promowanie walorów przyrodniczych/ Ochrona i waloryzacja dziedzictwa przyrodniczeg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193863"/>
                          </a:solidFill>
                          <a:latin typeface="Trebuchet MS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210240">
                <a:tc gridSpan="3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SU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6600"/>
                          </a:solidFill>
                          <a:latin typeface="Trebuchet MS"/>
                          <a:ea typeface="Times New Roman"/>
                        </a:rPr>
                        <a:t>2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7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Obszary tematyczne jakie zostały przeanalizowane </a:t>
            </a:r>
            <a:br>
              <a:rPr sz="2400"/>
            </a:b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w ramach badania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8360" y="2781000"/>
            <a:ext cx="8370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25"/>
              </a:spcBef>
              <a:spcAft>
                <a:spcPts val="601"/>
              </a:spcAft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Analiza założeń projektowych, stanu prac projektów, efektów realizacji projektów.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425"/>
              </a:spcBef>
              <a:spcAft>
                <a:spcPts val="601"/>
              </a:spcAft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Ocena zapisów projektów pod kątem środowiskowym.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425"/>
              </a:spcBef>
              <a:spcAft>
                <a:spcPts val="601"/>
              </a:spcAft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Określenie, które projekty miały wpływ na wypełnienie zobowiązań zapisanych w poszczególnych dyrektywach.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425"/>
              </a:spcBef>
              <a:spcAft>
                <a:spcPts val="601"/>
              </a:spcAft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Identyfikacja potencjalnych zagrożeń i problemów w wypełnianiu dyrektyw UE.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  <a:p>
            <a:pPr marL="343080" indent="-343080" algn="just">
              <a:spcBef>
                <a:spcPts val="425"/>
              </a:spcBef>
              <a:spcAft>
                <a:spcPts val="601"/>
              </a:spcAft>
              <a:buClr>
                <a:srgbClr val="50a93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193863"/>
                </a:solidFill>
                <a:latin typeface="Trebuchet MS"/>
              </a:rPr>
              <a:t>Analiza  czynników jakie mają wpływ na dotychczasową realizację wymogów wynikających z dyrektyw UE.</a:t>
            </a:r>
            <a:endParaRPr b="0" lang="en-US" sz="1700" spc="-1" strike="noStrike">
              <a:solidFill>
                <a:srgbClr val="193863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371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6600"/>
                </a:solidFill>
                <a:latin typeface="Trebuchet MS"/>
              </a:rPr>
              <a:t>Liczba zrealizowanych projektów wg powiatów</a:t>
            </a:r>
            <a:endParaRPr b="0" lang="en-US" sz="2400" spc="-1" strike="noStrike">
              <a:solidFill>
                <a:srgbClr val="193863"/>
              </a:solidFill>
              <a:latin typeface="Trebuchet MS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2268360" y="2098800"/>
            <a:ext cx="5112000" cy="423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1:35:37Z</dcterms:created>
  <dc:creator>ASM Sp. z o.o.</dc:creator>
  <dc:description/>
  <dc:language>en-US</dc:language>
  <cp:lastModifiedBy>Ewelina Dąbrowska</cp:lastModifiedBy>
  <dcterms:modified xsi:type="dcterms:W3CDTF">2014-05-19T11:31:20Z</dcterms:modified>
  <cp:revision>198</cp:revision>
  <dc:subject/>
  <dc:title>Slajd 1</dc:title>
</cp:coreProperties>
</file>