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A066-588B-4A72-B27E-999D1BB7378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B0A0-BB7F-425E-A850-F47038F6DAB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2628-9206-4E6A-BF3F-BFCDCE12160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5E46-CD44-49BC-9DC8-168E0446FE9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4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0ED3-A977-4841-88F3-B48FD92CD5C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EF021-4306-49D6-AE77-D831A427D4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53FD7-72FA-4F41-A5A1-C10322A93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01E3D-AEF8-46AF-A529-B776406D1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09E06-DC63-4B95-BEBE-7FA439D32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ED01E-ED4D-4887-98F4-9EE24294E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ECEEB-CB7A-4DD7-A92C-E27A764C7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F1FB9-CC25-4439-80E1-6282945A0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60254-EC78-4433-A0F1-F3290A5AF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BB2BD-10AC-44F1-A8CC-F996E59E0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FC498-06C4-4832-BFEE-A0EFAEE0D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6635C-4AF8-4D68-98D4-9FF33DA26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F45F1-BD8A-43CB-B5A5-94C81061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7E076-42CD-423D-8886-956A74118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50BF0-494B-4BBC-92D0-FE9C6BD41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DC978-A421-4F1D-9AC9-2E1930F61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6E6FBB-46FE-42D4-9DF3-266D454C4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6FCDE-94AF-47E8-9BC2-A4A1E8726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98F9A38-A183-419A-BD5D-399DA2CFDC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BB3B0E-D572-4FEC-912F-A7BD4A7C71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0B5994-07DA-49F4-ACA2-A257795B7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80142D4-D18E-441B-9542-7C6C03E27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C3C8DD-3F93-410A-8746-DD3E592EB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5DE52-487B-44FE-B598-5EA63DC4A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A7E334-99FB-4E14-969C-43E15E62C4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3632F5-3871-48B8-9764-102FC6F45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B53A92-D5BC-44DE-B75D-BB9DF09C6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18C09D-C102-4355-A232-3D5F0FD2E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5C06A0-9B8F-4BE2-A089-ED31B56F35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EEC72F-52B5-4203-BCDD-B21411E376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6686018-A59D-4718-B3E2-197DFF8247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B0D70F-DD2E-4AB0-B788-A3BB35DC8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E8296-5118-4046-90F3-D9AEA664A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5ED53-B338-407E-8132-907F454E8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C9CC1-DB6D-41E0-A1C0-CFCC75B9E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81DC51-CAC7-4FB7-A2BC-FAF2B417FF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CD0A61-744C-41BE-9777-D15DC259F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4E442-686C-4984-8D24-1283BA2AB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574F12-048E-447B-91C5-F14D64A1A8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F06325-E8E2-4CE9-A4B5-40B1936885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AB53B-50AF-4BEF-9798-036EE7BC5D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1012B8-2C0C-426E-BA92-E826B9896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BF7BB3-C89D-424B-89AD-FEC967031C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EBA402-A1BB-4C36-9673-70938483CC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F9C403-3E25-4910-846A-3D67A987AE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5A5D4-A718-4B7F-9BA3-BEB81F0B6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2BA24-DFF3-4920-8F58-D1A845FF2D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551A53-FDC5-4F8C-A667-FDB06F3792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064A48-5682-4948-A743-D7399D36E0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23ECC-A771-452F-B165-8D3D3E83D5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CC595-9D04-4AF6-94EE-EB41164F3B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77FEF-9870-4590-907C-4DDB16C33F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B4A64-9834-4D9E-86F4-C84EC85BCA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4BEF7E-EFBD-4402-8BE1-D751BC5DB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796514-9E2E-4674-B7F2-4AC981CBB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1DE3DC-08E5-4284-BED3-05EE7B4D83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A3B20-6DF4-4D07-B3DD-253F6B1B3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BA188-D7BF-464F-96AC-D0BBF5C255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60CE-1794-4F14-8057-5F7D60094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BB55F-A32E-41B3-B201-4372B9C96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7B31C-501C-440C-9748-11F7656E6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14A3-F8AD-40F0-B43C-B61DBA2E7B98}" type="slidenum">
              <a:rPr b="0" lang="pl-P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rostokąt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rostokąt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rostokąt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rostokąt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rostokąt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rostokąt zaokrąglony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rostokąt zaokrąglony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rostokąt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rostokąt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rostokąt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rostokąt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3F0B-55D3-4D4A-BC59-96DB63AB9B4C}" type="slidenum">
              <a:rPr b="0" lang="pl-P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4DAD-60AE-4DA4-A742-7024F81B6B10}" type="slidenum">
              <a:rPr b="0" lang="pl-PL"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AE6D-E1C9-49FA-857D-D76999C7FBC7}" type="slidenum">
              <a:rPr b="0" lang="pl-P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rostokąt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rostokąt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rostokąt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rostokąt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rostokąt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rostokąt zaokrąglony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rostokąt zaokrąglony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rostokąt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rostokąt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rostokąt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rostokąt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rostokąt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76D4-503D-4837-AB85-294FBEEDFEBE}" type="slidenum">
              <a:rPr b="0" lang="pl-PL"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773000"/>
            <a:ext cx="7772400" cy="1827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rebuchet MS"/>
              </a:rPr>
              <a:t>Ocena wpływu RPO WK-P na lata 2007-2013 </a:t>
            </a:r>
            <a:br>
              <a:rPr sz="2400"/>
            </a:br>
            <a:r>
              <a:rPr b="1" lang="pl-PL" sz="2400" spc="-1" strike="noStrike">
                <a:solidFill>
                  <a:srgbClr val="ffffff"/>
                </a:solidFill>
                <a:latin typeface="Trebuchet MS"/>
              </a:rPr>
              <a:t>na zwiększenie potencjału ośrodków stołecznych regionu, w tym na rozwój funkcji metropolitalnych</a:t>
            </a:r>
            <a:endParaRPr b="0" lang="en-US" sz="2400" spc="-1" strike="noStrike">
              <a:solidFill>
                <a:srgbClr val="424456"/>
              </a:solidFill>
              <a:latin typeface="Trebuchet MS"/>
            </a:endParaRPr>
          </a:p>
        </p:txBody>
      </p:sp>
      <p:sp>
        <p:nvSpPr>
          <p:cNvPr id="276" name="PlaceHolder 2"/>
          <p:cNvSpPr>
            <a:spLocks noGrp="1"/>
          </p:cNvSpPr>
          <p:nvPr>
            <p:ph type="subTitle"/>
          </p:nvPr>
        </p:nvSpPr>
        <p:spPr>
          <a:xfrm>
            <a:off x="468000" y="4149360"/>
            <a:ext cx="8351640" cy="1079640"/>
          </a:xfrm>
          <a:prstGeom prst="rect">
            <a:avLst/>
          </a:prstGeom>
          <a:noFill/>
          <a:ln w="0">
            <a:noFill/>
          </a:ln>
        </p:spPr>
        <p:txBody>
          <a:bodyPr lIns="90000" rIns="90000" tIns="46800" bIns="46800" anchor="t">
            <a:noAutofit/>
          </a:bodyPr>
          <a:p>
            <a:pPr marL="6336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900" spc="-1" strike="noStrike">
                <a:solidFill>
                  <a:srgbClr val="000000"/>
                </a:solidFill>
                <a:latin typeface="Georgia"/>
              </a:rPr>
              <a:t>Badanie ewaluacyjne jest finansowane ze środków Europejskiego Funduszu Rozwoju Regionalnego w ramach Regionalnego Programu Operacyjnego Województwa Kujawsko-Pomorskiego na lata 2007-2013</a:t>
            </a:r>
            <a:endParaRPr b="0" lang="en-US" sz="1900" spc="-1" strike="noStrike">
              <a:solidFill>
                <a:srgbClr val="000000"/>
              </a:solidFill>
              <a:latin typeface="Georgia"/>
            </a:endParaRPr>
          </a:p>
        </p:txBody>
      </p:sp>
      <p:pic>
        <p:nvPicPr>
          <p:cNvPr id="277" name="Obraz 3" descr="logotypy"/>
          <p:cNvPicPr/>
          <p:nvPr/>
        </p:nvPicPr>
        <p:blipFill>
          <a:blip r:embed="rId1"/>
          <a:stretch/>
        </p:blipFill>
        <p:spPr>
          <a:xfrm>
            <a:off x="1116000" y="5345280"/>
            <a:ext cx="6985080" cy="1512720"/>
          </a:xfrm>
          <a:prstGeom prst="rect">
            <a:avLst/>
          </a:prstGeom>
          <a:ln w="0">
            <a:noFill/>
          </a:ln>
        </p:spPr>
      </p:pic>
      <p:sp>
        <p:nvSpPr>
          <p:cNvPr id="2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
          <p:cNvSpPr/>
          <p:nvPr/>
        </p:nvSpPr>
        <p:spPr>
          <a:xfrm>
            <a:off x="5651640" y="266760"/>
            <a:ext cx="3024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EPRD Biuro Polityki Gospodarczej </a:t>
            </a:r>
            <a:br>
              <a:rPr sz="1400"/>
            </a:br>
            <a:r>
              <a:rPr b="1" lang="pl-PL" sz="1400" spc="-1" strike="noStrike">
                <a:solidFill>
                  <a:srgbClr val="ffffff"/>
                </a:solidFill>
                <a:latin typeface="Calibri"/>
              </a:rPr>
              <a:t>i Rozwoju Regionalnego Sp. z 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25-604 Kielce, ul. Szkolna 36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Tel: 041 – 345 32 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Fax:041 – 345 25 8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mail: badania@eprd.pl </a:t>
            </a:r>
            <a:endParaRPr b="0" lang="en-US" sz="1400" spc="-1" strike="noStrike">
              <a:solidFill>
                <a:srgbClr val="000000"/>
              </a:solidFill>
              <a:latin typeface="Arial"/>
            </a:endParaRPr>
          </a:p>
        </p:txBody>
      </p:sp>
      <p:pic>
        <p:nvPicPr>
          <p:cNvPr id="280" name="Picture 2" descr="\\pliki2.biuro.eprd.pl\Pracownicy$\r.stawiarz\Moje dokumenty\Dokumenta\Wzory\Loga\EPRD\EPRD zielen2.png"/>
          <p:cNvPicPr/>
          <p:nvPr/>
        </p:nvPicPr>
        <p:blipFill>
          <a:blip r:embed="rId2"/>
          <a:stretch/>
        </p:blipFill>
        <p:spPr>
          <a:xfrm>
            <a:off x="468360" y="404640"/>
            <a:ext cx="1224000" cy="8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26028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gospodarczy</a:t>
            </a:r>
            <a:endParaRPr b="0" lang="en-US" sz="2400" spc="-1" strike="noStrike">
              <a:solidFill>
                <a:srgbClr val="424456"/>
              </a:solidFill>
              <a:latin typeface="Trebuchet MS"/>
            </a:endParaRPr>
          </a:p>
        </p:txBody>
      </p:sp>
      <p:sp>
        <p:nvSpPr>
          <p:cNvPr id="308" name=""/>
          <p:cNvSpPr txBox="1"/>
          <p:nvPr/>
        </p:nvSpPr>
        <p:spPr>
          <a:xfrm>
            <a:off x="457200" y="1125000"/>
            <a:ext cx="8229600" cy="500076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eorgia"/>
              </a:rPr>
              <a:t>Zatrudnienie w usługach finansowych w Bydgoszczy i Toruniu na tle zatrudnienia ogółem w latach 2008-2010 r.</a:t>
            </a:r>
            <a:r>
              <a:rPr b="0" lang="pl-PL" sz="1800" spc="-1" strike="noStrike">
                <a:solidFill>
                  <a:srgbClr val="000000"/>
                </a:solidFill>
                <a:latin typeface="Georgia"/>
              </a:rPr>
              <a:t> </a:t>
            </a:r>
            <a:endParaRPr b="0" lang="en-US" sz="1800" spc="-1" strike="noStrike">
              <a:solidFill>
                <a:srgbClr val="000000"/>
              </a:solidFill>
              <a:latin typeface="Georgia"/>
            </a:endParaRPr>
          </a:p>
        </p:txBody>
      </p:sp>
      <p:sp>
        <p:nvSpPr>
          <p:cNvPr id="309"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E95E-A49E-4FD3-ADFB-DB20B3201E92}"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graphicFrame>
        <p:nvGraphicFramePr>
          <p:cNvPr id="310" name=""/>
          <p:cNvGraphicFramePr/>
          <p:nvPr/>
        </p:nvGraphicFramePr>
        <p:xfrm>
          <a:off x="324000" y="1916280"/>
          <a:ext cx="8496000" cy="4392360"/>
        </p:xfrm>
        <a:graphic>
          <a:graphicData uri="http://schemas.openxmlformats.org/drawingml/2006/table">
            <a:tbl>
              <a:tblPr/>
              <a:tblGrid>
                <a:gridCol w="1118880"/>
                <a:gridCol w="1121040"/>
                <a:gridCol w="1127160"/>
                <a:gridCol w="1544400"/>
                <a:gridCol w="1127160"/>
                <a:gridCol w="1125720"/>
                <a:gridCol w="1331640"/>
              </a:tblGrid>
              <a:tr h="577080">
                <a:tc rowSpan="3">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9360">
                      <a:solidFill>
                        <a:srgbClr val="4f6228"/>
                      </a:solidFill>
                    </a:lnL>
                    <a:lnR w="5760">
                      <a:solidFill>
                        <a:srgbClr val="4f6228"/>
                      </a:solidFill>
                    </a:lnR>
                    <a:lnT w="9360">
                      <a:solidFill>
                        <a:srgbClr val="4f6228"/>
                      </a:solidFill>
                    </a:lnT>
                    <a:lnB w="5760">
                      <a:solidFill>
                        <a:srgbClr val="4f6228"/>
                      </a:solidFill>
                    </a:lnB>
                    <a:solidFill>
                      <a:srgbClr val="224043"/>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Trebuchet MS"/>
                          <a:ea typeface="Times New Roman"/>
                        </a:rPr>
                        <a:t>Zatrudnienie w usługach rynkowych</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Trebuchet MS"/>
                          <a:ea typeface="Times New Roman"/>
                        </a:rPr>
                        <a:t>Zatrudnienie ogółem</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Trebuchet MS"/>
                          <a:ea typeface="Times New Roman"/>
                        </a:rPr>
                        <a:t>Procentowy udział sektora usług rynk. w zatrudnieniu ogółem w 2008</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Trebuchet MS"/>
                          <a:ea typeface="Times New Roman"/>
                        </a:rPr>
                        <a:t>Zatrudnienie w usługach rynkowych</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Trebuchet MS"/>
                          <a:ea typeface="Times New Roman"/>
                        </a:rPr>
                        <a:t>Zatrudnienie ogółem</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row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ffffff"/>
                          </a:solidFill>
                          <a:latin typeface="Trebuchet MS"/>
                          <a:ea typeface="Times New Roman"/>
                        </a:rPr>
                        <a:t>Procentowy udział sektora usług rynk. w zatrudnieniu ogółem w 2010</a:t>
                      </a:r>
                      <a:endParaRPr b="0" lang="en-US" sz="1100" spc="-1" strike="noStrike">
                        <a:solidFill>
                          <a:srgbClr val="000000"/>
                        </a:solidFill>
                        <a:latin typeface="Arial"/>
                      </a:endParaRPr>
                    </a:p>
                  </a:txBody>
                  <a:tcPr anchor="ctr" marL="68760" marR="68760">
                    <a:lnL w="5760">
                      <a:solidFill>
                        <a:srgbClr val="4f6228"/>
                      </a:solidFill>
                    </a:lnL>
                    <a:lnR w="9360">
                      <a:solidFill>
                        <a:srgbClr val="4f6228"/>
                      </a:solidFill>
                    </a:lnR>
                    <a:lnT w="9360">
                      <a:solidFill>
                        <a:srgbClr val="4f6228"/>
                      </a:solidFill>
                    </a:lnT>
                    <a:lnB w="5760">
                      <a:solidFill>
                        <a:srgbClr val="4f6228"/>
                      </a:solidFill>
                    </a:lnB>
                    <a:solidFill>
                      <a:srgbClr val="224043"/>
                    </a:solidFill>
                  </a:tcPr>
                </a:tc>
              </a:tr>
              <a:tr h="57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ffffff"/>
                          </a:solidFill>
                          <a:latin typeface="Trebuchet MS"/>
                          <a:ea typeface="Times New Roman"/>
                        </a:rPr>
                        <a:t>2010</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ffffff"/>
                          </a:solidFill>
                          <a:latin typeface="Trebuchet MS"/>
                          <a:ea typeface="Times New Roman"/>
                        </a:rPr>
                        <a:t>2010</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6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ffffff"/>
                          </a:solidFill>
                          <a:latin typeface="Trebuchet MS"/>
                          <a:ea typeface="Times New Roman"/>
                        </a:rPr>
                        <a:t>2008</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ffffff"/>
                          </a:solidFill>
                          <a:latin typeface="Trebuchet MS"/>
                          <a:ea typeface="Times New Roman"/>
                        </a:rPr>
                        <a:t>2008</a:t>
                      </a:r>
                      <a:endParaRPr b="0" lang="en-US" sz="11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rebuchet MS"/>
                          <a:ea typeface="Times New Roman"/>
                        </a:rPr>
                        <a:t>Toruń</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3 455</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66 052</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5,23</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4 013</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66 909</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6,00</a:t>
                      </a:r>
                      <a:endParaRPr b="0" lang="en-US" sz="18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559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rebuchet MS"/>
                          <a:ea typeface="Times New Roman"/>
                        </a:rPr>
                        <a:t>Bydgoszcz</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7 420</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119 174</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6,23</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7 791</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118 439</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6,58</a:t>
                      </a:r>
                      <a:endParaRPr b="0" lang="en-US" sz="18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559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rebuchet MS"/>
                          <a:ea typeface="Times New Roman"/>
                        </a:rPr>
                        <a:t>B i T łącznie</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10 875</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185 226</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5,87</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11 804</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185 348</a:t>
                      </a:r>
                      <a:endParaRPr b="0" lang="en-US" sz="18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ea typeface="Times New Roman"/>
                        </a:rPr>
                        <a:t>6,37</a:t>
                      </a:r>
                      <a:endParaRPr b="0" lang="en-US" sz="18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9360">
                      <a:solidFill>
                        <a:srgbClr val="4f6228"/>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95280" y="47592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424456"/>
                </a:solidFill>
                <a:uFillTx/>
                <a:latin typeface="Trebuchet MS"/>
              </a:rPr>
              <a:t>Obszar gospodarczy</a:t>
            </a:r>
            <a:br>
              <a:rPr sz="1800"/>
            </a:br>
            <a:endParaRPr b="0" lang="en-US" sz="1800" spc="-1" strike="noStrike">
              <a:solidFill>
                <a:srgbClr val="424456"/>
              </a:solidFill>
              <a:latin typeface="Trebuchet MS"/>
            </a:endParaRPr>
          </a:p>
        </p:txBody>
      </p:sp>
      <p:graphicFrame>
        <p:nvGraphicFramePr>
          <p:cNvPr id="312" name=""/>
          <p:cNvGraphicFramePr/>
          <p:nvPr/>
        </p:nvGraphicFramePr>
        <p:xfrm>
          <a:off x="395280" y="1484280"/>
          <a:ext cx="8280360" cy="4969080"/>
        </p:xfrm>
        <a:graphic>
          <a:graphicData uri="http://schemas.openxmlformats.org/drawingml/2006/table">
            <a:tbl>
              <a:tblPr/>
              <a:tblGrid>
                <a:gridCol w="1459080"/>
                <a:gridCol w="806400"/>
                <a:gridCol w="804600"/>
                <a:gridCol w="806760"/>
                <a:gridCol w="807840"/>
                <a:gridCol w="681120"/>
                <a:gridCol w="682560"/>
                <a:gridCol w="1116000"/>
                <a:gridCol w="1116000"/>
              </a:tblGrid>
              <a:tr h="10497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Ośrodek metropolitalny</a:t>
                      </a:r>
                      <a:endParaRPr b="0" lang="en-US" sz="1200" spc="-1" strike="noStrike">
                        <a:solidFill>
                          <a:srgbClr val="000000"/>
                        </a:solidFill>
                        <a:latin typeface="Arial"/>
                      </a:endParaRPr>
                    </a:p>
                  </a:txBody>
                  <a:tcPr anchor="ctr" marL="68760" marR="68760">
                    <a:lnL w="9360">
                      <a:solidFill>
                        <a:srgbClr val="4f6228"/>
                      </a:solidFill>
                    </a:lnL>
                    <a:lnR w="5760">
                      <a:solidFill>
                        <a:srgbClr val="4f6228"/>
                      </a:solidFill>
                    </a:lnR>
                    <a:lnT w="9360">
                      <a:solidFill>
                        <a:srgbClr val="4f6228"/>
                      </a:solidFill>
                    </a:lnT>
                    <a:lnB w="5760">
                      <a:solidFill>
                        <a:srgbClr val="4f6228"/>
                      </a:solidFill>
                    </a:lnB>
                    <a:solidFill>
                      <a:srgbClr val="224043"/>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Zatrudnienie </a:t>
                      </a:r>
                      <a:br>
                        <a:rPr sz="1200"/>
                      </a:br>
                      <a:r>
                        <a:rPr b="0" lang="cs-CZ" sz="1200" spc="-1" strike="noStrike">
                          <a:solidFill>
                            <a:srgbClr val="ffffff"/>
                          </a:solidFill>
                          <a:latin typeface="Tahoma"/>
                          <a:ea typeface="Times New Roman"/>
                        </a:rPr>
                        <a:t>w sektorze usł. rynk.</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Pracujący ogół. wg PKD 2007</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udział procentowy zatrud. w usł. rynk. w całości zatrudnienia</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Ranking wg. liczby os. zatrudnionych w sekt. usł. rynk.</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Ranking udziału zatrud. </a:t>
                      </a:r>
                      <a:br>
                        <a:rPr sz="1200"/>
                      </a:br>
                      <a:r>
                        <a:rPr b="0" lang="cs-CZ" sz="1200" spc="-1" strike="noStrike">
                          <a:solidFill>
                            <a:srgbClr val="ffffff"/>
                          </a:solidFill>
                          <a:latin typeface="Tahoma"/>
                          <a:ea typeface="Times New Roman"/>
                        </a:rPr>
                        <a:t>w sekt.</a:t>
                      </a:r>
                      <a:br>
                        <a:rPr sz="1200"/>
                      </a:br>
                      <a:r>
                        <a:rPr b="0" lang="cs-CZ" sz="1200" spc="-1" strike="noStrike">
                          <a:solidFill>
                            <a:srgbClr val="ffffff"/>
                          </a:solidFill>
                          <a:latin typeface="Tahoma"/>
                          <a:ea typeface="Times New Roman"/>
                        </a:rPr>
                        <a:t>w liczbie zatrud. ogół.</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9360">
                      <a:solidFill>
                        <a:srgbClr val="4f6228"/>
                      </a:solidFill>
                    </a:lnT>
                    <a:lnB w="5760">
                      <a:solidFill>
                        <a:srgbClr val="4f6228"/>
                      </a:solidFill>
                    </a:lnB>
                    <a:solidFill>
                      <a:srgbClr val="224043"/>
                    </a:solidFill>
                  </a:tcPr>
                </a:tc>
              </a:tr>
              <a:tr h="1259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200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201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200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201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200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fffff"/>
                          </a:solidFill>
                          <a:latin typeface="Tahoma"/>
                          <a:ea typeface="Times New Roman"/>
                        </a:rPr>
                        <a:t>201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Warszawa</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0545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0398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48054</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2707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2,4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2,57%</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Wrocław</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271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117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3718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3651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9,5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95%</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489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Aglomeracja Górnośląska</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106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3549</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60725</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61086</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8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4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7</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3</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Trójmiasto </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636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662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2710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26716</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7,2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7,3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4</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4</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Lublin</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42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27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1544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2086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7,3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85%</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9</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Łódź</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286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5506</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24322</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3406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7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62%</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Poznań</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456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4852</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30129</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30136</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3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45%</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7</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489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Bydgoszcz z Toruniem</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0875</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1804</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85226</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8534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87%</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37%</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8</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Kraków</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4454</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7219</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8117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291179</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14%</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9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3</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9</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ahoma"/>
                          <a:ea typeface="Times New Roman"/>
                        </a:rPr>
                        <a:t>Szczecin</a:t>
                      </a:r>
                      <a:endParaRPr b="0" lang="en-US" sz="1400" spc="-1" strike="noStrike">
                        <a:solidFill>
                          <a:srgbClr val="000000"/>
                        </a:solidFill>
                        <a:latin typeface="Arial"/>
                      </a:endParaRPr>
                    </a:p>
                  </a:txBody>
                  <a:tcPr anchor="t" marL="68760" marR="68760">
                    <a:lnL w="93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33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6444</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1612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10918</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45%</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5,81%</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0</a:t>
                      </a:r>
                      <a:endParaRPr b="0" lang="en-US" sz="12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ahoma"/>
                          <a:ea typeface="Times New Roman"/>
                        </a:rPr>
                        <a:t>10</a:t>
                      </a:r>
                      <a:endParaRPr b="0" lang="en-US" sz="12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9360">
                      <a:solidFill>
                        <a:srgbClr val="4f6228"/>
                      </a:solidFill>
                    </a:lnB>
                    <a:solidFill>
                      <a:srgbClr val="eaf1dd"/>
                    </a:solidFill>
                  </a:tcPr>
                </a:tc>
              </a:tr>
            </a:tbl>
          </a:graphicData>
        </a:graphic>
      </p:graphicFrame>
      <p:sp>
        <p:nvSpPr>
          <p:cNvPr id="313"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C742F-948C-446E-97B8-19AE6FD55851}"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14" name="Rectangle 3"/>
          <p:cNvSpPr/>
          <p:nvPr/>
        </p:nvSpPr>
        <p:spPr>
          <a:xfrm>
            <a:off x="468360" y="907920"/>
            <a:ext cx="8229600" cy="5763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700" spc="-1" strike="noStrike">
                <a:solidFill>
                  <a:srgbClr val="000000"/>
                </a:solidFill>
                <a:latin typeface="Georgia"/>
              </a:rPr>
              <a:t>Zestawienie zatrudnienia w sektorze usług rynkowych w ośrodkach metropolitalnych, w 2008 i 2010 r. z uwzględnieniem Lublin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98064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24456"/>
                </a:solidFill>
                <a:latin typeface="Trebuchet MS"/>
              </a:rPr>
              <a:t>Zróżnicowanie środowiska biznesowego</a:t>
            </a:r>
            <a:endParaRPr b="0" lang="en-US" sz="2400" spc="-1" strike="noStrike">
              <a:solidFill>
                <a:srgbClr val="424456"/>
              </a:solidFill>
              <a:latin typeface="Trebuchet MS"/>
            </a:endParaRPr>
          </a:p>
        </p:txBody>
      </p:sp>
      <p:sp>
        <p:nvSpPr>
          <p:cNvPr id="316" name=""/>
          <p:cNvSpPr txBox="1"/>
          <p:nvPr/>
        </p:nvSpPr>
        <p:spPr>
          <a:xfrm>
            <a:off x="457200" y="1628280"/>
            <a:ext cx="8229600" cy="4969080"/>
          </a:xfrm>
          <a:prstGeom prst="rect">
            <a:avLst/>
          </a:prstGeom>
          <a:noFill/>
          <a:ln w="0">
            <a:noFill/>
          </a:ln>
        </p:spPr>
        <p:txBody>
          <a:bodyPr lIns="90000" rIns="90000" tIns="46800" bIns="46800" anchor="t">
            <a:normAutofit fontScale="92000"/>
          </a:bodyPr>
          <a:p>
            <a:pPr marL="335520" indent="-2350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Georgia"/>
              </a:rPr>
              <a:t>Udział usług w ogólnej liczbie przedsiębiorstw – wskaźnik ten ukazuje proporcje między starymi </a:t>
            </a:r>
            <a:br>
              <a:rPr sz="2800"/>
            </a:br>
            <a:r>
              <a:rPr b="0" lang="pl-PL" sz="2800" spc="-1" strike="noStrike">
                <a:solidFill>
                  <a:srgbClr val="000000"/>
                </a:solidFill>
                <a:latin typeface="Georgia"/>
              </a:rPr>
              <a:t>a nowymi gałęziami gospodarki w ogólnej liczbie przedsiębiorstw zarejestrowanych w ośrodku. W skali podregionu bydgosko-toruńskiego odsetek ten jest wysoki i wynosi (wg PKD 2007) w okresie od 2009 do 2011 średnio </a:t>
            </a:r>
            <a:r>
              <a:rPr b="1" lang="pl-PL" sz="2800" spc="-1" strike="noStrike">
                <a:solidFill>
                  <a:srgbClr val="000000"/>
                </a:solidFill>
                <a:latin typeface="Georgia"/>
              </a:rPr>
              <a:t>78%</a:t>
            </a:r>
            <a:r>
              <a:rPr b="0" lang="pl-PL" sz="2800" spc="-1" strike="noStrike">
                <a:solidFill>
                  <a:srgbClr val="000000"/>
                </a:solidFill>
                <a:latin typeface="Georgia"/>
              </a:rPr>
              <a:t>.</a:t>
            </a:r>
            <a:endParaRPr b="0" lang="en-US" sz="2800" spc="-1" strike="noStrike">
              <a:solidFill>
                <a:srgbClr val="000000"/>
              </a:solidFill>
              <a:latin typeface="Georgia"/>
            </a:endParaRPr>
          </a:p>
          <a:p>
            <a:pPr marL="335520" indent="-2350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Georgia"/>
              </a:rPr>
              <a:t>Jeżeli przyjrzymy się natomiast kolejnemu wskaźnikowi, tj. </a:t>
            </a:r>
            <a:r>
              <a:rPr b="1" lang="pl-PL" sz="2800" spc="-1" strike="noStrike">
                <a:solidFill>
                  <a:srgbClr val="000000"/>
                </a:solidFill>
                <a:latin typeface="Georgia"/>
              </a:rPr>
              <a:t>liczbie spółek prawa handlowego z udziałem kapitału zagranicznego</a:t>
            </a:r>
            <a:r>
              <a:rPr b="0" lang="pl-PL" sz="2800" spc="-1" strike="noStrike">
                <a:solidFill>
                  <a:srgbClr val="000000"/>
                </a:solidFill>
                <a:latin typeface="Georgia"/>
              </a:rPr>
              <a:t> zobaczymy, że ich udział w ogólnej liczbie spółek wynosi średnio </a:t>
            </a:r>
            <a:r>
              <a:rPr b="1" lang="pl-PL" sz="2800" spc="-1" strike="noStrike">
                <a:solidFill>
                  <a:srgbClr val="000000"/>
                </a:solidFill>
                <a:latin typeface="Georgia"/>
              </a:rPr>
              <a:t>14,5%</a:t>
            </a:r>
            <a:r>
              <a:rPr b="0" lang="pl-PL" sz="2800" spc="-1" strike="noStrike">
                <a:solidFill>
                  <a:srgbClr val="000000"/>
                </a:solidFill>
                <a:latin typeface="Georgia"/>
              </a:rPr>
              <a:t> w przypadku Bydgoszczy oraz </a:t>
            </a:r>
            <a:r>
              <a:rPr b="1" lang="pl-PL" sz="2800" spc="-1" strike="noStrike">
                <a:solidFill>
                  <a:srgbClr val="000000"/>
                </a:solidFill>
                <a:latin typeface="Georgia"/>
              </a:rPr>
              <a:t>od 16 do 18%</a:t>
            </a:r>
            <a:r>
              <a:rPr b="0" lang="pl-PL" sz="2800" spc="-1" strike="noStrike">
                <a:solidFill>
                  <a:srgbClr val="000000"/>
                </a:solidFill>
                <a:latin typeface="Georgia"/>
              </a:rPr>
              <a:t> w przypadku Torunia.</a:t>
            </a:r>
            <a:endParaRPr b="0" lang="en-US" sz="2800" spc="-1" strike="noStrike">
              <a:solidFill>
                <a:srgbClr val="000000"/>
              </a:solidFill>
              <a:latin typeface="Georgia"/>
            </a:endParaRPr>
          </a:p>
        </p:txBody>
      </p:sp>
      <p:sp>
        <p:nvSpPr>
          <p:cNvPr id="317"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14736-95AE-4BE5-99E8-7C5243AB0B69}"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18" name="Rectangle 2"/>
          <p:cNvSpPr/>
          <p:nvPr/>
        </p:nvSpPr>
        <p:spPr>
          <a:xfrm>
            <a:off x="468360" y="189000"/>
            <a:ext cx="8229600" cy="83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gospodarcz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341000"/>
            <a:ext cx="8458200" cy="253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Trebuchet MS"/>
              </a:rPr>
              <a:t>Wpływ programów finansowanych </a:t>
            </a:r>
            <a:br>
              <a:rPr sz="4000"/>
            </a:br>
            <a:r>
              <a:rPr b="0" lang="pl-PL" sz="4000" spc="-1" strike="noStrike">
                <a:solidFill>
                  <a:srgbClr val="ffffff"/>
                </a:solidFill>
                <a:latin typeface="Trebuchet MS"/>
              </a:rPr>
              <a:t>z UE na rozwój przedsiębiorczości </a:t>
            </a:r>
            <a:br>
              <a:rPr sz="4000"/>
            </a:br>
            <a:r>
              <a:rPr b="0" lang="pl-PL" sz="4000" spc="-1" strike="noStrike">
                <a:solidFill>
                  <a:srgbClr val="ffffff"/>
                </a:solidFill>
                <a:latin typeface="Trebuchet MS"/>
              </a:rPr>
              <a:t>i atrakcyjności inwestycyjnej</a:t>
            </a:r>
            <a:endParaRPr b="0" lang="en-US" sz="4000" spc="-1" strike="noStrike">
              <a:solidFill>
                <a:srgbClr val="424456"/>
              </a:solidFill>
              <a:latin typeface="Trebuchet MS"/>
            </a:endParaRPr>
          </a:p>
        </p:txBody>
      </p:sp>
      <p:sp>
        <p:nvSpPr>
          <p:cNvPr id="32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321"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7CC7-B17A-4AB7-95DA-79A91FD1E213}"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25992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Rozwój przedsiębiorczości i atrakcyjności inwestycyjnej</a:t>
            </a:r>
            <a:endParaRPr b="0" lang="en-US" sz="2400" spc="-1" strike="noStrike">
              <a:solidFill>
                <a:srgbClr val="424456"/>
              </a:solidFill>
              <a:latin typeface="Trebuchet MS"/>
            </a:endParaRPr>
          </a:p>
        </p:txBody>
      </p:sp>
      <p:sp>
        <p:nvSpPr>
          <p:cNvPr id="323" name=""/>
          <p:cNvSpPr txBox="1"/>
          <p:nvPr/>
        </p:nvSpPr>
        <p:spPr>
          <a:xfrm>
            <a:off x="179280" y="980640"/>
            <a:ext cx="8785440" cy="5877000"/>
          </a:xfrm>
          <a:prstGeom prst="rect">
            <a:avLst/>
          </a:prstGeom>
          <a:noFill/>
          <a:ln w="0">
            <a:noFill/>
          </a:ln>
        </p:spPr>
        <p:txBody>
          <a:bodyPr lIns="90000" rIns="90000" tIns="46800" bIns="46800" anchor="t">
            <a:normAutofit/>
          </a:bodyPr>
          <a:p>
            <a:pPr marL="87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rojekty wdrażane w Bydgoszczy i Toruniu wspierające funkcję gospodarczą Bydgoszczy i Torunia</a:t>
            </a: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Wyodrębniono dwa rodzaje efektów: </a:t>
            </a: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w pierwszym efekty skierowane są przede wszystkim bezpośrednio do przedsiębiorstw,</a:t>
            </a: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w drugim opierają się na szeroko zakrojonych działaniach skierowanych do szerszej grupy podmiotów i miały na celu inicjowanie aktywności gospodarczej i poprawę efektywności działania podmiotów gospodarczych.</a:t>
            </a:r>
            <a:endParaRPr b="0" lang="en-US" sz="1800" spc="-1" strike="noStrike">
              <a:solidFill>
                <a:srgbClr val="000000"/>
              </a:solidFill>
              <a:latin typeface="Georgia"/>
            </a:endParaRPr>
          </a:p>
        </p:txBody>
      </p:sp>
      <p:sp>
        <p:nvSpPr>
          <p:cNvPr id="324"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54E6-CD2E-4375-B823-7F38BA14594C}"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25"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Wykres 7" descr=""/>
          <p:cNvPicPr/>
          <p:nvPr/>
        </p:nvPicPr>
        <p:blipFill>
          <a:blip r:embed="rId1"/>
          <a:stretch/>
        </p:blipFill>
        <p:spPr>
          <a:xfrm>
            <a:off x="244440" y="1620720"/>
            <a:ext cx="8655120" cy="303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229600" cy="97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Rozwój przedsiębiorczości i atrakcyjności inwestycyjnej</a:t>
            </a:r>
            <a:endParaRPr b="0" lang="en-US" sz="2400" spc="-1" strike="noStrike">
              <a:solidFill>
                <a:srgbClr val="424456"/>
              </a:solidFill>
              <a:latin typeface="Trebuchet MS"/>
            </a:endParaRPr>
          </a:p>
        </p:txBody>
      </p:sp>
      <p:sp>
        <p:nvSpPr>
          <p:cNvPr id="328" name=""/>
          <p:cNvSpPr txBox="1"/>
          <p:nvPr/>
        </p:nvSpPr>
        <p:spPr>
          <a:xfrm>
            <a:off x="395280" y="1125000"/>
            <a:ext cx="8424720" cy="500076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Charakterystyka projektów realizowanych w ramach RPO WK-P, wpisujących się w rozwój funkcji gospodarczej (badanie CATI).</a:t>
            </a: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a:t>
            </a:r>
            <a:endParaRPr b="0" lang="en-US" sz="1800" spc="-1" strike="noStrike">
              <a:solidFill>
                <a:srgbClr val="000000"/>
              </a:solidFill>
              <a:latin typeface="Georgia"/>
            </a:endParaRPr>
          </a:p>
        </p:txBody>
      </p:sp>
      <p:sp>
        <p:nvSpPr>
          <p:cNvPr id="329"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7387-0EB3-4D82-B517-30CFD056F107}"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30"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1" name=""/>
          <p:cNvGraphicFramePr/>
          <p:nvPr/>
        </p:nvGraphicFramePr>
        <p:xfrm>
          <a:off x="179280" y="1844640"/>
          <a:ext cx="8713800" cy="3567240"/>
        </p:xfrm>
        <a:graphic>
          <a:graphicData uri="http://schemas.openxmlformats.org/drawingml/2006/table">
            <a:tbl>
              <a:tblPr/>
              <a:tblGrid>
                <a:gridCol w="5369040"/>
                <a:gridCol w="1741320"/>
                <a:gridCol w="1603440"/>
              </a:tblGrid>
              <a:tr h="504360">
                <a:tc gridSpan="3">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2000" spc="-1" strike="noStrike">
                          <a:solidFill>
                            <a:srgbClr val="ffffff"/>
                          </a:solidFill>
                          <a:latin typeface="Tahoma"/>
                          <a:ea typeface="Times New Roman"/>
                        </a:rPr>
                        <a:t>Jaki obszar jest/był obiektem wsparcia projektu:</a:t>
                      </a:r>
                      <a:endParaRPr b="0" lang="en-US" sz="2000" spc="-1" strike="noStrike">
                        <a:solidFill>
                          <a:srgbClr val="000000"/>
                        </a:solidFill>
                        <a:latin typeface="Arial"/>
                      </a:endParaRPr>
                    </a:p>
                  </a:txBody>
                  <a:tcPr anchor="ctr" marL="44280" marR="44280">
                    <a:lnL w="9360">
                      <a:solidFill>
                        <a:srgbClr val="4f6228"/>
                      </a:solidFill>
                    </a:lnL>
                    <a:lnR w="93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8920">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ea typeface="Times New Roman"/>
                        </a:rPr>
                        <a:t>N</a:t>
                      </a:r>
                      <a:endParaRPr b="0" lang="en-US" sz="20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ffffff"/>
                          </a:solidFill>
                          <a:latin typeface="Tahoma"/>
                          <a:ea typeface="Times New Roman"/>
                        </a:rPr>
                        <a:t>%</a:t>
                      </a:r>
                      <a:endParaRPr b="0" lang="en-US" sz="20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solidFill>
                      <a:srgbClr val="224043"/>
                    </a:solidFill>
                  </a:tcPr>
                </a:tc>
              </a:tr>
              <a:tr h="70164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2000" spc="-1" strike="noStrike">
                          <a:solidFill>
                            <a:srgbClr val="000000"/>
                          </a:solidFill>
                          <a:latin typeface="Tahoma"/>
                          <a:ea typeface="Times New Roman"/>
                        </a:rPr>
                        <a:t>Zwiększenie potencjału gospodarczego przedsiębiorstwa</a:t>
                      </a:r>
                      <a:endParaRPr b="0" lang="en-US" sz="20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2000" spc="-1" strike="noStrike">
                          <a:solidFill>
                            <a:srgbClr val="000000"/>
                          </a:solidFill>
                          <a:latin typeface="Tahoma"/>
                          <a:ea typeface="Times New Roman"/>
                        </a:rPr>
                        <a:t>119</a:t>
                      </a:r>
                      <a:endParaRPr b="0" lang="en-US" sz="20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2000" spc="-1" strike="noStrike">
                          <a:solidFill>
                            <a:srgbClr val="000000"/>
                          </a:solidFill>
                          <a:latin typeface="Tahoma"/>
                          <a:ea typeface="Times New Roman"/>
                        </a:rPr>
                        <a:t>88%</a:t>
                      </a:r>
                      <a:endParaRPr b="0" lang="en-US" sz="20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70164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Zwiększenie potencjału gospodarczego Bydgoszczy/Torunia</a:t>
                      </a:r>
                      <a:endParaRPr b="0" lang="en-US" sz="20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9</a:t>
                      </a:r>
                      <a:endParaRPr b="0" lang="en-US" sz="20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7%</a:t>
                      </a:r>
                      <a:endParaRPr b="0" lang="en-US" sz="20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70164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Zwiększenie atrakcyjności inwestycyjnej Bydgoszczy/Torunia</a:t>
                      </a:r>
                      <a:endParaRPr b="0" lang="en-US" sz="20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7</a:t>
                      </a:r>
                      <a:endParaRPr b="0" lang="en-US" sz="20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5%</a:t>
                      </a:r>
                      <a:endParaRPr b="0" lang="en-US" sz="20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59904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Żadne z powyższych</a:t>
                      </a:r>
                      <a:endParaRPr b="0" lang="en-US" sz="20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9360">
                      <a:solidFill>
                        <a:srgbClr val="4f6228"/>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50920" y="25992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Rozwój przedsiębiorczości i atrakcyjności inwestycyjnej</a:t>
            </a:r>
            <a:endParaRPr b="0" lang="en-US" sz="2400" spc="-1" strike="noStrike">
              <a:solidFill>
                <a:srgbClr val="424456"/>
              </a:solidFill>
              <a:latin typeface="Trebuchet MS"/>
            </a:endParaRPr>
          </a:p>
        </p:txBody>
      </p:sp>
      <p:sp>
        <p:nvSpPr>
          <p:cNvPr id="333" name=""/>
          <p:cNvSpPr txBox="1"/>
          <p:nvPr/>
        </p:nvSpPr>
        <p:spPr>
          <a:xfrm>
            <a:off x="395280" y="1125000"/>
            <a:ext cx="8424720" cy="5000760"/>
          </a:xfrm>
          <a:prstGeom prst="rect">
            <a:avLst/>
          </a:prstGeom>
          <a:noFill/>
          <a:ln w="0">
            <a:noFill/>
          </a:ln>
        </p:spPr>
        <p:txBody>
          <a:bodyPr lIns="90000" rIns="90000" tIns="46800" bIns="46800" anchor="t">
            <a:normAutofit/>
          </a:bodyPr>
          <a:p>
            <a:pPr marL="87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Charakterystyka projektów dotyczących rozwoju potencjału przedsiębiorstw, realizowanych w ramach RPO WK-P (badanie CATI).</a:t>
            </a: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87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a:t>
            </a:r>
            <a:endParaRPr b="0" lang="en-US" sz="1800" spc="-1" strike="noStrike">
              <a:solidFill>
                <a:srgbClr val="000000"/>
              </a:solidFill>
              <a:latin typeface="Georgia"/>
            </a:endParaRPr>
          </a:p>
        </p:txBody>
      </p:sp>
      <p:sp>
        <p:nvSpPr>
          <p:cNvPr id="334"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99A50-DC63-452B-AAEB-C61C017763FD}"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35"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6" name=""/>
          <p:cNvGraphicFramePr/>
          <p:nvPr/>
        </p:nvGraphicFramePr>
        <p:xfrm>
          <a:off x="179280" y="1844640"/>
          <a:ext cx="8785440" cy="4270320"/>
        </p:xfrm>
        <a:graphic>
          <a:graphicData uri="http://schemas.openxmlformats.org/drawingml/2006/table">
            <a:tbl>
              <a:tblPr/>
              <a:tblGrid>
                <a:gridCol w="5278680"/>
                <a:gridCol w="1890720"/>
                <a:gridCol w="1616040"/>
              </a:tblGrid>
              <a:tr h="631800">
                <a:tc gridSpan="3">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imes New Roman"/>
                        </a:rPr>
                        <a:t>Czy efektem projektu realizowanego/zrealizowanego przez Pana/i podmiot jest/było:</a:t>
                      </a:r>
                      <a:endParaRPr b="0" lang="en-US" sz="1800" spc="-1" strike="noStrike">
                        <a:solidFill>
                          <a:srgbClr val="000000"/>
                        </a:solidFill>
                        <a:latin typeface="Arial"/>
                      </a:endParaRPr>
                    </a:p>
                  </a:txBody>
                  <a:tcPr anchor="ctr" marL="44280" marR="44280">
                    <a:lnL w="9360">
                      <a:solidFill>
                        <a:srgbClr val="4f6228"/>
                      </a:solidFill>
                    </a:lnL>
                    <a:lnR w="93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ea typeface="Times New Roman"/>
                        </a:rPr>
                        <a:t>N</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ea typeface="Times New Roman"/>
                        </a:rPr>
                        <a:t>%</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solidFill>
                      <a:srgbClr val="224043"/>
                    </a:solidFill>
                  </a:tcPr>
                </a:tc>
              </a:tr>
              <a:tr h="77292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Zwiększenie zakresu lub ilości oferowanych produktów/świadczonych usług</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111</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93%</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59688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Wzrost zatrudnienia</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83</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70%</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59544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Zwiększenie obrotów</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97</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imes New Roman"/>
                        </a:rPr>
                        <a:t>82%</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63108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imes New Roman"/>
                        </a:rPr>
                        <a:t>Podjęcie inwestycji z uwzględnieniem kapitału zagranicznego</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594360">
                <a:tc>
                  <a:txBody>
                    <a:bodyPr lIns="44280" rIns="44280" tIns="0" bIns="0" anchor="ctr">
                      <a:noAutofit/>
                    </a:bodyPr>
                    <a:p>
                      <a:pP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imes New Roman"/>
                        </a:rPr>
                        <a:t>Żadne z powyższych</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9360">
                      <a:solidFill>
                        <a:srgbClr val="4f6228"/>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rebuchet MS"/>
              </a:rPr>
              <a:t>Obszar naukowo- badawczy</a:t>
            </a:r>
            <a:endParaRPr b="0" lang="en-US" sz="4400" spc="-1" strike="noStrike">
              <a:solidFill>
                <a:srgbClr val="424456"/>
              </a:solidFill>
              <a:latin typeface="Trebuchet MS"/>
            </a:endParaRPr>
          </a:p>
        </p:txBody>
      </p:sp>
      <p:sp>
        <p:nvSpPr>
          <p:cNvPr id="338"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339"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7FB2-E441-4ED3-B2F2-002D40C80C0B}"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4759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naukowo-badawczy</a:t>
            </a:r>
            <a:endParaRPr b="0" lang="en-US" sz="2400" spc="-1" strike="noStrike">
              <a:solidFill>
                <a:srgbClr val="424456"/>
              </a:solidFill>
              <a:latin typeface="Trebuchet MS"/>
            </a:endParaRPr>
          </a:p>
        </p:txBody>
      </p:sp>
      <p:sp>
        <p:nvSpPr>
          <p:cNvPr id="341"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417E-11B9-4BCA-ADB5-01C2DA15CD59}"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42" name="Rectangle 2"/>
          <p:cNvSpPr/>
          <p:nvPr/>
        </p:nvSpPr>
        <p:spPr>
          <a:xfrm>
            <a:off x="468360" y="1055160"/>
            <a:ext cx="828036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ea typeface="Times New Roman"/>
              </a:rPr>
              <a:t>Dane dot. studentów w obu ośrodkach wskazują na konieczność podjęcia działań służących ograniczeniu spadku liczby studentów w ośrodkach.</a:t>
            </a:r>
            <a:endParaRPr b="0" lang="en-US" sz="1600" spc="-1" strike="noStrike">
              <a:solidFill>
                <a:srgbClr val="000000"/>
              </a:solidFill>
              <a:latin typeface="Arial"/>
            </a:endParaRPr>
          </a:p>
        </p:txBody>
      </p:sp>
      <p:pic>
        <p:nvPicPr>
          <p:cNvPr id="343" name="Wykres 4" descr=""/>
          <p:cNvPicPr/>
          <p:nvPr/>
        </p:nvPicPr>
        <p:blipFill>
          <a:blip r:embed="rId1"/>
          <a:stretch/>
        </p:blipFill>
        <p:spPr>
          <a:xfrm>
            <a:off x="171360" y="1620720"/>
            <a:ext cx="8728200" cy="4816440"/>
          </a:xfrm>
          <a:prstGeom prst="rect">
            <a:avLst/>
          </a:prstGeom>
          <a:ln w="0">
            <a:noFill/>
          </a:ln>
        </p:spPr>
      </p:pic>
      <p:sp>
        <p:nvSpPr>
          <p:cNvPr id="344"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7200" y="1052280"/>
            <a:ext cx="8229600" cy="5073480"/>
          </a:xfrm>
          <a:prstGeom prst="rect">
            <a:avLst/>
          </a:prstGeom>
          <a:noFill/>
          <a:ln w="0">
            <a:noFill/>
          </a:ln>
        </p:spPr>
        <p:txBody>
          <a:bodyPr lIns="90000" rIns="90000" tIns="46800" bIns="46800"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Jednostki z działalnością badawczo-rozwojową ogółem i w sektorze przedsiębiorstw w latach 2004-2010.</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6" name="Symbol zastępczy numeru slajdu 7"/>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B2D8-A7E1-45BD-AE42-9D346773DFD6}"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47"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Wykres 6" descr=""/>
          <p:cNvPicPr/>
          <p:nvPr/>
        </p:nvPicPr>
        <p:blipFill>
          <a:blip r:embed="rId1"/>
          <a:stretch/>
        </p:blipFill>
        <p:spPr>
          <a:xfrm>
            <a:off x="171360" y="1620720"/>
            <a:ext cx="8801280" cy="5065920"/>
          </a:xfrm>
          <a:prstGeom prst="rect">
            <a:avLst/>
          </a:prstGeom>
          <a:ln w="0">
            <a:noFill/>
          </a:ln>
        </p:spPr>
      </p:pic>
      <p:sp>
        <p:nvSpPr>
          <p:cNvPr id="349" name="Rectangle 2"/>
          <p:cNvSpPr/>
          <p:nvPr/>
        </p:nvSpPr>
        <p:spPr>
          <a:xfrm>
            <a:off x="250920" y="404640"/>
            <a:ext cx="8229600" cy="56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naukowo-badawcz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4046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424456"/>
                </a:solidFill>
                <a:latin typeface="Trebuchet MS"/>
              </a:rPr>
              <a:t>Cel badania</a:t>
            </a:r>
            <a:endParaRPr b="0" lang="en-US" sz="4000" spc="-1" strike="noStrike">
              <a:solidFill>
                <a:srgbClr val="424456"/>
              </a:solidFill>
              <a:latin typeface="Trebuchet MS"/>
            </a:endParaRPr>
          </a:p>
        </p:txBody>
      </p:sp>
      <p:sp>
        <p:nvSpPr>
          <p:cNvPr id="282" name=""/>
          <p:cNvSpPr txBox="1"/>
          <p:nvPr/>
        </p:nvSpPr>
        <p:spPr>
          <a:xfrm>
            <a:off x="457200" y="1268280"/>
            <a:ext cx="8229600" cy="5305680"/>
          </a:xfrm>
          <a:prstGeom prst="rect">
            <a:avLst/>
          </a:prstGeom>
          <a:noFill/>
          <a:ln w="0">
            <a:noFill/>
          </a:ln>
        </p:spPr>
        <p:txBody>
          <a:bodyPr lIns="90000" rIns="90000" tIns="46800" bIns="46800" anchor="t">
            <a:norm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Celem badania było określenie skuteczności i efektywności wpływu RPO WK-P na zwiększenie potencjału ośrodków stołecznych regionu i tym samym na rozwój funkcji metropolitalnych. </a:t>
            </a:r>
            <a:endParaRPr b="0" lang="en-US" sz="20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Zakres niniejszego badania zakładał osiągnięcie celu głównego poprzez realizację czterech celów szczegółowych, którymi były:</a:t>
            </a:r>
            <a:endParaRPr b="0" lang="en-US" sz="20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Georgia"/>
              </a:rPr>
              <a:t>Analiza potencjału i rozpoznanie funkcji metropolitalnych miast stołecznych województwa kujawsko-pomorskiego,</a:t>
            </a:r>
            <a:endParaRPr b="0" lang="en-US" sz="2000" spc="-1" strike="noStrike">
              <a:solidFill>
                <a:srgbClr val="000000"/>
              </a:solidFill>
              <a:latin typeface="Georgia"/>
            </a:endParaRPr>
          </a:p>
          <a:p>
            <a:pPr>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Georgia"/>
              </a:rPr>
              <a:t>Analiza wpływu projektów współfinansowanych z RPO WK-P na lata 2007-2013 na rozwój ośrodków stołecznych województwa,</a:t>
            </a:r>
            <a:endParaRPr b="0" lang="en-US" sz="2000" spc="-1" strike="noStrike">
              <a:solidFill>
                <a:srgbClr val="000000"/>
              </a:solidFill>
              <a:latin typeface="Georgia"/>
            </a:endParaRPr>
          </a:p>
          <a:p>
            <a:pPr>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Georgia"/>
              </a:rPr>
              <a:t>Analiza wpływu interwencji wdrażanych z innych programów operacyjnych na rozwój funkcji metropolitalnych ośrodków stołecznych województwa,</a:t>
            </a:r>
            <a:endParaRPr b="0" lang="en-US" sz="2000" spc="-1" strike="noStrike">
              <a:solidFill>
                <a:srgbClr val="000000"/>
              </a:solidFill>
              <a:latin typeface="Georgia"/>
            </a:endParaRPr>
          </a:p>
          <a:p>
            <a:pPr>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Georgia"/>
              </a:rPr>
              <a:t>Określenie funkcji wymagających dalszego wsparcia a istotnych dla rozwoju metropolii Bydgosko-Toruńskiej.</a:t>
            </a:r>
            <a:endParaRPr b="0" lang="en-US" sz="20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3"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23D5-246A-47CF-9364-A16E25845BB1}"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Trebuchet MS"/>
              </a:rPr>
              <a:t>Wpływ programów finansowanych </a:t>
            </a:r>
            <a:br>
              <a:rPr sz="4000"/>
            </a:br>
            <a:r>
              <a:rPr b="0" lang="pl-PL" sz="4000" spc="-1" strike="noStrike">
                <a:solidFill>
                  <a:srgbClr val="ffffff"/>
                </a:solidFill>
                <a:latin typeface="Trebuchet MS"/>
              </a:rPr>
              <a:t>z UE na sferę nauki oraz badań </a:t>
            </a:r>
            <a:br>
              <a:rPr sz="4000"/>
            </a:br>
            <a:r>
              <a:rPr b="0" lang="pl-PL" sz="4000" spc="-1" strike="noStrike">
                <a:solidFill>
                  <a:srgbClr val="ffffff"/>
                </a:solidFill>
                <a:latin typeface="Trebuchet MS"/>
              </a:rPr>
              <a:t>i rozwoju</a:t>
            </a:r>
            <a:endParaRPr b="0" lang="en-US" sz="4000" spc="-1" strike="noStrike">
              <a:solidFill>
                <a:srgbClr val="424456"/>
              </a:solidFill>
              <a:latin typeface="Trebuchet MS"/>
            </a:endParaRPr>
          </a:p>
        </p:txBody>
      </p:sp>
      <p:sp>
        <p:nvSpPr>
          <p:cNvPr id="35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352"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6DCC-3E46-41F2-ACD7-08CC02A6171E}"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79280" y="18864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Nauka oraz badania i rozwój</a:t>
            </a:r>
            <a:endParaRPr b="0" lang="en-US" sz="2400" spc="-1" strike="noStrike">
              <a:solidFill>
                <a:srgbClr val="424456"/>
              </a:solidFill>
              <a:latin typeface="Trebuchet MS"/>
            </a:endParaRPr>
          </a:p>
        </p:txBody>
      </p:sp>
      <p:sp>
        <p:nvSpPr>
          <p:cNvPr id="354" name=""/>
          <p:cNvSpPr txBox="1"/>
          <p:nvPr/>
        </p:nvSpPr>
        <p:spPr>
          <a:xfrm>
            <a:off x="395280" y="907560"/>
            <a:ext cx="8424720" cy="521820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rojekty wdrażane w Bydgoszczy i Toruniu wspierające funkcję naukowo-badawczą Bydgoszczy i Torunia</a:t>
            </a: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a:t>
            </a:r>
            <a:endParaRPr b="0" lang="en-US" sz="1800" spc="-1" strike="noStrike">
              <a:solidFill>
                <a:srgbClr val="000000"/>
              </a:solidFill>
              <a:latin typeface="Georgia"/>
            </a:endParaRPr>
          </a:p>
        </p:txBody>
      </p:sp>
      <p:sp>
        <p:nvSpPr>
          <p:cNvPr id="355"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906C-AF77-4503-BA05-31A71759A3D0}"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56"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Wykres 6" descr=""/>
          <p:cNvPicPr/>
          <p:nvPr/>
        </p:nvPicPr>
        <p:blipFill>
          <a:blip r:embed="rId1"/>
          <a:stretch/>
        </p:blipFill>
        <p:spPr>
          <a:xfrm>
            <a:off x="244440" y="1481040"/>
            <a:ext cx="8655120" cy="512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50920" y="25992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Nauka oraz badania i rozwój – RPO WK-P</a:t>
            </a:r>
            <a:endParaRPr b="0" lang="en-US" sz="2400" spc="-1" strike="noStrike">
              <a:solidFill>
                <a:srgbClr val="424456"/>
              </a:solidFill>
              <a:latin typeface="Trebuchet MS"/>
            </a:endParaRPr>
          </a:p>
        </p:txBody>
      </p:sp>
      <p:sp>
        <p:nvSpPr>
          <p:cNvPr id="359" name=""/>
          <p:cNvSpPr txBox="1"/>
          <p:nvPr/>
        </p:nvSpPr>
        <p:spPr>
          <a:xfrm>
            <a:off x="395280" y="1125360"/>
            <a:ext cx="8424720" cy="5399280"/>
          </a:xfrm>
          <a:prstGeom prst="rect">
            <a:avLst/>
          </a:prstGeom>
          <a:noFill/>
          <a:ln w="0">
            <a:noFill/>
          </a:ln>
        </p:spPr>
        <p:txBody>
          <a:bodyPr lIns="90000" rIns="90000" tIns="46800" bIns="46800" anchor="t">
            <a:normAutofit fontScale="81000"/>
          </a:bodyPr>
          <a:p>
            <a:pPr marL="295560" indent="-207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Na podstawie analizy bazy SIMIK można wyróżnić dwa główne obszary w ramach których realizowane były projekty. Pierwszy dotyczy nakładów poniesionych na rozwój i unowocześnianie infrastruktury uczelni. Wśród największych projektów tego typu należy wymienić: budowę Collegium Humanisticum Uniwersytetu Mikołaja Kopernika w Toruniu o wartości 75 mln złotych, budowę Biblioteki Uniwersytetu Kazimierza Wielkiego o wartości 45 mln złotych oraz budowa Centrum Edukacji Kultury Fizycznej i Sportu Uniwersytetu Kazimierza Wielkiego o budżecie projektu wartym ponad 30 mln złotych.</a:t>
            </a:r>
            <a:endParaRPr b="0" lang="en-US" sz="2000" spc="-1" strike="noStrike">
              <a:solidFill>
                <a:srgbClr val="000000"/>
              </a:solidFill>
              <a:latin typeface="Georgia"/>
            </a:endParaRPr>
          </a:p>
          <a:p>
            <a:pPr marL="295560" indent="-207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Drugi obszar dotyczy inwestowania w infrastrukturę i zaplecze pozwalające na budowanie potencjału badawczo-rozwojowego. Wśród projektów w tym zakresie należy wskazać Budowę Interdyscyplinarnego Centrum Nowoczesnych Technologii UMK w Toruniu o wartości ponad 71 mln złotych, realizacja II etapu Regionalnego Centrum Innowacyjności Uniwersytetu Technologiczno-Przyrodniczego w Bydgoszczy o wartości ponad 57 mln złotych.</a:t>
            </a:r>
            <a:endParaRPr b="0" lang="en-US" sz="2000" spc="-1" strike="noStrike">
              <a:solidFill>
                <a:srgbClr val="000000"/>
              </a:solidFill>
              <a:latin typeface="Georgia"/>
            </a:endParaRPr>
          </a:p>
          <a:p>
            <a:pPr marL="295560" indent="-207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95560" indent="-207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95560" indent="-207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95560" indent="-2070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95560" indent="-2070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Georgia"/>
              </a:rPr>
              <a:t>.</a:t>
            </a:r>
            <a:endParaRPr b="0" lang="en-US" sz="2000" spc="-1" strike="noStrike">
              <a:solidFill>
                <a:srgbClr val="000000"/>
              </a:solidFill>
              <a:latin typeface="Georgia"/>
            </a:endParaRPr>
          </a:p>
        </p:txBody>
      </p:sp>
      <p:sp>
        <p:nvSpPr>
          <p:cNvPr id="360"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9FF6-8093-4B67-AC50-BC6F41ADA49F}"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61"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rebuchet MS"/>
              </a:rPr>
              <a:t>Obszar infrastrukturalny</a:t>
            </a:r>
            <a:endParaRPr b="0" lang="en-US" sz="4400" spc="-1" strike="noStrike">
              <a:solidFill>
                <a:srgbClr val="424456"/>
              </a:solidFill>
              <a:latin typeface="Trebuchet MS"/>
            </a:endParaRPr>
          </a:p>
        </p:txBody>
      </p:sp>
      <p:sp>
        <p:nvSpPr>
          <p:cNvPr id="363"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364"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D0262-CD8A-40F5-ADBD-953B94697AC2}"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3456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infrastrukturalny</a:t>
            </a:r>
            <a:endParaRPr b="0" lang="en-US" sz="2400" spc="-1" strike="noStrike">
              <a:solidFill>
                <a:srgbClr val="424456"/>
              </a:solidFill>
              <a:latin typeface="Trebuchet MS"/>
            </a:endParaRPr>
          </a:p>
        </p:txBody>
      </p:sp>
      <p:sp>
        <p:nvSpPr>
          <p:cNvPr id="366" name=""/>
          <p:cNvSpPr txBox="1"/>
          <p:nvPr/>
        </p:nvSpPr>
        <p:spPr>
          <a:xfrm>
            <a:off x="457200" y="907920"/>
            <a:ext cx="8229600" cy="5950080"/>
          </a:xfrm>
          <a:prstGeom prst="rect">
            <a:avLst/>
          </a:prstGeom>
          <a:noFill/>
          <a:ln w="0">
            <a:noFill/>
          </a:ln>
        </p:spPr>
        <p:txBody>
          <a:bodyPr lIns="90000" rIns="90000" tIns="46800" bIns="46800" anchor="t">
            <a:normAutofit/>
          </a:bodyPr>
          <a:p>
            <a:pPr marL="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Bydgoszcz i Toruń ma potencjał wynikający z umiejscowienia obu miast w korytarzach TEN-T, które łączą Bydgoszcz i Toruń z Trójmiastem, Bydgoszcz z Poznaniem, Toruń z Warszawą, Toruń z Łodzią i Katowicami. Z kolei połączenie obu ośrodków jest umiejscowione poza siecią. </a:t>
            </a:r>
            <a:endParaRPr b="0" lang="en-US" sz="1600" spc="-1" strike="noStrike">
              <a:solidFill>
                <a:srgbClr val="000000"/>
              </a:solidFill>
              <a:latin typeface="Georgia"/>
            </a:endParaRPr>
          </a:p>
          <a:p>
            <a:pPr marL="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tencjał ośrodków, gdy mowa o zdolności do pełnienia funkcji komunikacyjnej metropolii, jest:</a:t>
            </a:r>
            <a:endParaRPr b="0" lang="en-US" sz="1600" spc="-1" strike="noStrike">
              <a:solidFill>
                <a:srgbClr val="000000"/>
              </a:solidFill>
              <a:latin typeface="Georgia"/>
            </a:endParaRPr>
          </a:p>
          <a:p>
            <a:pPr marL="181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Satysfakcjonujący: w przypadku transportu drogowego: autostrada A1 i drogi S5, S10, S16 pozwalają zachować konkurencyjność ośrodków, dzięki ich dostępności  za pośrednictwem dróg wysokiej klasy, które łączą oba miasta z innymi ośrodkami metropolitalnymi w kraju.  </a:t>
            </a:r>
            <a:endParaRPr b="0" lang="en-US" sz="1600" spc="-1" strike="noStrike">
              <a:solidFill>
                <a:srgbClr val="000000"/>
              </a:solidFill>
              <a:latin typeface="Georgia"/>
            </a:endParaRPr>
          </a:p>
          <a:p>
            <a:pPr marL="181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agrożony, gdy mowa o transporcie kolejowym – ekspertyzy KPZK 2030 pozwalają określić, że do 2030 roku ośrodki będą zajmować bardziej peryferyjną pozycję niż dotychczas, </a:t>
            </a:r>
            <a:br>
              <a:rPr sz="1600"/>
            </a:br>
            <a:r>
              <a:rPr b="0" lang="pl-PL" sz="1600" spc="-1" strike="noStrike">
                <a:solidFill>
                  <a:srgbClr val="000000"/>
                </a:solidFill>
                <a:latin typeface="Georgia"/>
              </a:rPr>
              <a:t>a jednocześnie sąsiadujące regiony uzyskają w tym okresie znacznie lepsze powiązania międzyregionalne i międzynarodowe.</a:t>
            </a:r>
            <a:endParaRPr b="0" lang="en-US" sz="1600" spc="-1" strike="noStrike">
              <a:solidFill>
                <a:srgbClr val="000000"/>
              </a:solidFill>
              <a:latin typeface="Georgia"/>
            </a:endParaRPr>
          </a:p>
          <a:p>
            <a:pPr marL="181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iewystarczający dla realizacji funkcji metropolitalnych w przypadku transportu lotniczego; mimo iż lotnisko odnotowało wyraźny wzrost liczby pasażerów we wszystkich kategoriach (tj przyloty, odloty i tranzyt), to jednak nadal pozostaje on portem o charakterze regionalnym i nie zdobędzie najprawdopodobniej wyższej pozycji, zwłaszcza w kontekście rozwoju lotniska w metropolii berlińskiej.</a:t>
            </a:r>
            <a:endParaRPr b="0" lang="en-US" sz="1600" spc="-1" strike="noStrike">
              <a:solidFill>
                <a:srgbClr val="000000"/>
              </a:solidFill>
              <a:latin typeface="Georgia"/>
            </a:endParaRPr>
          </a:p>
          <a:p>
            <a:pPr marL="181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367"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C535-7660-4ADE-93B7-E5F7605E43DE}"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68"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7200" y="836280"/>
            <a:ext cx="8229600" cy="5289480"/>
          </a:xfrm>
          <a:prstGeom prst="rect">
            <a:avLst/>
          </a:prstGeom>
          <a:noFill/>
          <a:ln w="0">
            <a:noFill/>
          </a:ln>
        </p:spPr>
        <p:txBody>
          <a:bodyPr lIns="90000" rIns="90000" tIns="46800" bIns="46800"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Liczba przyjazdów, odjazdów i tranzytów w 2009 i 2010 r. na lotniskach zlokalizowanych w ośrodkach metropolitalnych.</a:t>
            </a:r>
            <a:endParaRPr b="0" lang="en-US" sz="1600" spc="-1" strike="noStrike">
              <a:solidFill>
                <a:srgbClr val="000000"/>
              </a:solidFill>
              <a:latin typeface="Georgia"/>
            </a:endParaRPr>
          </a:p>
        </p:txBody>
      </p:sp>
      <p:sp>
        <p:nvSpPr>
          <p:cNvPr id="370"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14DE-67D7-4D35-A71B-FBE922E8F663}"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71"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2" name=""/>
          <p:cNvGraphicFramePr/>
          <p:nvPr/>
        </p:nvGraphicFramePr>
        <p:xfrm>
          <a:off x="250920" y="1413000"/>
          <a:ext cx="8713800" cy="5111640"/>
        </p:xfrm>
        <a:graphic>
          <a:graphicData uri="http://schemas.openxmlformats.org/drawingml/2006/table">
            <a:tbl>
              <a:tblPr/>
              <a:tblGrid>
                <a:gridCol w="1465200"/>
                <a:gridCol w="1208160"/>
                <a:gridCol w="1208160"/>
                <a:gridCol w="1207800"/>
                <a:gridCol w="1208160"/>
                <a:gridCol w="1208160"/>
                <a:gridCol w="1208160"/>
              </a:tblGrid>
              <a:tr h="36504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Tahoma"/>
                          <a:ea typeface="Times New Roman"/>
                        </a:rPr>
                        <a:t>Ośrodek metropolitalny</a:t>
                      </a:r>
                      <a:endParaRPr b="0" lang="en-US" sz="1400" spc="-1" strike="noStrike">
                        <a:solidFill>
                          <a:srgbClr val="000000"/>
                        </a:solidFill>
                        <a:latin typeface="Arial"/>
                      </a:endParaRPr>
                    </a:p>
                  </a:txBody>
                  <a:tcPr anchor="ctr" marL="68760" marR="68760">
                    <a:lnL w="9360">
                      <a:solidFill>
                        <a:srgbClr val="4f6228"/>
                      </a:solidFill>
                    </a:lnL>
                    <a:lnR w="5760">
                      <a:solidFill>
                        <a:srgbClr val="4f6228"/>
                      </a:solidFill>
                    </a:lnR>
                    <a:lnT w="9360">
                      <a:solidFill>
                        <a:srgbClr val="4f6228"/>
                      </a:solidFill>
                    </a:lnT>
                    <a:lnB w="5760">
                      <a:solidFill>
                        <a:srgbClr val="4f6228"/>
                      </a:solidFill>
                    </a:lnB>
                    <a:solidFill>
                      <a:srgbClr val="224043"/>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ea typeface="Times New Roman"/>
                        </a:rPr>
                        <a:t>przyjazdy</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ea typeface="Times New Roman"/>
                        </a:rPr>
                        <a:t>wyjazdy</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ea typeface="Times New Roman"/>
                        </a:rPr>
                        <a:t>tranzyt</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9360">
                      <a:solidFill>
                        <a:srgbClr val="4f6228"/>
                      </a:solidFill>
                    </a:lnT>
                    <a:lnB w="5760">
                      <a:solidFill>
                        <a:srgbClr val="4f6228"/>
                      </a:solidFill>
                    </a:lnB>
                    <a:solidFill>
                      <a:srgbClr val="2240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ea typeface="Times New Roman"/>
                        </a:rPr>
                        <a:t>2009</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ea typeface="Times New Roman"/>
                        </a:rPr>
                        <a:t>2010</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ea typeface="Times New Roman"/>
                        </a:rPr>
                        <a:t>2009</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ea typeface="Times New Roman"/>
                        </a:rPr>
                        <a:t>2010</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ea typeface="Times New Roman"/>
                        </a:rPr>
                        <a:t>2009</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224043"/>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ea typeface="Times New Roman"/>
                        </a:rPr>
                        <a:t>2010</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224043"/>
                    </a:solidFill>
                  </a:tcPr>
                </a:tc>
              </a:tr>
              <a:tr h="365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Warszawa</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 162 681</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 321 129</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 158 24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4 368 52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0 968</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2 729</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365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Kraków</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323 47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414 237</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341 304</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429 293</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5 542</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0 466</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729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Aglomeracja Górnośląska</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161 430</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183 484</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182 220</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197 974</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0 963</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1 795</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365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Trójmiasto</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44 299</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101 955</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53 498</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 112 973</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2 76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6 682</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365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Wrocław</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60 04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796 828</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67 780</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806 014</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7 615</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5 134</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365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Poznań</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14 011</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96 737</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28 118</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693 888</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9 628</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8 496</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3639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Łódź</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62 94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03 820</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68 185</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209 69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 160</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5 180</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noFill/>
                  </a:tcPr>
                </a:tc>
              </a:tr>
              <a:tr h="365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Szczecin</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41 50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38 385</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40 474</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36 128</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4 336</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5760">
                      <a:solidFill>
                        <a:srgbClr val="4f6228"/>
                      </a:solidFill>
                    </a:lnB>
                    <a:solidFill>
                      <a:srgbClr val="eaf1dd"/>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7 959</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5760">
                      <a:solidFill>
                        <a:srgbClr val="4f6228"/>
                      </a:solidFill>
                    </a:lnB>
                    <a:solidFill>
                      <a:srgbClr val="eaf1dd"/>
                    </a:solidFill>
                  </a:tcPr>
                </a:tc>
              </a:tr>
              <a:tr h="727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ahoma"/>
                          <a:ea typeface="Times New Roman"/>
                        </a:rPr>
                        <a:t>Bydgoszcz z Toruniem</a:t>
                      </a:r>
                      <a:endParaRPr b="0" lang="en-US" sz="1600" spc="-1" strike="noStrike">
                        <a:solidFill>
                          <a:srgbClr val="000000"/>
                        </a:solidFill>
                        <a:latin typeface="Arial"/>
                      </a:endParaRPr>
                    </a:p>
                  </a:txBody>
                  <a:tcPr anchor="ctr" marL="68760" marR="68760">
                    <a:lnL w="93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44 591</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37 235</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50 123</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40 915</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9 312</a:t>
                      </a:r>
                      <a:endParaRPr b="0" lang="en-US" sz="1600" spc="-1" strike="noStrike">
                        <a:solidFill>
                          <a:srgbClr val="000000"/>
                        </a:solidFill>
                        <a:latin typeface="Arial"/>
                      </a:endParaRPr>
                    </a:p>
                  </a:txBody>
                  <a:tcPr anchor="ctr" marL="68760" marR="68760">
                    <a:lnL w="5760">
                      <a:solidFill>
                        <a:srgbClr val="4f6228"/>
                      </a:solidFill>
                    </a:lnL>
                    <a:lnR w="5760">
                      <a:solidFill>
                        <a:srgbClr val="4f6228"/>
                      </a:solidFill>
                    </a:lnR>
                    <a:lnT w="5760">
                      <a:solidFill>
                        <a:srgbClr val="4f6228"/>
                      </a:solidFill>
                    </a:lnT>
                    <a:lnB w="9360">
                      <a:solidFill>
                        <a:srgbClr val="4f6228"/>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Tahoma"/>
                          <a:ea typeface="Times New Roman"/>
                        </a:rPr>
                        <a:t>12 164</a:t>
                      </a:r>
                      <a:endParaRPr b="0" lang="en-US" sz="1600" spc="-1" strike="noStrike">
                        <a:solidFill>
                          <a:srgbClr val="000000"/>
                        </a:solidFill>
                        <a:latin typeface="Arial"/>
                      </a:endParaRPr>
                    </a:p>
                  </a:txBody>
                  <a:tcPr anchor="ctr" marL="68760" marR="68760">
                    <a:lnL w="5760">
                      <a:solidFill>
                        <a:srgbClr val="4f6228"/>
                      </a:solidFill>
                    </a:lnL>
                    <a:lnR w="9360">
                      <a:solidFill>
                        <a:srgbClr val="4f6228"/>
                      </a:solidFill>
                    </a:lnR>
                    <a:lnT w="5760">
                      <a:solidFill>
                        <a:srgbClr val="4f6228"/>
                      </a:solidFill>
                    </a:lnT>
                    <a:lnB w="9360">
                      <a:solidFill>
                        <a:srgbClr val="4f6228"/>
                      </a:solidFill>
                    </a:lnB>
                    <a:noFill/>
                  </a:tcPr>
                </a:tc>
              </a:tr>
            </a:tbl>
          </a:graphicData>
        </a:graphic>
      </p:graphicFrame>
      <p:sp>
        <p:nvSpPr>
          <p:cNvPr id="373" name="Rectangle 2"/>
          <p:cNvSpPr/>
          <p:nvPr/>
        </p:nvSpPr>
        <p:spPr>
          <a:xfrm>
            <a:off x="250920" y="333360"/>
            <a:ext cx="82296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infrastruktural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Trebuchet MS"/>
              </a:rPr>
              <a:t>Wpływ programów finansowanych </a:t>
            </a:r>
            <a:br>
              <a:rPr sz="4000"/>
            </a:br>
            <a:r>
              <a:rPr b="0" lang="pl-PL" sz="4000" spc="-1" strike="noStrike">
                <a:solidFill>
                  <a:srgbClr val="ffffff"/>
                </a:solidFill>
                <a:latin typeface="Trebuchet MS"/>
              </a:rPr>
              <a:t>z UE na rozwój infrastruktury</a:t>
            </a:r>
            <a:endParaRPr b="0" lang="en-US" sz="4000" spc="-1" strike="noStrike">
              <a:solidFill>
                <a:srgbClr val="424456"/>
              </a:solidFill>
              <a:latin typeface="Trebuchet MS"/>
            </a:endParaRPr>
          </a:p>
        </p:txBody>
      </p:sp>
      <p:sp>
        <p:nvSpPr>
          <p:cNvPr id="37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376"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DFEF-547B-4303-8E8F-370D6DE29F96}"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50920" y="18864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Infrastruktura i rozwiązania transportowe</a:t>
            </a:r>
            <a:endParaRPr b="0" lang="en-US" sz="2400" spc="-1" strike="noStrike">
              <a:solidFill>
                <a:srgbClr val="424456"/>
              </a:solidFill>
              <a:latin typeface="Trebuchet MS"/>
            </a:endParaRPr>
          </a:p>
        </p:txBody>
      </p:sp>
      <p:sp>
        <p:nvSpPr>
          <p:cNvPr id="378" name=""/>
          <p:cNvSpPr txBox="1"/>
          <p:nvPr/>
        </p:nvSpPr>
        <p:spPr>
          <a:xfrm>
            <a:off x="395280" y="907560"/>
            <a:ext cx="8424720" cy="521820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rojekty wdrażane w Bydgoszczy i Toruniu wspierające rozwój infrastruktury i rozwiązań transportowych Bydgoszczy i Torunia</a:t>
            </a: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a:t>
            </a:r>
            <a:endParaRPr b="0" lang="en-US" sz="1800" spc="-1" strike="noStrike">
              <a:solidFill>
                <a:srgbClr val="000000"/>
              </a:solidFill>
              <a:latin typeface="Georgia"/>
            </a:endParaRPr>
          </a:p>
        </p:txBody>
      </p:sp>
      <p:sp>
        <p:nvSpPr>
          <p:cNvPr id="379"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CB54-A5C8-4472-93B9-0017D7205C0C}"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80"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Wykres 7" descr=""/>
          <p:cNvPicPr/>
          <p:nvPr/>
        </p:nvPicPr>
        <p:blipFill>
          <a:blip r:embed="rId1"/>
          <a:stretch/>
        </p:blipFill>
        <p:spPr>
          <a:xfrm>
            <a:off x="244440" y="1481040"/>
            <a:ext cx="8655120" cy="5048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2040-08F4-4852-BAB8-9F822F96DED5}"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pic>
        <p:nvPicPr>
          <p:cNvPr id="383" name="Wykres 4" descr=""/>
          <p:cNvPicPr/>
          <p:nvPr/>
        </p:nvPicPr>
        <p:blipFill>
          <a:blip r:embed="rId1"/>
          <a:stretch/>
        </p:blipFill>
        <p:spPr>
          <a:xfrm>
            <a:off x="244440" y="1695600"/>
            <a:ext cx="8655120" cy="4765680"/>
          </a:xfrm>
          <a:prstGeom prst="rect">
            <a:avLst/>
          </a:prstGeom>
          <a:ln w="0">
            <a:noFill/>
          </a:ln>
        </p:spPr>
      </p:pic>
      <p:sp>
        <p:nvSpPr>
          <p:cNvPr id="384" name="PlaceHolder 1"/>
          <p:cNvSpPr>
            <a:spLocks noGrp="1"/>
          </p:cNvSpPr>
          <p:nvPr>
            <p:ph type="title"/>
          </p:nvPr>
        </p:nvSpPr>
        <p:spPr>
          <a:xfrm>
            <a:off x="250920" y="28692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Infrastruktura i rozwiązania informatyczne</a:t>
            </a:r>
            <a:endParaRPr b="0" lang="en-US" sz="2400" spc="-1" strike="noStrike">
              <a:solidFill>
                <a:srgbClr val="424456"/>
              </a:solidFill>
              <a:latin typeface="Trebuchet MS"/>
            </a:endParaRPr>
          </a:p>
        </p:txBody>
      </p:sp>
      <p:sp>
        <p:nvSpPr>
          <p:cNvPr id="385" name="Prostokąt 6"/>
          <p:cNvSpPr/>
          <p:nvPr/>
        </p:nvSpPr>
        <p:spPr>
          <a:xfrm>
            <a:off x="179280" y="1052640"/>
            <a:ext cx="8569440" cy="64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rojekty wdrażane w Bydgoszczy i Toruniu wspierające rozwój infrastruktury i rozwiązań informatycznych Bydgoszczy i Toru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50920" y="28692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Infrastruktura i rozwiązania informatyczne</a:t>
            </a:r>
            <a:endParaRPr b="0" lang="en-US" sz="2400" spc="-1" strike="noStrike">
              <a:solidFill>
                <a:srgbClr val="424456"/>
              </a:solidFill>
              <a:latin typeface="Trebuchet MS"/>
            </a:endParaRPr>
          </a:p>
        </p:txBody>
      </p:sp>
      <p:sp>
        <p:nvSpPr>
          <p:cNvPr id="387" name=""/>
          <p:cNvSpPr txBox="1"/>
          <p:nvPr/>
        </p:nvSpPr>
        <p:spPr>
          <a:xfrm>
            <a:off x="395280" y="1125360"/>
            <a:ext cx="8424720" cy="5399280"/>
          </a:xfrm>
          <a:prstGeom prst="rect">
            <a:avLst/>
          </a:prstGeom>
          <a:noFill/>
          <a:ln w="0">
            <a:noFill/>
          </a:ln>
        </p:spPr>
        <p:txBody>
          <a:bodyPr lIns="90000" rIns="90000" tIns="46800" bIns="46800"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Dokładna analiza poszczególnych projektów związanych z rozwojem funkcji informacyjnej, realizowanych w ramach RPO WK-P, pozwala podzielić je na 3 grupy. Grupy te są w znacznej mierze zbieżne z trzema Działaniami wdrażanymi w ramach 4 osi priorytetowej RPO WK-P. </a:t>
            </a:r>
            <a:endParaRPr b="0" lang="en-US" sz="22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Pierwsza grupa obejmuje najbardziej liczne projekty związane były z inwestycjami przedsiębiorstw wprowadzających rozwiązania informacyjne (Usługi i aplikacje dla MŚP (e-handel, kształcenie i szkolenie, tworzenie sieci itp.)). Były to jednak przedsięwzięcia, których zakres był niewielki i mimo, iż stanowiły zdecydowaną większość w tej grupie projektów, to pochłaniały jedynie połowę wartości wszystkich inwestycji w ramach tej funkcji. </a:t>
            </a:r>
            <a:endParaRPr b="0" lang="en-US" sz="22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Georgia"/>
              </a:rPr>
              <a:t> </a:t>
            </a:r>
            <a:r>
              <a:rPr b="0" lang="pl-PL" sz="2200" spc="-1" strike="noStrike">
                <a:solidFill>
                  <a:srgbClr val="000000"/>
                </a:solidFill>
                <a:latin typeface="Georgia"/>
              </a:rPr>
              <a:t>Pozostałe grupy przedsięwzięć uwzględniały projekty dotyczące rozwoju infrastruktury informatycznej (Infrastruktura telekomunikacyjna (w tym sieci szerokopasmowe)) oraz rozwiązań informatycznych – przede wszystkim e-administracji (Usługi i aplikacje dla obywateli (e-zdrowie, e-administracja, e-edukacja, e-integracja itp.))</a:t>
            </a:r>
            <a:endParaRPr b="0" lang="en-US" sz="22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388"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05D4-2BE5-4F69-823C-0E015A57CDC4}"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89"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26028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424456"/>
                </a:solidFill>
                <a:latin typeface="Trebuchet MS"/>
              </a:rPr>
              <a:t>Metodologia</a:t>
            </a:r>
            <a:endParaRPr b="0" lang="en-US" sz="4000" spc="-1" strike="noStrike">
              <a:solidFill>
                <a:srgbClr val="424456"/>
              </a:solidFill>
              <a:latin typeface="Trebuchet MS"/>
            </a:endParaRPr>
          </a:p>
        </p:txBody>
      </p:sp>
      <p:sp>
        <p:nvSpPr>
          <p:cNvPr id="285" name=""/>
          <p:cNvSpPr txBox="1"/>
          <p:nvPr/>
        </p:nvSpPr>
        <p:spPr>
          <a:xfrm>
            <a:off x="457200" y="1557360"/>
            <a:ext cx="8229600" cy="5300640"/>
          </a:xfrm>
          <a:prstGeom prst="rect">
            <a:avLst/>
          </a:prstGeom>
          <a:noFill/>
          <a:ln w="0">
            <a:noFill/>
          </a:ln>
        </p:spPr>
        <p:txBody>
          <a:bodyPr lIns="90000" rIns="90000" tIns="46800" bIns="46800" anchor="t">
            <a:normAutofit/>
          </a:bodyPr>
          <a:p>
            <a:pPr marL="874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W niniejszym badaniu uwzględniono wiele wzajemnie uzupełniających się metod i technik badawczych. Przyjęta metodologia zakładała wykorzystanie technik jakościowych i ilościowych. Wśród nich znalazły się:</a:t>
            </a:r>
            <a:endParaRPr b="0" lang="en-US" sz="2400" spc="-1" strike="noStrike">
              <a:solidFill>
                <a:srgbClr val="000000"/>
              </a:solidFill>
              <a:latin typeface="Georgia"/>
            </a:endParaRPr>
          </a:p>
          <a:p>
            <a:pPr marL="874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Analiza danych zastanych – </a:t>
            </a:r>
            <a:r>
              <a:rPr b="1" i="1" lang="pl-PL" sz="2400" spc="-1" strike="noStrike">
                <a:solidFill>
                  <a:srgbClr val="000000"/>
                </a:solidFill>
                <a:latin typeface="Georgia"/>
              </a:rPr>
              <a:t>Desk research</a:t>
            </a: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Zogniskowane wywiady grupowe -</a:t>
            </a:r>
            <a:r>
              <a:rPr b="1" lang="pl-PL" sz="2400" spc="-1" strike="noStrike">
                <a:solidFill>
                  <a:srgbClr val="000000"/>
                </a:solidFill>
                <a:latin typeface="Georgia"/>
              </a:rPr>
              <a:t> FGI </a:t>
            </a: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Indywidualne wywiady pogłębione- </a:t>
            </a:r>
            <a:r>
              <a:rPr b="1" lang="pl-PL" sz="2400" spc="-1" strike="noStrike">
                <a:solidFill>
                  <a:srgbClr val="000000"/>
                </a:solidFill>
                <a:latin typeface="Georgia"/>
              </a:rPr>
              <a:t>IDI</a:t>
            </a: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Anonimowa ankieta telefoniczna -</a:t>
            </a:r>
            <a:r>
              <a:rPr b="1" lang="pl-PL" sz="2400" spc="-1" strike="noStrike">
                <a:solidFill>
                  <a:srgbClr val="000000"/>
                </a:solidFill>
                <a:latin typeface="Georgia"/>
              </a:rPr>
              <a:t> CATI</a:t>
            </a:r>
            <a:r>
              <a:rPr b="0" lang="pl-PL" sz="2400" spc="-1" strike="noStrike">
                <a:solidFill>
                  <a:srgbClr val="000000"/>
                </a:solidFill>
                <a:latin typeface="Georgia"/>
              </a:rPr>
              <a:t> </a:t>
            </a: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Panel ekspertów</a:t>
            </a: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Studium przypadku</a:t>
            </a: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Analiza SWOT</a:t>
            </a:r>
            <a:endParaRPr b="0" lang="en-US" sz="2400" spc="-1" strike="noStrike">
              <a:solidFill>
                <a:srgbClr val="000000"/>
              </a:solidFill>
              <a:latin typeface="Georgia"/>
            </a:endParaRPr>
          </a:p>
          <a:p>
            <a:pPr marL="874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Warsztat ewaluacyjny</a:t>
            </a:r>
            <a:endParaRPr b="0" lang="en-US" sz="2400" spc="-1" strike="noStrike">
              <a:solidFill>
                <a:srgbClr val="000000"/>
              </a:solidFill>
              <a:latin typeface="Georgia"/>
            </a:endParaRPr>
          </a:p>
        </p:txBody>
      </p:sp>
      <p:sp>
        <p:nvSpPr>
          <p:cNvPr id="286"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4E97-3937-4F81-A107-7E13A168FAEA}"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rebuchet MS"/>
              </a:rPr>
              <a:t>Obszar kulturowy i turystyczny</a:t>
            </a:r>
            <a:endParaRPr b="0" lang="en-US" sz="4400" spc="-1" strike="noStrike">
              <a:solidFill>
                <a:srgbClr val="424456"/>
              </a:solidFill>
              <a:latin typeface="Trebuchet MS"/>
            </a:endParaRPr>
          </a:p>
        </p:txBody>
      </p:sp>
      <p:sp>
        <p:nvSpPr>
          <p:cNvPr id="3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392"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4117-49CA-471A-B81E-5EB95EBD00E1}"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3456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kulturowy i turystyczny</a:t>
            </a:r>
            <a:endParaRPr b="0" lang="en-US" sz="2400" spc="-1" strike="noStrike">
              <a:solidFill>
                <a:srgbClr val="424456"/>
              </a:solidFill>
              <a:latin typeface="Trebuchet MS"/>
            </a:endParaRPr>
          </a:p>
        </p:txBody>
      </p:sp>
      <p:sp>
        <p:nvSpPr>
          <p:cNvPr id="394" name=""/>
          <p:cNvSpPr txBox="1"/>
          <p:nvPr/>
        </p:nvSpPr>
        <p:spPr>
          <a:xfrm>
            <a:off x="457200" y="1052280"/>
            <a:ext cx="8229600" cy="5073480"/>
          </a:xfrm>
          <a:prstGeom prst="rect">
            <a:avLst/>
          </a:prstGeom>
          <a:noFill/>
          <a:ln w="0">
            <a:noFill/>
          </a:ln>
        </p:spPr>
        <p:txBody>
          <a:bodyPr lIns="90000" rIns="90000" tIns="46800" bIns="46800"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Ośrodki dysponują potencjałem turystycznym oraz infrastrukturą zdolną do zapewnienia odpowiedniej obsługi ruchu turystycznego; oba ośrodki posiadają, bądź wykształcają swój potencjał symboliczny i specyfikę miejsca, co znacząco przyczynia się do wzrostu ich rozpoznawalności,</a:t>
            </a:r>
            <a:endParaRPr b="0" lang="en-US" sz="20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otencjał ten wzmacniają dodatkowo przedsięwzięcia o charakterze kulturalnym i sportowym, które dzięki odpowiedniemu zapleczu mają często charakter międzynarodowy, pozwalający na wykształcenie funkcji kulturowo-turystycznej metropolii. </a:t>
            </a:r>
            <a:endParaRPr b="0" lang="en-US" sz="20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Dla rozwoju funkcji metropolitalnych konieczne jest jednak podtrzymanie wysokiego dofinansowania w tym zakresie (patrz: spadki w wydatkach na sport) i wypracowanie wizji rozwoju kultury i turystyki dla obu miast jednocześnie oraz wizji rozwoju oraz polityki wizerunkowej łącznie dla obu ośrodków, by unikać wew. konkurencji między nimi (vide: ESK 2016, czy Camerimage). </a:t>
            </a:r>
            <a:endParaRPr b="0" lang="en-US" sz="2000" spc="-1" strike="noStrike">
              <a:solidFill>
                <a:srgbClr val="000000"/>
              </a:solidFill>
              <a:latin typeface="Georgia"/>
            </a:endParaRPr>
          </a:p>
        </p:txBody>
      </p:sp>
      <p:sp>
        <p:nvSpPr>
          <p:cNvPr id="395"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3F76-8EF6-4D26-A425-BD6D5AF662CB}"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396"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3456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kulturowy i turystyczny</a:t>
            </a:r>
            <a:endParaRPr b="0" lang="en-US" sz="2400" spc="-1" strike="noStrike">
              <a:solidFill>
                <a:srgbClr val="424456"/>
              </a:solidFill>
              <a:latin typeface="Trebuchet MS"/>
            </a:endParaRPr>
          </a:p>
        </p:txBody>
      </p:sp>
      <p:sp>
        <p:nvSpPr>
          <p:cNvPr id="398" name=""/>
          <p:cNvSpPr txBox="1"/>
          <p:nvPr/>
        </p:nvSpPr>
        <p:spPr>
          <a:xfrm>
            <a:off x="457200" y="765000"/>
            <a:ext cx="8229600" cy="53611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Baza hotelowa Bydgoszczy, hotele 5, 4 i 3 gwiazdkowe w latach 2008-2011</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Baza hotelowa Torunia, hotele 5, 4 i 3 gwiazdkowe w latach 2008-2011</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399"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ACA7-AD53-491A-AF86-68C59B27C74B}"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00"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1" name=""/>
          <p:cNvGraphicFramePr/>
          <p:nvPr/>
        </p:nvGraphicFramePr>
        <p:xfrm>
          <a:off x="539640" y="1197000"/>
          <a:ext cx="8136000" cy="1511280"/>
        </p:xfrm>
        <a:graphic>
          <a:graphicData uri="http://schemas.openxmlformats.org/drawingml/2006/table">
            <a:tbl>
              <a:tblPr/>
              <a:tblGrid>
                <a:gridCol w="2797200"/>
                <a:gridCol w="1108080"/>
                <a:gridCol w="1462320"/>
                <a:gridCol w="1461960"/>
                <a:gridCol w="1306440"/>
              </a:tblGrid>
              <a:tr h="377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ea typeface="Times New Roman"/>
                        </a:rPr>
                        <a:t>Standard hotelu</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08</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09</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10</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11</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9360">
                      <a:solidFill>
                        <a:srgbClr val="4f6228"/>
                      </a:solidFill>
                    </a:lnT>
                    <a:lnB w="5760">
                      <a:solidFill>
                        <a:srgbClr val="4f6228"/>
                      </a:solidFill>
                    </a:lnB>
                    <a:solidFill>
                      <a:srgbClr val="224043"/>
                    </a:solidFill>
                  </a:tcPr>
                </a:tc>
              </a:tr>
              <a:tr h="3780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5 *</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37764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4 *</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3780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3 *</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9360">
                      <a:solidFill>
                        <a:srgbClr val="4f6228"/>
                      </a:solidFill>
                    </a:lnB>
                    <a:noFill/>
                  </a:tcPr>
                </a:tc>
              </a:tr>
            </a:tbl>
          </a:graphicData>
        </a:graphic>
      </p:graphicFrame>
      <p:graphicFrame>
        <p:nvGraphicFramePr>
          <p:cNvPr id="402" name=""/>
          <p:cNvGraphicFramePr/>
          <p:nvPr/>
        </p:nvGraphicFramePr>
        <p:xfrm>
          <a:off x="468360" y="3645000"/>
          <a:ext cx="8280360" cy="1871640"/>
        </p:xfrm>
        <a:graphic>
          <a:graphicData uri="http://schemas.openxmlformats.org/drawingml/2006/table">
            <a:tbl>
              <a:tblPr/>
              <a:tblGrid>
                <a:gridCol w="2844720"/>
                <a:gridCol w="1128600"/>
                <a:gridCol w="1489320"/>
                <a:gridCol w="1487520"/>
                <a:gridCol w="1330200"/>
              </a:tblGrid>
              <a:tr h="468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ea typeface="Times New Roman"/>
                        </a:rPr>
                        <a:t>Standard hotelu</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08</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09</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10</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9360">
                      <a:solidFill>
                        <a:srgbClr val="4f6228"/>
                      </a:solidFill>
                    </a:lnT>
                    <a:lnB w="5760">
                      <a:solidFill>
                        <a:srgbClr val="4f6228"/>
                      </a:solidFill>
                    </a:lnB>
                    <a:solidFill>
                      <a:srgbClr val="224043"/>
                    </a:solid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Tahoma"/>
                          <a:ea typeface="Times New Roman"/>
                        </a:rPr>
                        <a:t>2011</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9360">
                      <a:solidFill>
                        <a:srgbClr val="4f6228"/>
                      </a:solidFill>
                    </a:lnT>
                    <a:lnB w="5760">
                      <a:solidFill>
                        <a:srgbClr val="4f6228"/>
                      </a:solidFill>
                    </a:lnB>
                    <a:solidFill>
                      <a:srgbClr val="224043"/>
                    </a:solidFill>
                  </a:tcPr>
                </a:tc>
              </a:tr>
              <a:tr h="46800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5 *</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46836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4 *</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57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5760">
                      <a:solidFill>
                        <a:srgbClr val="4f6228"/>
                      </a:solidFill>
                    </a:lnB>
                    <a:noFill/>
                  </a:tcPr>
                </a:tc>
              </a:tr>
              <a:tr h="466920">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ahoma"/>
                          <a:ea typeface="Times New Roman"/>
                        </a:rPr>
                        <a:t>3 *</a:t>
                      </a:r>
                      <a:endParaRPr b="0" lang="en-US" sz="1800" spc="-1" strike="noStrike">
                        <a:solidFill>
                          <a:srgbClr val="000000"/>
                        </a:solidFill>
                        <a:latin typeface="Arial"/>
                      </a:endParaRPr>
                    </a:p>
                  </a:txBody>
                  <a:tcPr anchor="ctr" marL="44280" marR="44280">
                    <a:lnL w="93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ctr" marL="44280" marR="44280">
                    <a:lnL w="5760">
                      <a:solidFill>
                        <a:srgbClr val="4f6228"/>
                      </a:solidFill>
                    </a:lnL>
                    <a:lnR w="5760">
                      <a:solidFill>
                        <a:srgbClr val="4f6228"/>
                      </a:solidFill>
                    </a:lnR>
                    <a:lnT w="5760">
                      <a:solidFill>
                        <a:srgbClr val="4f6228"/>
                      </a:solidFill>
                    </a:lnT>
                    <a:lnB w="9360">
                      <a:solidFill>
                        <a:srgbClr val="4f6228"/>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ctr" marL="44280" marR="44280">
                    <a:lnL w="5760">
                      <a:solidFill>
                        <a:srgbClr val="4f6228"/>
                      </a:solidFill>
                    </a:lnL>
                    <a:lnR w="9360">
                      <a:solidFill>
                        <a:srgbClr val="4f6228"/>
                      </a:solidFill>
                    </a:lnR>
                    <a:lnT w="5760">
                      <a:solidFill>
                        <a:srgbClr val="4f6228"/>
                      </a:solidFill>
                    </a:lnT>
                    <a:lnB w="9360">
                      <a:solidFill>
                        <a:srgbClr val="4f6228"/>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360" y="3456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kulturowy i turystyczny</a:t>
            </a:r>
            <a:endParaRPr b="0" lang="en-US" sz="2400" spc="-1" strike="noStrike">
              <a:solidFill>
                <a:srgbClr val="424456"/>
              </a:solidFill>
              <a:latin typeface="Trebuchet MS"/>
            </a:endParaRPr>
          </a:p>
        </p:txBody>
      </p:sp>
      <p:sp>
        <p:nvSpPr>
          <p:cNvPr id="404" name=""/>
          <p:cNvSpPr txBox="1"/>
          <p:nvPr/>
        </p:nvSpPr>
        <p:spPr>
          <a:xfrm>
            <a:off x="395280" y="765000"/>
            <a:ext cx="8229600" cy="536112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ydatki Torunia i Bydgoszczy na kulturę i ochronę dziedzictwa narodowego w latach 2004-2010 r.</a:t>
            </a: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ydatki Torunia i Bydgoszczy na kulturę i ochronę dziedzictwa narodowego na </a:t>
            </a:r>
            <a:br>
              <a:rPr sz="1600"/>
            </a:br>
            <a:r>
              <a:rPr b="0" lang="pl-PL" sz="1600" spc="-1" strike="noStrike">
                <a:solidFill>
                  <a:srgbClr val="000000"/>
                </a:solidFill>
                <a:latin typeface="Georgia"/>
              </a:rPr>
              <a:t>1 mieszkańca w latach 2004-2010 r.</a:t>
            </a:r>
            <a:endParaRPr b="0" lang="en-US" sz="1600" spc="-1" strike="noStrike">
              <a:solidFill>
                <a:srgbClr val="000000"/>
              </a:solidFill>
              <a:latin typeface="Georgia"/>
            </a:endParaRPr>
          </a:p>
        </p:txBody>
      </p:sp>
      <p:sp>
        <p:nvSpPr>
          <p:cNvPr id="405" name="Symbol zastępczy numeru slajdu 8"/>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6613-D00C-441D-8A0A-700C27C81C8D}"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06"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Wykres 6" descr=""/>
          <p:cNvPicPr/>
          <p:nvPr/>
        </p:nvPicPr>
        <p:blipFill>
          <a:blip r:embed="rId1"/>
          <a:stretch/>
        </p:blipFill>
        <p:spPr>
          <a:xfrm>
            <a:off x="171360" y="1481040"/>
            <a:ext cx="8728200" cy="2024280"/>
          </a:xfrm>
          <a:prstGeom prst="rect">
            <a:avLst/>
          </a:prstGeom>
          <a:ln w="0">
            <a:noFill/>
          </a:ln>
        </p:spPr>
      </p:pic>
      <p:pic>
        <p:nvPicPr>
          <p:cNvPr id="408" name="Wykres 7" descr=""/>
          <p:cNvPicPr/>
          <p:nvPr/>
        </p:nvPicPr>
        <p:blipFill>
          <a:blip r:embed="rId2"/>
          <a:stretch/>
        </p:blipFill>
        <p:spPr>
          <a:xfrm>
            <a:off x="244440" y="4359240"/>
            <a:ext cx="8582040" cy="210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kulturowy i turystyczny</a:t>
            </a:r>
            <a:endParaRPr b="0" lang="en-US" sz="2400" spc="-1" strike="noStrike">
              <a:solidFill>
                <a:srgbClr val="424456"/>
              </a:solidFill>
              <a:latin typeface="Trebuchet MS"/>
            </a:endParaRPr>
          </a:p>
        </p:txBody>
      </p:sp>
      <p:sp>
        <p:nvSpPr>
          <p:cNvPr id="410" name=""/>
          <p:cNvSpPr txBox="1"/>
          <p:nvPr/>
        </p:nvSpPr>
        <p:spPr>
          <a:xfrm>
            <a:off x="395280" y="765000"/>
            <a:ext cx="8229600" cy="536112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ydatki Torunia i Bydgoszczy na kulturę fizyczną i sport w latach 2004-2010 r.</a:t>
            </a: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Liczba wystaw międzynarodowych w ośrodkach wystawienniczych w Bydgoszczy </a:t>
            </a:r>
            <a:br>
              <a:rPr sz="1600"/>
            </a:br>
            <a:r>
              <a:rPr b="0" lang="pl-PL" sz="1600" spc="-1" strike="noStrike">
                <a:solidFill>
                  <a:srgbClr val="000000"/>
                </a:solidFill>
                <a:latin typeface="Georgia"/>
              </a:rPr>
              <a:t>i Toruniu w latach 2008-2010 r.</a:t>
            </a:r>
            <a:endParaRPr b="0" lang="en-US" sz="1600" spc="-1" strike="noStrike">
              <a:solidFill>
                <a:srgbClr val="000000"/>
              </a:solidFill>
              <a:latin typeface="Georgia"/>
            </a:endParaRPr>
          </a:p>
        </p:txBody>
      </p:sp>
      <p:sp>
        <p:nvSpPr>
          <p:cNvPr id="411"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BE5F-4F82-4304-BF86-BE2B80C4B1B3}"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12"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3" name="Wykres 8" descr=""/>
          <p:cNvPicPr/>
          <p:nvPr/>
        </p:nvPicPr>
        <p:blipFill>
          <a:blip r:embed="rId1"/>
          <a:stretch/>
        </p:blipFill>
        <p:spPr>
          <a:xfrm>
            <a:off x="353880" y="1122480"/>
            <a:ext cx="8796600" cy="2170080"/>
          </a:xfrm>
          <a:prstGeom prst="rect">
            <a:avLst/>
          </a:prstGeom>
          <a:ln w="0">
            <a:noFill/>
          </a:ln>
        </p:spPr>
      </p:pic>
      <p:pic>
        <p:nvPicPr>
          <p:cNvPr id="414" name="Wykres 9" descr=""/>
          <p:cNvPicPr/>
          <p:nvPr/>
        </p:nvPicPr>
        <p:blipFill>
          <a:blip r:embed="rId2"/>
          <a:stretch/>
        </p:blipFill>
        <p:spPr>
          <a:xfrm>
            <a:off x="-6480" y="4071960"/>
            <a:ext cx="8979120" cy="2603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3456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kulturowy i turystyczny</a:t>
            </a:r>
            <a:endParaRPr b="0" lang="en-US" sz="2400" spc="-1" strike="noStrike">
              <a:solidFill>
                <a:srgbClr val="424456"/>
              </a:solidFill>
              <a:latin typeface="Trebuchet MS"/>
            </a:endParaRPr>
          </a:p>
        </p:txBody>
      </p:sp>
      <p:sp>
        <p:nvSpPr>
          <p:cNvPr id="416" name=""/>
          <p:cNvSpPr txBox="1"/>
          <p:nvPr/>
        </p:nvSpPr>
        <p:spPr>
          <a:xfrm>
            <a:off x="395280" y="981000"/>
            <a:ext cx="8229600" cy="514512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Liczba wystaw międzynarodowych w ośrodkach metropolitalnych w 2010r., </a:t>
            </a:r>
            <a:br>
              <a:rPr sz="1600"/>
            </a:br>
            <a:r>
              <a:rPr b="0" lang="pl-PL" sz="1600" spc="-1" strike="noStrike">
                <a:solidFill>
                  <a:srgbClr val="000000"/>
                </a:solidFill>
                <a:latin typeface="Georgia"/>
              </a:rPr>
              <a:t>z uwzględnieniem Lublina.</a:t>
            </a: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417"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4906-0B20-403D-BE29-2621738A383C}"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18"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9" name="Wykres 6" descr=""/>
          <p:cNvPicPr/>
          <p:nvPr/>
        </p:nvPicPr>
        <p:blipFill>
          <a:blip r:embed="rId1"/>
          <a:stretch/>
        </p:blipFill>
        <p:spPr>
          <a:xfrm>
            <a:off x="171360" y="1407960"/>
            <a:ext cx="8801280" cy="5121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Trebuchet MS"/>
              </a:rPr>
              <a:t>Wpływ programów finansowanych </a:t>
            </a:r>
            <a:br>
              <a:rPr sz="4000"/>
            </a:br>
            <a:r>
              <a:rPr b="0" lang="pl-PL" sz="4000" spc="-1" strike="noStrike">
                <a:solidFill>
                  <a:srgbClr val="ffffff"/>
                </a:solidFill>
                <a:latin typeface="Trebuchet MS"/>
              </a:rPr>
              <a:t>z UE na rozwój kultury i turystyki</a:t>
            </a:r>
            <a:endParaRPr b="0" lang="en-US" sz="4000" spc="-1" strike="noStrike">
              <a:solidFill>
                <a:srgbClr val="424456"/>
              </a:solidFill>
              <a:latin typeface="Trebuchet MS"/>
            </a:endParaRPr>
          </a:p>
        </p:txBody>
      </p:sp>
      <p:sp>
        <p:nvSpPr>
          <p:cNvPr id="42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422"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856D-FB04-4453-B531-DF60D7A7C9E3}"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250920" y="21564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Kultura i turystyka</a:t>
            </a:r>
            <a:endParaRPr b="0" lang="en-US" sz="2400" spc="-1" strike="noStrike">
              <a:solidFill>
                <a:srgbClr val="424456"/>
              </a:solidFill>
              <a:latin typeface="Trebuchet MS"/>
            </a:endParaRPr>
          </a:p>
        </p:txBody>
      </p:sp>
      <p:sp>
        <p:nvSpPr>
          <p:cNvPr id="424" name=""/>
          <p:cNvSpPr txBox="1"/>
          <p:nvPr/>
        </p:nvSpPr>
        <p:spPr>
          <a:xfrm>
            <a:off x="395280" y="1125000"/>
            <a:ext cx="8424720" cy="500076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rojekty wdrażane w Bydgoszczy i Toruniu wspierające rozwój sfery kultury </a:t>
            </a:r>
            <a:br>
              <a:rPr sz="1800"/>
            </a:br>
            <a:r>
              <a:rPr b="0" lang="pl-PL" sz="1800" spc="-1" strike="noStrike">
                <a:solidFill>
                  <a:srgbClr val="000000"/>
                </a:solidFill>
                <a:latin typeface="Georgia"/>
              </a:rPr>
              <a:t>i turystyki Bydgoszczy i Torunia</a:t>
            </a: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a:t>
            </a:r>
            <a:endParaRPr b="0" lang="en-US" sz="1800" spc="-1" strike="noStrike">
              <a:solidFill>
                <a:srgbClr val="000000"/>
              </a:solidFill>
              <a:latin typeface="Georgia"/>
            </a:endParaRPr>
          </a:p>
        </p:txBody>
      </p:sp>
      <p:sp>
        <p:nvSpPr>
          <p:cNvPr id="425"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835D-FDB7-4F44-B074-1A30A68548AB}"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26"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7" name="Wykres 7" descr=""/>
          <p:cNvPicPr/>
          <p:nvPr/>
        </p:nvPicPr>
        <p:blipFill>
          <a:blip r:embed="rId1"/>
          <a:stretch/>
        </p:blipFill>
        <p:spPr>
          <a:xfrm>
            <a:off x="189000" y="1773360"/>
            <a:ext cx="8710560" cy="4755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250920" y="14400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Kultura i turystyka RPO WK-P</a:t>
            </a:r>
            <a:endParaRPr b="0" lang="en-US" sz="2400" spc="-1" strike="noStrike">
              <a:solidFill>
                <a:srgbClr val="424456"/>
              </a:solidFill>
              <a:latin typeface="Trebuchet MS"/>
            </a:endParaRPr>
          </a:p>
        </p:txBody>
      </p:sp>
      <p:sp>
        <p:nvSpPr>
          <p:cNvPr id="429" name=""/>
          <p:cNvSpPr txBox="1"/>
          <p:nvPr/>
        </p:nvSpPr>
        <p:spPr>
          <a:xfrm>
            <a:off x="395280" y="907560"/>
            <a:ext cx="8424720" cy="5689800"/>
          </a:xfrm>
          <a:prstGeom prst="rect">
            <a:avLst/>
          </a:prstGeom>
          <a:noFill/>
          <a:ln w="0">
            <a:noFill/>
          </a:ln>
        </p:spPr>
        <p:txBody>
          <a:bodyPr lIns="90000" rIns="90000" tIns="46800" bIns="46800" anchor="t">
            <a:normAutofit fontScale="96000"/>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Środki przeznaczone w ramach RPO WK-P na rozwój funkcji kulturalnej </a:t>
            </a:r>
            <a:br>
              <a:rPr sz="2000"/>
            </a:br>
            <a:r>
              <a:rPr b="0" lang="pl-PL" sz="2000" spc="-1" strike="noStrike">
                <a:solidFill>
                  <a:srgbClr val="000000"/>
                </a:solidFill>
                <a:latin typeface="Georgia"/>
              </a:rPr>
              <a:t>i turystycznej w Bydgoszczy i Toruniu, skierowane zostały na 3 główne typy projektów. Obszary te pokrywają się z tematyką osi priorytetowych, w ramach których były wdrażane. </a:t>
            </a:r>
            <a:endParaRPr b="0" lang="en-US" sz="20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ierwszy rodzaj przedsięwzięć dotyczył inwestycji w infrastrukturę kulturową </a:t>
            </a:r>
            <a:br>
              <a:rPr sz="2000"/>
            </a:br>
            <a:r>
              <a:rPr b="0" lang="pl-PL" sz="2000" spc="-1" strike="noStrike">
                <a:solidFill>
                  <a:srgbClr val="000000"/>
                </a:solidFill>
                <a:latin typeface="Georgia"/>
              </a:rPr>
              <a:t>i ochronę dziedzictwa kulturowego. Projekty te wdrażane były w ramach 3 osi priorytetowej, a ich wartość oszacowana na podstawie bazy SIMIK, wyniosła 81 mln zł.</a:t>
            </a:r>
            <a:endParaRPr b="0" lang="en-US" sz="20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Kolejną grupą projektów, są inwestycje realizowane w ramach 6 osi priorytetowej RPO WK-P. Działania te dotyczą rozwoju infrastruktury turystycznej, a przeznaczono na nie 93 mln zł. Wśród inwestycji znalazły się dwie dotyczące budowy hoteli w Bydgoszczy. W kontekście</a:t>
            </a:r>
            <a:r>
              <a:rPr b="0" i="1" lang="pl-PL" sz="2000" spc="-1" strike="noStrike">
                <a:solidFill>
                  <a:srgbClr val="000000"/>
                </a:solidFill>
                <a:latin typeface="Georgia"/>
              </a:rPr>
              <a:t> </a:t>
            </a:r>
            <a:r>
              <a:rPr b="0" lang="pl-PL" sz="2000" spc="-1" strike="noStrike">
                <a:solidFill>
                  <a:srgbClr val="000000"/>
                </a:solidFill>
                <a:latin typeface="Georgia"/>
              </a:rPr>
              <a:t>celu głównego badania, projekty te są bardzo dobrym przykładem wpływu środków RPO WK-P na rozwój funkcji metropolitalnych.</a:t>
            </a:r>
            <a:endParaRPr b="0" lang="en-US" sz="20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Ostatnia grupa projektów, wyróżniona na podstawie informacji z bazy SIMIK, uwzględnia inwestycje w ramach 7 osi priorytetowej. Jej zakres tematyczny nie odnosi się wprost do żadnego z wyżej wyróżnionych wymiarów (infrastruktura kultury i turystyki). Projekty realizowane w tej osi, dotyczą rewitalizacji przestrzeni miejskiej. Na tego typu inwestycje przeznaczono w sumie 136 mln zł. </a:t>
            </a:r>
            <a:endParaRPr b="0" lang="en-US" sz="2000" spc="-1" strike="noStrike">
              <a:solidFill>
                <a:srgbClr val="000000"/>
              </a:solidFill>
              <a:latin typeface="Georgia"/>
            </a:endParaRPr>
          </a:p>
        </p:txBody>
      </p:sp>
      <p:sp>
        <p:nvSpPr>
          <p:cNvPr id="430"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9CFA-B8E7-40D8-9D6C-C7BEE55AD902}"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31"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rebuchet MS"/>
              </a:rPr>
              <a:t>Obszar instytucjonalny</a:t>
            </a:r>
            <a:endParaRPr b="0" lang="en-US" sz="4400" spc="-1" strike="noStrike">
              <a:solidFill>
                <a:srgbClr val="424456"/>
              </a:solidFill>
              <a:latin typeface="Trebuchet MS"/>
            </a:endParaRPr>
          </a:p>
        </p:txBody>
      </p:sp>
      <p:sp>
        <p:nvSpPr>
          <p:cNvPr id="433"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434"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892C-E811-4995-841F-85AA49D1B2DD}"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424456"/>
                </a:solidFill>
                <a:latin typeface="Trebuchet MS"/>
              </a:rPr>
              <a:t>Potencjały i funkcje miast</a:t>
            </a:r>
            <a:endParaRPr b="0" lang="en-US" sz="2400" spc="-1" strike="noStrike">
              <a:solidFill>
                <a:srgbClr val="424456"/>
              </a:solidFill>
              <a:latin typeface="Trebuchet MS"/>
            </a:endParaRPr>
          </a:p>
        </p:txBody>
      </p:sp>
      <p:graphicFrame>
        <p:nvGraphicFramePr>
          <p:cNvPr id="288" name=""/>
          <p:cNvGraphicFramePr/>
          <p:nvPr/>
        </p:nvGraphicFramePr>
        <p:xfrm>
          <a:off x="457200" y="1197000"/>
          <a:ext cx="8229600" cy="5192640"/>
        </p:xfrm>
        <a:graphic>
          <a:graphicData uri="http://schemas.openxmlformats.org/drawingml/2006/table">
            <a:tbl>
              <a:tblPr/>
              <a:tblGrid>
                <a:gridCol w="1936800"/>
                <a:gridCol w="1963800"/>
                <a:gridCol w="4329000"/>
              </a:tblGrid>
              <a:tr h="1067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rebuchet MS"/>
                          <a:ea typeface="Times New Roman"/>
                        </a:rPr>
                        <a:t>Obszar analiz</a:t>
                      </a:r>
                      <a:endParaRPr b="0" lang="en-US" sz="1600" spc="-1" strike="noStrike">
                        <a:solidFill>
                          <a:srgbClr val="000000"/>
                        </a:solidFill>
                        <a:latin typeface="Arial"/>
                      </a:endParaRPr>
                    </a:p>
                  </a:txBody>
                  <a:tcPr anchor="ctr" marL="90000" marR="90000">
                    <a:lnL w="12240">
                      <a:solidFill>
                        <a:srgbClr val="4f6228"/>
                      </a:solidFill>
                    </a:lnL>
                    <a:lnR w="5760">
                      <a:solidFill>
                        <a:srgbClr val="4f6228"/>
                      </a:solidFill>
                    </a:lnR>
                    <a:lnT w="12240">
                      <a:solidFill>
                        <a:srgbClr val="4f6228"/>
                      </a:solidFill>
                    </a:lnT>
                    <a:lnB w="5760">
                      <a:solidFill>
                        <a:srgbClr val="4f6228"/>
                      </a:solidFill>
                    </a:lnB>
                    <a:solidFill>
                      <a:srgbClr val="22404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rebuchet MS"/>
                          <a:ea typeface="Times New Roman"/>
                        </a:rPr>
                        <a:t>Potencjał/ funkcja metropolitalna</a:t>
                      </a:r>
                      <a:endParaRPr b="0" lang="en-US" sz="1600" spc="-1" strike="noStrike">
                        <a:solidFill>
                          <a:srgbClr val="000000"/>
                        </a:solidFill>
                        <a:latin typeface="Arial"/>
                      </a:endParaRPr>
                    </a:p>
                  </a:txBody>
                  <a:tcPr anchor="ctr" marL="90000" marR="90000">
                    <a:lnL w="5760">
                      <a:solidFill>
                        <a:srgbClr val="4f6228"/>
                      </a:solidFill>
                    </a:lnL>
                    <a:lnR w="5760">
                      <a:solidFill>
                        <a:srgbClr val="4f6228"/>
                      </a:solidFill>
                    </a:lnR>
                    <a:lnT w="12240">
                      <a:solidFill>
                        <a:srgbClr val="4f6228"/>
                      </a:solidFill>
                    </a:lnT>
                    <a:lnB w="5760">
                      <a:solidFill>
                        <a:srgbClr val="4f6228"/>
                      </a:solidFill>
                    </a:lnB>
                    <a:solidFill>
                      <a:srgbClr val="22404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Trebuchet MS"/>
                          <a:ea typeface="Times New Roman"/>
                        </a:rPr>
                        <a:t>Wymiary analizy</a:t>
                      </a:r>
                      <a:endParaRPr b="0" lang="en-US" sz="1600" spc="-1" strike="noStrike">
                        <a:solidFill>
                          <a:srgbClr val="000000"/>
                        </a:solidFill>
                        <a:latin typeface="Arial"/>
                      </a:endParaRPr>
                    </a:p>
                  </a:txBody>
                  <a:tcPr anchor="ctr" marL="90000" marR="90000">
                    <a:lnL w="5760">
                      <a:solidFill>
                        <a:srgbClr val="4f6228"/>
                      </a:solidFill>
                    </a:lnL>
                    <a:lnR w="12240">
                      <a:solidFill>
                        <a:srgbClr val="4f6228"/>
                      </a:solidFill>
                    </a:lnR>
                    <a:lnT w="12240">
                      <a:solidFill>
                        <a:srgbClr val="4f6228"/>
                      </a:solidFill>
                    </a:lnT>
                    <a:lnB w="5760">
                      <a:solidFill>
                        <a:srgbClr val="4f6228"/>
                      </a:solidFill>
                    </a:lnB>
                    <a:solidFill>
                      <a:srgbClr val="224043"/>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Zasoby ludzkie</a:t>
                      </a:r>
                      <a:endParaRPr b="0" lang="en-US" sz="1400" spc="-1" strike="noStrike">
                        <a:solidFill>
                          <a:srgbClr val="000000"/>
                        </a:solidFill>
                        <a:latin typeface="Arial"/>
                      </a:endParaRPr>
                    </a:p>
                  </a:txBody>
                  <a:tcPr anchor="ctr" marL="90000" marR="90000">
                    <a:lnL w="1224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Times New Roman"/>
                        </a:rPr>
                        <a:t>Potencjał ludzki</a:t>
                      </a:r>
                      <a:endParaRPr b="0" lang="en-US" sz="1400" spc="-1" strike="noStrike">
                        <a:solidFill>
                          <a:srgbClr val="000000"/>
                        </a:solidFill>
                        <a:latin typeface="Arial"/>
                      </a:endParaRPr>
                    </a:p>
                  </a:txBody>
                  <a:tcPr anchor="ctr" marL="90000" marR="90000">
                    <a:lnL w="576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Potencjał ludzki </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4f6228"/>
                      </a:solidFill>
                    </a:lnT>
                    <a:lnB w="5760">
                      <a:solidFill>
                        <a:srgbClr val="4f6228"/>
                      </a:solidFill>
                    </a:lnB>
                    <a:noFill/>
                  </a:tcPr>
                </a:tc>
              </a:tr>
              <a:tr h="30708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Obszar gospodarczy</a:t>
                      </a:r>
                      <a:endParaRPr b="0" lang="en-US" sz="1400" spc="-1" strike="noStrike">
                        <a:solidFill>
                          <a:srgbClr val="000000"/>
                        </a:solidFill>
                        <a:latin typeface="Arial"/>
                      </a:endParaRPr>
                    </a:p>
                  </a:txBody>
                  <a:tcPr anchor="ctr" marL="90000" marR="90000">
                    <a:lnL w="12240">
                      <a:solidFill>
                        <a:srgbClr val="4f6228"/>
                      </a:solidFill>
                    </a:lnL>
                    <a:lnR w="5760">
                      <a:solidFill>
                        <a:srgbClr val="4f6228"/>
                      </a:solidFill>
                    </a:lnR>
                    <a:lnT w="5760">
                      <a:solidFill>
                        <a:srgbClr val="4f6228"/>
                      </a:solidFill>
                    </a:lnT>
                    <a:lnB w="5760">
                      <a:solidFill>
                        <a:srgbClr val="4f6228"/>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Times New Roman"/>
                        </a:rPr>
                        <a:t>Funkcja gospodarczo-finansowa</a:t>
                      </a:r>
                      <a:endParaRPr b="0" lang="en-US" sz="1400" spc="-1" strike="noStrike">
                        <a:solidFill>
                          <a:srgbClr val="000000"/>
                        </a:solidFill>
                        <a:latin typeface="Arial"/>
                      </a:endParaRPr>
                    </a:p>
                  </a:txBody>
                  <a:tcPr anchor="ctr" marL="90000" marR="90000">
                    <a:lnL w="576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Infrastruktura wspierania biznesu</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4f6228"/>
                      </a:solidFill>
                    </a:lnT>
                    <a:lnB w="5760">
                      <a:solidFill>
                        <a:srgbClr val="4f6228"/>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Zatrudnienie w usługach rynkowych</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4f6228"/>
                      </a:solidFill>
                    </a:lnT>
                    <a:lnB w="5760">
                      <a:solidFill>
                        <a:srgbClr val="4f6228"/>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Zróżnicowanie środowiska biznesowego </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4f6228"/>
                      </a:solidFill>
                    </a:lnT>
                    <a:lnB w="5760">
                      <a:solidFill>
                        <a:srgbClr val="4f6228"/>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Obszar naukowo-badawczy</a:t>
                      </a:r>
                      <a:endParaRPr b="0" lang="en-US" sz="1400" spc="-1" strike="noStrike">
                        <a:solidFill>
                          <a:srgbClr val="000000"/>
                        </a:solidFill>
                        <a:latin typeface="Arial"/>
                      </a:endParaRPr>
                    </a:p>
                  </a:txBody>
                  <a:tcPr anchor="ctr" marL="90000" marR="90000">
                    <a:lnL w="1224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Times New Roman"/>
                        </a:rPr>
                        <a:t>Funkcja naukowo-badawcza</a:t>
                      </a:r>
                      <a:endParaRPr b="0" lang="en-US" sz="1400" spc="-1" strike="noStrike">
                        <a:solidFill>
                          <a:srgbClr val="000000"/>
                        </a:solidFill>
                        <a:latin typeface="Arial"/>
                      </a:endParaRPr>
                    </a:p>
                  </a:txBody>
                  <a:tcPr anchor="ctr" marL="90000" marR="90000">
                    <a:lnL w="576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Zaplecze naukowo-badawcze, w tym liczba studentów</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4f6228"/>
                      </a:solidFill>
                    </a:lnT>
                    <a:lnB w="5760">
                      <a:solidFill>
                        <a:srgbClr val="83bcc1"/>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Obszar infrastrukturalny</a:t>
                      </a:r>
                      <a:endParaRPr b="0" lang="en-US" sz="1400" spc="-1" strike="noStrike">
                        <a:solidFill>
                          <a:srgbClr val="000000"/>
                        </a:solidFill>
                        <a:latin typeface="Arial"/>
                      </a:endParaRPr>
                    </a:p>
                  </a:txBody>
                  <a:tcPr anchor="ctr" marL="90000" marR="90000">
                    <a:lnL w="1224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Times New Roman"/>
                        </a:rPr>
                        <a:t>Funkcja komunikacyjna i informacyjna</a:t>
                      </a:r>
                      <a:endParaRPr b="0" lang="en-US" sz="1400" spc="-1" strike="noStrike">
                        <a:solidFill>
                          <a:srgbClr val="000000"/>
                        </a:solidFill>
                        <a:latin typeface="Arial"/>
                      </a:endParaRPr>
                    </a:p>
                  </a:txBody>
                  <a:tcPr anchor="ctr" marL="90000" marR="90000">
                    <a:lnL w="576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Infrastruktura transportowa i jej powiązania międzynarodowe</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83bcc1"/>
                      </a:solidFill>
                    </a:lnT>
                    <a:lnB w="5760">
                      <a:solidFill>
                        <a:srgbClr val="4f6228"/>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Obszar kulturowy i turystyczny</a:t>
                      </a:r>
                      <a:endParaRPr b="0" lang="en-US" sz="1400" spc="-1" strike="noStrike">
                        <a:solidFill>
                          <a:srgbClr val="000000"/>
                        </a:solidFill>
                        <a:latin typeface="Arial"/>
                      </a:endParaRPr>
                    </a:p>
                  </a:txBody>
                  <a:tcPr anchor="ctr" marL="90000" marR="90000">
                    <a:lnL w="1224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Times New Roman"/>
                        </a:rPr>
                        <a:t>Funkcja kulturalno-turystyczna</a:t>
                      </a:r>
                      <a:endParaRPr b="0" lang="en-US" sz="1400" spc="-1" strike="noStrike">
                        <a:solidFill>
                          <a:srgbClr val="000000"/>
                        </a:solidFill>
                        <a:latin typeface="Arial"/>
                      </a:endParaRPr>
                    </a:p>
                  </a:txBody>
                  <a:tcPr anchor="ctr" marL="90000" marR="90000">
                    <a:lnL w="5760">
                      <a:solidFill>
                        <a:srgbClr val="4f6228"/>
                      </a:solidFill>
                    </a:lnL>
                    <a:lnR w="5760">
                      <a:solidFill>
                        <a:srgbClr val="4f6228"/>
                      </a:solidFill>
                    </a:lnR>
                    <a:lnT w="5760">
                      <a:solidFill>
                        <a:srgbClr val="4f6228"/>
                      </a:solidFill>
                    </a:lnT>
                    <a:lnB w="576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Wymiar kulturowy</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4f6228"/>
                      </a:solidFill>
                    </a:lnT>
                    <a:lnB w="5760">
                      <a:solidFill>
                        <a:srgbClr val="4f6228"/>
                      </a:solidFill>
                    </a:lnB>
                    <a:no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Obszar instytucjonalny</a:t>
                      </a:r>
                      <a:endParaRPr b="0" lang="en-US" sz="1400" spc="-1" strike="noStrike">
                        <a:solidFill>
                          <a:srgbClr val="000000"/>
                        </a:solidFill>
                        <a:latin typeface="Arial"/>
                      </a:endParaRPr>
                    </a:p>
                  </a:txBody>
                  <a:tcPr anchor="ctr" marL="90000" marR="90000">
                    <a:lnL w="12240">
                      <a:solidFill>
                        <a:srgbClr val="4f6228"/>
                      </a:solidFill>
                    </a:lnL>
                    <a:lnR w="5760">
                      <a:solidFill>
                        <a:srgbClr val="4f6228"/>
                      </a:solidFill>
                    </a:lnR>
                    <a:lnT w="5760">
                      <a:solidFill>
                        <a:srgbClr val="4f6228"/>
                      </a:solidFill>
                    </a:lnT>
                    <a:lnB w="1224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rebuchet MS"/>
                          <a:ea typeface="Times New Roman"/>
                        </a:rPr>
                        <a:t>Funkcja administracyjno-polityczna</a:t>
                      </a:r>
                      <a:endParaRPr b="0" lang="en-US" sz="1400" spc="-1" strike="noStrike">
                        <a:solidFill>
                          <a:srgbClr val="000000"/>
                        </a:solidFill>
                        <a:latin typeface="Arial"/>
                      </a:endParaRPr>
                    </a:p>
                  </a:txBody>
                  <a:tcPr anchor="ctr" marL="90000" marR="90000">
                    <a:lnL w="5760">
                      <a:solidFill>
                        <a:srgbClr val="4f6228"/>
                      </a:solidFill>
                    </a:lnL>
                    <a:lnR w="5760">
                      <a:solidFill>
                        <a:srgbClr val="4f6228"/>
                      </a:solidFill>
                    </a:lnR>
                    <a:lnT w="5760">
                      <a:solidFill>
                        <a:srgbClr val="4f6228"/>
                      </a:solidFill>
                    </a:lnT>
                    <a:lnB w="12240">
                      <a:solidFill>
                        <a:srgbClr val="4f6228"/>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rebuchet MS"/>
                          <a:ea typeface="Times New Roman"/>
                        </a:rPr>
                        <a:t>Administracja regionalna i lokalna</a:t>
                      </a:r>
                      <a:endParaRPr b="0" lang="en-US" sz="1400" spc="-1" strike="noStrike">
                        <a:solidFill>
                          <a:srgbClr val="000000"/>
                        </a:solidFill>
                        <a:latin typeface="Arial"/>
                      </a:endParaRPr>
                    </a:p>
                  </a:txBody>
                  <a:tcPr anchor="ctr" marL="90000" marR="90000">
                    <a:lnL w="5760">
                      <a:solidFill>
                        <a:srgbClr val="4f6228"/>
                      </a:solidFill>
                    </a:lnL>
                    <a:lnR w="12240">
                      <a:solidFill>
                        <a:srgbClr val="4f6228"/>
                      </a:solidFill>
                    </a:lnR>
                    <a:lnT w="5760">
                      <a:solidFill>
                        <a:srgbClr val="4f6228"/>
                      </a:solidFill>
                    </a:lnT>
                    <a:lnB w="12240">
                      <a:solidFill>
                        <a:srgbClr val="4f6228"/>
                      </a:solidFill>
                    </a:lnB>
                    <a:noFill/>
                  </a:tcPr>
                </a:tc>
              </a:tr>
            </a:tbl>
          </a:graphicData>
        </a:graphic>
      </p:graphicFrame>
      <p:sp>
        <p:nvSpPr>
          <p:cNvPr id="289"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E429-AE4C-4CB6-AB6A-3E3D3E7E9C18}"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6836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424456"/>
                </a:solidFill>
                <a:uFillTx/>
                <a:latin typeface="Trebuchet MS"/>
              </a:rPr>
              <a:t>Obszar instytucjonalny</a:t>
            </a:r>
            <a:endParaRPr b="0" lang="en-US" sz="2400" spc="-1" strike="noStrike">
              <a:solidFill>
                <a:srgbClr val="424456"/>
              </a:solidFill>
              <a:latin typeface="Trebuchet MS"/>
            </a:endParaRPr>
          </a:p>
        </p:txBody>
      </p:sp>
      <p:sp>
        <p:nvSpPr>
          <p:cNvPr id="436" name=""/>
          <p:cNvSpPr txBox="1"/>
          <p:nvPr/>
        </p:nvSpPr>
        <p:spPr>
          <a:xfrm>
            <a:off x="395280" y="1052280"/>
            <a:ext cx="8229600" cy="507348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Georgia"/>
              </a:rPr>
              <a:t>Potencjał administracyjno-polityczny obu ośrodków jest niewielki. Miasta pełnią ważną rolę administracyjną, ale wyłącznie w skali regionalnej, tu lokują się ważne z punktu widzenia społeczności lokalnych instytucje wojewódzkie i marszałkowskie.</a:t>
            </a:r>
            <a:r>
              <a:rPr b="0" lang="pl-PL" sz="2000" spc="-1" strike="noStrike">
                <a:solidFill>
                  <a:srgbClr val="000000"/>
                </a:solidFill>
                <a:latin typeface="Georgia"/>
              </a:rPr>
              <a:t> </a:t>
            </a:r>
            <a:endParaRPr b="0" lang="en-US" sz="20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W ośrodkach, gdy mówimy o ich funkcjach administracyjnych:</a:t>
            </a:r>
            <a:endParaRPr b="0" lang="en-US" sz="20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nie występują jednak żadne wyraźne przewagi powiązań międzymetropolitalnych nad powiązaniami regionalnymi. Trudno przyznać im role ponadregionalnych centrów o charakterze decyzyjnym, czy kontrolnym. </a:t>
            </a:r>
            <a:endParaRPr b="0" lang="en-US" sz="20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 obecność placówek dyplomatycznych, głownie w  randze konsulatów, może sprzyjać rozwojowi powiązań międzynarodowych, choć w ograniczonym zakresie.</a:t>
            </a:r>
            <a:endParaRPr b="0" lang="en-US" sz="2000" spc="-1" strike="noStrike">
              <a:solidFill>
                <a:srgbClr val="000000"/>
              </a:solidFill>
              <a:latin typeface="Georgia"/>
            </a:endParaRPr>
          </a:p>
        </p:txBody>
      </p:sp>
      <p:sp>
        <p:nvSpPr>
          <p:cNvPr id="437"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1E09-C9A8-4DA9-A950-3C0ACCAE939E}"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38"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Trebuchet MS"/>
              </a:rPr>
              <a:t>Wpływ programów finansowanych </a:t>
            </a:r>
            <a:br>
              <a:rPr sz="4000"/>
            </a:br>
            <a:r>
              <a:rPr b="0" lang="pl-PL" sz="4000" spc="-1" strike="noStrike">
                <a:solidFill>
                  <a:srgbClr val="ffffff"/>
                </a:solidFill>
                <a:latin typeface="Trebuchet MS"/>
              </a:rPr>
              <a:t>z UE na rozwój administracji</a:t>
            </a:r>
            <a:endParaRPr b="0" lang="en-US" sz="4000" spc="-1" strike="noStrike">
              <a:solidFill>
                <a:srgbClr val="424456"/>
              </a:solidFill>
              <a:latin typeface="Trebuchet MS"/>
            </a:endParaRPr>
          </a:p>
        </p:txBody>
      </p:sp>
      <p:sp>
        <p:nvSpPr>
          <p:cNvPr id="44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441"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6879-19B3-45BB-BBFF-AED2EC7AC570}"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250920" y="14400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24456"/>
                </a:solidFill>
                <a:latin typeface="Trebuchet MS"/>
              </a:rPr>
              <a:t>Administracja</a:t>
            </a:r>
            <a:endParaRPr b="0" lang="en-US" sz="2400" spc="-1" strike="noStrike">
              <a:solidFill>
                <a:srgbClr val="424456"/>
              </a:solidFill>
              <a:latin typeface="Trebuchet MS"/>
            </a:endParaRPr>
          </a:p>
        </p:txBody>
      </p:sp>
      <p:sp>
        <p:nvSpPr>
          <p:cNvPr id="443" name=""/>
          <p:cNvSpPr txBox="1"/>
          <p:nvPr/>
        </p:nvSpPr>
        <p:spPr>
          <a:xfrm>
            <a:off x="395280" y="765000"/>
            <a:ext cx="8424720" cy="53611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Georgia"/>
              </a:rPr>
              <a:t>.</a:t>
            </a:r>
            <a:endParaRPr b="0" lang="en-US" sz="1800" spc="-1" strike="noStrike">
              <a:solidFill>
                <a:srgbClr val="000000"/>
              </a:solidFill>
              <a:latin typeface="Georgia"/>
            </a:endParaRPr>
          </a:p>
        </p:txBody>
      </p:sp>
      <p:sp>
        <p:nvSpPr>
          <p:cNvPr id="444" name="Symbol zastępczy numeru slajdu 6"/>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36E55-10CF-4C0F-B1C0-E719ED607A57}"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45"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Wykres 7" descr=""/>
          <p:cNvPicPr/>
          <p:nvPr/>
        </p:nvPicPr>
        <p:blipFill>
          <a:blip r:embed="rId1"/>
          <a:stretch/>
        </p:blipFill>
        <p:spPr>
          <a:xfrm>
            <a:off x="171360" y="1620720"/>
            <a:ext cx="8801280" cy="4981680"/>
          </a:xfrm>
          <a:prstGeom prst="rect">
            <a:avLst/>
          </a:prstGeom>
          <a:ln w="0">
            <a:noFill/>
          </a:ln>
        </p:spPr>
      </p:pic>
      <p:sp>
        <p:nvSpPr>
          <p:cNvPr id="447" name="Prostokąt 8"/>
          <p:cNvSpPr/>
          <p:nvPr/>
        </p:nvSpPr>
        <p:spPr>
          <a:xfrm>
            <a:off x="324000" y="98100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eorgia"/>
              </a:rPr>
              <a:t>Projekty wdrażane w Bydgoszczy i Toruniu wspierające rozwój administracji w Bydgoszczy i Toru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50920" y="144000"/>
            <a:ext cx="822960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424456"/>
                </a:solidFill>
                <a:latin typeface="Trebuchet MS"/>
              </a:rPr>
              <a:t>Administracja</a:t>
            </a:r>
            <a:endParaRPr b="0" lang="en-US" sz="2400" spc="-1" strike="noStrike">
              <a:solidFill>
                <a:srgbClr val="424456"/>
              </a:solidFill>
              <a:latin typeface="Trebuchet MS"/>
            </a:endParaRPr>
          </a:p>
        </p:txBody>
      </p:sp>
      <p:sp>
        <p:nvSpPr>
          <p:cNvPr id="449" name=""/>
          <p:cNvSpPr txBox="1"/>
          <p:nvPr/>
        </p:nvSpPr>
        <p:spPr>
          <a:xfrm>
            <a:off x="395280" y="907920"/>
            <a:ext cx="8424720" cy="554544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Analizując wpływ RPO WK-P na rozwój funkcji politycznej i administracyjnej przez pryzmat realizowanych celów należy mieć na uwadze specyfikę realizowanych projektów oraz charakterystykę samych beneficjentów. W głównej mierze byli nimi przedstawiciele JST oraz innych jednostek budżetowych. Realizowane projekty dotyczyły najczęściej:</a:t>
            </a:r>
            <a:endParaRPr b="0" lang="en-US" sz="2000" spc="-1" strike="noStrike">
              <a:solidFill>
                <a:srgbClr val="000000"/>
              </a:solidFill>
              <a:latin typeface="Georgia"/>
            </a:endParaRPr>
          </a:p>
          <a:p>
            <a:pPr>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inwestycja w nieruchomości (np. w termomodernizację),</a:t>
            </a:r>
            <a:endParaRPr b="0" lang="en-US" sz="2000" spc="-1" strike="noStrike">
              <a:solidFill>
                <a:srgbClr val="000000"/>
              </a:solidFill>
              <a:latin typeface="Georgia"/>
            </a:endParaRPr>
          </a:p>
          <a:p>
            <a:pPr>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inwestycja w środki trwałe,</a:t>
            </a:r>
            <a:endParaRPr b="0" lang="en-US" sz="2000" spc="-1" strike="noStrike">
              <a:solidFill>
                <a:srgbClr val="000000"/>
              </a:solidFill>
              <a:latin typeface="Georgia"/>
            </a:endParaRPr>
          </a:p>
          <a:p>
            <a:pPr>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podniesienie kwalifikacji zawodowych urzędników.</a:t>
            </a:r>
            <a:endParaRPr b="0" lang="en-US" sz="2000" spc="-1" strike="noStrike">
              <a:solidFill>
                <a:srgbClr val="000000"/>
              </a:solidFill>
              <a:latin typeface="Georgia"/>
            </a:endParaRPr>
          </a:p>
          <a:p>
            <a:pPr>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Georgia"/>
              </a:rPr>
              <a:t>Wśród optymalnych instrumentów, przynoszących najlepsze efekty w odniesieniu do rozwoju opisywanego potencjału i funkcji metropolitalnej należy wymienić dwa elementy. Pierwszy z nich to inwestycje w zakresie termomodernizacji i unowocześniania infrastruktury administracyjnej, drugi to informatyzacja urzędu, dzięki której kontakt mieszkańców z pracownikami urzędu może odbywać się drogą internetową.</a:t>
            </a:r>
            <a:endParaRPr b="0" lang="en-US" sz="2000" spc="-1" strike="noStrike">
              <a:solidFill>
                <a:srgbClr val="000000"/>
              </a:solidFill>
              <a:latin typeface="Georgia"/>
            </a:endParaRPr>
          </a:p>
        </p:txBody>
      </p:sp>
      <p:sp>
        <p:nvSpPr>
          <p:cNvPr id="450" name="Symbol zastępczy numeru slajdu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9719-187B-4628-91E7-C3A5964E3ECD}"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51" name="Rectangle 3"/>
          <p:cNvSpPr/>
          <p:nvPr/>
        </p:nvSpPr>
        <p:spPr>
          <a:xfrm>
            <a:off x="457200" y="2381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ymbol zastępczy numeru slajdu 2"/>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31C8-2629-42D3-949F-77BD610C8D84}"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53" name="PlaceHolder 1"/>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454" name="PlaceHolder 2"/>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rebuchet MS"/>
              </a:rPr>
              <a:t>Wnioski i rekomendacje</a:t>
            </a:r>
            <a:endParaRPr b="0" lang="en-US" sz="44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1BEA-123E-4BE0-B57F-C26A50369F9C}"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56" name="PlaceHolder 1"/>
          <p:cNvSpPr>
            <a:spLocks noGrp="1"/>
          </p:cNvSpPr>
          <p:nvPr>
            <p:ph/>
          </p:nvPr>
        </p:nvSpPr>
        <p:spPr>
          <a:xfrm>
            <a:off x="250560" y="764640"/>
            <a:ext cx="8893080" cy="6093000"/>
          </a:xfrm>
          <a:prstGeom prst="rect">
            <a:avLst/>
          </a:prstGeom>
          <a:noFill/>
          <a:ln w="0">
            <a:noFill/>
          </a:ln>
        </p:spPr>
        <p:txBody>
          <a:bodyPr lIns="90000" rIns="90000" tIns="46800" bIns="46800"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Spadek liczby mieszkańców w obu ośrodkach.</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ależy zachęcić (zwłaszcza osoby spoza regionu). do osiedlania się na terenie ośrodków wiodących w województwie.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prowadzić działania zmniejszające migrację zewnętrzną z ośrodków.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 przyszłym regionalnym programie operacyjnym należy zwiększyć udział interwencji skierowanych na rozwój przedsiębiorczości i tworzenie nowych miejsc pracy, w tym na rozwój systemu wsparcia dla abiturientów z ośrodków oraz dla absolwentów uczelni wyższych pozostających w ośrodkach.</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 celu zmniejszenia migracji zewnętrznych, należy wprowadzić działania zachęcające abiturientów z Bydgoszczy i Torunia do studiowania w tych ośrodkach (działania takie zaproponowane zostały w kolejnych rekomendacjach dot. uczelni wyższych), a później do osiedlenia się na ich terenie.</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Istotną kwestią jest także trwałe i regularne powiązanie znacznej liczby mieszkańców województwa z Bydgoszczą i Toruniem. Podstawowym warunkiem i szansą na osiągnięcie tego celu jest stworzenie systemu regionalnego transportu publicznego. Rozwiązanie takie zwiększy spójność pomiędzy ośrodkami stołecznymi a regionem. Może przełożyć się to na zwiększenie popytu mieszkańców województwa na ofertę obydwu miast, nie osłabiając jednocześnie pozycji całego regionu.</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1A06-B4F4-4F14-9B1C-93182BBA32D6}"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58"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yraźny rozrost sfery podmiejskiej w obu ośrodkach.</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większenie spójności wewnętrznej pomiędzy ośrodkami miejskimi (Bydgoszczy </a:t>
            </a:r>
            <a:br>
              <a:rPr sz="1600"/>
            </a:br>
            <a:r>
              <a:rPr b="0" lang="pl-PL" sz="1600" spc="-1" strike="noStrike">
                <a:solidFill>
                  <a:srgbClr val="000000"/>
                </a:solidFill>
                <a:latin typeface="Georgia"/>
              </a:rPr>
              <a:t>i Torunia) a strefą podmiejską.</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 celu zapewnienia wyższej jakości życia oraz zwiększenia mobilności mieszkańców stref podmiejskich, należy podjąć działania zmierzające do podniesienia jakości dotychczasowej infrastruktury społecznej (infrastruktura ochrony zdrowia, edukacji, przestrzeń publiczna) oraz komunikacyjnej (zwłaszcza publicznej) w bezpośrednim otoczeniu ośrodków miejskich.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nadto, należy podjąć działania mające na celu delimitację obszaru metropolitalnego. Umożliwi to zogniskowanie działań służących poprawie spójności wewnętrznej i infrastruktury oraz skupienie funkcji regionalnej w ośrodkach i ich bezpośrednim otoczeniu. W celu zagwarantowania zrównoważonego rozwoju obszarów podmiejskich należy na wszystkie JST wchodzące w skład obszaru metropolitalnego, nałożyć obowiązek opracowania miejscowych planów zagospodarowania przestrzennego.</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D3D2-8059-4768-BE2D-CFAD3C4555D8}"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60" name="PlaceHolder 1"/>
          <p:cNvSpPr>
            <a:spLocks noGrp="1"/>
          </p:cNvSpPr>
          <p:nvPr>
            <p:ph type="subTitle"/>
          </p:nvPr>
        </p:nvSpPr>
        <p:spPr>
          <a:xfrm>
            <a:off x="250560" y="593280"/>
            <a:ext cx="7777080" cy="6264360"/>
          </a:xfrm>
          <a:prstGeom prst="rect">
            <a:avLst/>
          </a:prstGeom>
          <a:noFill/>
          <a:ln w="0">
            <a:noFill/>
          </a:ln>
        </p:spPr>
        <p:txBody>
          <a:bodyPr lIns="90000" rIns="90000" tIns="46800" bIns="46800" anchor="t">
            <a:no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gospodarcza, funkcja naukowo-badawcza</a:t>
            </a:r>
            <a:endParaRPr b="0" lang="en-US" sz="1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większenie liczby ośrodków B+R oraz nakładów na ich działalność.</a:t>
            </a:r>
            <a:endParaRPr b="0" lang="en-US" sz="1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ależy w dalszym ciągu stymulować udział przedsiębiorstw w finansowaniu B+R.</a:t>
            </a:r>
            <a:endParaRPr b="0" lang="en-US" sz="16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 </a:t>
            </a:r>
            <a:r>
              <a:rPr b="0" lang="pl-PL" sz="1600" spc="-1" strike="noStrike">
                <a:solidFill>
                  <a:srgbClr val="000000"/>
                </a:solidFill>
                <a:latin typeface="Georgia"/>
              </a:rPr>
              <a:t>Ważne jest skorelowanie nauki z potrzebami gospodarki. Istotne w tym wymiarze staje się wspieranie procesów i działań naukowych, które wynikają z potrzeb rynkowych.</a:t>
            </a:r>
            <a:endParaRPr b="0" lang="en-US" sz="16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Wsparcie tworzenia spółek spin-off i spin out na bazie ośrodków B+R. </a:t>
            </a:r>
            <a:endParaRPr b="0" lang="en-US" sz="14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Działania skierowane na pomoc absolwentom, kończącym studia w ośrodkach stołecznych, w założeniu firmy sektora B+R lub pracy w tym sektorze.</a:t>
            </a:r>
            <a:endParaRPr b="0" lang="en-US" sz="14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Nakierowanie wsparcia na zapewnienie odpowiedniej kadry zdolnej do prowadzenia badań w powstałych ośrodkach B+R, w tym także ekspertów/specjalistów z zakresu komercjalizacji wiedzy.</a:t>
            </a:r>
            <a:endParaRPr b="0" lang="en-US" sz="14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Wsparcie inicjatyw mających na celu zaangażowanie kadry naukowej skoncentrowanej na badaniach naukowych, w podejmowanie współpracy z sektorem przedsiębiorstw. Elementem wpływającym na rozwój tego typu współpracy może być np. stworzenie centrum ochrony własności intelektualnej, zajmującego się zarówno komercjalizacją jak i ochroną patentową.</a:t>
            </a:r>
            <a:endParaRPr b="0" lang="en-US" sz="14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Wprowadzenie wskaźnika monitorowania rezultatów/wpływu projektów dotyczących uczelni wyższych oraz badań i rozwoju, opartego na ilości zgłoszonych oraz wdrożonych patentów.</a:t>
            </a:r>
            <a:endParaRPr b="0" lang="en-US" sz="1400" spc="-1" strike="noStrike">
              <a:solidFill>
                <a:srgbClr val="000000"/>
              </a:solidFill>
              <a:latin typeface="Georgia"/>
            </a:endParaRPr>
          </a:p>
          <a:p>
            <a:pPr marL="365040" indent="-255600">
              <a:lnSpc>
                <a:spcPct val="9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Georgia"/>
              </a:rPr>
              <a:t>Premiowanie inicjatyw naukowo badawczych opierających się o współpracę między uczelniami obu ośrodków.</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0886-4152-4CD1-9325-A1A2D1F14AB3}"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62" name="PlaceHolder 1"/>
          <p:cNvSpPr>
            <a:spLocks noGrp="1"/>
          </p:cNvSpPr>
          <p:nvPr>
            <p:ph type="subTitle"/>
          </p:nvPr>
        </p:nvSpPr>
        <p:spPr>
          <a:xfrm>
            <a:off x="468000" y="665280"/>
            <a:ext cx="7777080" cy="619272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naukowo-badawcza</a:t>
            </a:r>
            <a:endParaRPr b="0" lang="en-US" sz="1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rognozowany spadek liczby studentów.</a:t>
            </a:r>
            <a:endParaRPr b="0" lang="en-US" sz="1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większenie atrakcyjności Bydgoszczy i Torunia jako ośrodków akademickich. </a:t>
            </a:r>
            <a:endParaRPr b="0" lang="en-US" sz="1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większenie zintegrowania działań uczelni z Bydgoszczy i Torunia np. poprzez premiowanie wspólnych przedsięwzięć.</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ależy podjąć dalsze działania zmierzające do podniesienia jakości dotychczasowej infrastruktury, którą dysponują ośrodki akademickie umiejscowione na terenie Torunia i Bydgoszczy (np. nowoczesne laboratoria, szeroko rozumiana baza dydaktyczno-naukowa).</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dniesienie atrakcyjności i jakości studiowania poprzez wsparcie kierunków (np. zamawiane kierunki studiów wynikające stricte z potrzeb gospodarki) zdolnych przyciągnąć studentów z regionu i spoza niego.</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Umiędzynarodowienie studiów i wzrost liczby studentów zagranicznych poprzez wprowadzenie anglojęzycznych kierunków, organizowanie szkół letnich i innych form nauczania.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remiowanie przedsiębiorstw zatrudniających absolwentów uczelni w regionie.</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spółpraca z sektorem biznesu przy wprowadzaniu nowych kierunków studiów w tym zapewnienie możliwości odbywania praktyk w przedsiębiorstwach.</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501D-0507-4730-9F5B-A3B0C3D7884E}"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64"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kulturowo-turystyczn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Funkcja kulturowo-turystyczna oraz sportowa może stanowić istotną funkcję metropolitalną ośrodków.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ależy podjąć działania zmierzające do rozwijania funkcji kulturowo-turystycznej w Bydgoszczy i Toruniu.</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dtrzymywanie wysokiego finansowania w zakresie funkcji kulturowo-turystycznej. Wprowadzenie finansowania tego obszaru z różnych źródeł, nie tylko ze środków unijnych.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Rekomenduje się planowanie wspólnych projektów Bydgoszczy i Torunia w tym zakresie. Powstać powinna wspólna i komplementarna strategia rozwoju turystyki i promocji.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Rozwój bazy targowej i kongresowej oraz łączenie funkcji kulturowo-turystycznej z turystyką targowo-kongresową i wystawienniczą, pod warunkiem wzajemnego uzupełniania się a nie konkurencji.</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rebuchet MS"/>
              </a:rPr>
              <a:t>Główne wyniki badania</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292"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5F23-8842-46B8-906F-E6EDB1FF87D8}"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7668-A8E4-4833-B697-7D2E6F160597}"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66"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gospodarcz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Kontynuowanie działań służących wsparciu przedsiębiorczości.</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większanie zainteresowania szczególnie renomowanych firm (w tym zagranicznych) inwestowaniem na terenie ośrodków.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Realizacja odpowiedniej strategii promocji Bydgoszczy i Torunia jako ośrodków przyjaznych inwestorom poprzez udział </a:t>
            </a:r>
            <a:br>
              <a:rPr sz="1600"/>
            </a:br>
            <a:r>
              <a:rPr b="0" lang="pl-PL" sz="1600" spc="-1" strike="noStrike">
                <a:solidFill>
                  <a:srgbClr val="000000"/>
                </a:solidFill>
                <a:latin typeface="Georgia"/>
              </a:rPr>
              <a:t>w międzynarodowych targach gospodarczych. Należy zwiększyć efektywność udziału w targach np. monitorując ilości nawiązanych kontaktów handlowych/podpisanych porozumień z inwestorami.</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rzygotowanie infrastruktury ułatwiającej inwestycje. Istotne jest także zwiększanie współpracy firm z sektorem B+R oraz wzmacnianie podmiotów otoczenia biznesu.</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większenie atrakcyjności inwestycyjnej poprzez nałożenie obowiązku opracowania miejscowych planów zagospodarowania przestrzennego.</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sparcie inicjatyw klastrowych w celu integracji środowisk biznesu oraz podniesienia ich konkurencyjności.</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311F-8390-4C44-813A-C50D682DF90A}"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68"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gospodarcza, funkcja naukowo-badawcza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Stymulowanie łączenia projektów infrastrukturalnych z projektami rozwijającymi kompetencje i kwalifikacje, szczególnie w projektach wdrażanych przez uczelnie wyższe.</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zmocnienie, egzekwowanie i ułatwienie komplementarności między projektami twardymi obejmującymi infrastrukturę zaplecza naukowego uczelni wyższych z adekwatnymi działaniami miękkimi.</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Systemowym rozwiązaniem stymulowania komplementarności działań inwestycyjnych z tzw. elementami miękkimi, jest dopuszczenie realizacji obu typów działań w jednym projekcie. Należy zadbać o promocję i wdrażanie tego typu rozwiązania.</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4153-2BAC-4E57-BCE1-D891DD6FCDD0}"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70" name="PlaceHolder 1"/>
          <p:cNvSpPr>
            <a:spLocks noGrp="1"/>
          </p:cNvSpPr>
          <p:nvPr>
            <p:ph type="subTitle"/>
          </p:nvPr>
        </p:nvSpPr>
        <p:spPr>
          <a:xfrm>
            <a:off x="250560" y="520560"/>
            <a:ext cx="7777080" cy="633744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komunikacyjna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iewystarczająca spójność komunikacyjna pomiędzy dwoma wiodącymi ośrodkami województwa – Bydgoszczą i Torunie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apewnienie środków na dalsze zwiększanie spójności komunikacyjnej obu miast (w działaniach analogicznych względem projektu BiT CITY).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Usprawnienie wdrażania rozwiązań dotyczących kolejowej komunikacji zbiorowej pomiędzy miastami.</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Stworzenie jednego podmiotu prawnego, składającego się i z przedstawicieli Torunia i Bydgoszczy, który kształtował będzie np. rozkłady jazdy oraz planował wspólne zadania inwestycyjne.</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drożenie koncepcji komunikacyjnej karty miejskiej wspólnej dla Torunia i Bydgoszczy łączącej różne formy transportu publicznego (tramwaj, pociąg podmiejski, autobus).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drożenie działań promocyjnych zachęcających mieszkańców przemieszczających się między miastami do korzystania z transportu publicznego.</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Budowa połączenia kolejowego Bydgoszcz Główna – Port Lotniczy w Bydgoszczy.</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adbanie o jak najszybszą realizację inwestycji dotyczącej budowy drogi ekspresowej S10 pomiędzy Toruniem a Bydgoszczą oraz remont drogi krajowej 80.</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B0E2-E15B-4D2C-8688-D3CA18191CC0}"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72"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komunikacyjna</a:t>
            </a:r>
            <a:r>
              <a:rPr b="0" lang="pl-PL" sz="1600" spc="-1" strike="noStrike">
                <a:solidFill>
                  <a:srgbClr val="000000"/>
                </a:solidFill>
                <a:latin typeface="Georgia"/>
              </a:rPr>
              <a:t>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djęcie działań mających na celu zwiększenie efektywności portu lotniczeg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sparcie rozwoju portu lotniczego w Bydgoszczy w celu zwiększenia jego roli i rangi jako portu ponadregionalneg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Bieżąca weryfikacja potrzeb rozwojowych portu lotniczego.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apewnienie finansowania dalszych inwestycji portu lotniczego.</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Budowa połączenia kolejowego do portu lotniczego.</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D484-C6BA-414B-A1FA-64DFC18EEEB9}"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74"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komunikacyjna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wiązanie projektów finansowanych z programu regionalnego z dużymi projektami inwestycyjnymi związanymi z infrastrukturą komunikacyjną.</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aplanowanie i wdrożenie inwestycji komunikacyjnych, uzupełniających działania programów centralnych związanych np. z rozbudową sieci dróg ekspresowych </a:t>
            </a:r>
            <a:br>
              <a:rPr sz="1600"/>
            </a:br>
            <a:r>
              <a:rPr b="0" lang="pl-PL" sz="1600" spc="-1" strike="noStrike">
                <a:solidFill>
                  <a:srgbClr val="000000"/>
                </a:solidFill>
                <a:latin typeface="Georgia"/>
              </a:rPr>
              <a:t>i autostrad.</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Kompleksowe przedsięwzięcia komunikacyjne powinny połączyć centra miast lub specjalne strefy ekonomiczne zlokalizowane w ich obrębie, z ogólnopolską siecią dróg ekspresowych i autostrad poprzez dojazdy do węzłów.</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E78F-CB6D-4727-B95F-57CAEBBBA922}"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76"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informacyjna, funkcja administracyjna</a:t>
            </a:r>
            <a:r>
              <a:rPr b="0" lang="pl-PL" sz="1600" spc="-1" strike="noStrike">
                <a:solidFill>
                  <a:srgbClr val="000000"/>
                </a:solidFill>
                <a:latin typeface="Georgia"/>
              </a:rPr>
              <a:t>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iewystarczający stopień informatyzacji w instytucjach publicznych.</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drażanie dalszych rozwiązań informatycznych warunkowanych potrzebami JST oraz innych instytucji publicznych.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Szczegółowa weryfikacja potrzeb organizacyjnych poszczególnych jednostek administracji w celu zdiagnozowania procesów dających możliwość usprawnienia funkcjonowania poprzez informatyzację (e-administracja).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drażanie projektów informatycznych zgonie ze zdiagnozowanymi potrzebami.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rowadzenie analiz uwzględniających opinię interesantów instytucji, w których wdrażano konkretne usprawnienia informatyczne.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lanowanie projektów informatycznych, których odbiorcami będą klienci urzędów należy poprzeć analizą ich potrzeb.</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Określenie potrzeb edukacyjnych pracowników odpowiedzialnych za obsługę wdrożonych rozwiązań informatycznych i realizacja projektów podnoszących ich kwalifikacje.</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6434-60D8-4F77-A801-1A9200ABD08B}"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78"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Funkcja informacyjna</a:t>
            </a:r>
            <a:r>
              <a:rPr b="0" lang="pl-PL" sz="1600" spc="-1" strike="noStrike">
                <a:solidFill>
                  <a:srgbClr val="000000"/>
                </a:solidFill>
                <a:latin typeface="Georgia"/>
              </a:rPr>
              <a:t>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Inwestycje związane z rozbudową infrastruktury informatycznej w Bydgoszczy i Toruniu mogą stanowić istotny potencjał stymulujący rozwój sektor IT, a także usprawniający funkcjonowanie instytucji publicznych.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Dalszy rozwój infrastruktury informatycznej, z której korzystać będą mogły podmioty prywatne (np. rozwój podmiotów wspierających przedsiębiorstwa z branży IT) oraz publiczne (miejska sieć światłowodow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Rozwijanie podmiotów, których celem jest wsparcie sektora przedsiębiorstw poprzez rozwiązania IT.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Rozwój światłowodowej sieci dystrybucyjnej województwa kujawsko-pomorskiego.</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ymbol zastępczy numeru slajdu 2"/>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9A43-6811-49BE-9D58-1EA3A236FA6F}"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480" name="PlaceHolder 1"/>
          <p:cNvSpPr>
            <a:spLocks noGrp="1"/>
          </p:cNvSpPr>
          <p:nvPr>
            <p:ph type="subTitle"/>
          </p:nvPr>
        </p:nvSpPr>
        <p:spPr>
          <a:xfrm>
            <a:off x="-360" y="549360"/>
            <a:ext cx="7777080" cy="5904000"/>
          </a:xfrm>
          <a:prstGeom prst="rect">
            <a:avLst/>
          </a:prstGeom>
          <a:noFill/>
          <a:ln w="0">
            <a:noFill/>
          </a:ln>
        </p:spPr>
        <p:txBody>
          <a:bodyPr lIns="90000" rIns="90000" tIns="46800" bIns="46800" anchor="t">
            <a:no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Wniosek/problem:</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Niechęć instytucji publicznych/spółek miejskich do udziału w badaniu ewaluacyjny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Rekomendacja:</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Zwiększenie świadomości instytucji publicznych/spółek miejskich o istocie badań ewaluacyjnych i możliwościach wykorzystania ich wyników.</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Georgia"/>
              </a:rPr>
              <a:t>Sposób wdrożenia rekomendacji:</a:t>
            </a:r>
            <a:endParaRPr b="0" lang="en-US" sz="18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Podczas opracowywania planów ewaluacji należy każdorazowo informować o badaniach instytucje, których mogą one dotyczyć. Zasadne jest organizowanie spotkań z przedstawicielami instytucji objętych badaniem, których celem będzie przekazanie informacji na temat istoty prowadzonych analiz. </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W razie potrzeb, poszerzenie spotkań organizacyjnych z Wykonawcami badań o przedstawicieli innych instytucji niż Zamawiający.</a:t>
            </a:r>
            <a:endParaRPr b="0" lang="en-US" sz="1600" spc="-1" strike="noStrike">
              <a:solidFill>
                <a:srgbClr val="000000"/>
              </a:solidFill>
              <a:latin typeface="Georgia"/>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eorgia"/>
              </a:rPr>
              <a:t>Uświadamianie beneficjentów o konieczności udziału w badaniach oraz znaczeniu rekomendacji wypracowanych w ich wyniku.</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2" name=""/>
          <p:cNvSpPr txBox="1"/>
          <p:nvPr/>
        </p:nvSpPr>
        <p:spPr>
          <a:xfrm>
            <a:off x="457200" y="333000"/>
            <a:ext cx="8229600" cy="5792760"/>
          </a:xfrm>
          <a:prstGeom prst="rect">
            <a:avLst/>
          </a:prstGeom>
          <a:noFill/>
          <a:ln w="0">
            <a:noFill/>
          </a:ln>
        </p:spPr>
        <p:txBody>
          <a:bodyPr lIns="90000" rIns="90000" tIns="46800" bIns="46800" anchor="ctr">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Georgia"/>
              </a:rPr>
              <a:t>Dziękuję za uwagę</a:t>
            </a:r>
            <a:endParaRPr b="0" lang="en-US" sz="4000" spc="-1" strike="noStrike">
              <a:solidFill>
                <a:srgbClr val="000000"/>
              </a:solidFill>
              <a:latin typeface="Georgia"/>
            </a:endParaRPr>
          </a:p>
        </p:txBody>
      </p:sp>
      <p:sp>
        <p:nvSpPr>
          <p:cNvPr id="483"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E942-3359-42A6-94BE-DF0B84FE859A}"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Trebuchet MS"/>
              </a:rPr>
              <a:t>Zasoby ludzkie </a:t>
            </a:r>
            <a:br>
              <a:rPr sz="4000"/>
            </a:br>
            <a:r>
              <a:rPr b="1" lang="pl-PL" sz="4000" spc="-1" strike="noStrike">
                <a:solidFill>
                  <a:srgbClr val="ffffff"/>
                </a:solidFill>
                <a:latin typeface="Trebuchet MS"/>
              </a:rPr>
              <a:t>Bydgoszczy i Torunia</a:t>
            </a:r>
            <a:endParaRPr b="0" lang="en-US" sz="4000" spc="-1" strike="noStrike">
              <a:solidFill>
                <a:srgbClr val="424456"/>
              </a:solidFill>
              <a:latin typeface="Trebuchet MS"/>
            </a:endParaRPr>
          </a:p>
        </p:txBody>
      </p:sp>
      <p:sp>
        <p:nvSpPr>
          <p:cNvPr id="29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295"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B7CD-1D1C-4E57-A092-A2D6AEE4E4B0}"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620640"/>
            <a:ext cx="8229600" cy="34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424456"/>
                </a:solidFill>
                <a:uFillTx/>
                <a:latin typeface="Trebuchet MS"/>
              </a:rPr>
              <a:t>Zasoby</a:t>
            </a:r>
            <a:r>
              <a:rPr b="1" lang="pl-PL" sz="1600" spc="-1" strike="noStrike" u="sng">
                <a:solidFill>
                  <a:srgbClr val="424456"/>
                </a:solidFill>
                <a:uFillTx/>
                <a:latin typeface="Trebuchet MS"/>
              </a:rPr>
              <a:t> </a:t>
            </a:r>
            <a:r>
              <a:rPr b="1" lang="pl-PL" sz="2200" spc="-1" strike="noStrike" u="sng">
                <a:solidFill>
                  <a:srgbClr val="424456"/>
                </a:solidFill>
                <a:uFillTx/>
                <a:latin typeface="Trebuchet MS"/>
              </a:rPr>
              <a:t>ludzkie</a:t>
            </a:r>
            <a:endParaRPr b="0" lang="en-US" sz="2200" spc="-1" strike="noStrike">
              <a:solidFill>
                <a:srgbClr val="424456"/>
              </a:solidFill>
              <a:latin typeface="Trebuchet MS"/>
            </a:endParaRPr>
          </a:p>
        </p:txBody>
      </p:sp>
      <p:sp>
        <p:nvSpPr>
          <p:cNvPr id="297" name=""/>
          <p:cNvSpPr txBox="1"/>
          <p:nvPr/>
        </p:nvSpPr>
        <p:spPr>
          <a:xfrm>
            <a:off x="457200" y="981000"/>
            <a:ext cx="8229600" cy="5145120"/>
          </a:xfrm>
          <a:prstGeom prst="rect">
            <a:avLst/>
          </a:prstGeom>
          <a:noFill/>
          <a:ln w="0">
            <a:noFill/>
          </a:ln>
        </p:spPr>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eorgia"/>
              </a:rPr>
              <a:t>Spadek liczby mieszkańców w obu ośrodkach, w powiązaniu z prognozami długofalowymi, jawi się jako główny problem dla rozwoju funkcji metropolitalnych.</a:t>
            </a:r>
            <a:endParaRPr b="0" lang="en-US" sz="1600" spc="-1" strike="noStrike">
              <a:solidFill>
                <a:srgbClr val="000000"/>
              </a:solidFill>
              <a:latin typeface="Georgia"/>
            </a:endParaRPr>
          </a:p>
        </p:txBody>
      </p:sp>
      <p:sp>
        <p:nvSpPr>
          <p:cNvPr id="298" name="Symbol zastępczy numeru slajdu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82E4-825D-4ACC-AB82-D040DF35CC7A}"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
        <p:nvSpPr>
          <p:cNvPr id="299" name="Rectangle 5"/>
          <p:cNvSpPr/>
          <p:nvPr/>
        </p:nvSpPr>
        <p:spPr>
          <a:xfrm>
            <a:off x="611280" y="2118240"/>
            <a:ext cx="7561080" cy="337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rebuchet MS"/>
              </a:rPr>
              <a:t>Liczba wszystkich mieszkańców Bydgoszczy i Torunia w latach 2004-2010.</a:t>
            </a:r>
            <a:endParaRPr b="0" lang="en-US" sz="1600" spc="-1" strike="noStrike">
              <a:solidFill>
                <a:srgbClr val="000000"/>
              </a:solidFill>
              <a:latin typeface="Arial"/>
            </a:endParaRPr>
          </a:p>
        </p:txBody>
      </p:sp>
      <p:pic>
        <p:nvPicPr>
          <p:cNvPr id="300" name="Wykres 7" descr=""/>
          <p:cNvPicPr/>
          <p:nvPr/>
        </p:nvPicPr>
        <p:blipFill>
          <a:blip r:embed="rId1"/>
          <a:stretch/>
        </p:blipFill>
        <p:spPr>
          <a:xfrm>
            <a:off x="603360" y="2414520"/>
            <a:ext cx="7692840" cy="412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260280"/>
            <a:ext cx="8229600" cy="72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pl-PL" sz="2200" spc="-1" strike="noStrike" u="sng">
                <a:solidFill>
                  <a:srgbClr val="424456"/>
                </a:solidFill>
                <a:uFillTx/>
                <a:latin typeface="Trebuchet MS"/>
              </a:rPr>
              <a:t>Zasoby ludzkie</a:t>
            </a:r>
            <a:endParaRPr b="0" lang="en-US" sz="2200" spc="-1" strike="noStrike">
              <a:solidFill>
                <a:srgbClr val="424456"/>
              </a:solidFill>
              <a:latin typeface="Trebuchet MS"/>
            </a:endParaRPr>
          </a:p>
        </p:txBody>
      </p:sp>
      <p:sp>
        <p:nvSpPr>
          <p:cNvPr id="302" name=""/>
          <p:cNvSpPr txBox="1"/>
          <p:nvPr/>
        </p:nvSpPr>
        <p:spPr>
          <a:xfrm>
            <a:off x="457200" y="1052280"/>
            <a:ext cx="8229600" cy="5545080"/>
          </a:xfrm>
          <a:prstGeom prst="rect">
            <a:avLst/>
          </a:prstGeom>
          <a:noFill/>
          <a:ln w="0">
            <a:noFill/>
          </a:ln>
        </p:spPr>
        <p:txBody>
          <a:bodyPr lIns="90000" rIns="90000" tIns="46800" bIns="46800"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l-PL" sz="2400" spc="-1" strike="noStrike">
                <a:solidFill>
                  <a:srgbClr val="000000"/>
                </a:solidFill>
                <a:latin typeface="Georgia"/>
              </a:rPr>
              <a:t>Wyraźny rozrost sfery podmiejskiej w obu ośrodkach.</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Tendencja migracji ujemnych:</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Od 2004 z Bydgoszczy wymeldowywało się średnio </a:t>
            </a:r>
            <a:r>
              <a:rPr b="1" lang="pl-PL" sz="2400" spc="-1" strike="noStrike">
                <a:solidFill>
                  <a:srgbClr val="000000"/>
                </a:solidFill>
                <a:latin typeface="Georgia"/>
              </a:rPr>
              <a:t>4000 osób</a:t>
            </a:r>
            <a:r>
              <a:rPr b="0" lang="pl-PL" sz="2400" spc="-1" strike="noStrike">
                <a:solidFill>
                  <a:srgbClr val="000000"/>
                </a:solidFill>
                <a:latin typeface="Georgia"/>
              </a:rPr>
              <a:t> rocznie (z czego ok. średnio </a:t>
            </a:r>
            <a:r>
              <a:rPr b="1" lang="pl-PL" sz="2400" spc="-1" strike="noStrike">
                <a:solidFill>
                  <a:srgbClr val="000000"/>
                </a:solidFill>
                <a:latin typeface="Georgia"/>
              </a:rPr>
              <a:t>2500 osób rocznie migrowało na wieś</a:t>
            </a:r>
            <a:r>
              <a:rPr b="0" lang="pl-PL" sz="2400" spc="-1" strike="noStrike">
                <a:solidFill>
                  <a:srgbClr val="000000"/>
                </a:solidFill>
                <a:latin typeface="Georgia"/>
              </a:rPr>
              <a:t>). </a:t>
            </a:r>
            <a:endParaRPr b="0" lang="en-US" sz="24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W przypadku Torunia </a:t>
            </a:r>
            <a:r>
              <a:rPr b="1" lang="pl-PL" sz="2400" spc="-1" strike="noStrike">
                <a:solidFill>
                  <a:srgbClr val="000000"/>
                </a:solidFill>
                <a:latin typeface="Georgia"/>
              </a:rPr>
              <a:t>3000-3500 osób</a:t>
            </a:r>
            <a:r>
              <a:rPr b="0" lang="pl-PL" sz="2400" spc="-1" strike="noStrike">
                <a:solidFill>
                  <a:srgbClr val="000000"/>
                </a:solidFill>
                <a:latin typeface="Georgia"/>
              </a:rPr>
              <a:t> rocznie (z czego </a:t>
            </a:r>
            <a:r>
              <a:rPr b="1" lang="pl-PL" sz="2400" spc="-1" strike="noStrike">
                <a:solidFill>
                  <a:srgbClr val="000000"/>
                </a:solidFill>
                <a:latin typeface="Georgia"/>
              </a:rPr>
              <a:t>na wieś migrowało od 2000 w 2006 do 1500 osób w 2010 r.</a:t>
            </a:r>
            <a:r>
              <a:rPr b="0" lang="pl-PL" sz="2400" spc="-1" strike="noStrike">
                <a:solidFill>
                  <a:srgbClr val="000000"/>
                </a:solidFill>
                <a:latin typeface="Georgia"/>
              </a:rPr>
              <a:t>). </a:t>
            </a:r>
            <a:endParaRPr b="0" lang="en-US" sz="2400" spc="-1" strike="noStrike">
              <a:solidFill>
                <a:srgbClr val="000000"/>
              </a:solidFill>
              <a:latin typeface="Georgia"/>
            </a:endParaRPr>
          </a:p>
          <a:p>
            <a:pPr>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Georgia"/>
              </a:rPr>
              <a:t>Jednocześnie nowe zameldowania w obu ośrodkach sięgają średnio od </a:t>
            </a:r>
            <a:r>
              <a:rPr b="1" lang="pl-PL" sz="2400" spc="-1" strike="noStrike">
                <a:solidFill>
                  <a:srgbClr val="000000"/>
                </a:solidFill>
                <a:latin typeface="Georgia"/>
              </a:rPr>
              <a:t>1800</a:t>
            </a:r>
            <a:r>
              <a:rPr b="0" lang="pl-PL" sz="2400" spc="-1" strike="noStrike">
                <a:solidFill>
                  <a:srgbClr val="000000"/>
                </a:solidFill>
                <a:latin typeface="Georgia"/>
              </a:rPr>
              <a:t> (Toruń 2004) do </a:t>
            </a:r>
            <a:r>
              <a:rPr b="1" lang="pl-PL" sz="2400" spc="-1" strike="noStrike">
                <a:solidFill>
                  <a:srgbClr val="000000"/>
                </a:solidFill>
                <a:latin typeface="Georgia"/>
              </a:rPr>
              <a:t>3000</a:t>
            </a:r>
            <a:r>
              <a:rPr b="0" lang="pl-PL" sz="2400" spc="-1" strike="noStrike">
                <a:solidFill>
                  <a:srgbClr val="000000"/>
                </a:solidFill>
                <a:latin typeface="Georgia"/>
              </a:rPr>
              <a:t> mieszkańców (Bydgoszcz 2007), co świadczy o </a:t>
            </a:r>
            <a:r>
              <a:rPr b="1" lang="pl-PL" sz="2400" spc="-1" strike="noStrike">
                <a:solidFill>
                  <a:srgbClr val="000000"/>
                </a:solidFill>
                <a:latin typeface="Georgia"/>
              </a:rPr>
              <a:t>niewielkiej atrakcyjności osadniczej</a:t>
            </a:r>
            <a:r>
              <a:rPr b="0" lang="pl-PL" sz="2400" spc="-1" strike="noStrike">
                <a:solidFill>
                  <a:srgbClr val="000000"/>
                </a:solidFill>
                <a:latin typeface="Georgia"/>
              </a:rPr>
              <a:t> obu ośrodków metropolitalnych.</a:t>
            </a:r>
            <a:endParaRPr b="0" lang="en-US" sz="2400" spc="-1" strike="noStrike">
              <a:solidFill>
                <a:srgbClr val="000000"/>
              </a:solidFill>
              <a:latin typeface="Georgia"/>
            </a:endParaRPr>
          </a:p>
        </p:txBody>
      </p:sp>
      <p:sp>
        <p:nvSpPr>
          <p:cNvPr id="303" name="Symbol zastępczy numeru slajdu 3"/>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BBEF-5DA5-471C-AA54-47772D6668DA}"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Trebuchet MS"/>
              </a:rPr>
              <a:t>Obszar gospodarczy</a:t>
            </a:r>
            <a:endParaRPr b="0" lang="en-US" sz="4000" spc="-1" strike="noStrike">
              <a:solidFill>
                <a:srgbClr val="424456"/>
              </a:solidFill>
              <a:latin typeface="Trebuchet MS"/>
            </a:endParaRPr>
          </a:p>
        </p:txBody>
      </p:sp>
      <p:sp>
        <p:nvSpPr>
          <p:cNvPr id="30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2400" spc="-1" strike="noStrike">
              <a:solidFill>
                <a:srgbClr val="424456"/>
              </a:solidFill>
              <a:latin typeface="Georgia"/>
            </a:endParaRPr>
          </a:p>
        </p:txBody>
      </p:sp>
      <p:sp>
        <p:nvSpPr>
          <p:cNvPr id="306" name="Symbol zastępczy numeru slajdu 3"/>
          <p:cNvSpPr/>
          <p:nvPr/>
        </p:nvSpPr>
        <p:spPr>
          <a:xfrm>
            <a:off x="8319960" y="1440"/>
            <a:ext cx="74772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EB15-A711-49FE-BB4F-A099E4F8A257}" type="slidenum">
              <a:rPr b="0" lang="pl-PL" sz="1800" spc="-1" strike="noStrike">
                <a:solidFill>
                  <a:srgbClr val="ffffff"/>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4T13:45:31Z</dcterms:created>
  <dc:creator>k.materek</dc:creator>
  <dc:description/>
  <dc:language>en-US</dc:language>
  <cp:lastModifiedBy>j.rudnicka</cp:lastModifiedBy>
  <dcterms:modified xsi:type="dcterms:W3CDTF">2012-11-15T11:49:52Z</dcterms:modified>
  <cp:revision>52</cp:revision>
  <dc:subject/>
  <dc:title>Slajd 1</dc:title>
</cp:coreProperties>
</file>