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091F-7E75-4027-9823-F8D6B86456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DFA9-7CB4-498D-BA27-5FE24705B5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E1C3-32D2-4D36-8956-72EAE749CEF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5C25-0587-438D-A89C-414876162F4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2366-6A1F-4314-B3DA-D2F1F53527F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E51F-A832-443B-B9E2-FEFCA8D818E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C59A-DD86-4EED-87F3-B90A27413E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F6FE-E4C9-4B70-9381-0F26B07EF8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E513-B782-4E9D-9000-8B869BBA1BD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0CD2-EF60-4B53-A783-7247CCCA90D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FDD1-27A8-4D38-B285-29038011B66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08F4-5870-459A-83B6-40E46BEF91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D5F4-8C5E-45E7-8AFC-EA85D567B0E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C7A8-F512-4E6F-B9D1-6BEA7936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E68-8C4B-4814-895A-0763DD81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F1F3-6C6F-492E-97A9-72E295F9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2A58-7E90-4A16-83D5-6BB8BA4B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38784-7B40-4C6A-9A5B-A68A6E404D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6BD7E-033D-401D-83CD-3BCEBF11FC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31E38-D06C-4ED4-8C54-98F1C88107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C8EC2-E2C0-4C95-B4BB-AEF015E615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7E5B0-36FE-4619-A94A-58A9154386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9DF20-AF2F-4EF7-89D4-BE7BDA4D65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B3C7D-BCE0-42EA-9BC7-5321FE7BC3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E95-D30F-4043-857A-906A3F43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45206-5730-4DD9-AD22-F5048E3A66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D442D-A1F3-4908-AE1E-D0E1316A2D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90DBE-3FFE-42FA-BE91-396B563663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672B1-35C3-4B1A-9038-0565A1BD42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7B5DD-BA74-4FCF-99F4-F93114D925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633-F346-4F1C-BDF7-07DAA612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24B-250B-453B-8B29-7BDEDEA7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2B8-8779-40B2-A370-2F659CF3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8BF-9043-4390-A821-F4DBBBBE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7DAD-D92F-4D08-8DF7-06EC567E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B33-0210-4291-8C31-248D0FD1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6E1-5CD1-400E-972D-EC0AC606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E4DB-5AF5-4314-BF27-CB4E089683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-22320" y="2610000"/>
            <a:ext cx="5600880" cy="4248000"/>
          </a:xfrm>
          <a:prstGeom prst="rect">
            <a:avLst/>
          </a:prstGeom>
          <a:ln w="0">
            <a:noFill/>
          </a:ln>
        </p:spPr>
      </p:pic>
      <p:sp>
        <p:nvSpPr>
          <p:cNvPr id="42" name="Prostokąt 7"/>
          <p:cNvSpPr/>
          <p:nvPr/>
        </p:nvSpPr>
        <p:spPr>
          <a:xfrm>
            <a:off x="0" y="-123840"/>
            <a:ext cx="9144000" cy="1484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6875640" y="5910120"/>
            <a:ext cx="1800000" cy="80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46800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F0FE-D4E7-414A-8189-81863C4C972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raz 3" descr="logo RPO małe"/>
          <p:cNvPicPr/>
          <p:nvPr/>
        </p:nvPicPr>
        <p:blipFill>
          <a:blip r:embed="rId1"/>
          <a:stretch/>
        </p:blipFill>
        <p:spPr>
          <a:xfrm>
            <a:off x="1403280" y="0"/>
            <a:ext cx="5973840" cy="1916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424720" cy="1873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naliza potrzeb rozwojowych województwa kujawsko-pomorskiego w kontekście nowej perspektywy finansowej UE 2014-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D:\Andrzej\My Dropbox\IBS_ORG\grafika\IBS\02_ogo ibs 1 poziom RGB.jpg"/>
          <p:cNvPicPr/>
          <p:nvPr/>
        </p:nvPicPr>
        <p:blipFill>
          <a:blip r:embed="rId2"/>
          <a:stretch/>
        </p:blipFill>
        <p:spPr>
          <a:xfrm>
            <a:off x="3057480" y="5138640"/>
            <a:ext cx="2665440" cy="1201680"/>
          </a:xfrm>
          <a:prstGeom prst="rect">
            <a:avLst/>
          </a:prstGeom>
          <a:ln w="0">
            <a:noFill/>
          </a:ln>
        </p:spPr>
      </p:pic>
      <p:sp>
        <p:nvSpPr>
          <p:cNvPr id="93" name="pole tekstowe 2"/>
          <p:cNvSpPr/>
          <p:nvPr/>
        </p:nvSpPr>
        <p:spPr>
          <a:xfrm>
            <a:off x="2085840" y="4010040"/>
            <a:ext cx="460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Andrzej Reguls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oruń, 9 listopada 2012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ytuł 1"/>
          <p:cNvSpPr/>
          <p:nvPr/>
        </p:nvSpPr>
        <p:spPr>
          <a:xfrm>
            <a:off x="684360" y="2206800"/>
            <a:ext cx="7772400" cy="18730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wyzwania rozwojow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067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reszta kraju ucie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4436640"/>
            <a:ext cx="35272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ojewództw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ujawsko-pomorskie powoli nadrabia dystans rozwojowy dzielący je od krajów Unii Europejskiej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al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równolegle traci pozycję w kraj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także w stosunku do najsłabiej rozwiniętych województw Polski Wschodni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Wykres 6" descr=""/>
          <p:cNvPicPr/>
          <p:nvPr/>
        </p:nvPicPr>
        <p:blipFill>
          <a:blip r:embed="rId1"/>
          <a:stretch/>
        </p:blipFill>
        <p:spPr>
          <a:xfrm>
            <a:off x="5072040" y="1828800"/>
            <a:ext cx="3747960" cy="2378160"/>
          </a:xfrm>
          <a:prstGeom prst="rect">
            <a:avLst/>
          </a:prstGeom>
          <a:ln w="0">
            <a:noFill/>
          </a:ln>
        </p:spPr>
      </p:pic>
      <p:sp>
        <p:nvSpPr>
          <p:cNvPr id="113" name="pole tekstowe 7"/>
          <p:cNvSpPr/>
          <p:nvPr/>
        </p:nvSpPr>
        <p:spPr>
          <a:xfrm>
            <a:off x="1835280" y="161604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ziom P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8"/>
          <p:cNvSpPr/>
          <p:nvPr/>
        </p:nvSpPr>
        <p:spPr>
          <a:xfrm>
            <a:off x="6156360" y="16160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ynamika fi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hart 1" descr=""/>
          <p:cNvPicPr/>
          <p:nvPr/>
        </p:nvPicPr>
        <p:blipFill>
          <a:blip r:embed="rId2"/>
          <a:stretch/>
        </p:blipFill>
        <p:spPr>
          <a:xfrm>
            <a:off x="109440" y="1981080"/>
            <a:ext cx="4748400" cy="2237040"/>
          </a:xfrm>
          <a:prstGeom prst="rect">
            <a:avLst/>
          </a:prstGeom>
          <a:ln w="0">
            <a:noFill/>
          </a:ln>
        </p:spPr>
      </p:pic>
      <p:pic>
        <p:nvPicPr>
          <p:cNvPr id="116" name="Chart 2" descr=""/>
          <p:cNvPicPr/>
          <p:nvPr/>
        </p:nvPicPr>
        <p:blipFill>
          <a:blip r:embed="rId3"/>
          <a:stretch/>
        </p:blipFill>
        <p:spPr>
          <a:xfrm>
            <a:off x="4425840" y="4290840"/>
            <a:ext cx="4572000" cy="1731960"/>
          </a:xfrm>
          <a:prstGeom prst="rect">
            <a:avLst/>
          </a:prstGeom>
          <a:ln w="0">
            <a:noFill/>
          </a:ln>
        </p:spPr>
      </p:pic>
      <p:sp>
        <p:nvSpPr>
          <p:cNvPr id="117" name="pole tekstowe 12"/>
          <p:cNvSpPr/>
          <p:nvPr/>
        </p:nvSpPr>
        <p:spPr>
          <a:xfrm>
            <a:off x="5796000" y="4149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topa inwestycji prywat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651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niewykorzystany potencjał metropol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916280"/>
          <a:ext cx="8496360" cy="3466800"/>
        </p:xfrm>
        <a:graphic>
          <a:graphicData uri="http://schemas.openxmlformats.org/drawingml/2006/table">
            <a:tbl>
              <a:tblPr/>
              <a:tblGrid>
                <a:gridCol w="2757600"/>
                <a:gridCol w="1434960"/>
                <a:gridCol w="1435320"/>
                <a:gridCol w="1434960"/>
                <a:gridCol w="1433520"/>
              </a:tblGrid>
              <a:tr h="5583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eg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KB per capita,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ny wzrost PKB per capi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 latach 2000-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olska=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y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y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dgosko-toruńs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8696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8696b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ol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3be7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fca7d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bel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fca7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b47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rzow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78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8696b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ałostoc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e48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81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elec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8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63be7b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elonogór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cb47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8e482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sztyń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8f7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8f73"/>
                    </a:solidFill>
                  </a:tcPr>
                </a:tc>
              </a:tr>
              <a:tr h="272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zeszow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8696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780"/>
                    </a:solidFill>
                  </a:tcPr>
                </a:tc>
              </a:tr>
            </a:tbl>
          </a:graphicData>
        </a:graphic>
      </p:graphicFrame>
      <p:sp>
        <p:nvSpPr>
          <p:cNvPr id="120" name="pole tekstowe 4"/>
          <p:cNvSpPr/>
          <p:nvPr/>
        </p:nvSpPr>
        <p:spPr>
          <a:xfrm>
            <a:off x="0" y="5657760"/>
            <a:ext cx="62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jsłabsza dynamika rozwoju wśród miast wojewódzkich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omimo bardzo dobrego stanu wyjściow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adek liczby mieszkańców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640" y="333000"/>
            <a:ext cx="89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problem spójności wewnętrzn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7"/>
          <p:cNvSpPr/>
          <p:nvPr/>
        </p:nvSpPr>
        <p:spPr>
          <a:xfrm>
            <a:off x="611280" y="5445000"/>
            <a:ext cx="54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ramatyczna sytuacja dużej części lokalnych rynków prac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mimo bliskości potencjalnych ośrodków wzrostu – 65% powiatów w grupie ¼ jednostek o najwyższej stopie bezrobocia w całej Pols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Wykres 4" descr=""/>
          <p:cNvPicPr/>
          <p:nvPr/>
        </p:nvPicPr>
        <p:blipFill>
          <a:blip r:embed="rId1"/>
          <a:stretch/>
        </p:blipFill>
        <p:spPr>
          <a:xfrm>
            <a:off x="176040" y="1627200"/>
            <a:ext cx="82123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067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wyzwania – podsum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844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jaki sposób wspierać regionalną gospodarkę, aby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większyć dynamikę powstawania nowych miejsc pracy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raz - w konsekwencji - radykalnie ograniczyć bezroboci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jaki sposób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spierać rozwój Bydgosko-Toruńskiego Obszaru Metropolitalneg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aby docelowo wytworzyć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mpuls rozwojowy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la pozostałych części województw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 skuteczni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większyć spójność bardzo zróżnicowanego obecnie województw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zarówno w wymiarze społecznym, jak i przestrzenny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ytuł 1"/>
          <p:cNvSpPr/>
          <p:nvPr/>
        </p:nvSpPr>
        <p:spPr>
          <a:xfrm>
            <a:off x="611280" y="2205000"/>
            <a:ext cx="7772400" cy="187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dotychczasowe kierunki interwencj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108360" y="404280"/>
            <a:ext cx="9155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ogólnie niski poziom absorpcji środk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hart 2" descr=""/>
          <p:cNvPicPr/>
          <p:nvPr/>
        </p:nvPicPr>
        <p:blipFill>
          <a:blip r:embed="rId1"/>
          <a:stretch/>
        </p:blipFill>
        <p:spPr>
          <a:xfrm>
            <a:off x="324000" y="1627200"/>
            <a:ext cx="5546520" cy="2523960"/>
          </a:xfrm>
          <a:prstGeom prst="rect">
            <a:avLst/>
          </a:prstGeom>
          <a:ln w="0">
            <a:noFill/>
          </a:ln>
        </p:spPr>
      </p:pic>
      <p:pic>
        <p:nvPicPr>
          <p:cNvPr id="129" name="Chart 3" descr=""/>
          <p:cNvPicPr/>
          <p:nvPr/>
        </p:nvPicPr>
        <p:blipFill>
          <a:blip r:embed="rId2"/>
          <a:stretch/>
        </p:blipFill>
        <p:spPr>
          <a:xfrm>
            <a:off x="324000" y="4243320"/>
            <a:ext cx="5759280" cy="2614680"/>
          </a:xfrm>
          <a:prstGeom prst="rect">
            <a:avLst/>
          </a:prstGeom>
          <a:ln w="0">
            <a:noFill/>
          </a:ln>
        </p:spPr>
      </p:pic>
      <p:sp>
        <p:nvSpPr>
          <p:cNvPr id="130" name="pole tekstowe 5"/>
          <p:cNvSpPr/>
          <p:nvPr/>
        </p:nvSpPr>
        <p:spPr>
          <a:xfrm>
            <a:off x="1967040" y="15019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PR 2004-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ole tekstowe 6"/>
          <p:cNvSpPr/>
          <p:nvPr/>
        </p:nvSpPr>
        <p:spPr>
          <a:xfrm>
            <a:off x="1967040" y="41497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SS 2007-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9"/>
          <p:cNvSpPr/>
          <p:nvPr/>
        </p:nvSpPr>
        <p:spPr>
          <a:xfrm>
            <a:off x="6516720" y="2637000"/>
            <a:ext cx="208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ciętny poziom absorpcji środków  w ramach NPR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jniższy poziom absorpcji w ramach NSS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szczególnie niski poziom wykorzystania programów krajowych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62080" y="374760"/>
            <a:ext cx="706752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NPR vs. N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3"/>
          <p:cNvSpPr/>
          <p:nvPr/>
        </p:nvSpPr>
        <p:spPr>
          <a:xfrm>
            <a:off x="1619280" y="1413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PR 2004-20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ole tekstowe 6"/>
          <p:cNvSpPr/>
          <p:nvPr/>
        </p:nvSpPr>
        <p:spPr>
          <a:xfrm>
            <a:off x="5867280" y="141300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SS 2007-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Wykres 7" descr=""/>
          <p:cNvPicPr/>
          <p:nvPr/>
        </p:nvPicPr>
        <p:blipFill>
          <a:blip r:embed="rId1"/>
          <a:stretch/>
        </p:blipFill>
        <p:spPr>
          <a:xfrm>
            <a:off x="0" y="1596960"/>
            <a:ext cx="4681440" cy="4675320"/>
          </a:xfrm>
          <a:prstGeom prst="rect">
            <a:avLst/>
          </a:prstGeom>
          <a:ln w="0">
            <a:noFill/>
          </a:ln>
        </p:spPr>
      </p:pic>
      <p:pic>
        <p:nvPicPr>
          <p:cNvPr id="137" name="Wykres 8" descr=""/>
          <p:cNvPicPr/>
          <p:nvPr/>
        </p:nvPicPr>
        <p:blipFill>
          <a:blip r:embed="rId2"/>
          <a:stretch/>
        </p:blipFill>
        <p:spPr>
          <a:xfrm>
            <a:off x="4572000" y="1596960"/>
            <a:ext cx="4681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931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alokacja środków w ramach N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Wykres 10" descr=""/>
          <p:cNvPicPr/>
          <p:nvPr/>
        </p:nvPicPr>
        <p:blipFill>
          <a:blip r:embed="rId1"/>
          <a:stretch/>
        </p:blipFill>
        <p:spPr>
          <a:xfrm>
            <a:off x="23760" y="1554120"/>
            <a:ext cx="4681440" cy="4754520"/>
          </a:xfrm>
          <a:prstGeom prst="rect">
            <a:avLst/>
          </a:prstGeom>
          <a:ln w="0">
            <a:noFill/>
          </a:ln>
        </p:spPr>
      </p:pic>
      <p:pic>
        <p:nvPicPr>
          <p:cNvPr id="140" name="Wykres 11" descr=""/>
          <p:cNvPicPr/>
          <p:nvPr/>
        </p:nvPicPr>
        <p:blipFill>
          <a:blip r:embed="rId2"/>
          <a:stretch/>
        </p:blipFill>
        <p:spPr>
          <a:xfrm>
            <a:off x="4438800" y="1487520"/>
            <a:ext cx="4681440" cy="4675320"/>
          </a:xfrm>
          <a:prstGeom prst="rect">
            <a:avLst/>
          </a:prstGeom>
          <a:ln w="0">
            <a:noFill/>
          </a:ln>
        </p:spPr>
      </p:pic>
      <p:sp>
        <p:nvSpPr>
          <p:cNvPr id="141" name="pole tekstowe 9"/>
          <p:cNvSpPr/>
          <p:nvPr/>
        </p:nvSpPr>
        <p:spPr>
          <a:xfrm>
            <a:off x="885960" y="15508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szystkie programy operacyj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65188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zróżnicowanie przestrzenne absorpcj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:\Users\Andrzej\Desktop\kuj_pom_mapki\absorpcja_kp2.png"/>
          <p:cNvPicPr/>
          <p:nvPr/>
        </p:nvPicPr>
        <p:blipFill>
          <a:blip r:embed="rId1"/>
          <a:stretch/>
        </p:blipFill>
        <p:spPr>
          <a:xfrm>
            <a:off x="1835280" y="1633680"/>
            <a:ext cx="545148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067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plan na dzisia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844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ilka słów o naszym badani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tekst badania – co zmieniło się w otoczeniu regionu w ostatnich lata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ażniejsze trendy rozwojowe i wyzw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tychczasowe kierunki interwen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dentyfikacja potrze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ażniejsze rekomendac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</a:rPr>
              <a:t>pozytywne oddziaływanie makroekonomi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Wykres 3" descr=""/>
          <p:cNvPicPr/>
          <p:nvPr/>
        </p:nvPicPr>
        <p:blipFill>
          <a:blip r:embed="rId1"/>
          <a:stretch/>
        </p:blipFill>
        <p:spPr>
          <a:xfrm>
            <a:off x="23760" y="1481040"/>
            <a:ext cx="5548320" cy="3456000"/>
          </a:xfrm>
          <a:prstGeom prst="rect">
            <a:avLst/>
          </a:prstGeom>
          <a:ln w="0">
            <a:noFill/>
          </a:ln>
        </p:spPr>
      </p:pic>
      <p:sp>
        <p:nvSpPr>
          <p:cNvPr id="146" name="pole tekstowe 4"/>
          <p:cNvSpPr/>
          <p:nvPr/>
        </p:nvSpPr>
        <p:spPr>
          <a:xfrm>
            <a:off x="1403280" y="14446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KB per capi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5"/>
          <p:cNvSpPr/>
          <p:nvPr/>
        </p:nvSpPr>
        <p:spPr>
          <a:xfrm>
            <a:off x="5796000" y="2133720"/>
            <a:ext cx="29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KB per capit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2011 r. wyższy o około 3 pkt. proc. w porównaniu  ze scenariuszem bazow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Wykres 6" descr=""/>
          <p:cNvPicPr/>
          <p:nvPr/>
        </p:nvPicPr>
        <p:blipFill>
          <a:blip r:embed="rId2"/>
          <a:stretch/>
        </p:blipFill>
        <p:spPr>
          <a:xfrm>
            <a:off x="390600" y="5084640"/>
            <a:ext cx="4973400" cy="1657440"/>
          </a:xfrm>
          <a:prstGeom prst="rect">
            <a:avLst/>
          </a:prstGeom>
          <a:ln w="0">
            <a:noFill/>
          </a:ln>
        </p:spPr>
      </p:pic>
      <p:sp>
        <p:nvSpPr>
          <p:cNvPr id="149" name="pole tekstowe 7"/>
          <p:cNvSpPr/>
          <p:nvPr/>
        </p:nvSpPr>
        <p:spPr>
          <a:xfrm>
            <a:off x="5724360" y="4365720"/>
            <a:ext cx="305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opa bezroboci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2011 r. niższa o około 3 pkt. proc w porównaniu ze scenariuszem bazow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8"/>
          <p:cNvSpPr/>
          <p:nvPr/>
        </p:nvSpPr>
        <p:spPr>
          <a:xfrm>
            <a:off x="1332000" y="47800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opa bezrobo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723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Calibri"/>
              </a:rPr>
              <a:t>ocena jakościowa  - wybrane obserwacj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sparcie dla fi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ezaspokojone zapotrzebowanie na bezzwrotne dotacje, ograniczony popyt na instrumenty zwrot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zyko wystąpienia efektu „jałowej straty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blem oceny innowacyjn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sparcie dla IOB – ograniczenia podażowe i popytow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ajowa Rezerwa Wykonania i pakiet antykryzysowy a optymalność wykorzystania środ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ojekty „miękki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uże zastrzeżenia dotyczące trwałości wspar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FS uzupełnia lukę w środkach z Funduszu P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wszechnie znane patologie rynku szkoleniow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trowersje wokół systemu realiza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ytuł 1"/>
          <p:cNvSpPr/>
          <p:nvPr/>
        </p:nvSpPr>
        <p:spPr>
          <a:xfrm>
            <a:off x="684360" y="2241720"/>
            <a:ext cx="7772400" cy="187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identyfikacja potrzeb i wybrane rekomendacj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404280"/>
            <a:ext cx="9047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perspektywa firm: dotacje inwestycyj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0" y="2421000"/>
            <a:ext cx="4467240" cy="3076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4632480" y="2346480"/>
            <a:ext cx="4352760" cy="3143160"/>
          </a:xfrm>
          <a:prstGeom prst="rect">
            <a:avLst/>
          </a:prstGeom>
          <a:ln w="0">
            <a:noFill/>
          </a:ln>
        </p:spPr>
      </p:pic>
      <p:sp>
        <p:nvSpPr>
          <p:cNvPr id="157" name="pole tekstowe 3"/>
          <p:cNvSpPr/>
          <p:nvPr/>
        </p:nvSpPr>
        <p:spPr>
          <a:xfrm>
            <a:off x="179280" y="1773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potrzebowanie na wsparcie bezpośred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ole tekstowe 4"/>
          <p:cNvSpPr/>
          <p:nvPr/>
        </p:nvSpPr>
        <p:spPr>
          <a:xfrm>
            <a:off x="4967280" y="1773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apotrzebowanie na usługi I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ole tekstowe 2"/>
          <p:cNvSpPr/>
          <p:nvPr/>
        </p:nvSpPr>
        <p:spPr>
          <a:xfrm>
            <a:off x="250920" y="5661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dsiębiorcy „rozpuszczeni” dotacjam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graniczone zainteresowanie bardziej zaawansowanymi usługami I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86788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</a:rPr>
              <a:t>perspektywa JST: inwestycje infrastruktura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8440" y="1566720"/>
            <a:ext cx="5610240" cy="2562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"/>
          <p:cNvPicPr/>
          <p:nvPr/>
        </p:nvPicPr>
        <p:blipFill>
          <a:blip r:embed="rId2"/>
          <a:stretch/>
        </p:blipFill>
        <p:spPr>
          <a:xfrm>
            <a:off x="3924360" y="4129200"/>
            <a:ext cx="5219640" cy="2600280"/>
          </a:xfrm>
          <a:prstGeom prst="rect">
            <a:avLst/>
          </a:prstGeom>
          <a:ln w="0">
            <a:noFill/>
          </a:ln>
        </p:spPr>
      </p:pic>
      <p:sp>
        <p:nvSpPr>
          <p:cNvPr id="163" name="pole tekstowe 4"/>
          <p:cNvSpPr/>
          <p:nvPr/>
        </p:nvSpPr>
        <p:spPr>
          <a:xfrm>
            <a:off x="5292720" y="206064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iorytet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frastrukturaln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rzede wszystkim gospodarka komunalna i infrastruktura transport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9"/>
          <p:cNvSpPr/>
          <p:nvPr/>
        </p:nvSpPr>
        <p:spPr>
          <a:xfrm>
            <a:off x="395280" y="4869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zostałe priorytet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stosunkowo niewielkie deklarowane zapotrzebowanie na podnoszenie kwalifika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067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zdolności absorpcyj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ole tekstowe 3"/>
          <p:cNvSpPr/>
          <p:nvPr/>
        </p:nvSpPr>
        <p:spPr>
          <a:xfrm>
            <a:off x="539640" y="1628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iorytetowe obszary wspar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ole tekstowe 4"/>
          <p:cNvSpPr/>
          <p:nvPr/>
        </p:nvSpPr>
        <p:spPr>
          <a:xfrm>
            <a:off x="6156360" y="14907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graniczenie budżetowe – wskaźnik zadłuże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5934240" y="2247840"/>
            <a:ext cx="2761920" cy="2076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6013440" y="46767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3"/>
          <a:stretch/>
        </p:blipFill>
        <p:spPr>
          <a:xfrm>
            <a:off x="179280" y="2109960"/>
            <a:ext cx="5315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067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perspektywa mieszkańc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11040" y="2276640"/>
            <a:ext cx="4160880" cy="360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4471920" y="2276640"/>
            <a:ext cx="3824280" cy="3600360"/>
          </a:xfrm>
          <a:prstGeom prst="rect">
            <a:avLst/>
          </a:prstGeom>
          <a:ln w="0">
            <a:noFill/>
          </a:ln>
        </p:spPr>
      </p:pic>
      <p:sp>
        <p:nvSpPr>
          <p:cNvPr id="174" name="pole tekstowe 2"/>
          <p:cNvSpPr/>
          <p:nvPr/>
        </p:nvSpPr>
        <p:spPr>
          <a:xfrm>
            <a:off x="108000" y="16462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stulaty dotyczące sytuacji w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ojewództw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ole tekstowe 6"/>
          <p:cNvSpPr/>
          <p:nvPr/>
        </p:nvSpPr>
        <p:spPr>
          <a:xfrm>
            <a:off x="4594320" y="1646280"/>
            <a:ext cx="47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stulaty dotyczące sytuacji w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iejscowoś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067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wymiar gospodarc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1960" y="1628640"/>
            <a:ext cx="91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wój sektora przedsiębiorstw poprzez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dniesienie poziomu inwestycj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trzymanie wysokiej alokacji na MŚ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iększa dywersyfikacja instrumentów – wzrost efektywności interwencji (EFRR, EF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ardziej restrykcyjne podejście do wsparcia innowacji (faktyczna innowacyjność jest ważna, udawana – niekoniecznie) </a:t>
            </a:r>
            <a:r>
              <a:rPr b="0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nne instrumen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ystemowe wsparcie otoczenia biznes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awansowane instrumenty wsparcia dla firm (popytowe i podażowe wsparcie działalności IO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ozwój systemu wsparcia i obsługi inwestorów zewnętrznych (tereny inwestycyjne w obszarze funkcjonalnym metropoli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wój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plecza kadroweg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rzede wszystkim w ramach metropolii bydgosko-toruńskiej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dnoznaczne preferencje dla kierunków inżynieryj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chęty do podejmowania pracy naukowej w region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067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wymiar społe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162828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Rynek prac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elastyczne dopasowanie do warunków gospodarczych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uże szanse wynikające z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ntegracji w wsparcia z EFS ze wsparciem z EFR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kolenia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owy model wspar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uży potencjał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ordynacji w obszarze polityki społecznej i polityki rynku p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rup o szczególnych potrzebach na rynku p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Usługi publiczn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impuls prorozwojowy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zedszkol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na terenach wiejsk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ystemowe podejście do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dnoszenia jakości szkolnictwa na wszystkich poziomach: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uczyciele; preferencje dla kierunków przyrodnicz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chrona zdrowi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oprawa dostępu do usług specjalistycznych (demografi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ultur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wzrost dostępności instytucji kultury + funkcje metropolital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spieran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owiązań funkcjonalnych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w połączeniu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rozwojem transportu zbiorowego) w ośrodku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etropolitalnym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raz w ośrodkach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ubregional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067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wymiar infrastruktural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844640"/>
            <a:ext cx="8507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decydowanym priorytetem 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prawa stanu oraz funkcjonowania komunikacji publicznej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raz z powstawaniem multimodalnych węzłów koncentrujących kilka środków transportu (koordynacja powiązań funkcjonalnych, przede wszystkim z ośrodkiem metropolitalny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kontekście infrastruktury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połeczeństwa informacyjnego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trzeby dotyczą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tynuacji projektów systemowych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poczętych w aktualnej perspektywie – dalszego rozwoju e-usług, a także zwiększania dostępności szerokopasmowego Interne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trzeby w obszarz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chrony środowiska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nikające z obowiązujących dyrektyw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prawą czystości wód i gospodarki wodno-ściekowej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graniczeniem źródeł niskiej emisji z wykorzystaniem O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067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o badan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Symbol zastępczy zawartości 3" descr=""/>
          <p:cNvPicPr/>
          <p:nvPr/>
        </p:nvPicPr>
        <p:blipFill>
          <a:blip r:embed="rId1"/>
          <a:stretch/>
        </p:blipFill>
        <p:spPr>
          <a:xfrm>
            <a:off x="390600" y="1835280"/>
            <a:ext cx="830880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ytuł 1"/>
          <p:cNvSpPr/>
          <p:nvPr/>
        </p:nvSpPr>
        <p:spPr>
          <a:xfrm>
            <a:off x="684360" y="2241720"/>
            <a:ext cx="7772400" cy="187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podsumowani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067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najważniejsze rekomend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628640"/>
          <a:ext cx="8229600" cy="5113440"/>
        </p:xfrm>
        <a:graphic>
          <a:graphicData uri="http://schemas.openxmlformats.org/drawingml/2006/table">
            <a:tbl>
              <a:tblPr/>
              <a:tblGrid>
                <a:gridCol w="514440"/>
                <a:gridCol w="4032000"/>
                <a:gridCol w="3683160"/>
              </a:tblGrid>
              <a:tr h="540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yzw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komendac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163332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mimo pozytywnych zmian w ujęciu bezwzględnym, województwo kujawsko-pomorskie traci dystans do większości pozostałych Polskich regionó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centracja na rozwoju sektora przedsiębiorstw jako rozwiązanie problemów gospodarki województwa – przede wszystkim bezrobo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97956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encjał metropolitalny Bydgoszczy i Torunia pozostaje w dalszym ciągu niewykorzystan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dnoznaczna koncentracja interwencji na obszarze metropolitalny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96056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ójność społeczna i przestrzenna województwa pozostaje dużym problem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inicjowanie procesów dyfuzyjnych na terenach defaworyzowanych oraz zagwarantowanie dostępu do podstawowych usług publicznych (w tym transportu zbioroweg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ytuł 1"/>
          <p:cNvSpPr/>
          <p:nvPr/>
        </p:nvSpPr>
        <p:spPr>
          <a:xfrm>
            <a:off x="649440" y="2205000"/>
            <a:ext cx="7772400" cy="251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"/>
              </a:rPr>
              <a:t>dziękuję za uwagę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067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metody badawc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naliza dostępnych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ateriałów źródłow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naliz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anych pierwot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nkieta JST (</a:t>
            </a:r>
            <a:r>
              <a:rPr b="1" lang="pl-PL" sz="2000" spc="-1" strike="noStrike">
                <a:solidFill>
                  <a:srgbClr val="c0504d"/>
                </a:solidFill>
                <a:latin typeface="Calibri"/>
              </a:rPr>
              <a:t>142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wypełnione kwestionarius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nkiety potencjalnych beneficjent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czelnie (</a:t>
            </a:r>
            <a:r>
              <a:rPr b="1" lang="pl-PL" sz="1800" spc="-1" strike="noStrike">
                <a:solidFill>
                  <a:srgbClr val="c0504d"/>
                </a:solidFill>
                <a:latin typeface="Calibri"/>
              </a:rPr>
              <a:t>21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, instytucje nauki (</a:t>
            </a:r>
            <a:r>
              <a:rPr b="1" lang="pl-PL" sz="1800" spc="-1" strike="noStrike">
                <a:solidFill>
                  <a:srgbClr val="c0504d"/>
                </a:solidFill>
                <a:latin typeface="Calibri"/>
              </a:rPr>
              <a:t>11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stytucje edukacji (</a:t>
            </a:r>
            <a:r>
              <a:rPr b="1" lang="pl-PL" sz="1800" spc="-1" strike="noStrike">
                <a:solidFill>
                  <a:srgbClr val="c0504d"/>
                </a:solidFill>
                <a:latin typeface="Calibri"/>
              </a:rPr>
              <a:t>140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, sportu (</a:t>
            </a:r>
            <a:r>
              <a:rPr b="1" lang="pl-PL" sz="1800" spc="-1" strike="noStrike">
                <a:solidFill>
                  <a:srgbClr val="c0504d"/>
                </a:solidFill>
                <a:latin typeface="Calibri"/>
              </a:rPr>
              <a:t>33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, turystyki (</a:t>
            </a:r>
            <a:r>
              <a:rPr b="1" lang="pl-PL" sz="1800" spc="-1" strike="noStrike">
                <a:solidFill>
                  <a:srgbClr val="c0504d"/>
                </a:solidFill>
                <a:latin typeface="Calibri"/>
              </a:rPr>
              <a:t>7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 i kultury (</a:t>
            </a:r>
            <a:r>
              <a:rPr b="1" lang="pl-PL" sz="1800" spc="-1" strike="noStrike">
                <a:solidFill>
                  <a:srgbClr val="c0504d"/>
                </a:solidFill>
                <a:latin typeface="Calibri"/>
              </a:rPr>
              <a:t>42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nstytucje ochrony zdrowia (</a:t>
            </a:r>
            <a:r>
              <a:rPr b="1" lang="pl-PL" sz="1800" spc="-1" strike="noStrike">
                <a:solidFill>
                  <a:srgbClr val="c0504d"/>
                </a:solidFill>
                <a:latin typeface="Calibri"/>
              </a:rPr>
              <a:t>50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 i pomocy społecznej (</a:t>
            </a:r>
            <a:r>
              <a:rPr b="1" lang="pl-PL" sz="1800" spc="-1" strike="noStrike">
                <a:solidFill>
                  <a:srgbClr val="c0504d"/>
                </a:solidFill>
                <a:latin typeface="Calibri"/>
              </a:rPr>
              <a:t>54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rganizacje pozarządowe (</a:t>
            </a:r>
            <a:r>
              <a:rPr b="1" lang="pl-PL" sz="1800" spc="-1" strike="noStrike">
                <a:solidFill>
                  <a:srgbClr val="c0504d"/>
                </a:solidFill>
                <a:latin typeface="Calibri"/>
              </a:rPr>
              <a:t>90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, instytucje otoczenia biznesu (</a:t>
            </a:r>
            <a:r>
              <a:rPr b="1" lang="pl-PL" sz="1800" spc="-1" strike="noStrike">
                <a:solidFill>
                  <a:srgbClr val="c0504d"/>
                </a:solidFill>
                <a:latin typeface="Calibri"/>
              </a:rPr>
              <a:t>26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dsiębiorstwa (</a:t>
            </a:r>
            <a:r>
              <a:rPr b="1" lang="pl-PL" sz="1800" spc="-1" strike="noStrike">
                <a:solidFill>
                  <a:srgbClr val="c0504d"/>
                </a:solidFill>
                <a:latin typeface="Calibri"/>
              </a:rPr>
              <a:t>200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nkieta mieszkańców województwa (</a:t>
            </a:r>
            <a:r>
              <a:rPr b="1" lang="pl-PL" sz="2000" spc="-1" strike="noStrike">
                <a:solidFill>
                  <a:srgbClr val="c0504d"/>
                </a:solidFill>
                <a:latin typeface="Calibri"/>
              </a:rPr>
              <a:t>112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adania jakościow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wiady indywidualne: twórcy polityki regionalnej oraz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edstawiciele kluczowych beneficjentów (</a:t>
            </a:r>
            <a:r>
              <a:rPr b="1" lang="pl-PL" sz="1800" spc="-1" strike="noStrike">
                <a:solidFill>
                  <a:srgbClr val="c0504d"/>
                </a:solidFill>
                <a:latin typeface="Calibri"/>
              </a:rPr>
              <a:t>28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wiad grupowy (</a:t>
            </a:r>
            <a:r>
              <a:rPr b="1" lang="pl-PL" sz="1800" spc="-1" strike="noStrike">
                <a:solidFill>
                  <a:srgbClr val="c0504d"/>
                </a:solidFill>
                <a:latin typeface="Calibri"/>
              </a:rPr>
              <a:t>12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ytuł 1"/>
          <p:cNvSpPr/>
          <p:nvPr/>
        </p:nvSpPr>
        <p:spPr>
          <a:xfrm>
            <a:off x="684360" y="2205000"/>
            <a:ext cx="7772400" cy="187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kontekst badani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9311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nowe dokumenty strategicz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Symbol zastępczy zawartości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61196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067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Strategia Rozwoju WK-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844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ces aktualizacji – najważniejsze wnioski z punktu widzenia prac nad nowym programem operacyjny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ilne wyeksponowanie sytuacji n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egionalnym rynku pra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co zmienione podejście d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ranż specjalizacji regionalnej gospodar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ydgosko-Toruński Obszar Metropolitalny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mieniony z nazwy, równolegle przewidziane wsparcie dla ośrodków subregional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dniesienie jakości usług publicznych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ko narzędzie zwiększenia spójności społecznej województ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067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</a:rPr>
              <a:t>zmieniony zakres interwen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70028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ele tematyczne – większy akcent n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nowacyjność i „zieloną” gospodark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ing-fencing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minimalne pułapy dla celów tematycznyc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50% na innowacyjność (cel 1), technologie ICT (cel 2), wsparcie MSP (cel 3) oraz niskoemisyjną gospodarkę (cel 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5% na zwiększanie zatrudnienia (cel 8), przeciwdziałanie wykluczeniu (cel 9) oraz edukację (cel 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niej środków n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lokalną infrastrukturę transportową i społeczn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ększ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centracja środków </a:t>
            </a:r>
            <a:r>
              <a:rPr b="0" lang="pl-P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nadmierne rozproszenie jednym z głównych zarzutów dotyczących obecnego okresu programow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70675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</a:rPr>
              <a:t>nowa architektura program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44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tynuacja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egionalnych programów operacyjny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iększa decentralizacj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parcie dla EFS i EFRR w ramach jednego programu – po raz pierwszy będzie możliwe zaprogramowanie na poziomie regionu „miękkiego” komponentu interwen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prawdopodobniej: 1 cel tematyczny = 1 oś prioryteto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owe narzędzia realizacyj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integrowane inwestycje terytorialne (ZIT) – jeden instrument dla Bydgoszczy i Toru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wój lokalny kreowany przez społeczność (RLK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ontrakt terytorialny (K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4:16:48Z</dcterms:created>
  <dc:creator>IBS</dc:creator>
  <dc:description/>
  <dc:language>en-US</dc:language>
  <cp:lastModifiedBy>Andrzej Regulski</cp:lastModifiedBy>
  <cp:lastPrinted>2012-11-08T10:00:58Z</cp:lastPrinted>
  <dcterms:modified xsi:type="dcterms:W3CDTF">2012-11-09T06:01:16Z</dcterms:modified>
  <cp:revision>119</cp:revision>
  <dc:subject/>
  <dc:title>UMWK-P_14-20_raport_koncowy</dc:title>
</cp:coreProperties>
</file>