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jpeg" ContentType="image/jpeg"/>
  <Override PartName="/ppt/media/image1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2.png" ContentType="image/png"/>
  <Override PartName="/ppt/media/image10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2E3-1EF7-4DF0-A40C-C7809648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1B8E-5C26-48EC-889F-2199BE09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B2F-EA41-4F4F-979D-32FC473B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7D0F-A600-4252-80D4-577910C0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BEC3-0461-41D8-A49A-FF3D336B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15E2-0AAA-47E5-ADE0-A4F7347E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E06-52F5-4B46-B36F-D3466537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C5B5-4CDD-4778-B2C2-FA0FACC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2905-668C-4D0A-B853-3C256A43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C7C2-780D-4CD8-9BCE-688B5944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8FBF-4ED1-475B-8B09-CD9C227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15F-865D-4384-BA19-7AF41A0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DFD0-F444-47D5-A42D-B0C3418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63F8-73B9-4A67-BA79-D9F91124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2C9C-02B7-49F1-BF1E-71CA200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41DC-B96B-44D0-A61A-1C4DEE96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8768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32360" y="175248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8768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32360" y="4039560"/>
            <a:ext cx="22327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64C8-8C53-4733-B31E-EE703785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58B-27DE-4CA7-B596-101D205E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7CB-A83D-44BF-B374-6A080ACC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B4F-D01C-499B-977A-48BBEFA5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520"/>
            <a:ext cx="69343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CF3-40F3-45B3-B6F3-B2937C0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817-1B21-4E3B-817F-32CF5FEA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6200" y="403956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310-19B2-468A-A2FD-8829285D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200" y="1752480"/>
            <a:ext cx="33836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039560"/>
            <a:ext cx="6934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EA2-10BC-4092-8989-AAF45F51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raz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Palatino Linotype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fld id="{511DAC0D-C0A8-4C02-9FBF-783D8DB6D568}" type="slidenum">
              <a:rPr b="0" lang="pl-PL" sz="1000" spc="-1" strike="noStrike">
                <a:solidFill>
                  <a:srgbClr val="000000"/>
                </a:solidFill>
                <a:latin typeface="Palatino Linotype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az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37335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920" y="653364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590920" y="6531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781320" y="6531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Palatino Linotype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3AD-6EFC-4B34-B1CA-96492D7C5850}" type="slidenum">
              <a:rPr b="0" lang="pl-PL" sz="1000" spc="-1" strike="noStrike">
                <a:solidFill>
                  <a:srgbClr val="000000"/>
                </a:solidFill>
                <a:latin typeface="Palatino Linotype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1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2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4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5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6"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66600" y="3551040"/>
            <a:ext cx="8967600" cy="19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Palatino Linotype"/>
              </a:rPr>
              <a:t>Wsparcie promocji i rozwoju markowych produktów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Palatino Linotype"/>
              </a:rPr>
              <a:t>wniosek o płatność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Palatino Linotype"/>
              </a:rPr>
              <a:t>w ramach Działania 5.5 RPO WK-P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29800" y="1481760"/>
            <a:ext cx="7581960" cy="18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198960"/>
                <a:tab algn="l" pos="4114800"/>
                <a:tab algn="l" pos="5029200"/>
                <a:tab algn="l" pos="5942160"/>
                <a:tab algn="l" pos="685656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Urząd Marszałkowski Województwa Kujawsko Pomorskiego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198960"/>
                <a:tab algn="l" pos="4114800"/>
                <a:tab algn="l" pos="5029200"/>
                <a:tab algn="l" pos="5942160"/>
                <a:tab algn="l" pos="685656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Departament Rozwoju Gospodarczego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198960"/>
                <a:tab algn="l" pos="4114800"/>
                <a:tab algn="l" pos="5029200"/>
                <a:tab algn="l" pos="5942160"/>
                <a:tab algn="l" pos="685656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Biuro Produktu Markowego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198960"/>
                <a:tab algn="l" pos="4114800"/>
                <a:tab algn="l" pos="5029200"/>
                <a:tab algn="l" pos="5942160"/>
                <a:tab algn="l" pos="685656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Wrzesień 2011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6" name="Obraz 3" descr=""/>
          <p:cNvPicPr/>
          <p:nvPr/>
        </p:nvPicPr>
        <p:blipFill>
          <a:blip r:embed="rId1"/>
          <a:srcRect l="0" t="20021" r="0" b="15020"/>
          <a:stretch/>
        </p:blipFill>
        <p:spPr>
          <a:xfrm>
            <a:off x="539640" y="482760"/>
            <a:ext cx="8101080" cy="1533240"/>
          </a:xfrm>
          <a:prstGeom prst="rect">
            <a:avLst/>
          </a:prstGeom>
          <a:ln w="0">
            <a:noFill/>
          </a:ln>
        </p:spPr>
      </p:pic>
      <p:pic>
        <p:nvPicPr>
          <p:cNvPr id="87" name="Obraz 4" descr=""/>
          <p:cNvPicPr/>
          <p:nvPr/>
        </p:nvPicPr>
        <p:blipFill>
          <a:blip r:embed="rId2"/>
          <a:stretch/>
        </p:blipFill>
        <p:spPr>
          <a:xfrm>
            <a:off x="4187880" y="755640"/>
            <a:ext cx="4334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Załączniki do wniosku o płatność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znaczone datą i potwierdzone za zgodność z oryginałem przez Beneficjenta projektu lub osobę upoważnioną do reprezentowania podmiotu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kopie faktur lub innych dokumentów o równoważnej wartości dowodowej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kopie dokumentów potwierdzających odbiór urządzeń/sprzętu lub wykonanie prac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kopie wyciągów bankowych z rachunku bankowego Beneficjenta projektu lub przelewów bankowych, potwierdzających poniesienie wydatków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kopie dokumentów potwierdzających stosowanie ustawy Prawo Zamówień Publicznych lub stosowanie Wytycznych Instytucji Zarządzającej RPO   w sprawie realizowania zamówień współfinansowanych ze środków EFRR, w stosunku do których beneficjenci nie są zobowiązani do stosowania ustawy – Prawo zamówień publicznych (przedstawienie np. 3 ofert),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- kopie innych dokumentów potwierdzających i uzasadniających prawidłową realizację Projektu, w tym zdjęć dokumentujących przebieg imprezy targowo-wystawienniczej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walifikowalność wydatków: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1 styczeń 2010 r. – 31 marzec 2011 r.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opuszcza się wydatki z 2009 roku jednak tylko dotyczące działań zrealizowanych w 2010 r. np. wcześniejsza rezerwacja powierzchni targowej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7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5508720" y="3978360"/>
            <a:ext cx="1952640" cy="207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  <a:ea typeface="Arial"/>
              </a:rPr>
              <a:t>Kwalifikowalność wydatków:</a:t>
            </a:r>
            <a:endParaRPr b="0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55640" y="1752480"/>
            <a:ext cx="73216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egulamin składania wniosków o dofinansowanie projektu w ramach projektu własnego Samorządu Województwa Kujawsko-Pomorskiego realizowanego w ramach RPO WK-P na lata 2007-2013 (§ 9 katalog wydatków kwalifikowalnych w ramach kategorii projektu)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tyczne w zakresie kwalifikowalności wydatków w ramac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Regionalnego Programu Operacyjnego Województwa Kujawsko-Pomorskiego na lata 2007-2013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Wytyczne w sprawie realizowania zamówień współfinansowanych ze środków Europejskiego Funduszu Rozwoju Regionalnego, w stosunku do których Beneficjenci nie są zobowiązani do stosowania Ustawy Prawo Zamówień Publicznych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dstawowe zasady kwalifikowania wydatków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276280"/>
            <a:ext cx="7561440" cy="31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7080" indent="-30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powinien być niezbędny dla realizacji projektu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powinien być dokonany zgodnie z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obowiązującym prawem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powinien być dokonany zgodnie z umową o dofinansowanie projektu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powinien być dokonany w sposób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oszczędny, tzn. w oparciu o zasadę dążenia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do uzyskania założonych efektów przy jak 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najniższej kwocie wydatku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07080" indent="-307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0" name="Picture 5" descr="C:\Program Files\Microsoft Office\MEDIA\CAGCAT10\j0287005.wmf"/>
          <p:cNvPicPr/>
          <p:nvPr/>
        </p:nvPicPr>
        <p:blipFill>
          <a:blip r:embed="rId1"/>
          <a:stretch/>
        </p:blipFill>
        <p:spPr>
          <a:xfrm>
            <a:off x="6516720" y="3860640"/>
            <a:ext cx="1942920" cy="20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Podstawowe zasady kwalifikowania wydatków cd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, który został uznany za kwalifikowalny w ramach danego projektu dofinansowanego środkami publicznymi krajowymi lub unijnymi nie może być ponownie uznany za wydatek kwalifikowalny w ramach innego projektu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powinien być należycie dokumentowany. Dowodem poniesienia wydatku jest faktura lub inny dokument księgowy o równoważnej wartości dowodowej w rozumieniu ustawy o rachunkowości wraz z dowodami zapłaty,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  <a:ea typeface="Arial"/>
              </a:rPr>
              <a:t>wydatek musi być poniesiony w okresie realizacji projektu, najpóźniej do 31.03.2011.</a:t>
            </a: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trola realizacji projekt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epartamentu Rozwoju Gospodarczego (Biuro Produktu Markowego)  dokona kontroli 100% realizowanych projektów,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o przeprowadzenia kontroli uprawnione są również inne instytucje i organy (np. Departament Wdrażania RPO Urz. Marsz., Urząd Kontroli Skarbowej, NIK, OLAF), przy czym szczegółowy zakres i sposób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prowadzenia kontroli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widziane są w odrębnych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zepisach prawa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5" name="Picture 5" descr="C:\Users\v.weroniecka\Desktop\MC900438085.bmp"/>
          <p:cNvPicPr/>
          <p:nvPr/>
        </p:nvPicPr>
        <p:blipFill>
          <a:blip r:embed="rId1"/>
          <a:stretch/>
        </p:blipFill>
        <p:spPr>
          <a:xfrm>
            <a:off x="4627440" y="3933720"/>
            <a:ext cx="2608560" cy="19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Kontrola na miejsc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00000" y="1557360"/>
            <a:ext cx="7221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godność finansowej realizacji projektu z przepisami prawa, oryginały dokumentów księgowych, w tym oryginały dokumentów potwierdzających poniesienie wydatków, wydruki z ewidencji księgowej,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zgodność dokonanych w ramach projektu zakupów z „Wytycznymi w sprawie realizowania zamówień współfinansowanych z EFRR ….”,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bowiązujące u Beneficjenta procedury archiwizacji dokumentów związanych z projektem realizowanym w ramach RPO WK - P.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4788000" y="4508640"/>
            <a:ext cx="2046240" cy="163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487080"/>
            <a:ext cx="7537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Arial"/>
              </a:rPr>
              <a:t>Więcej informacji</a:t>
            </a:r>
            <a:br>
              <a:rPr sz="4000"/>
            </a:br>
            <a:r>
              <a:rPr b="1" lang="pl-PL" sz="4000" spc="-1" strike="noStrike" u="sng">
                <a:solidFill>
                  <a:srgbClr val="0000ff"/>
                </a:solidFill>
                <a:uFillTx/>
                <a:latin typeface="Arial"/>
              </a:rPr>
              <a:t>www.mojregion.eu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0" name="Obraz 2" descr=""/>
          <p:cNvPicPr/>
          <p:nvPr/>
        </p:nvPicPr>
        <p:blipFill>
          <a:blip r:embed="rId1"/>
          <a:stretch/>
        </p:blipFill>
        <p:spPr>
          <a:xfrm>
            <a:off x="3600360" y="2340000"/>
            <a:ext cx="4924440" cy="4108320"/>
          </a:xfrm>
          <a:prstGeom prst="rect">
            <a:avLst/>
          </a:prstGeom>
          <a:ln w="0">
            <a:noFill/>
          </a:ln>
        </p:spPr>
      </p:pic>
      <p:pic>
        <p:nvPicPr>
          <p:cNvPr id="141" name="Obraz 3" descr=""/>
          <p:cNvPicPr/>
          <p:nvPr/>
        </p:nvPicPr>
        <p:blipFill>
          <a:blip r:embed="rId2"/>
          <a:stretch/>
        </p:blipFill>
        <p:spPr>
          <a:xfrm>
            <a:off x="625320" y="2732040"/>
            <a:ext cx="3522960" cy="1947960"/>
          </a:xfrm>
          <a:prstGeom prst="rect">
            <a:avLst/>
          </a:prstGeom>
          <a:ln w="0">
            <a:noFill/>
          </a:ln>
        </p:spPr>
      </p:pic>
      <p:sp>
        <p:nvSpPr>
          <p:cNvPr id="142" name="Dowolny kształt 4"/>
          <p:cNvSpPr/>
          <p:nvPr/>
        </p:nvSpPr>
        <p:spPr>
          <a:xfrm>
            <a:off x="7039080" y="5040360"/>
            <a:ext cx="1620720" cy="107928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  <a:path w="21600" h="21600">
                <a:moveTo>
                  <a:pt x="-53767" y="-23306"/>
                </a:moveTo>
                <a:lnTo>
                  <a:pt x="-3600" y="4000"/>
                </a:lnTo>
              </a:path>
              <a:path w="21600" h="21600">
                <a:moveTo>
                  <a:pt x="-3600" y="4000"/>
                </a:moveTo>
                <a:lnTo>
                  <a:pt x="-1204" y="3996"/>
                </a:lnTo>
              </a:path>
            </a:pathLst>
          </a:cu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26000" rIns="126000" tIns="81000" bIns="81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65040" y="1719360"/>
            <a:ext cx="46846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000000"/>
                </a:solidFill>
                <a:uFillTx/>
                <a:latin typeface="Arial"/>
              </a:rPr>
              <a:t>Dziękuję za uwagę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9560" y="759960"/>
            <a:ext cx="760752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ziałanie 5.5. Promocja i rozwój markowych produktów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89" name="Obraz 4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846360" cy="985680"/>
          </a:xfrm>
          <a:prstGeom prst="rect">
            <a:avLst/>
          </a:prstGeom>
          <a:ln w="0">
            <a:noFill/>
          </a:ln>
        </p:spPr>
      </p:pic>
      <p:sp>
        <p:nvSpPr>
          <p:cNvPr id="90" name="pole tekstowe 7"/>
          <p:cNvSpPr/>
          <p:nvPr/>
        </p:nvSpPr>
        <p:spPr>
          <a:xfrm>
            <a:off x="1038240" y="1569960"/>
            <a:ext cx="540540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epartament Rozwoju Przedsiębiorczoś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Biuro Produktu Mark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ole tekstowe 10"/>
          <p:cNvSpPr/>
          <p:nvPr/>
        </p:nvSpPr>
        <p:spPr>
          <a:xfrm>
            <a:off x="3740040" y="3271680"/>
            <a:ext cx="341964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kt włas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amorządu Wojewódz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rostokąt 1"/>
          <p:cNvSpPr/>
          <p:nvPr/>
        </p:nvSpPr>
        <p:spPr>
          <a:xfrm>
            <a:off x="3740040" y="4651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partament Rozwoju Gospodarcz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iuro Produktu Mark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le tekstowe 1"/>
          <p:cNvSpPr/>
          <p:nvPr/>
        </p:nvSpPr>
        <p:spPr>
          <a:xfrm>
            <a:off x="755640" y="692280"/>
            <a:ext cx="615636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tapy oceny i wdrażania wnios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olny kształt 2"/>
          <p:cNvSpPr/>
          <p:nvPr/>
        </p:nvSpPr>
        <p:spPr>
          <a:xfrm>
            <a:off x="1547640" y="1908000"/>
            <a:ext cx="1260720" cy="10796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łożenie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wnio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olny kształt 3"/>
          <p:cNvSpPr/>
          <p:nvPr/>
        </p:nvSpPr>
        <p:spPr>
          <a:xfrm>
            <a:off x="2916360" y="1908000"/>
            <a:ext cx="1260360" cy="10796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cen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wnios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olny kształt 4"/>
          <p:cNvSpPr/>
          <p:nvPr/>
        </p:nvSpPr>
        <p:spPr>
          <a:xfrm>
            <a:off x="1319040" y="3240000"/>
            <a:ext cx="2303640" cy="1079640"/>
          </a:xfrm>
          <a:prstGeom prst="pie">
            <a:avLst/>
          </a:pr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odpisanie umowy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 dofinansowani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olny kształt 5"/>
          <p:cNvSpPr/>
          <p:nvPr/>
        </p:nvSpPr>
        <p:spPr>
          <a:xfrm>
            <a:off x="4356000" y="1919160"/>
            <a:ext cx="2000520" cy="1079640"/>
          </a:xfrm>
          <a:prstGeom prst="pie">
            <a:avLst/>
          </a:prstGeom>
          <a:solidFill>
            <a:srgbClr val="23ff2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lizacja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owolny kształt 6"/>
          <p:cNvSpPr/>
          <p:nvPr/>
        </p:nvSpPr>
        <p:spPr>
          <a:xfrm>
            <a:off x="3995640" y="3168720"/>
            <a:ext cx="1944720" cy="1079280"/>
          </a:xfrm>
          <a:prstGeom prst="pie">
            <a:avLst/>
          </a:prstGeom>
          <a:solidFill>
            <a:srgbClr val="23ff2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Złożenie wnios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Dowolny kształt 7"/>
          <p:cNvSpPr/>
          <p:nvPr/>
        </p:nvSpPr>
        <p:spPr>
          <a:xfrm>
            <a:off x="6084720" y="3168720"/>
            <a:ext cx="2087640" cy="1079280"/>
          </a:xfrm>
          <a:prstGeom prst="pie">
            <a:avLst/>
          </a:prstGeom>
          <a:solidFill>
            <a:srgbClr val="23ff2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Weryfikacja wniosku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płat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owolny kształt 8"/>
          <p:cNvSpPr/>
          <p:nvPr/>
        </p:nvSpPr>
        <p:spPr>
          <a:xfrm>
            <a:off x="3635280" y="4464000"/>
            <a:ext cx="1908360" cy="1079640"/>
          </a:xfrm>
          <a:prstGeom prst="pie">
            <a:avLst/>
          </a:prstGeom>
          <a:solidFill>
            <a:srgbClr val="ffff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Kontrola 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wolny kształt 9"/>
          <p:cNvSpPr/>
          <p:nvPr/>
        </p:nvSpPr>
        <p:spPr>
          <a:xfrm>
            <a:off x="5651640" y="4464000"/>
            <a:ext cx="1728720" cy="1079640"/>
          </a:xfrm>
          <a:prstGeom prst="pie">
            <a:avLst/>
          </a:prstGeom>
          <a:solidFill>
            <a:srgbClr val="ffff66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Wypłata środk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ole tekstowe 12"/>
          <p:cNvSpPr/>
          <p:nvPr/>
        </p:nvSpPr>
        <p:spPr>
          <a:xfrm>
            <a:off x="395280" y="1619280"/>
            <a:ext cx="1260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ff"/>
                </a:solidFill>
                <a:latin typeface="Webdings"/>
                <a:ea typeface="Webdings"/>
              </a:rPr>
              <a:t>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ole tekstowe 13"/>
          <p:cNvSpPr/>
          <p:nvPr/>
        </p:nvSpPr>
        <p:spPr>
          <a:xfrm>
            <a:off x="7056360" y="4319640"/>
            <a:ext cx="12589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1760"/>
                <a:tab algn="l" pos="3657600"/>
                <a:tab algn="l" pos="4572000"/>
                <a:tab algn="l" pos="5484960"/>
                <a:tab algn="l" pos="6399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0" spc="-1" strike="noStrike">
                <a:solidFill>
                  <a:srgbClr val="0000ff"/>
                </a:solidFill>
                <a:latin typeface="Webdings"/>
                <a:ea typeface="Webdings"/>
              </a:rPr>
              <a:t>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Umowa o dofinansowanie projekt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 projektu składa wniosek o płatność końcową do Samorządu  do 90 dni od dnia zawarcia umowy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zekazanie płatności końcowej następuje w terminie do 85 dni roboczych od momentu złożenia poprawnej wersji wniosku o płatność. W przypadku braku wystarczających środków na rachunku bankowym Samorządu Województwa Kujawsko-Pomorskiego, z którego dokonywana jest płatność, dofinansowanie zostanie wypłacone Beneficjentowi projektu niezwłocznie po wpływie na rachunek bankowy Samorządu Województwa Kujawsko-Pomorskiego niezbędnej wysokości środków dotacji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 projektu zobowiązuje się do prowadzenia, zgodnie z obowiązującymi przepisami, wyodrębnionej ewidencji księgowej dotyczącej realizacji Projektu z podziałem analitycznym i w sposób przejrzysty, umożliwiającej identyfikację poszczególnych operacji księgowych i bankowych przeprowadzonych dla wszystkich wydatków w ramach Projektu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26160" indent="-3261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Umowa o dofinansowanie projekt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 projektu jest zobowiązany do przechowywania pełnej dokumentacji związanej z realizacją Projektu do dnia 31 grudnia 2020 r., z zastrzeżeniem, że Beneficjent projektu zobowiązany jest do przechowywania dokumentów związanych z udzieloną pomocą publiczną przez okres 10 lat od dnia zawarcia niniejszej Umowy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y w Umowie nie mogą prowadzić do zwiększenia dofinansowania określonego w § 2 ust. 3 Umowy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a rachunku bankowego Beneficjenta projektu wymaga poinformowania Samorządu w formie pisemnej celem dokonania zmiany Umowy w formie aneksu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Umowa o dofinansowanie projekt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3000" y="1557360"/>
            <a:ext cx="693432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y zakładanych wskaźników realizacji Projektu, przekraczające 15 % ich wartości, mogą być dokonane po uzyskaniu pisemnej zgody Samorządu. Zmiany te wymagają aneksowania w oparciu o zaktualizowany wniosek o dofinansowanie Projektu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y wskaźników realizacji Projektu nie przekraczające 15% ich wartości oraz przesunięcia pomiędzy kategoriami wydatków nie przekraczające 15% ich zaplanowanej wartości, mogą być dokonane przez pisemne poinformowanie o planowanej zmianie. Brak pisemnego sprzeciwu ze strony Samorządu w terminie 14 dni od daty wpływu wniosku o zmianę oznacza akceptację planowanej zmiany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y w harmonogramie rzeczowo-finansowym polegające na przesunięciach przekraczających 15% ich zaplanowanej wartości oraz zmiany instytucji, które ponoszą dany wydatek (dotyczy projektów partnerskich) wymagają aktualizacji harmonogramu rzeczowo-finansowego na etapie składania wniosku o płatność i wymagają zgody Samorządu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miany zakładanych wskaźników produktów i rezultatów realizacji Projektu, przekraczające 15% ich wartości, wymagają dokonania zmiany w Umowie w formie aneksu. Podstawą zmian będzie zaktualizowany wniosek o dofinansowanie Projektu.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Umowa o dofinansowanie projektu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43000" y="1752480"/>
            <a:ext cx="6934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eneficjent projektu jest zobowiązany do zwrotu środków wraz z odsetkami w wysokości określonej jak dla zaległości podatkowych w przypadku: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ykorzystania całości lub części dofinansowania niezgodnie z przeznaczeniem, bez zachowania obowiązujących procedur,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obrania całości lub części dofinansowania w sposób nienależny lub w nadmiernej wysokości, 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2" name="Picture 4" descr="C:\Users\v.weroniecka\Desktop\MP900227538.JPG"/>
          <p:cNvPicPr/>
          <p:nvPr/>
        </p:nvPicPr>
        <p:blipFill>
          <a:blip r:embed="rId1"/>
          <a:stretch/>
        </p:blipFill>
        <p:spPr>
          <a:xfrm>
            <a:off x="3419640" y="342900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62028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Wniosek o płatność: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640" y="224964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Celem weryfikacji wniosku Beneficjenta o płatność jest sprawdzenie kwalifikowalności  dokonanych wydatków, poświadczenie tych wydatków oraz dokonanie płatności na rzecz Beneficjenta projektu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4564080" y="3421080"/>
            <a:ext cx="14400" cy="14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2"/>
          <a:stretch/>
        </p:blipFill>
        <p:spPr>
          <a:xfrm>
            <a:off x="4716360" y="3573360"/>
            <a:ext cx="14400" cy="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3"/>
          <a:stretch/>
        </p:blipFill>
        <p:spPr>
          <a:xfrm>
            <a:off x="4869000" y="3726000"/>
            <a:ext cx="14040" cy="1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4"/>
          <a:stretch/>
        </p:blipFill>
        <p:spPr>
          <a:xfrm>
            <a:off x="5364000" y="3860640"/>
            <a:ext cx="2521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rostokąt 1"/>
          <p:cNvSpPr/>
          <p:nvPr/>
        </p:nvSpPr>
        <p:spPr>
          <a:xfrm>
            <a:off x="755640" y="750960"/>
            <a:ext cx="7632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eryfikacja wniosku Beneficjenta o płatnoś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prowadzona jest w oparciu o listę sprawdzając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eryfikacja formaln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prawdzenie zgodnoś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pisów we wniosku o płatność z posiada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ą (wniosek o dofinansowanie, um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 dofinansowanie wraz z aneksami), kontro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mpletności opisów na faktur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eryfikacja merytoryczn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przede wszystki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walifikowalność kosztów (w tym ich zgodnoś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erytoryczna z wnioskiem o dofinansowanie, treść opisów na fakturach, terminowość ponoszenia wydatków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weryfikacja rachunko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rawidłowość rachunkowa kwot, zgodność dokonanych wydatków z kwotami określonymi we wniosku o dofinans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227640" y="1700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4T11:33:08Z</dcterms:created>
  <dc:creator>wgrygucis</dc:creator>
  <dc:description/>
  <dc:language>en-US</dc:language>
  <cp:lastModifiedBy>Katarzyna Małkowska</cp:lastModifiedBy>
  <dcterms:modified xsi:type="dcterms:W3CDTF">2011-09-19T11:35:50Z</dcterms:modified>
  <cp:revision>100</cp:revision>
  <dc:subject/>
  <dc:title>Wyniki kwartalne i przedstawienie perspektyw na rok finansowy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cja 1">
    <vt:lpwstr/>
  </property>
  <property fmtid="{D5CDD505-2E9C-101B-9397-08002B2CF9AE}" pid="3" name="Informacja 2">
    <vt:lpwstr/>
  </property>
  <property fmtid="{D5CDD505-2E9C-101B-9397-08002B2CF9AE}" pid="4" name="Informacja 3">
    <vt:lpwstr/>
  </property>
  <property fmtid="{D5CDD505-2E9C-101B-9397-08002B2CF9AE}" pid="5" name="Informacja 4">
    <vt:lpwstr/>
  </property>
  <property fmtid="{D5CDD505-2E9C-101B-9397-08002B2CF9AE}" pid="6" name="_TemplateID">
    <vt:lpwstr>TC010197761045</vt:lpwstr>
  </property>
</Properties>
</file>