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3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-14889240" y="-12806280"/>
            <a:ext cx="18075240" cy="135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2124000" y="754200"/>
            <a:ext cx="254952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09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2124000" y="754200"/>
            <a:ext cx="254952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09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E4A6-279A-4A74-92C4-803A5EE98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163080"/>
            <a:ext cx="77835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630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322160"/>
            <a:ext cx="77630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3353-43CB-440E-A118-9B636AF6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163080"/>
            <a:ext cx="77835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88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0600" y="2017800"/>
            <a:ext cx="3788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322160"/>
            <a:ext cx="3788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0600" y="4322160"/>
            <a:ext cx="3788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6286-D533-4D4A-9FCE-9F8616293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163080"/>
            <a:ext cx="77835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4994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07360" y="2017800"/>
            <a:ext cx="24994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2120" y="2017800"/>
            <a:ext cx="24994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322160"/>
            <a:ext cx="24994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07360" y="4322160"/>
            <a:ext cx="24994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2120" y="4322160"/>
            <a:ext cx="24994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2517-DD2F-485F-9864-E46B58F01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B8FF-DFBD-4E95-A2CE-E64ED1B3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163080"/>
            <a:ext cx="77835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6304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A3BE-A4FE-49EA-9679-6D1F8186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163080"/>
            <a:ext cx="77835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630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2E8C-D7D2-4FF6-8292-96A9B54B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163080"/>
            <a:ext cx="77835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882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0600" y="2017800"/>
            <a:ext cx="37882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2CA2-6CC4-4C09-BC44-E1E2C4D9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163080"/>
            <a:ext cx="77835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DE89-C091-41C1-9A02-638C9C20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163080"/>
            <a:ext cx="7783560" cy="69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4D4E-7C0A-4195-A288-C68DCDF4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163080"/>
            <a:ext cx="77835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88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0600" y="2017800"/>
            <a:ext cx="37882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322160"/>
            <a:ext cx="3788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E0DF-1E23-40DB-AAE7-D75B09D6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163080"/>
            <a:ext cx="77835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6304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FE3A-A86F-48A4-9C1E-96DC119E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163080"/>
            <a:ext cx="77835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882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0600" y="2017800"/>
            <a:ext cx="3788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0600" y="4322160"/>
            <a:ext cx="3788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0D38-02BB-4C02-B1EE-CE3283A7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163080"/>
            <a:ext cx="77835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88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0600" y="2017800"/>
            <a:ext cx="3788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322160"/>
            <a:ext cx="77630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CA50-D03A-46FE-923F-1850C877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163080"/>
            <a:ext cx="77835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630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322160"/>
            <a:ext cx="77630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6D6F-BE04-49DA-AC1D-F08E98B1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163080"/>
            <a:ext cx="77835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88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0600" y="2017800"/>
            <a:ext cx="3788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322160"/>
            <a:ext cx="3788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0600" y="4322160"/>
            <a:ext cx="3788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747E-03BF-433C-A9A7-B4F35B0C5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163080"/>
            <a:ext cx="77835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4994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7360" y="2017800"/>
            <a:ext cx="24994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2120" y="2017800"/>
            <a:ext cx="24994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322160"/>
            <a:ext cx="24994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07360" y="4322160"/>
            <a:ext cx="24994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2120" y="4322160"/>
            <a:ext cx="24994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5C81-79FF-402C-954C-EDD3BF27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163080"/>
            <a:ext cx="77835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630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C65E-F25C-4B36-A9AE-5FFA403B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163080"/>
            <a:ext cx="77835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882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0600" y="2017800"/>
            <a:ext cx="37882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8B46-3453-4AC8-9B98-FE56B57E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163080"/>
            <a:ext cx="77835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9871-B86D-4504-9671-8EF4FE15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163080"/>
            <a:ext cx="7783560" cy="69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0699-FD1B-45A8-A4B8-73934DC2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163080"/>
            <a:ext cx="77835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88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0600" y="2017800"/>
            <a:ext cx="37882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322160"/>
            <a:ext cx="3788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86DC-4410-483C-8F53-D15679FD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163080"/>
            <a:ext cx="77835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882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0600" y="2017800"/>
            <a:ext cx="3788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0600" y="4322160"/>
            <a:ext cx="3788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8E93-5A6C-4DE4-B306-B3960364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163080"/>
            <a:ext cx="77835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88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0600" y="2017800"/>
            <a:ext cx="378828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322160"/>
            <a:ext cx="77630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E5DD-54E6-4D5B-AFB5-C8F58ADF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63080"/>
            <a:ext cx="77835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630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06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3320" indent="-276120">
              <a:lnSpc>
                <a:spcPct val="106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6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6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6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1720" y="6241680"/>
            <a:ext cx="18954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1680"/>
            <a:ext cx="2886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1680"/>
            <a:ext cx="18954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5435D16-F6D1-4099-AE52-D4667432AF55}" type="slidenum">
              <a:rPr b="0" lang="en-GB" sz="1400" spc="-1" strike="noStrike">
                <a:solidFill>
                  <a:srgbClr val="000000"/>
                </a:solidFill>
                <a:latin typeface="Tahoma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9" name="Group 2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50" name="Rectangle 3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Rectangle 4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53" name="Rectangle 6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Rectangle 7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6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Rectangle 8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lnSpc>
                  <a:spcPct val="6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1626840"/>
            <a:ext cx="77626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89540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8612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89540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1c1c1c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7A937A3-DAC3-4F7E-8240-E67E747B9D27}" type="slidenum">
              <a:rPr b="0" lang="en-GB" sz="1400" spc="-1" strike="noStrike">
                <a:solidFill>
                  <a:srgbClr val="1c1c1c"/>
                </a:solidFill>
                <a:latin typeface="Tahoma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024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lnSpc>
                <a:spcPct val="106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3320" indent="-276120">
              <a:lnSpc>
                <a:spcPct val="106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6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6000"/>
              </a:lnSpc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6000"/>
              </a:lnSpc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6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1833120"/>
            <a:ext cx="77724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ZAMÓWIENIA PUBLICZ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14280" y="3928680"/>
            <a:ext cx="70437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ahoma"/>
              </a:rPr>
              <a:t>Wydział Zarządzania PROW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163080"/>
            <a:ext cx="77835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Wykaz dokumentów c. d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42920" y="1856880"/>
            <a:ext cx="880272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78080" indent="-478080" algn="just">
              <a:lnSpc>
                <a:spcPct val="106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78080" indent="-478080">
              <a:lnSpc>
                <a:spcPct val="106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Opublikowane ogłoszenie o udzieleniu zamówienia publicznego w Biuletynie Zamówień Publicznych (wraz z potwierdzeniem zamieszczenia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78080" indent="-478080">
              <a:lnSpc>
                <a:spcPct val="106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Dokumentacja związana z odwołaniami oraz zapytaniami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i wyjaśnieniami do treści Specyfikacji Istotnych Warunków Zamówienia – jeśli miały miejsc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78080" indent="-478080">
              <a:lnSpc>
                <a:spcPct val="106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Protokół postępowania o udzielenie zamówienia publicznego wraz z obowiązującymi załącznikami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78080" indent="-478080">
              <a:lnSpc>
                <a:spcPct val="106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Decyzja o powołaniu komisji przetargowej (jeżeli dotycz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78080" indent="-478080">
              <a:lnSpc>
                <a:spcPct val="106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Inne dokumenty związane bezpośrednio z procedurą przetargową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163080"/>
            <a:ext cx="77835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Okres przechowywania dokumentacji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42920" y="1999800"/>
            <a:ext cx="880272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16440" indent="-316440" algn="just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6440" indent="-316440" algn="just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6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Zgodnie z § 5 ust. 1 pkt 8 Umowy o przyznanie pomocy w ramach działania „Odnowa i rozwój wsi” objętego PROW na lata 2007-2013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16440" indent="-316440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Beneficjent zobowiązuje się do spełnienia warunków określonych w Programie, ustawie i rozporządzeniu oraz realizacji operacji zgodnie z postanowieniami umowy,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a w szczególności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6440" indent="-316440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rzechowywania całości dokumentacji związanej z przyznaną pomocą do dnia upływu 7 lat od dnia przyznania pomoc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163080"/>
            <a:ext cx="77835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Sposób potwierdzania za zgodność z oryginał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42920" y="1999800"/>
            <a:ext cx="88581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19680" indent="-319680" algn="just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9680" indent="-319680" algn="just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9680" indent="-319680" algn="just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Zgodnie z rekomendacjami Agencji Restrukturyzacji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i Modernizacji Rolnictwa w sprawie sposobu potwierdzania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za zgodność z oryginałem dokumentacji z przeprowadzonego postępowania o udzielenie zamówienia publicznego, dopuszcza się możliwość potwierdzania kopii dokumentów 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poprzez zapis umieszczony na pierwszej stronie dokumentu, potwierdzając za zgodność z oryginałem strony od 1 do n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163080"/>
            <a:ext cx="77835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Sposób potwierdzania za zgodność z oryginałem c. d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42920" y="2017440"/>
            <a:ext cx="88027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 algn="just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Każda oferta jest oświadczeniem woli wykonawcy i składana jest w oryginale. Oryginał oferty złożony przez wykonawcę pozostaje w rękach Beneficjenta. Jeżeli w skład oryginału oferty wchodzą jakiekolwiek kopie potwierdzone za zgodność z oryginałem przez wykonawcę, to stają się one częścią oryginalnej oferty. Zamawiający potwierdza dokument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za zgodność z oryginałem, czyli z oryginalną, złożoną przez wykonawcę ofertą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163080"/>
            <a:ext cx="77835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Sposób potwierdzania za zgodność z oryginałem c. d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56760" y="2017800"/>
            <a:ext cx="8588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 algn="just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Reasumując, należy potwierdzać za zgodność z oryginałem traktując jako oryginał ofertę złożoną przez wykonawcę, bez względu na to czy w jej skład wchodzą same oryginały dokumentów czy też znajdują się w niej również kopie potwierdzone za zgodność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163080"/>
            <a:ext cx="77835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Weryfikacja dokumentacji przetargowe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42920" y="2017800"/>
            <a:ext cx="88027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 algn="just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 algn="just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Samorząd Województwa dokona oceny postępowania o udzielenie zamówienia publicznego w terminie 60 dni roboczych od dnia złożenia kompletnej dokumentacji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163080"/>
            <a:ext cx="77835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Weryfikacja dokumentacji przetargowej c. d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42920" y="2017800"/>
            <a:ext cx="88027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 algn="just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 algn="just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W przypadku, gdy w trakcie oceny postępowania niezbędne jest uzyskanie opinii innego podmiotu, termin dokonania oceny, o którym była mowa wcześniej (60 dni roboczych) wydłuża się o czas niezbędny do uzyskania opinii, o czym Samorząd Województwa informuje Beneficjenta na piśmi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163080"/>
            <a:ext cx="77835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Weryfikacja dokumentacji przetargowej c. d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2920" y="2017800"/>
            <a:ext cx="88027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 algn="just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 algn="just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W przypadku, gdy złożona dokumentacja lub wniosek nie są kompletne Samorząd Województwa wzywa Beneficjenta w formie pisemnej do ich uzupełnienia (usunięcia braków) lub złożenia dodatkowych wyjaśnień w terminie 7 dni od dnia doręczenia wezwan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163080"/>
            <a:ext cx="77835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Weryfikacja dokumentacji przetargowej c. d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42920" y="2017440"/>
            <a:ext cx="88027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16440" indent="-316440" algn="just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Jeżeli Beneficjent, pomimo wezwania, nie złożył wymaganych dokumentów w wyznaczonym terminie lub w wyniku oceny stwierdzono, że postępowanie o udzielenie zamówienia publicznego zostało przeprowadzone z naruszeniem przepisów ustawy z dnia 29 stycznia 2004 r. Prawo zamówień publicznych, mającym wpływ na wynik tego postępowania lub niezgodnie z warunkami określonymi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 Programie, ustawie, rozporządzeniu lub umowie, Samorząd Województwa pisemnie zawiadamia Beneficjenta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 negatywnej ocenie przeprowadzonego przez niego postępowania o udzielenie zamówienia publiczneg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Weryfikacja dokumentacji przetargowej c. d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68360" y="206028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zgodnie z § 18 ust 1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mowy o przyznanie pomocy w ramach działania „Odnowa i rozwój wsi” objętego PROW na lata 2007-201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Beneficjentowi przysługuje 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prawo do wniesienia prośby wraz z uzasadnieniem do Samorządu Województwa o ponowne rozpatrzenie sprawy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w zakresie rozstrzygnięcia Samorządu Województwa dotyczącego (…) oceny postępowania o udzielenie zamówienia publicznego, (…)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 terminie 14 dni od dnia doręczenia mu pisma o danym rozstrzygnięciu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44440"/>
            <a:ext cx="7792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rawo zamówień publiczny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920" y="2017440"/>
            <a:ext cx="8812080" cy="53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106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stawę z dnia 29 stycznia 2004 roku Prawo zamówień publicznych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Dz. U. z 2010 r. Nr 113, poz. 759 ze zm.)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stosuje się m. in. do zamówień i konkursów, których wartość przekracza wyrażoną w złotówkach równowartość kwot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14 000 euro (53 746,00 zł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06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AKTY WYKONAWC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 algn="just">
              <a:lnSpc>
                <a:spcPct val="106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Rozporządzenie Prezesa Rady Ministrów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z dnia 30 grudnia 2009 r. w sprawie rodzajów dokumentów, jakich może żądać zamawiający od wykonawcy oraz form, w jakich te dokumenty mogą być składane (</a:t>
            </a:r>
            <a:r>
              <a:rPr b="1" lang="nn-NO" sz="2400" spc="-1" strike="noStrike">
                <a:solidFill>
                  <a:srgbClr val="000000"/>
                </a:solidFill>
                <a:latin typeface="Tahoma"/>
              </a:rPr>
              <a:t>Dz. U. Nr 226, </a:t>
            </a:r>
            <a:br>
              <a:rPr sz="2400"/>
            </a:br>
            <a:r>
              <a:rPr b="1" lang="nn-NO" sz="2400" spc="-1" strike="noStrike">
                <a:solidFill>
                  <a:srgbClr val="000000"/>
                </a:solidFill>
                <a:latin typeface="Tahoma"/>
              </a:rPr>
              <a:t>poz. 1817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163080"/>
            <a:ext cx="77835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Weryfikacja dokumentacji przetargowej c. d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42920" y="2017800"/>
            <a:ext cx="88027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 algn="just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 algn="just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6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Zgodnie z § 11 ust. 1 pkt 4 Umowy o przyznanie pomoc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 ramach działania „Odnowa i rozwój wsi” objętego PROW na lata 2007-2013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 algn="just">
              <a:lnSpc>
                <a:spcPct val="106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mowa ulega rozwiązaniu w następujących przypadkach: (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 algn="just">
              <a:lnSpc>
                <a:spcPct val="106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arenR" startAt="4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 wyniku negatywnej oceny wszystkich postępowań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 udzielenie zamówienia publicznego w ramach operacj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2640" y="713880"/>
            <a:ext cx="7783560" cy="8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Wniosek o płatność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13880" y="2214360"/>
            <a:ext cx="82314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25080" indent="-325080" algn="just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080" indent="-325080" algn="just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Zgodnie z Książką Procedur KP-611-184-ARiMR/2/z złożenie Wniosku o płatność może nastąpić po weryfikacji wszystkich postępowań o udzielenie zamówienia publicznego przeprowadzonego w ramach danego etapu realizacji operacj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163080"/>
            <a:ext cx="77835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Najczęściej popełniane błędy przez  Zamawiających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50920" y="2017800"/>
            <a:ext cx="86947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06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Brak dokumentu upoważniającego daną osobę do podpisywania się „za zgodność z oryginałem” za osobę pełniącą funkcję kierownika Zamawiającego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>
              <a:lnSpc>
                <a:spcPct val="106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Brak dokumentów w sprawie powołania komisji przetargowej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>
              <a:lnSpc>
                <a:spcPct val="106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Brak odpowiednich druków stanowiących załączniki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do Protokołu postępowania o udzielenie zamówienia;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>
              <a:lnSpc>
                <a:spcPct val="106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Niewłaściwie wypisany Protokół postępowani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>
              <a:lnSpc>
                <a:spcPct val="106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Brak adnotacji o terminie wywieszenia Ogłoszenia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o zamówieniu, Informacji o wyborze najkorzystniejszej oferty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z siedziby Zamawiającego (data od – do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>
              <a:lnSpc>
                <a:spcPct val="106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>
              <a:lnSpc>
                <a:spcPct val="106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163080"/>
            <a:ext cx="77835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Najczęściej popełniane błędy przez  Zamawiających c.d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8920" y="2017800"/>
            <a:ext cx="876636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29760" indent="-329760">
              <a:lnSpc>
                <a:spcPct val="106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Niepoprawne numeracje stron dokumentacji przetargowej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(w związku z potwierdzeniem za zgodność z oryginałem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w formie „od… do…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760" indent="-329760">
              <a:lnSpc>
                <a:spcPct val="106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Brak załączników do Specyfikacji Istotnych Warunków Zamówienia (przedmiary robót, kosztorysy ślep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760" indent="-329760">
              <a:lnSpc>
                <a:spcPct val="106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Niezgodność przedmiaru robót (kosztorysu ślepego) dołączonego do Specyfikacji Istotnych Warunków Zamówienia z Kosztorysem Inwestorskim będącym załącznikiem do umowy przyznania pomoc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9760" indent="-329760">
              <a:lnSpc>
                <a:spcPct val="106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Niezgodność przedmiaru robót (kosztorysu ślepego) dołączonego do Specyfikacji Istotnych Warunków Zamówienia z Kosztorysem Ofertowym wybranego Wykonawc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163080"/>
            <a:ext cx="77835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Najczęściej popełniane błędy przez  Zamawiających c.d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2017800"/>
            <a:ext cx="91440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19680" indent="-319680">
              <a:lnSpc>
                <a:spcPct val="106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Brak kompletu dokumentacji związanej z korespondencją pomiędzy Zamawiającym a Oferentami (zapytania odnośnie Specyfikacji Istotnych Warunków Zamówienia, zawiadomienie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o wyborze najkorzystniejszej oferty, odwołania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9680" indent="-319680">
              <a:lnSpc>
                <a:spcPct val="106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Niezgodny opis przedmiotu zamówienia pomiędzy ogłoszeniem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o zamówieniu a Specyfikacją Istotnych Warunków Zamówieni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9680" indent="-319680">
              <a:lnSpc>
                <a:spcPct val="106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Różny opis warunków udziału w postępowaniu oraz opis sposobu dokonywania oceny spełniania tych warunków, a także różny wykaz oświadczeń lub dokumentów, jakie mają dostarczyć wykonawcy w celu potwierdzenia spełniania warunków udziału w postępowaniu pomiędzy ogłoszeniem o zamówieniu a Specyfikacją Istotnych Warunków Zamówieni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340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Najczęściej popełniane błędy przez  Zamawiających c.d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79280" y="1916280"/>
            <a:ext cx="87854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Tahoma"/>
              </a:rPr>
              <a:t>Opisy przedmiotu zamówienia niezgodne z art. 29 ustawy Prawo zamówień publicznych, zgodnie z którym: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Tahoma"/>
              </a:rPr>
              <a:t>1. Przedmiot zamówienia opisuje się w sposób jednoznaczny i wyczerpujący, za pomocą dostatecznie dokładnych i zrozumiałych określeń, uwzględniając wszystkie wymagania i okoliczności mogące mieć wpływ na sporządzenie oferty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6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Tahoma"/>
              </a:rPr>
              <a:t>2. Przedmiotu zamówienia nie można opisywać w sposób, który mógłby utrudniać uczciwą konkurencję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Tahoma"/>
              </a:rPr>
              <a:t>3. Przedmiotu zamówienia nie można opisywać przez wskazanie znaków towarowych, patentów lub pochodzenia, chyba że jest to uzasadnione specyfiką przedmiotu zamówienia i zamawiający nie może opisać przedmiotu zamówienia za pomocą dostatecznie dokładnych określeń, </a:t>
            </a:r>
            <a:br>
              <a:rPr sz="2100"/>
            </a:br>
            <a:r>
              <a:rPr b="0" lang="pl-PL" sz="2100" spc="-1" strike="noStrike">
                <a:solidFill>
                  <a:srgbClr val="000000"/>
                </a:solidFill>
                <a:latin typeface="Tahoma"/>
              </a:rPr>
              <a:t>a wskazaniu takiemu towarzyszą wyrazy „</a:t>
            </a:r>
            <a:r>
              <a:rPr b="1" lang="pl-PL" sz="2100" spc="-1" strike="noStrike">
                <a:solidFill>
                  <a:srgbClr val="000000"/>
                </a:solidFill>
                <a:latin typeface="Tahoma"/>
              </a:rPr>
              <a:t>lub równoważny</a:t>
            </a:r>
            <a:r>
              <a:rPr b="0" lang="pl-PL" sz="2100" spc="-1" strike="noStrike">
                <a:solidFill>
                  <a:srgbClr val="000000"/>
                </a:solidFill>
                <a:latin typeface="Tahoma"/>
              </a:rPr>
              <a:t>”.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163080"/>
            <a:ext cx="77835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Dziękujemy za uwagę!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85480" y="2017800"/>
            <a:ext cx="8659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 algn="ctr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Biuro Kontroli i Monitoringu Wydziału Zarządzania PR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 algn="ctr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Numery telefonów kontaktowyc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 algn="ctr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(56) 656 11 7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 algn="ctr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(56) 656 11 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 algn="ctr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(56) 656 11 7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 algn="ctr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(56) 656 21 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163080"/>
            <a:ext cx="77835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rawo zamówień publicznych c.d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14240" y="1999800"/>
            <a:ext cx="776304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6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Rozporządzenie Prezesa Rady Ministrów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z dnia 23 grudnia 2009 r. w sprawie średniego kursu złotego w stosunku do euro stanowiącego podstawę przeliczania wartości zamówień publicznych 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(Dz. U. 2009 r. Nr 224 poz. 1796)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6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średni kurs złotego wynosi 3, 839PL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163080"/>
            <a:ext cx="77835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Nowelizacje Ustawy – Prawo Zamówień Publiczny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82600" y="2017800"/>
            <a:ext cx="77630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26520" indent="-326520">
              <a:lnSpc>
                <a:spcPct val="106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Mała nowelizacja” z 5 listopada 2009 r. data 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wejścia w życie 22 grudnia 2009 r.,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(Dz. U. 2009 r. Nr 206, poz. 159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6520" indent="-326520">
              <a:lnSpc>
                <a:spcPct val="106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Duża nowelizacja” z 2 grudnia 2009 r., 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data wejścia w życie 29 stycznia 2010 r.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6520" indent="-326520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(Dz. U. 2009 r. Nr 223, poz. 177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6520" indent="-326520">
              <a:lnSpc>
                <a:spcPct val="106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Ustawa z dnia 6 sierpnia 2010 r., data wejścia w życie 16 września 2010 r.,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(Dz. U. Nr 161, poz. 107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163080"/>
            <a:ext cx="77835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odstawa praw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42920" y="2017800"/>
            <a:ext cx="880272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93040" indent="-293040">
              <a:lnSpc>
                <a:spcPct val="106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§ 4 ust. 2 pkt 2 Rozporządzenia Ministra Rolnictwa i Rozwoju Wsi z dnia 31 lipca 2008 r. w sprawie szczegółowych warunków i trybu przyznawania pomocy finansowej w ramach działania „Odnowa i rozwój wsi” objętego Programem Rozwoju Obszarów Wiejskich  na lata 2007-2013 (Dz. U. Nr 38, poz. 220 oraz Nr 156, poz. 974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ze zm.): koszty uznaje się za koszty kwalifikowalne, jeżeli: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dostawy, roboty budowlane i usługi, związane z realizacją operacji, zostały nabyte w trybie przepisów o zamówieniach publicznych, w przypadku gdy beneficjent jest obowiązany stosować te przepi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3040" indent="-293040">
              <a:lnSpc>
                <a:spcPct val="106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3040" indent="-293040" algn="just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785880"/>
            <a:ext cx="778356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Umowa zawarta pomiędzy Beneficjentem a 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85480" y="2017800"/>
            <a:ext cx="8659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Zgodnie z § 6 pkt 1 Umowy o przyznanie pomocy 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w ramach działania „Odnowa i rozwój wsi” objętego PROW na lata 2007-2013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>
              <a:lnSpc>
                <a:spcPct val="106000"/>
              </a:lnSpc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Beneficjent zobowiązany jest do przedłożenia Samorządowi Województwa kompletnej dokumentacji z przeprowadzonego postępowania o udzielenie zamówienia publiczneg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>
              <a:lnSpc>
                <a:spcPct val="106000"/>
              </a:lnSpc>
              <a:buClr>
                <a:srgbClr val="3333cc"/>
              </a:buClr>
              <a:buSzPct val="60000"/>
              <a:buFont typeface="Tahoma"/>
              <a:buAutoNum type="alphaL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iezwłocznie po zawarciu umowy o przyznanie pomocy,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 przypadku postępowania zakończonego przed dniem jej zawarcia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 algn="just">
              <a:lnSpc>
                <a:spcPct val="10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3360" indent="-333360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Umowa zawarta pomiędzy Beneficjentem a UM c. d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23640" y="2133360"/>
            <a:ext cx="835164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106000"/>
              </a:lnSpc>
              <a:buClr>
                <a:srgbClr val="3333cc"/>
              </a:buClr>
              <a:buSzPct val="60000"/>
              <a:buFont typeface="Tahoma"/>
              <a:buAutoNum type="alphaLcParenR" startAt="2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iezwłocznie po dniu zakończenia postępowania,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 przypadku postępowania zakończonego po dniu zawarcia umowy o przyznanie pomocy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6000"/>
              </a:lnSpc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6000"/>
              </a:lnSpc>
              <a:buClr>
                <a:srgbClr val="3333cc"/>
              </a:buClr>
              <a:buSzPct val="60000"/>
              <a:buFont typeface="Tahoma"/>
              <a:buChar char="−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 formie kopii potwierdzonych za zgodność z oryginałem przez osobę pełniącą funkcję kierownika Zamawiającego lub osobę upoważnioną przez Zamawiająceg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14240" y="163080"/>
            <a:ext cx="82202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Wykaz dokumentów składanych do WZ PROW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4200" y="2017440"/>
            <a:ext cx="873144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6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Opublikowane ogłoszenie o zamówieniu publicznym (zamieszczone w miejscu publicznie dostępnym w siedzibie Zamawiającego z podaniem terminu od – do, na stronie internetowej Zamawiającego, w Biuletynie Zamówień Publicznych z potwierdzeniem zamieszczenia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6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Specyfikacja Istotnych Warunków Zamówienia wraz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z załącznikami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6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Kompletna oferta wybranego wykonawc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6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Umowa z Wykonawcą w sprawie udzielenia zamówienia publicznego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6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Wszystkie formularze ofertowe firm, biorących udział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w postępowaniu o udzielenie zamówienia publicznego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106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163080"/>
            <a:ext cx="77835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Wykaz dokumentów c. d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6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6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Dokumenty potwierdzające niezwłoczne zawiadomienie wykonawców przez Zamawiającego o wyborze najkorzystniejszej oferty (wraz ze streszczeniem oceny, podaniem punktacji oraz porównaniem złożonych ofert, informacją o wykonawcach, którzy zostali wykluczeni oraz których oferty zostały odrzucone wraz z uzasadnieniem faktycznym i prawnym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6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7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Informacja o wyborze najkorzystniejszej oferty (wraz ze streszczeniem oceny, podaniem punktacji oraz porównaniem złożonych ofert) zamieszczona w miejscu publicznie dostępnym w siedzibie Zamawiającego z podaniem termu od – do, na stronie internetowej Zamawiającego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.lopatowski</cp:lastModifiedBy>
  <dcterms:modified xsi:type="dcterms:W3CDTF">2010-10-04T06:07:23Z</dcterms:modified>
  <cp:revision>139</cp:revision>
  <dc:subject/>
  <dc:title>ZAMÓWIENIA PUBLICZNE</dc:title>
</cp:coreProperties>
</file>