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34A-A915-4743-8D1A-BCE27359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0F4-F33D-413F-9DBE-6618BDA0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C93-96A7-4C85-BB46-C8B3FF71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962-330A-4345-AFF2-FC5747D2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1907-EEEE-43A2-9308-0E5ACCBE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8F8F-CB3C-4591-B512-6A411F48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6D4E-0C52-4CD9-A9EA-10797E35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DFF2-C5BF-45EB-B0D8-28FCC75A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7EE5-C6C7-4A88-9857-0C03355B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4571-66C8-402E-9CF6-6CF69CCE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F936-42F3-4F04-9DCC-AA217622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778-54E6-4761-BAC7-A13DAF5B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F2AA-CD4B-4D7F-B706-4C4B0776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F0A1-4209-4EC1-8353-886A1C05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A364-7456-4A6F-94B0-6AE8F43E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687C-6F5C-4DC4-B378-1947F9AE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5341-AB2A-438C-87AA-47894CC1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D834A-8256-4C91-9E45-ED32C7DF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C7067-D9B8-459D-9253-8B9AE61D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54839-1BB2-4D32-BD0D-DD6FC0A4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24162-445B-46C5-B1F7-4E663DD1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52C0B-9AA5-4237-A294-6C57E80C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981-A328-42B9-806D-5B7CB9E8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CE777-A95F-4989-BE15-CECD65D8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FD25-3566-45D4-AD82-806A2F15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2F217-199E-46C6-8396-8BE899FB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B250A-EBEF-454D-B8A3-CF746E86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F3369-AF33-4B60-907F-224DBB4C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944B5-712C-4CA4-A4C1-3E251810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870AE-CCE0-4F6F-BC60-D786A0D7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B5864-132C-4032-8BAE-3DF8EB49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9E44E-F8A2-43C8-A7D2-C327AE52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1E95D-3749-41E9-B019-25E1E2B2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578-5CDF-4D0B-BA65-2A6B8C82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DDA2D-6C51-4E60-B3C2-5A7AA019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DF023-8940-4404-9E6C-D30A217D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3AA80-5CED-4A60-8386-0D866BC4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0E9FD-CC54-4D84-B9DE-777393ED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95658-77D3-4DDA-9CE6-A876A409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00968-3586-4B51-8D3D-A90A0A78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146A-2845-47D7-A469-0B0C9CAB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C0D26-BF52-44FC-8D2F-859B12F0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D729C-4883-47E8-9C78-67E71DAF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51E-000D-4B95-94A7-2E8B8244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AD9-4374-4023-9E85-776174CD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3C3-316E-4275-9124-5CAA9730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BE21-6F24-440C-9566-F086E155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454-6D90-42B5-90A9-CB4720C0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0336-01BC-491F-8E12-22B4FCC652A4}" type="slidenum">
              <a:rPr b="0" lang="pl-P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18C2-335B-44A3-819A-4C3D02AFA75E}" type="slidenum">
              <a:rPr b="0" lang="pl-P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EE3D-9E0C-4534-9F49-781606632F9B}" type="slidenum">
              <a:rPr b="0" lang="pl-P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rostokąt ze ściętym i zaokrąglonym rogiem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rójkąt prostokątny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wolny kształt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owolny kształt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C91E-B102-4D55-A14B-D5B05C00A0F3}" type="slidenum">
              <a:rPr b="0" lang="pl-P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620640"/>
            <a:ext cx="78548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457200" indent="-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2800" spc="-1" strike="noStrike">
                <a:solidFill>
                  <a:srgbClr val="083763"/>
                </a:solidFill>
                <a:latin typeface="Verdana"/>
                <a:ea typeface="Times New Roman"/>
              </a:rPr>
              <a:t>Program Rozwoju Obszarów Wiejskich </a:t>
            </a:r>
            <a:br>
              <a:rPr sz="2800"/>
            </a:br>
            <a:r>
              <a:rPr b="1" lang="pl-PL" sz="2800" spc="-1" strike="noStrike">
                <a:solidFill>
                  <a:srgbClr val="083763"/>
                </a:solidFill>
                <a:latin typeface="Verdana"/>
                <a:ea typeface="Times New Roman"/>
              </a:rPr>
              <a:t>na lata 2007-2013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ROZLICZANIE OPERACJ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DZIAŁANIE 32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PODSTAWOWE USŁUGI DLA GOSPODARKI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Verdana"/>
              </a:rPr>
              <a:t>I LUDNOŚCI WIEJSKIEJ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800" spc="-1" strike="noStrike">
                <a:solidFill>
                  <a:srgbClr val="0070c0"/>
                </a:solidFill>
                <a:latin typeface="Verdana"/>
              </a:rPr>
              <a:t>NAJISTOTNIEJSZE ZMIANY WPROWADZONE </a:t>
            </a:r>
            <a:br>
              <a:rPr sz="1800"/>
            </a:br>
            <a:r>
              <a:rPr b="1" lang="pl-PL" sz="1800" spc="-1" strike="noStrike">
                <a:solidFill>
                  <a:srgbClr val="0070c0"/>
                </a:solidFill>
                <a:latin typeface="Verdana"/>
              </a:rPr>
              <a:t>OD DNIA 03.10.2011 ROKU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7215120" y="5929200"/>
            <a:ext cx="1166760" cy="647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324000" y="5445000"/>
            <a:ext cx="2089080" cy="1140120"/>
          </a:xfrm>
          <a:prstGeom prst="rect">
            <a:avLst/>
          </a:prstGeom>
          <a:ln w="0">
            <a:noFill/>
          </a:ln>
        </p:spPr>
      </p:pic>
      <p:pic>
        <p:nvPicPr>
          <p:cNvPr id="207" name="Obraz 8" descr=""/>
          <p:cNvPicPr/>
          <p:nvPr/>
        </p:nvPicPr>
        <p:blipFill>
          <a:blip r:embed="rId3"/>
          <a:stretch/>
        </p:blipFill>
        <p:spPr>
          <a:xfrm>
            <a:off x="6948360" y="5661000"/>
            <a:ext cx="180036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7921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457200" indent="-45720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ZŁOŻENIE WNIOSKU c.d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Decyzja ostateczna o pozwoleniu na użytkowanie obiektu budowlanego, jeżeli właściwy organ nałożył taki obowiązek w wydanym pozwoleniu na budowę lub nałożył taki obowiązek innymi decyzjami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Uzyskanie pozwolenia na użytkowanie jest wymagane także, jeżeli przystąpienie do użytkowania obiektu budowlanego lub jego czę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a nastąpić przed wykonaniem wszystkich robót budowlanych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rotokoły odbioru robót lub protokoły montażu lub rozruchu maszyn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i urządzeń albo oświadczenie Beneficjenta o poprawnym wykonaniu robót budowlanych lub montażu lub rozruchu z udziałem środków własnych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ymagane dla robót budowlanych, a także, gdy przedmiotem umowy był zakup maszyn i urządzeń wymagających montażu albo rozruchu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otokoły te powinny zostać sporządzone odrębnie do każdej faktury lub dokumentu o równoważnej wartości dowodowej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Dokumenty potwierdzające odbiór/wykonanie prac powinny być sporządzone w taki sposób, aby była możliwa </a:t>
            </a:r>
            <a:r>
              <a:rPr b="1" lang="pl-PL" sz="1600" spc="-1" strike="noStrike">
                <a:solidFill>
                  <a:srgbClr val="0070c0"/>
                </a:solidFill>
                <a:latin typeface="Verdana"/>
              </a:rPr>
              <a:t>identyfikacja wykonanych robót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odniesieniu </a:t>
            </a:r>
            <a:r>
              <a:rPr b="1" lang="pl-PL" sz="1600" spc="-1" strike="noStrike">
                <a:solidFill>
                  <a:srgbClr val="0070c0"/>
                </a:solidFill>
                <a:latin typeface="Verdana"/>
              </a:rPr>
              <a:t>do poszczególnych pozycji zestawienia rzeczowo-finansowego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operacji, stanowiącego załącznik do umowy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Kosztorys różnicow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Kosztorys różnicowy stanowiący załącznik do wniosku o płatność wykazuje: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SzPct val="95000"/>
              <a:buFont typeface="Wingdings" charset="2"/>
              <a:buChar char="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różnice pomiędzy projektem budowlanym, a stanem faktycznym na dzień sporządzania kosztorysu różnicowego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SzPct val="95000"/>
              <a:buFont typeface="Wingdings" charset="2"/>
              <a:buChar char="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istotne odstępstwa, o których mowa w art. 36 a ustawy prawo budowlan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przypadku realizacji przez beneficjenta robót na podstawie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umowy kosztorysowej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z wykonawcą, kosztorys różnicowy powinien wykazywać różnice pomiędzy stanem faktycznym,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a kosztorysem ofertowym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lub innym dokumentem zawierającym szczegółowy zakres rzeczowy wraz z wyceną, uzgodnionym pomiędzy wykonawcą a zamawiającym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kosztorysie różnicowym powinny być tak wyspecyfikowane i wycenione zmienione elementy, żeby możliwe było porównanie stanu sprzed i po zmiani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4617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83664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rojekt budowlany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ojekt budowlany dołączany jest do wniosku, w przypadku gdy beneficjent nie dostarczył go wraz z dokumentacją z postępowania o udzielenie zamówienia publiczneg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Dokument nie jest dołączany, jeśli dla realizowanej operacji z odrębnych przepisów prawa nie ma obowiązku jego sporządzani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pl-PL" sz="1600" spc="-1" strike="noStrike">
                <a:solidFill>
                  <a:srgbClr val="0070c0"/>
                </a:solidFill>
                <a:latin typeface="Verdana"/>
              </a:rPr>
              <a:t>Projekt budowlany należy dostarczyć w formie kopii potwierdzonej przez projektanta lub kopii gotowej do potwierdzenia za zgodność </a:t>
            </a:r>
            <a:br>
              <a:rPr sz="1600"/>
            </a:br>
            <a:r>
              <a:rPr b="1" lang="pl-PL" sz="1600" spc="-1" strike="noStrike">
                <a:solidFill>
                  <a:srgbClr val="0070c0"/>
                </a:solidFill>
                <a:latin typeface="Verdana"/>
              </a:rPr>
              <a:t>z oryginałem przez pracownika urzędu marszałkowskieg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4617b"/>
                </a:solidFill>
                <a:latin typeface="Verdana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ZŁOŻENIE WNIOSKU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Dokumenty potwierdzające przyznanie dotacji/dofinansowania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ze środków Narodowego Funduszu Ochrony Środowiska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i Gospodarki Wodnej lub wojewódzkiego funduszu ochrony środowiska i gospodarki wodnej lub jednostki samorządu terytorialnego zgodnie z przepisami o finansach publicznych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oraz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Opis sposobu rozliczenia środków przekazanych przez Narodowy Fundusz Ochrony Środowiska i Gospodarki Wodnej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lub wojewódzki fundusz ochrony środowiska i gospodarki wodnej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lub jednostkę samorządu terytorialnego zgodnie z przepisami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o finansach publicznych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godnie z zapisem § 8 ZASAD UDZIELANIA POMOCY FINANSOWEJ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E ŚRODKÓW WOJEWÓDZKIEGO FUNDUSZU OCHRONY ŚRODOWISK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I GOSPODARKI WODNEJ W TORUNIU pożyczka jest formą dofinansowa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i w przypadku jej uzyskania należy dostarczyć dokument potwierdzający jej przyznanie oraz sposób rozliczeni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4617b"/>
                </a:solidFill>
                <a:latin typeface="Verdana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ZŁOŻENIE WNIOSKU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15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Dofinansowanie mające formę dotacji nie może kwotowo przekraczać wysokości wkładu finansowego wykazanego przez Beneficjenta jako własny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o całkowitej spłacie należy dostarczyć dokumenty potwierdzające dokonanie zwrotu pożyczki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opisie sposobu rozliczenia środków należy uwzględnić wszystkie kwot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i źródła dofinansowania w celu wyeliminowania podejrzenia wystąpienia podwójnego finansowania operacji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4617b"/>
                </a:solidFill>
                <a:latin typeface="Verdana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ZŁOŻENIE WNIOSKU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Dokument potwierdzający numer rachunku prowadzonego przez bank lub przez spółdzielczą kasę oszczędnościowo-kredytową beneficjenta lub jego pełnomocnika lub cesjonariusza, na który mają być przekazane środki finansowe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Dokumentem potwierdzającym numer rachunku bankowego beneficjenta lub jego pełnomocnika lub cesjonariusza może być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aświadczenie z banku lub spółdzielczej kasy oszczędnościowo - kredytowej, wskazujące rachunek bankowy Beneficjenta lub jego pełnomocnika lub cesjonariusza albo rachunek prowadzony w spółdzielczej kasie oszczędnościowo – kredytowej na rzecz Beneficjenta lub jego pełnomocnika lub cesjonariusza, na który mają być przekazane środki finansowe – oryginał, lub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4617b"/>
                </a:solidFill>
                <a:latin typeface="Verdana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ZŁOŻENIE WNIOSKU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Umowa z bankiem lub spółdzielczą kasą oszczędnościowo-kredytow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na prowadzenie rachunku bankowego lub jej część, pod warunkiem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że będzie ona zawierać dane właściciela, numer rachunku bankowego oraz potwierdzenie, że jest to rachunek, na który mają być przekazane środki finansowe – kopia, lub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Inny dokument z banku lub spółdzielczej kasy oszczędnościowo- kredytowej, świadczący o aktualnym numerze rachunku bankowego, zawierający dane takie, jak numer rachunku bankowego, nazwę właściciela (np.: aktualny wyciąg z rachunku z usuniętymi danymi finansowymi) - oryginał lub kopi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ZMIANY W REALIZACJI OPERACJI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773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288000" rIns="2880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Należy pamiętać, że zgodnie z ustawą Prawo zamówień publicznych zmiany w realizacji inwestycji są możliwe 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Verdana"/>
              </a:rPr>
              <a:t>tylko w sytuacjach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, gdy zamawiający przewidział możliwość ich wystąpienia (w ogłoszeniu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o przetargu i siwz) oraz określił w umowie z wykonawcą warunki na jakich zostaną wprowadzone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neficjent powinien załączyć także protokoły konieczności i inne dokumenty potwierdzające konieczność wykonania tych robót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iany w zakresie rzeczowym operacji nie mogą powodować zwiększenia przyznanej kwoty pomocy. Niemożliwe jest wprowadzenie do Zestawienia rzeczowo-finansowego operacji nowego zadania rozszerzającego zakres operacji, jeżeli dotychczasowy zakres zadań gwarantował osiągnięcie celu operacji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ZMIANY W REALIZACJI OPERACJI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288000" rIns="2880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Dopuszczalne są zmiany zakresu rzeczowego operacji mające na celu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SzPct val="95000"/>
              <a:buFont typeface="Wingdings" charset="2"/>
              <a:buChar char="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usunięcie błędów w kosztorysie inwestorskim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SzPct val="95000"/>
              <a:buFont typeface="Wingdings" charset="2"/>
              <a:buChar char="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uzasadnione zmiany ilościowe lub jakościowe wewnątrz poszczególnych pozycji Zestawienia rzeczowo – finansowego operacji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SzPct val="95000"/>
              <a:buFont typeface="Wingdings" charset="2"/>
              <a:buChar char=""/>
              <a:tabLst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iany w stosunku do projektu budowlanego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neficjent zobowiązany jest do niezwłocznego informowania Samorządu Województwa o planowanych albo zaistniałych zdarzeniach związa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e zmianą stanu faktycznego lub prawnego, mogących mieć wpływ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na realizację operacji. W związku z powyższym, powinien informować takż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o zamiarze wprowadzenia zmian do umowy z wykonawcą, gdyż zmian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ealizacji inwestycji mogą powodować konieczność zmiany umow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o przyznanie pomocy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35892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10920" y="333360"/>
            <a:ext cx="7854840" cy="62388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anchor="ctr">
            <a:noAutofit/>
          </a:bodyPr>
          <a:p>
            <a:pPr marL="457200" indent="-45720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ZŁOŻENIE WNIOSKU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WNIOSEK O PŁATNOŚĆ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ależy złożyć w wersji papierowej w terminie określonym w umowie przyznania pomocy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WNIOSEK O PŁATNOŚĆ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należy złożyć na formularzu w wersj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5 zatwierdzonej, zamieszczonym wraz z instrukcją wypełniania wniosku o płatność na stronie internetowej Urzędu Marszałkowskiego Województwa Kujawsko-Pomorskiego: </a:t>
            </a:r>
            <a:r>
              <a:rPr b="0" lang="pl-PL" sz="1600" spc="-1" strike="noStrike">
                <a:solidFill>
                  <a:srgbClr val="0070c0"/>
                </a:solidFill>
                <a:latin typeface="Verdana"/>
                <a:ea typeface="Times New Roman"/>
              </a:rPr>
              <a:t>www.mojregion.eu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7215120" y="5929200"/>
            <a:ext cx="116676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WYCOFANIE WNIOSKU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197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288000" rIns="288000"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neficjent w dowolnym momencie po złożeniu wniosku o płatność może zwrócić się z pisemną prośbą o </a:t>
            </a:r>
            <a:r>
              <a:rPr b="1" lang="pl-PL" sz="1600" spc="-1" strike="noStrike">
                <a:solidFill>
                  <a:srgbClr val="0070c0"/>
                </a:solidFill>
                <a:latin typeface="Verdana"/>
              </a:rPr>
              <a:t>wycofanie wniosku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w całości lub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części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Jeżeli beneficjent został poinformowany o nieprawidłowościa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dokumentach lub o zamiarze przeprowadzenia kontroli na miejscu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wyniku której następnie wykryto nieprawidłowości, wycofanie nie jest dozwolone w odniesieniu do części, których te nieprawidłowości dotyczą 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ycofanie wniosku w całości nie wywołuje żadnych skutków prawnych, powstaje więc sytuacja jakby beneficjent tego wniosku nie złożył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ycofanie wniosku w części lub innej deklaracji (załącznika) sprawia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że beneficjent znajduje się w sytuacji sprzed złożenia odnośnych dokumentów lub ich części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PRZEDŁUŻENIE TERMINU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412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288000" rIns="288000" anchor="t">
            <a:normAutofit fontScale="99000"/>
          </a:bodyPr>
          <a:p>
            <a:pPr marL="270000" indent="-270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neficjent może wystąpić do urzędu marszałkowskiego z pisemną prośbą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o przedłużenie terminu wykonania określonych czynności w trakcie weryfikacji wniosku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Urząd Marszałkowski podejmuje decyzję o przedłużeniu terminu wykonania określonych czynności na okres nie dłuższy niż 3 miesiąc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O podjętej decyzji beneficjent jest informowany pisemni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Dobra praktyka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Verdana"/>
              </a:rPr>
              <a:t>Prośba o przedłużenie terminu na złożenie uzupełnień w przypadku braku możliwości uzyskania ostatecznej decyzji o pozwoleniu na użytkowanie do końca terminu na złożenie uzupełnień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"/>
          <p:cNvPicPr/>
          <p:nvPr/>
        </p:nvPicPr>
        <p:blipFill>
          <a:blip r:embed="rId2"/>
          <a:stretch/>
        </p:blipFill>
        <p:spPr>
          <a:xfrm>
            <a:off x="7164360" y="595008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WIZYTACJA W MIEJSCU/KONTROLA  NA MIEJSCU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7093080" y="5805360"/>
            <a:ext cx="1166760" cy="648000"/>
          </a:xfrm>
          <a:prstGeom prst="rect">
            <a:avLst/>
          </a:prstGeom>
          <a:ln w="0">
            <a:noFill/>
          </a:ln>
        </p:spPr>
      </p:pic>
      <p:sp>
        <p:nvSpPr>
          <p:cNvPr id="261" name="Prostokąt 4"/>
          <p:cNvSpPr/>
          <p:nvPr/>
        </p:nvSpPr>
        <p:spPr>
          <a:xfrm>
            <a:off x="395280" y="1413000"/>
            <a:ext cx="8209080" cy="42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Na podstawie przekazanego protokołu z kontroli podejmowana jest decyzja o ewentualnej konieczności złożenia przez beneficjenta wyjaśnień. Na tym etapie nie ma możliwości poprawiania złożonych dokumentó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przypadku nie przyjęcia wyjaśnień wszelkie zmiany stanu faktycznego niewykazane w kosztorysie różnicowym a stwierdzone podczas kontroli na miejscu realizacji operacji, będą podstawą do dokonania korekty kosztów kwalifikowanych, co może skutkować obniżeniem kwoty pomocy oraz ewentualną nieprawidłowości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Niezrealizowane elementy korygowane będą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wg cen z kosztorysu ofertowego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, a w przypadku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umowy ryczałtowej według cen z kosztorysu inwestorskieg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Natomiast elementy wykonane, a nieplanowane na etapie kosztorysu inwestorskiego lub ofertowego i niewykazane w kosztorysie różnicowym, korygowane będą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wg bazy cenowej z daty sporządzenia kosztorysu inwestorski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Wizytacja w miejscu/ Kontrola na miejscu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7093080" y="5805360"/>
            <a:ext cx="1166760" cy="648000"/>
          </a:xfrm>
          <a:prstGeom prst="rect">
            <a:avLst/>
          </a:prstGeom>
          <a:ln w="0">
            <a:noFill/>
          </a:ln>
        </p:spPr>
      </p:pic>
      <p:sp>
        <p:nvSpPr>
          <p:cNvPr id="264" name="Prostokąt 5"/>
          <p:cNvSpPr/>
          <p:nvPr/>
        </p:nvSpPr>
        <p:spPr>
          <a:xfrm>
            <a:off x="611280" y="1557360"/>
            <a:ext cx="7848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ożliwość uznania wyjaśnień beneficjenta po wizytacji /kontroli uzależniona jest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od ustaleń zawartych w raporcie z czynności kontrolnych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(opisie stanu faktycznego,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twierdzonego przez obie strony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Oświadczenie beneficjenta o usunięciu stwierdzonych  w wyniku wizytacji/kontroli braków/nieprawidłowości nie jest podstawą do uznania zakwestionowanych kosztów za kwalifikowal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07552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1" lang="pl-PL" sz="1800" spc="-1" strike="noStrike">
                <a:solidFill>
                  <a:srgbClr val="0070c0"/>
                </a:solidFill>
                <a:latin typeface="Verdana"/>
              </a:rPr>
              <a:t>Rozliczanie kosztów budowlanych dla podmiotów zobowiązanych do stosowania przepisów o zamówieniach publicznych</a:t>
            </a:r>
            <a:br>
              <a:rPr sz="16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przypadku realizacji przez Beneficjenta robót na podstawie umowy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ryczałtowej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wykonawcą, sprawdzana jest realizacja zakresu rzeczowego w odniesieniu do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rojektu budowlanego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, uwzględniając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estawienie rzeczowo-finansowe z realizacji operacji – sekcja VI WoP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otokoły odbioru robót-sporządzone w układzie pozycji zestawienia rzeczowo-finansowego operacji (elementów scalonych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Kosztorysy różnicowe – w przypadku zmian w realizacji inwestycji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ojekt budowlany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przypadku realizacji przez Beneficjenta robót na podstawie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umowy kosztorysowej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wykonawcą, sprawdzana jest realizacja zakresu rzeczowego w odniesieniu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do kosztorysu ofertowego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, uwzględniając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estawienie rzeczowo-finansowe z realizacji operacji – sekcja VI WoP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otokoły odbioru robót-sporządzone w układzie pozycji zestawienia rzeczowo-finansowego operacji (elementów scalonych)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Kosztorysy różnicowe – w przypadku zmian w realizacji inwestycji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ojekt budowlany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NAJCZĘŚCIEJ POJAWIAJĄCE SIĘ BŁĘDY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28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288000" rIns="288000"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1. Zastosowanie 50% kosztów podatkowych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astosowanie 50% kosztów uzyskania przychodu jest możliwe </a:t>
            </a:r>
            <a:br>
              <a:rPr sz="1600"/>
            </a:br>
            <a:r>
              <a:rPr b="0" lang="pl-PL" sz="1600" spc="-1" strike="noStrike" u="sng">
                <a:solidFill>
                  <a:srgbClr val="000000"/>
                </a:solidFill>
                <a:uFillTx/>
                <a:latin typeface="Verdana"/>
              </a:rPr>
              <a:t>tylko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w przypadku powstania dzieła autorskiego oraz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Verdana"/>
              </a:rPr>
              <a:t>przeniesienia praw autorskich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do powstałego dzieła na beneficjent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umer odrębnego konta albo kod rachunkowy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skazywan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opisie do faktury często mylony jest  z numerem rachunku bankowego, z którego ponoszone są koszty związane z realizacją operacji lub pozycją w WYKAZIE FAKTUR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Beneficjent często jako dowód zapłaty bezgotówkowej przedkłada wyłącznie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wydruk z systemu e-bankowości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przypadku przedkładania jako dowodu zapłaty wydruku z bankowości elektronicznej należy obowiązkowo złożyć w Urzędzie Marszałkowskim zaświadczenie lub kopię umowy o korzystaniu z bankowości elektronicznej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NAJCZĘŚCIEJ POJAWIAJĄCE SIĘ BŁĘDY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28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288000" rIns="2880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rotokoły odbioru robót budowlanych lub zakupu maszyn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i urządzeń wymagających montażu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nie są sporządzone w taki sposób, aby była możliwa identyfikacja wykonanych robót w odniesieniu do poszczególnych pozycji zestawienia rzeczowo-finansowego operacji, stanowiącego załącznik do umowy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5. W protokołach odbioru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pisy członków komisji są nieczyteln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i pozbawione pieczęci imiennych co uniemożliwia identyfikację personalną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6. Beneficjent, który zawarł z Bankiem Gospodarstwa Krajowego umowę pożyczki na operację powinien dołączyć do wniosku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twierdzenie otwarcia rachunku pożyczki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do obsługi pożyczki z budżetu państwa na wyprzedzające finansowanie w ramach PROW 2007-2013 oraz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kopię umowy pożyczki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NAJCZĘŚCIEJ POJAWIAJĄCE SIĘ BŁĘDY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57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288000" rIns="2880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zwolenie na użytkowanie obiektu budowlanego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ęsto jest pozbawione klauzuli potwierdzającej ostateczność decyzji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apis, iż </a:t>
            </a:r>
            <a:r>
              <a:rPr b="1" lang="pl-PL" sz="1600" spc="-1" strike="noStrike">
                <a:solidFill>
                  <a:srgbClr val="0070c0"/>
                </a:solidFill>
                <a:latin typeface="Verdana"/>
              </a:rPr>
              <a:t>decyzja podlega natychmiastowemu wykonaniu z mocy ustawy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nie jest tożsamy z </a:t>
            </a:r>
            <a:r>
              <a:rPr b="1" lang="pl-PL" sz="1600" spc="-1" strike="noStrike">
                <a:solidFill>
                  <a:srgbClr val="0070c0"/>
                </a:solidFill>
                <a:latin typeface="Verdana"/>
              </a:rPr>
              <a:t>decyzją ostateczną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8. Brak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rotokołów konieczności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przypadku dokonywania zmian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ealizacji operacji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otokoły konieczności są niezbędnym załącznikiem poświadczającym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iż dokonane zmiany w realizacji operacji nie powodują pogorszenia jakości operacji, zmiany celu operacji lub rozszerzenia zakresu rzeczowego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o dodatkowe zadanie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KONTAKT</a:t>
            </a:r>
            <a:br>
              <a:rPr sz="3600"/>
            </a:b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elefon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56 646201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ni Dorota Tomaszewska – koordynator - wewnętrzny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*531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ni Beata Dąbrowska - wewnętrzny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*538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ni Joanna Gobinet - wewnętrzny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*537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ni Magdalena Kowalska - wewnętrzny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*532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ni Justyna Kurtyka - wewnętrzny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*5313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ni Magdalena Leśnicka - wewnętrzny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*537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n Leszek Adamowicz - wewnętrzny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*538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n Kacper Szary - wewnętrzny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*532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Bieżące informacje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70c0"/>
                </a:solidFill>
                <a:latin typeface="Verdana"/>
                <a:ea typeface="Times New Roman"/>
              </a:rPr>
              <a:t>www.mojregion.eu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zakładka PROW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7596360" y="5877000"/>
            <a:ext cx="116676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11280" y="1123920"/>
            <a:ext cx="7921440" cy="4608720"/>
          </a:xfrm>
          <a:prstGeom prst="rect">
            <a:avLst/>
          </a:prstGeom>
          <a:noFill/>
          <a:ln w="0">
            <a:noFill/>
          </a:ln>
        </p:spPr>
        <p:txBody>
          <a:bodyPr lIns="36000" rIns="36000" anchor="t">
            <a:noAutofit/>
          </a:bodyPr>
          <a:p>
            <a:pPr marL="457200" indent="-45720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ZŁOŻENIE WNIOSKU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0070c0"/>
                </a:solidFill>
                <a:latin typeface="Verdana"/>
                <a:ea typeface="Times New Roman"/>
              </a:rPr>
              <a:t>WNIOSEK O PŁATNOŚĆ -ZMIANY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0070c0"/>
                </a:solidFill>
                <a:latin typeface="Verdana"/>
                <a:ea typeface="Times New Roman"/>
              </a:rPr>
              <a:t>IV: DANE DOTYCZĄCE WNIOSKU O PŁATNOŚĆ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Verdana"/>
              </a:rPr>
              <a:t>Pole 18. Wnioskowana kwota pomocy dla danego etapu operacji: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Kwotę należy podać z dokładnością do dwóch miejsc po przecinku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0070c0"/>
                </a:solidFill>
                <a:latin typeface="Verdana"/>
              </a:rPr>
              <a:t>V: WYKAZ FAKTUR LUB DOKUMENTÓW O RÓWNOWAŻNEJ WARTOŚCI DOWODOWEJ DOKUMENTUJĄCYCH PONIESIONE KOSZTY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Verdana"/>
              </a:rPr>
              <a:t>Kolumna 4 – Nr księgowy/ewidencyjny faktury (…) - 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należy wpisać numer księgowy lub ewidencyjny faktury lub dokumentu o równoważnej wartości dowodowej, potwierdzającego realizację operacji objętej wnioskiem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Verdana"/>
              </a:rPr>
              <a:t>Kolumna 10 – Opis zdarzenia gospodarczego</a:t>
            </a:r>
            <a:r>
              <a:rPr b="0" lang="pl-PL" sz="1600" spc="-1" strike="noStrike">
                <a:solidFill>
                  <a:srgbClr val="002060"/>
                </a:solidFill>
                <a:latin typeface="Verdana"/>
              </a:rPr>
              <a:t> – należy zamieścić krótki opis zdarzenia gospodarczego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236000" y="5929200"/>
            <a:ext cx="115236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ytuł 1" descr=""/>
          <p:cNvPicPr/>
          <p:nvPr/>
        </p:nvPicPr>
        <p:blipFill>
          <a:blip r:embed="rId1"/>
          <a:stretch/>
        </p:blipFill>
        <p:spPr>
          <a:xfrm>
            <a:off x="517680" y="1146240"/>
            <a:ext cx="7877160" cy="5731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42960" y="2708280"/>
            <a:ext cx="7711920" cy="1441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Verdana"/>
                <a:ea typeface="Times New Roman"/>
              </a:rPr>
              <a:t>Dziękuję za uwagę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2" name="Obraz 8" descr=""/>
          <p:cNvPicPr/>
          <p:nvPr/>
        </p:nvPicPr>
        <p:blipFill>
          <a:blip r:embed="rId2"/>
          <a:stretch/>
        </p:blipFill>
        <p:spPr>
          <a:xfrm>
            <a:off x="6659640" y="4437000"/>
            <a:ext cx="1800000" cy="100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089080" cy="113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11280" y="1125000"/>
            <a:ext cx="7921440" cy="47516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anchor="t">
            <a:noAutofit/>
          </a:bodyPr>
          <a:p>
            <a:pPr marL="457200" indent="-45720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ZŁOŻENIE WNIOSKU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Faktury lub dokumenty o równoważnej wartości dowodowej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(w tym umowy o dzieło, zlecenia i inne umowy cywilnoprawne)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aleca się aby faktury lub dokumenty o równoważnej wartości dowodowej na odwrocie dokumentu zawierały 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Verdana"/>
              </a:rPr>
              <a:t>dodatkowo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opis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następującymi informacjami: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SzPct val="95000"/>
              <a:buFont typeface="Wingdings" charset="2"/>
              <a:buChar char="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Numer pozycji w Zestawieniu rzeczowo - finansowym operacji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SzPct val="95000"/>
              <a:buFont typeface="Wingdings" charset="2"/>
              <a:buChar char="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Kwota wydatków kwalifikowalnych w ramach dokumentu [zł]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SzPct val="95000"/>
              <a:buFont typeface="Wingdings" charset="2"/>
              <a:buChar char="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Numer odrębnego konta na którym zostały zaksięgowane wydatk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amach operacji albo numer pozycji w Wykazie faktur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lub dokumentów o równoważnej wartości dowodowej dokumentujących poniesione koszty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7921440" cy="4248000"/>
          </a:xfrm>
          <a:prstGeom prst="rect">
            <a:avLst/>
          </a:prstGeom>
          <a:noFill/>
          <a:ln w="0">
            <a:noFill/>
          </a:ln>
        </p:spPr>
        <p:txBody>
          <a:bodyPr lIns="180000" rIns="180000" anchor="t">
            <a:noAutofit/>
          </a:bodyPr>
          <a:p>
            <a:pPr marL="457200" indent="-45720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ZŁOŻENIE WNIOSKU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Stosownie do wymogu określonego w art. 75 ust.1 lit. c) pkt. i) rozporządzenia Rady (WE) Nr 1698/2005 z dnia 20 września 2005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(Dz. Urz. L 2005.277.1 ) w sprawie wsparcia rozwoju obszarów wiejskich przez Europejski Fundusz Rolny na rzecz Rozwoju Obszarów Wiejskich (EFRROW), Beneficjenci realizujący operacje w ramach PROW 2007 -2013 są zobowiązani do prowadzenia oddzielnego systemu rachunkowości albo korzystania z odpowiedniego kodu rachunkowego dla wszystkich zdarzeń gospodarczych (transakcji) związa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realizacją operacji, tj. kosztów kwalifikowalnych, przy czym odbyw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się to w ramach prowadzonych ksiąg rachunkowych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7921440" cy="5040360"/>
          </a:xfrm>
          <a:prstGeom prst="rect">
            <a:avLst/>
          </a:prstGeom>
          <a:noFill/>
          <a:ln w="0">
            <a:noFill/>
          </a:ln>
        </p:spPr>
        <p:txBody>
          <a:bodyPr lIns="180000" rIns="180000" anchor="t">
            <a:noAutofit/>
          </a:bodyPr>
          <a:p>
            <a:pPr marL="457200" indent="-45720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ZŁOŻENIE WNIOSKU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Aby właściwie prowadzić wyodrębnioną ewidencję księgową należy: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SzPct val="95000"/>
              <a:buFont typeface="Wingdings" charset="2"/>
              <a:buChar char="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prowadzić dodatkowe konta syntetyczne i analityczne, pozwalające na wyodrębnienie zdarzeń związanych tylko z daną operacją,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układzie umożliwiającym spełnienie wymagań w zakresie sprawozdawczości i kontroli oraz w zakresie sporządzania zestawieni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komputerowego systemu księgowego. Wyodrębnienie obowiązuje dla wszystkich zespołów kont, na których będzie dokonywana ewidencja zdarzeń związanych z operacją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lub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SzPct val="95000"/>
              <a:buFont typeface="Wingdings" charset="2"/>
              <a:buChar char="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prowadzić odpowiedni kod księgowy dla wszystkich transakcji oraz kont księgowych związanych z daną operacją. Wyodrębniony kod księgowy oznacza odpowiedni symbol, numer, wyróżnik stosowany przy rejestracji, ewidencji lub oznaczeniu dokumentu, który umożliwia sporządzanie zestawień, w tym komputerowych, w określonym przedziale czasowym ujmujących wszystkie zdarzenia związane </a:t>
            </a:r>
            <a:r>
              <a:rPr b="1" lang="pl-PL" sz="1600" spc="-1" strike="noStrike">
                <a:solidFill>
                  <a:srgbClr val="0070c0"/>
                </a:solidFill>
                <a:latin typeface="Verdana"/>
              </a:rPr>
              <a:t>tylko </a:t>
            </a:r>
            <a:br>
              <a:rPr sz="1600"/>
            </a:br>
            <a:r>
              <a:rPr b="1" lang="pl-PL" sz="1600" spc="-1" strike="noStrike">
                <a:solidFill>
                  <a:srgbClr val="0070c0"/>
                </a:solidFill>
                <a:latin typeface="Verdana"/>
              </a:rPr>
              <a:t>z daną operacją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11280" y="1052640"/>
            <a:ext cx="7921440" cy="48974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anchor="t">
            <a:noAutofit/>
          </a:bodyPr>
          <a:p>
            <a:pPr marL="457200" indent="-45720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ZŁOŻENIE WNIOSKU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opisie faktur/dokumentów o równoważnej wartości dowodowej powinna znaleźć się adnotacja: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skazująca numer odrębnego konta – syntetycznego lub analitycznego albo kodu rachunkowego -  w przypadku Beneficjentów prowadzących pełną księgowość na podstawie ustawy z dnia 29 września 1994 r.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o rachunkowości  (Dz.U. z 2009 r. Nr 152, poz. 1223 z późn. zm.) albo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skazująca numer pozycji z „Wykazu faktur lub dokumentów lub dokumentów o równoważnej wartości dowodowej dokumentujących poniesione koszty” – Beneficjenci nie prowadzący pełnej księgowości na podstawie ustawy z dnia 29 września 1994 r. o rachunkow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(Dz.U. z 2009 r. Nr 152, poz. 1223 z późn. zm.)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przypadku stwierdzenia niezastosowania wymogu prowadzenia oddzielnego systemu rachunkowości albo korzystania z odpowiedniego kodu rachunkowego zostanie uwzględnione </a:t>
            </a:r>
            <a:r>
              <a:rPr b="0" lang="pl-PL" sz="1600" spc="-1" strike="noStrike">
                <a:solidFill>
                  <a:srgbClr val="009dd9"/>
                </a:solidFill>
                <a:latin typeface="Verdana"/>
              </a:rPr>
              <a:t>pomniejszenie kosztów podlegających refundacji o 10%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ZŁOŻENIE WNIOSKU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anchor="t">
            <a:normAutofit/>
          </a:bodyPr>
          <a:p>
            <a:pPr marL="457200" indent="-45720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0070c0"/>
                </a:solidFill>
                <a:latin typeface="Constant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Dowody zapłaty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neficjent może ponieść wydatki w wysokości mniejszej niż wynikające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faktury lub równoważnego dokumentu księgowego, pod warunkiem udokumentowania rozliczenia należności wynikającej z nieprzestrzegania umów przez wykonawców/usługodawców/dostawców (potrącił karę umowną z należnego wynagrodzenia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przypadku, gdy beneficjent otrzymał od wykonawcy środki z tytułu kary umownej nie jest obowiązany do ich zwrotu w wysokości odpowiadającej kwocie otrzymanej z tytułu kary umownej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sytuacji, gdy kara umowna została przez beneficjenta potrącona z faktury wystawionej przez wykonawcę, kwota niezapłacona przez beneficjenta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amach faktury nie może zostać uznana za wydatek kwalifikowalny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11280" y="836280"/>
            <a:ext cx="7921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457200" indent="-45720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pl-PL" sz="1600" spc="-1" strike="noStrike">
                <a:solidFill>
                  <a:srgbClr val="ffffff"/>
                </a:solidFill>
                <a:latin typeface="Verdana"/>
              </a:rPr>
              <a:t>ZŁOŻENIE WNIOSKU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Umowy z wykonawcami zawierające specyfikację będącą podstawą wystawienia każdej z przedstawionych faktur lub innych dokumentów o równoważnej wartości dowodowej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Należy dołączyć umowy z wykonawcami zawierające specyfikację będącą podstawą wystawienia </a:t>
            </a:r>
            <a:r>
              <a:rPr b="1" lang="pl-PL" sz="1600" spc="-1" strike="noStrike">
                <a:solidFill>
                  <a:srgbClr val="0f6fc6"/>
                </a:solidFill>
                <a:latin typeface="Verdana"/>
              </a:rPr>
              <a:t>każdej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z przedstawionych faktur lub innych dokumentów o równoważnej wartości dowodowej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17480"/>
                <a:tab algn="l" pos="1076400"/>
                <a:tab algn="l" pos="1434960"/>
                <a:tab algn="l" pos="1793880"/>
                <a:tab algn="l" pos="2152800"/>
                <a:tab algn="l" pos="2511360"/>
                <a:tab algn="l" pos="2870280"/>
                <a:tab algn="l" pos="3228840"/>
                <a:tab algn="l" pos="3587760"/>
                <a:tab algn="l" pos="3946680"/>
                <a:tab algn="l" pos="4305240"/>
                <a:tab algn="l" pos="4664160"/>
                <a:tab algn="l" pos="5022720"/>
                <a:tab algn="l" pos="5381640"/>
                <a:tab algn="l" pos="5740560"/>
                <a:tab algn="l" pos="6099120"/>
                <a:tab algn="l" pos="6458040"/>
                <a:tab algn="l" pos="6816600"/>
                <a:tab algn="l" pos="7175520"/>
                <a:tab algn="l" pos="753444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7164360" y="5929200"/>
            <a:ext cx="1224000" cy="64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2:15:16Z</dcterms:created>
  <dc:creator>k.pawlowska</dc:creator>
  <dc:description/>
  <dc:language>en-US</dc:language>
  <cp:lastModifiedBy> </cp:lastModifiedBy>
  <dcterms:modified xsi:type="dcterms:W3CDTF">2013-04-16T08:48:57Z</dcterms:modified>
  <cp:revision>740</cp:revision>
  <dc:subject/>
  <dc:title>lpl</dc:title>
</cp:coreProperties>
</file>