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101-ACA5-4636-9DED-0FAC00FA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769-DE2D-4D75-8745-8FCEC41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6597-AE6A-4246-9240-1ACC0649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C64-64CD-4168-BAFF-5EC55FB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A525-8D0E-41E0-B959-9D5DE7C7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E09F-3F18-42AC-B047-1FFE406C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217E-54CC-40B1-834D-BAD944388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CC8A-CA0E-45E9-968A-AFBB9C3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73B3-3571-4633-AF66-0EC8DA8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30A1-12D6-4C8F-876E-EE1718D8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A7C8-8BB6-44D2-A194-6F55FDFC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5486-81EE-44EB-974E-52B617A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9930-E1FB-4180-9651-F95BCB7A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8E03-8691-4343-B637-86258082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7F0B-12D1-45E0-A44D-C4949003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7FDB-112A-4704-92D8-10270B7F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39E2-7929-4E43-A89F-AD9D102C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4B5-447E-422C-8F6C-4AD44381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895-D55A-462A-B1E2-698317D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464-2CBE-421A-8275-6F33265F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BFC-AD11-4A61-BA3C-13F56CA9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8FC8-0955-43A5-9F34-DA9A446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33-F595-4A8E-8A01-E200FAF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AF0-54C5-4316-9E13-B59A47FA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76AD-7A9C-4C8B-A136-A62010950FBD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5623-6892-40B2-9CF7-9EE2249ABD08}" type="slidenum">
              <a:rPr b="1" lang="pl-PL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"/>
          <p:cNvPicPr/>
          <p:nvPr/>
        </p:nvPicPr>
        <p:blipFill>
          <a:blip r:embed="rId1"/>
          <a:stretch/>
        </p:blipFill>
        <p:spPr>
          <a:xfrm>
            <a:off x="2717640" y="421956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8"/>
          <p:cNvSpPr/>
          <p:nvPr/>
        </p:nvSpPr>
        <p:spPr>
          <a:xfrm>
            <a:off x="971640" y="2565360"/>
            <a:ext cx="7200720" cy="24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PROGRAM ROZWOJU OBSZARÓW WIEJSKICH 2007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Arial Black"/>
              </a:rPr>
              <a:t>Podstawowe usługi dla gospodarki i ludności wiejskie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214280" y="5715000"/>
            <a:ext cx="705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Black"/>
              </a:rPr>
              <a:t>wrzesień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02" name="Obraz 8" descr=""/>
          <p:cNvPicPr/>
          <p:nvPr/>
        </p:nvPicPr>
        <p:blipFill>
          <a:blip r:embed="rId5"/>
          <a:stretch/>
        </p:blipFill>
        <p:spPr>
          <a:xfrm>
            <a:off x="680400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 (Tekst podstawowy)"/>
              </a:rPr>
              <a:t>Najczęściej zadawane pytani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 (Tekst podstawowy)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 (Tekst podstawowy)"/>
              </a:rPr>
              <a:t>Co należy rozumieć przez określenie „powierzchnia handlowa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Powierzchnia handlowa rozumiana jest jako powierzchnia sprzedaży zgodnie z definicją określoną w ustawie z dnia 27 marca 2003 r. o planowaniu i zagospodarowaniu przestrzennym (Dz. U. z 2003, Nr 80, poz. 717 z późn. zm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Przez powierzchnię sprzedaży należy rozumieć tę część ogólnodostępnej powierzchni obiektu handlowego stanowiącego całość techniczno – użytkową, przeznaczonego do sprzedaży detalicznej, w której dobywa się bezpośrednia sprzedaż towarów (bez wliczania do niej powierzchni usług i gastronomii oraz powierzchni pomocniczej, do której zalicza się powierzchnie magazynów, biur, komunikacji, ekspozycji wystawowej itp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57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Na terenie targowiska planowanym do modernizacji po roku 2012 występują obecnie stoiska zadaszone. Czy warunek powierzchni zadaszonej (min. 50%) będzie liczony w stosunku do całego targowiska, czy tylko do powierzchni modernizowanej w latach 2011-201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Warunek dotyczący zadaszenia określonej wielkości powierzchni handlowej targowiska dotyczy całego targowiska, czyli powierzchni objętej planowaną operacją oraz powierzchni istniejącego targowiska w przypadku operacji polegającej na remoncie tego targowiska.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63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zy kosztem kwalifikowalnym będą koszty poniesione przed podpisaniem umowy </a:t>
            </a:r>
            <a:br>
              <a:rPr sz="1600"/>
            </a:b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przyznanie pomoc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szty mogą stanowić koszty kwalifikowalne, jeżeli zostały poniesione po dniu złożenia wniosku o przyznanie pomocy, a w przypadku kosztów stanowiących koszty ogólne, nie wcześniej niż od dnia 1 stycznia 2007 r.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69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jakim trybie: całotygodniowo, czy w wyznaczone dni tygodnia będą mogły być czynne nowoutworzone lub zmodernizowane w ramach Programu targowiska miejski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MRiRW nie określa trybu funkcjonowania targowiska. Zgodnie z usta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o samorządzie gminnym, rada gminy podejmuje uchwałę w sprawie zasad i trybu korzystania z targowisk gminnych. W treści regulaminu targowiska gminnego, stanowiącego najczęściej załącznik do uchwały, powinny znaleźć się przepisy określające m.in. godziny i dni funkcjonowania targowi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Jaki zakres działalności, zgodnie z założeniami, zmodernizowane targowiska powinny obejmować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  <a:ea typeface="Times New Roman"/>
              </a:rPr>
              <a:t>Przewiduje się, że połowa powierzchni targowiska wybudowanego lub zmodernizowanego ze środków Europejskiego Funduszu Rolnego na Rzecz Rozwoju Obszarów Wiejskich (EFRROW) musi być przeznaczona do sprzedaży artykułów rolno - spożywczych. Pozostała powierzchnia może być wykorzystana jako miejsce handlu np. rękodziełem czy artykułami gospodarstwa domowego.</a:t>
            </a:r>
            <a:r>
              <a:rPr b="0" lang="pl-PL" sz="1600" spc="-1" strike="noStrike">
                <a:solidFill>
                  <a:srgbClr val="000000"/>
                </a:solidFill>
                <a:latin typeface="Arial (Tekst podstawowy)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1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71920" y="1457640"/>
            <a:ext cx="7835040" cy="621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000000"/>
                </a:solidFill>
                <a:uFillTx/>
                <a:latin typeface="Arial"/>
              </a:rPr>
              <a:t>www.mojregion.e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500120" y="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1187280" y="0"/>
            <a:ext cx="2089440" cy="113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Obraz 8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Podstawowe usługi dla gospodarki i ludności wiejskiej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 nowelizacji rozporządzenia Ministra Rolnictwa i Rozwoju Wsi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 dnia 1 kwietnia 2008 r. w sprawie szczegółowych warunków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trybu przyznawania oraz wypłaty pomocy finansowej w ramach działania „Podstawowe usługi dla gospodarki i ludności wiejskiej” objętego PROW na lata 2007-2013 (Dz. U. nr 60 poz. 373 z późn. zm.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stnieje możliwość realizacji operacji dotyczącej budowy, przebudowy remontu lub wyposażenia targowiska stałego przez gminę albo związek międzygminny (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tworzony na podstawie przepisów ustawy z dnia 8 marca 1990 r. o samorządzie gminnym (Dz. U. z 2001 r. Nr 142, poz. 1591 z późn. zm.))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3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3" descr=""/>
          <p:cNvPicPr/>
          <p:nvPr/>
        </p:nvPicPr>
        <p:blipFill>
          <a:blip r:embed="rId2"/>
          <a:stretch/>
        </p:blipFill>
        <p:spPr>
          <a:xfrm>
            <a:off x="1116000" y="1890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8" descr=""/>
          <p:cNvPicPr/>
          <p:nvPr/>
        </p:nvPicPr>
        <p:blipFill>
          <a:blip r:embed="rId5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„Podstawowe usługi dla gospodarki i ludności wiejskiej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 Rolnictwa i Rozwoju Wsi w drodze wytycznej określił limity środków z podziałem na województwa w zakresie dotyczącym budowy, przebudowy remontu lub wyposażenia targowisk stały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ojewództwo kujawsko-pomorsk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 111 950 euro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 stano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2 043 246,50 z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3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13" name="Obraz 6" descr=""/>
          <p:cNvPicPr/>
          <p:nvPr/>
        </p:nvPicPr>
        <p:blipFill>
          <a:blip r:embed="rId2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LOGO-1B-większy"/>
          <p:cNvPicPr/>
          <p:nvPr/>
        </p:nvPicPr>
        <p:blipFill>
          <a:blip r:embed="rId4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moc przyznawana jest 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erację realizowaną w miejscowości liczącej nie więcej niż 50 000 mieszkańc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5280" y="789480"/>
            <a:ext cx="8350560" cy="1040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4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3" descr=""/>
          <p:cNvPicPr/>
          <p:nvPr/>
        </p:nvPicPr>
        <p:blipFill>
          <a:blip r:embed="rId1"/>
          <a:stretch/>
        </p:blipFill>
        <p:spPr>
          <a:xfrm>
            <a:off x="1143000" y="2142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21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efundacji podlegają koszty kwalifikowal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poniesione przez beneficjenta w wysokości nieprzekraczającej 75% tych kosztów, z tym że dla jednej gminy w okresie realizacji Programu – nie więcej ni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 000 000 zł – w przypadku realizacji operacji dotyczącej budowy, przebudowy, remontu lub wyposażenia targowiska stał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gdy operacja dotycząca budowy, przebudowy, remontu lub wyposażenia targowiska stałego jest realizowana przez związek międzygminny, refundacja nie może przekroczyć kwoty 1 000 000 zł.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238400" cy="847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27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55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argowisko stałe w ramach realizacji operacji powinno być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twardz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świetl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zyłączone do sieci wodociągowej, kanalizacyjnej i elektroenergetycznej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yposażone 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dpływ wody deszczow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zadaszone stoiska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o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dsłonięte od góry przed opadami, np. wiaty stałe, kioski handlowe, namioty handlowe)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które powinny zajmować co najmniej połowę powierzchni handlowej targowisk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(część techniczno-użytkowa całego targowiska przeznaczona do sprzedaży detalicznej bez wliczania do niej powierzchni usług i gastronomii oraz powierzchni pomocniczej – powierzchnie magazynów, biur, komunikacji, ekspozycji wystawowej itp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miejsca parkingowe i urządzenia sanitarnohigieniczn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"/>
          <p:cNvPicPr/>
          <p:nvPr/>
        </p:nvPicPr>
        <p:blipFill>
          <a:blip r:embed="rId1"/>
          <a:stretch/>
        </p:blipFill>
        <p:spPr>
          <a:xfrm>
            <a:off x="1187280" y="189000"/>
            <a:ext cx="1238400" cy="847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83936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dzielone na sekcje, w których będą sprzedawane towary danego rodzaju, z tym że produkty rolno-spożywcze powinny zajmować co najmniej połowę powierzchni handlowej targowisk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organizowane tak, aby umożliwić rolnikom dostęp do punktów sprzedaży w sposób określony w regulaminie targowisk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znaczone nazwą „Mój Rynek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39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492280"/>
            <a:ext cx="80550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ryteria wyboru oper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Kryterium regional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st spełnione – 2 punk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jest spełnione w części – 1 punk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ie jest spełnione – 0 pun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nioskowana kwota dofinansowania operacji na każdym etapie jej realizacji wynosi nie więcej niż 50% kosztów kwalifikowalnych – 2 punk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peracja dotyczy przebudowy, remontu lub wyposażenia targowiska stałego – 2 punkt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O przyznaniu pomocy decyduje suma uzyskanych ww. pun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OGRAM ROZWOJU OBSZARÓW WIEJSKICH 2007-2013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„Podstawowe usługi dla gospodarki i ludności wiejskiej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910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ryteria wyboru operacj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ierwszej kolejności pomoc przyznaje się na operacje, które uzyskały największą liczbę punk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operacji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 tej samej liczbie punktó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o kolejności przyznania pomocy decyduj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niższa wartość podstawowego dochodu podatkowego gminy przypadająca na 1 mieszkańc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dla związku międzygminnego wartość podstawowego dochodu podatkowego ustala się dla gminy, w której znajduje się siedziba związku międzygminne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rzypadku operacji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 tej samej liczbie punktów i identycznej wartości podstawowego dochodu podatkowego gminy przypadającego na 1 mieszkańc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o kolejności przyznania pomocy decyduje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data i godzina złożenia wniosku </a:t>
            </a:r>
            <a:br>
              <a:rPr sz="1600"/>
            </a:b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o przyznanie pomo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1071720" y="0"/>
            <a:ext cx="1238040" cy="8478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826920" y="0"/>
            <a:ext cx="1729080" cy="1139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LOGO-1B-większy"/>
          <p:cNvPicPr/>
          <p:nvPr/>
        </p:nvPicPr>
        <p:blipFill>
          <a:blip r:embed="rId3"/>
          <a:stretch/>
        </p:blipFill>
        <p:spPr>
          <a:xfrm>
            <a:off x="3924360" y="0"/>
            <a:ext cx="1593720" cy="1000080"/>
          </a:xfrm>
          <a:prstGeom prst="rect">
            <a:avLst/>
          </a:prstGeom>
          <a:ln w="0">
            <a:noFill/>
          </a:ln>
        </p:spPr>
      </p:pic>
      <p:pic>
        <p:nvPicPr>
          <p:cNvPr id="151" name="Obraz 7" descr=""/>
          <p:cNvPicPr/>
          <p:nvPr/>
        </p:nvPicPr>
        <p:blipFill>
          <a:blip r:embed="rId4"/>
          <a:stretch/>
        </p:blipFill>
        <p:spPr>
          <a:xfrm>
            <a:off x="7164360" y="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08:50Z</dcterms:created>
  <dc:creator>Urząd Marszałkowski </dc:creator>
  <dc:description/>
  <dc:language>en-US</dc:language>
  <cp:lastModifiedBy> </cp:lastModifiedBy>
  <dcterms:modified xsi:type="dcterms:W3CDTF">2013-03-25T10:59:14Z</dcterms:modified>
  <cp:revision>169</cp:revision>
  <dc:subject/>
  <dc:title>Slajd 1</dc:title>
</cp:coreProperties>
</file>