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wmf" ContentType="image/x-wmf"/>
  <Override PartName="/ppt/media/image11.png" ContentType="image/png"/>
  <Override PartName="/ppt/media/image10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558-6C06-493F-9632-99FD4EAD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129-80AD-4D9A-BB77-76064C81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7E8-06B5-4FB0-8714-1F3DB62D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085-9BF2-4013-883C-91F3AA13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CE8-8C78-44FC-A3DC-CC96E244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8CC-1411-478D-95AF-3F28CF46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51E-5381-479F-80A3-E145D340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887-8776-4F33-A493-17F185FB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D28-8C0D-485B-94FD-CB449376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7A4-6E4D-4C69-92D0-DD50CE5F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3FE-749F-44C2-A24C-8217920C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A4B-7B6E-454F-9CE3-D030134E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CCAC-B3E2-4025-890C-2621CB927A9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483920"/>
            <a:ext cx="8569080" cy="4753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dpisanie umów o przyznanie pomocy dla działania 321 „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Podstawowe usługi dla gospodarki i ludności wiejskiej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zakresie gospodarki wodno-ściekowej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Toruń, 19 lipca 2012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ymbol zastępczy zawartości 7" descr="flaga.jpg"/>
          <p:cNvPicPr/>
          <p:nvPr/>
        </p:nvPicPr>
        <p:blipFill>
          <a:blip r:embed="rId2"/>
          <a:stretch/>
        </p:blipFill>
        <p:spPr>
          <a:xfrm>
            <a:off x="476280" y="195120"/>
            <a:ext cx="1498680" cy="1000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3"/>
          <a:stretch/>
        </p:blipFill>
        <p:spPr>
          <a:xfrm>
            <a:off x="3859200" y="195120"/>
            <a:ext cx="1352520" cy="1067040"/>
          </a:xfrm>
          <a:prstGeom prst="rect">
            <a:avLst/>
          </a:prstGeom>
          <a:ln w="0">
            <a:noFill/>
          </a:ln>
        </p:spPr>
      </p:pic>
      <p:pic>
        <p:nvPicPr>
          <p:cNvPr id="44" name="Symbol zastępczy zawartości 30" descr="prow-81cc2adc.jpg"/>
          <p:cNvPicPr/>
          <p:nvPr/>
        </p:nvPicPr>
        <p:blipFill>
          <a:blip r:embed="rId4"/>
          <a:stretch/>
        </p:blipFill>
        <p:spPr>
          <a:xfrm>
            <a:off x="6954840" y="195120"/>
            <a:ext cx="1566720" cy="10004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172440" y="906840"/>
            <a:ext cx="20872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440" rIns="90000" tIns="23796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99"/>
                </a:solidFill>
                <a:latin typeface="Arial"/>
              </a:rPr>
              <a:t>Europejski Fundusz Rolny na rzecz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99"/>
                </a:solidFill>
                <a:latin typeface="Arial"/>
              </a:rPr>
              <a:t>    </a:t>
            </a:r>
            <a:r>
              <a:rPr b="0" lang="pl-PL" sz="900" spc="-1" strike="noStrike">
                <a:solidFill>
                  <a:srgbClr val="000099"/>
                </a:solidFill>
                <a:latin typeface="Arial"/>
              </a:rPr>
              <a:t>Rozwoju Obszarów Wiejskich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280360" cy="6191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Plany na przyszłość</a:t>
            </a:r>
            <a:r>
              <a:rPr b="0" lang="pl-PL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Symbol zastępczy zawartości 30" descr="prow-81cc2adc.jpg"/>
          <p:cNvPicPr/>
          <p:nvPr/>
        </p:nvPicPr>
        <p:blipFill>
          <a:blip r:embed="rId2"/>
          <a:stretch/>
        </p:blipFill>
        <p:spPr>
          <a:xfrm>
            <a:off x="7527960" y="5735520"/>
            <a:ext cx="1219320" cy="7812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79280" y="692280"/>
            <a:ext cx="8713800" cy="5433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Trwają nabory wniosków!!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 dnia 9 lipca do dnia 6 września br. można składać wnioski w ramach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nowa i rozwój wsi” -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37 934 490,53 z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stawowe usługi dla gospodarki i ludności wiejskiej” w zakresie targowisk stałych -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12 043 246,50 z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Symbol zastępczy zawartości 30" descr="prow-81cc2adc.jpg"/>
          <p:cNvPicPr/>
          <p:nvPr/>
        </p:nvPicPr>
        <p:blipFill>
          <a:blip r:embed="rId2"/>
          <a:stretch/>
        </p:blipFill>
        <p:spPr>
          <a:xfrm>
            <a:off x="7669080" y="5376960"/>
            <a:ext cx="1219320" cy="77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DSC_0194"/>
          <p:cNvPicPr/>
          <p:nvPr/>
        </p:nvPicPr>
        <p:blipFill>
          <a:blip r:embed="rId3"/>
          <a:stretch/>
        </p:blipFill>
        <p:spPr>
          <a:xfrm>
            <a:off x="4211640" y="3213000"/>
            <a:ext cx="4537080" cy="2811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179280" y="4797360"/>
            <a:ext cx="3672000" cy="1079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mina Miasto Kowal - "Urządzenie Parku im. Kazimierza Wielkiego w Kowalu"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179280" y="260280"/>
            <a:ext cx="8713800" cy="64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Kryterium regionalne dla działania „Odnowa i rozwój wsi”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 dodatkowe punkty otrzymają operacje dotyczące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biektów / przestrzeni publicznej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których przez okres 7 lat od dnia przyznania pomocy prowadzona będzie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ziałalność zgodna z celami działania „Odnowa i rozwój wsi”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 czym działalność ta odbywać się będzie na podstawie 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planowanych przedsięwzięć realizowanych we współpracy z podmiotami aktywnie działającymi na rzecz obszarów wiejskich, m.in. OSP, KGW, Radą Sołecką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eryfikacja kryterium regionalnego dokonywana będzie w oparciu o przedstawiony harmonogram planowanych przedsięwzięć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Symbol zastępczy zawartości 30" descr="prow-81cc2adc.jpg"/>
          <p:cNvPicPr/>
          <p:nvPr/>
        </p:nvPicPr>
        <p:blipFill>
          <a:blip r:embed="rId2"/>
          <a:stretch/>
        </p:blipFill>
        <p:spPr>
          <a:xfrm>
            <a:off x="7669080" y="588312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179280" y="260280"/>
            <a:ext cx="8713800" cy="64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4316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ryterium regionalne dla naboru wniosków o przyznanie pomocy w ramach działania „Podstawowe usługi dla gospodarki i ludności wiejskiej” w zakresie targowisk stały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 dodatkowe punkty otrzymują operacje, które zrealizują uzgodnione założenia dotyczące wspólnego elementu, tj. bramy wjazdowej na teren targowiska stał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Symbol zastępczy zawartości 30" descr="prow-81cc2adc.jpg"/>
          <p:cNvPicPr/>
          <p:nvPr/>
        </p:nvPicPr>
        <p:blipFill>
          <a:blip r:embed="rId2"/>
          <a:stretch/>
        </p:blipFill>
        <p:spPr>
          <a:xfrm>
            <a:off x="3419640" y="5883120"/>
            <a:ext cx="1225440" cy="77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21"/>
          <p:cNvPicPr/>
          <p:nvPr/>
        </p:nvPicPr>
        <p:blipFill>
          <a:blip r:embed="rId3"/>
          <a:stretch/>
        </p:blipFill>
        <p:spPr>
          <a:xfrm>
            <a:off x="4727520" y="606600"/>
            <a:ext cx="4086360" cy="5715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252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Symbol zastępczy zawartości 30" descr="prow-81cc2adc.jpg"/>
          <p:cNvPicPr/>
          <p:nvPr/>
        </p:nvPicPr>
        <p:blipFill>
          <a:blip r:embed="rId2"/>
          <a:stretch/>
        </p:blipFill>
        <p:spPr>
          <a:xfrm>
            <a:off x="7454880" y="206676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91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2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Podstawowe usługi dla gospodarki i ludności wiejskiej”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mit 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dla Województwa Kujawsko-Pomorskieg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na lata 2007-2013 wynosi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ff0000"/>
                </a:solidFill>
                <a:latin typeface="Arial"/>
              </a:rPr>
              <a:t>262 442 504,64 z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ymbol zastępczy zawartości 30" descr="prow-81cc2adc.jpg"/>
          <p:cNvPicPr/>
          <p:nvPr/>
        </p:nvPicPr>
        <p:blipFill>
          <a:blip r:embed="rId2"/>
          <a:stretch/>
        </p:blipFill>
        <p:spPr>
          <a:xfrm>
            <a:off x="7381800" y="5735520"/>
            <a:ext cx="1219320" cy="781200"/>
          </a:xfrm>
          <a:prstGeom prst="rect">
            <a:avLst/>
          </a:prstGeom>
          <a:ln w="0">
            <a:noFill/>
          </a:ln>
        </p:spPr>
      </p:pic>
      <p:pic>
        <p:nvPicPr>
          <p:cNvPr id="48" name="Symbol zastępczy obrazu 4" descr=""/>
          <p:cNvPicPr/>
          <p:nvPr/>
        </p:nvPicPr>
        <p:blipFill>
          <a:blip r:embed="rId3"/>
          <a:srcRect l="5375" t="0" r="5375" b="0"/>
          <a:stretch/>
        </p:blipFill>
        <p:spPr>
          <a:xfrm>
            <a:off x="1332000" y="2205000"/>
            <a:ext cx="6049800" cy="27367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1227240" y="5199120"/>
            <a:ext cx="6121440" cy="1081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mina Jeżewo – ,,Budowa sieci wodociągowej wraz ze stacją uzdatniania wody w miejscowości Czersk Świecki’’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latach 2009-2010 w ramach działania „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Podstawowe usługi dla gospodarki i ludności wiejskiej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” zawarto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212 umów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 przyznanie pomocy, w ty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zakresie gospodarki wodno – ściekowej -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200 um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kwotę</a:t>
            </a: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 241 499 898 z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zakresie odpadów komunalnych 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8 umów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kwotę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 330 574 zł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zakresie energii ze źródeł odnawialnych 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4 um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kwotę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2 300 614 zł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Symbol zastępczy zawartości 30" descr="prow-81cc2adc.jpg"/>
          <p:cNvPicPr/>
          <p:nvPr/>
        </p:nvPicPr>
        <p:blipFill>
          <a:blip r:embed="rId2"/>
          <a:stretch/>
        </p:blipFill>
        <p:spPr>
          <a:xfrm>
            <a:off x="7669080" y="5662440"/>
            <a:ext cx="1219320" cy="781200"/>
          </a:xfrm>
          <a:prstGeom prst="rect">
            <a:avLst/>
          </a:prstGeom>
          <a:ln w="0">
            <a:noFill/>
          </a:ln>
        </p:spPr>
      </p:pic>
      <p:pic>
        <p:nvPicPr>
          <p:cNvPr id="52" name="Symbol zastępczy obrazu 4" descr=""/>
          <p:cNvPicPr/>
          <p:nvPr/>
        </p:nvPicPr>
        <p:blipFill>
          <a:blip r:embed="rId3"/>
          <a:stretch/>
        </p:blipFill>
        <p:spPr>
          <a:xfrm>
            <a:off x="4643280" y="3068640"/>
            <a:ext cx="4032360" cy="2598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363600" y="5091120"/>
            <a:ext cx="4208400" cy="1152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mina Radomin – ,,Budowa ujęcia wodociągowego z przebudową sieci wodociągowej w miejscowości Szczutowo, gmina Radomin’’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404640"/>
            <a:ext cx="8218440" cy="6120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czba dotychczas podpisanych umów z zakresu gospodarki wodno-ściekowej z podziałem na powi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ymbol zastępczy zawartości 30" descr="prow-81cc2adc.jpg"/>
          <p:cNvPicPr/>
          <p:nvPr/>
        </p:nvPicPr>
        <p:blipFill>
          <a:blip r:embed="rId2"/>
          <a:stretch/>
        </p:blipFill>
        <p:spPr>
          <a:xfrm>
            <a:off x="7454880" y="5735520"/>
            <a:ext cx="1219320" cy="781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Object 17"/>
          <p:cNvGraphicFramePr/>
          <p:nvPr/>
        </p:nvGraphicFramePr>
        <p:xfrm>
          <a:off x="-1432080" y="1603440"/>
          <a:ext cx="11517480" cy="4994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432080" y="1603440"/>
                    <a:ext cx="1151748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 advTm="1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Symbol zastępczy zawartości 30" descr="prow-81cc2adc.jpg"/>
          <p:cNvPicPr/>
          <p:nvPr/>
        </p:nvPicPr>
        <p:blipFill>
          <a:blip r:embed="rId1"/>
          <a:stretch/>
        </p:blipFill>
        <p:spPr>
          <a:xfrm>
            <a:off x="7381800" y="5735520"/>
            <a:ext cx="1219320" cy="781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333000"/>
            <a:ext cx="8424720" cy="62643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dzaje projektów realizowanych dotychczas w zakresie gospodarki wodno-ściekowej (w procent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8"/>
          <p:cNvGraphicFramePr/>
          <p:nvPr/>
        </p:nvGraphicFramePr>
        <p:xfrm>
          <a:off x="399960" y="1479600"/>
          <a:ext cx="8467920" cy="5245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1479600"/>
                    <a:ext cx="846792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Symbol zastępczy zawartości 30" descr="prow-81cc2adc.jpg"/>
          <p:cNvPicPr/>
          <p:nvPr/>
        </p:nvPicPr>
        <p:blipFill>
          <a:blip r:embed="rId5"/>
          <a:stretch/>
        </p:blipFill>
        <p:spPr>
          <a:xfrm>
            <a:off x="7381800" y="5810400"/>
            <a:ext cx="1219320" cy="772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468360" y="476280"/>
            <a:ext cx="79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8280360" cy="6191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nwestycje realizowane w ramach działania „Podstawowe usługi dla gospodarki i ludności wiejskiej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ymbol zastępczy zawartości 30" descr="prow-81cc2adc.jpg"/>
          <p:cNvPicPr/>
          <p:nvPr/>
        </p:nvPicPr>
        <p:blipFill>
          <a:blip r:embed="rId2"/>
          <a:stretch/>
        </p:blipFill>
        <p:spPr>
          <a:xfrm>
            <a:off x="7527960" y="5797440"/>
            <a:ext cx="1146240" cy="725760"/>
          </a:xfrm>
          <a:prstGeom prst="rect">
            <a:avLst/>
          </a:prstGeom>
          <a:ln w="0">
            <a:noFill/>
          </a:ln>
        </p:spPr>
      </p:pic>
      <p:pic>
        <p:nvPicPr>
          <p:cNvPr id="68" name="Symbol zastępczy zawartości 3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7488000" cy="43196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18440" cy="6264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pl-PL" sz="2000" spc="-1" strike="noStrike">
                <a:solidFill>
                  <a:srgbClr val="000000"/>
                </a:solidFill>
                <a:latin typeface="Arial"/>
              </a:rPr>
              <a:t>Podstawowe usługi dla gospodarki i ludności wiejskiej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BÓR 2012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Arial"/>
              </a:rPr>
              <a:t>111 wniosków o przyznanie pomocy na kwotę </a:t>
            </a:r>
            <a:r>
              <a:rPr b="1" lang="pl-PL" sz="1900" spc="-1" strike="noStrike" u="sng">
                <a:solidFill>
                  <a:srgbClr val="000000"/>
                </a:solidFill>
                <a:uFillTx/>
                <a:latin typeface="Arial"/>
              </a:rPr>
              <a:t>103 173 621 zł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, w tym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ff0000"/>
                </a:solidFill>
                <a:latin typeface="Arial"/>
              </a:rPr>
              <a:t>101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wniosków w zakresie </a:t>
            </a:r>
            <a:r>
              <a:rPr b="0" i="1" lang="pl-PL" sz="1700" spc="-1" strike="noStrike">
                <a:solidFill>
                  <a:srgbClr val="000000"/>
                </a:solidFill>
                <a:latin typeface="Arial"/>
              </a:rPr>
              <a:t>gospodarki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1700" spc="-1" strike="noStrike">
                <a:solidFill>
                  <a:srgbClr val="000000"/>
                </a:solidFill>
                <a:latin typeface="Arial"/>
              </a:rPr>
              <a:t>wodno-ściekowej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 wniosków w zakresie </a:t>
            </a:r>
            <a:r>
              <a:rPr b="0" i="1" lang="pl-PL" sz="1700" spc="-1" strike="noStrike">
                <a:solidFill>
                  <a:srgbClr val="000000"/>
                </a:solidFill>
                <a:latin typeface="Arial"/>
              </a:rPr>
              <a:t>energii odnawialnej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wnioski w zakresie </a:t>
            </a:r>
            <a:r>
              <a:rPr b="0" i="1" lang="pl-PL" sz="1700" spc="-1" strike="noStrike">
                <a:solidFill>
                  <a:srgbClr val="000000"/>
                </a:solidFill>
                <a:latin typeface="Arial"/>
              </a:rPr>
              <a:t>odpadów komunalnych</a:t>
            </a:r>
            <a:r>
              <a:rPr b="0" lang="pl-PL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Symbol zastępczy zawartości 30" descr="prow-81cc2adc.jpg"/>
          <p:cNvPicPr/>
          <p:nvPr/>
        </p:nvPicPr>
        <p:blipFill>
          <a:blip r:embed="rId2"/>
          <a:stretch/>
        </p:blipFill>
        <p:spPr>
          <a:xfrm>
            <a:off x="7381800" y="5810400"/>
            <a:ext cx="1219320" cy="772920"/>
          </a:xfrm>
          <a:prstGeom prst="rect">
            <a:avLst/>
          </a:prstGeom>
          <a:ln w="0">
            <a:noFill/>
          </a:ln>
        </p:spPr>
      </p:pic>
      <p:pic>
        <p:nvPicPr>
          <p:cNvPr id="71" name="Symbol zastępczy obrazu 4" descr="DSC_0717.JPG"/>
          <p:cNvPicPr/>
          <p:nvPr/>
        </p:nvPicPr>
        <p:blipFill>
          <a:blip r:embed="rId3"/>
          <a:srcRect l="5373" t="0" r="5373" b="0"/>
          <a:stretch/>
        </p:blipFill>
        <p:spPr>
          <a:xfrm>
            <a:off x="5291280" y="2276640"/>
            <a:ext cx="3313080" cy="3255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1042920" y="5170320"/>
            <a:ext cx="3960720" cy="1229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mina Kijewo Królewskie – ,, Budowa kanalizacji sanitarnej, grawitacyjnej i tłocznej Szymborno - Bajerze - Bągart’’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18440" cy="6264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stawowe usługi dla gospodarki i ludności wiejskiej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BÓR 2012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dpisano dotychczas 9 umów o przyznanie pomocy, w ty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zakresie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odpadów komunalnych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2 umowy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 kwotę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360 437 z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zakresie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energii odnawialne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7 umów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 kwotę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2 076 370</a:t>
            </a:r>
            <a:r>
              <a:rPr b="0" lang="pl-PL" sz="1600" spc="-1" strike="noStrike">
                <a:solidFill>
                  <a:srgbClr val="ff0000"/>
                </a:solidFill>
                <a:latin typeface="Arial"/>
              </a:rPr>
              <a:t> z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ymbol zastępczy obrazu 4" descr=""/>
          <p:cNvPicPr/>
          <p:nvPr/>
        </p:nvPicPr>
        <p:blipFill>
          <a:blip r:embed="rId2"/>
          <a:stretch/>
        </p:blipFill>
        <p:spPr>
          <a:xfrm>
            <a:off x="1908000" y="3068640"/>
            <a:ext cx="4535640" cy="25210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971640" y="5732640"/>
            <a:ext cx="6264360" cy="868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Gmina Bobrowniki – ,, Modernizacja i przebudowa Stacji Uzdatniania Wody w miejscowości Bobrownickie Pole oraz budowa sieci wodociągowej dla wsi Stare Rybitwy i Brzustowa’’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ymbol zastępczy zawartości 30" descr="prow-81cc2adc.jpg"/>
          <p:cNvPicPr/>
          <p:nvPr/>
        </p:nvPicPr>
        <p:blipFill>
          <a:blip r:embed="rId4"/>
          <a:stretch/>
        </p:blipFill>
        <p:spPr>
          <a:xfrm>
            <a:off x="7381800" y="5810400"/>
            <a:ext cx="1219320" cy="772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91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3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stawowe usługi dla gospodarki i ludności wiejskiej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300" spc="-1" strike="noStrike">
                <a:solidFill>
                  <a:srgbClr val="000000"/>
                </a:solidFill>
                <a:latin typeface="Arial"/>
              </a:rPr>
              <a:t>NABÓR 2012 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Limit dla Gospodarki wodno - ściekowej limit środków wyniósł </a:t>
            </a:r>
            <a:r>
              <a:rPr b="1" lang="pl-PL" sz="2300" spc="-1" strike="noStrike">
                <a:solidFill>
                  <a:srgbClr val="ff0000"/>
                </a:solidFill>
                <a:latin typeface="Arial"/>
              </a:rPr>
              <a:t>86 352 136,91</a:t>
            </a:r>
            <a:r>
              <a:rPr b="0" lang="pl-PL" sz="2300" spc="-1" strike="noStrike">
                <a:solidFill>
                  <a:srgbClr val="ff0000"/>
                </a:solidFill>
                <a:latin typeface="Arial"/>
              </a:rPr>
              <a:t> zł;</a:t>
            </a: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Przyjęto do współfinansowania 86 projektów </a:t>
            </a: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Arial"/>
              </a:rPr>
              <a:t>12 projektów oczekuje na dofinansowani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Symbol zastępczy zawartości 30" descr="prow-81cc2adc.jpg"/>
          <p:cNvPicPr/>
          <p:nvPr/>
        </p:nvPicPr>
        <p:blipFill>
          <a:blip r:embed="rId2"/>
          <a:stretch/>
        </p:blipFill>
        <p:spPr>
          <a:xfrm>
            <a:off x="7381800" y="5735520"/>
            <a:ext cx="1219320" cy="7812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8:00:35Z</dcterms:created>
  <dc:creator>k.szary</dc:creator>
  <dc:description/>
  <dc:language>en-US</dc:language>
  <cp:lastModifiedBy>EUROEXPERT</cp:lastModifiedBy>
  <dcterms:modified xsi:type="dcterms:W3CDTF">2012-07-18T20:45:02Z</dcterms:modified>
  <cp:revision>59</cp:revision>
  <dc:subject/>
  <dc:title>Budowa stacji uzdatniania wody w Brześciu Kujawskim </dc:title>
</cp:coreProperties>
</file>