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271-B942-4566-82AC-A0835822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4346640"/>
            <a:ext cx="822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F41-1241-4AD2-B23A-77B38022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263700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434664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2320" y="434664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BCE7-B1A7-411C-AF6F-35242539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264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720" y="2637000"/>
            <a:ext cx="264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0160" y="2637000"/>
            <a:ext cx="264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4346640"/>
            <a:ext cx="264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720" y="4346640"/>
            <a:ext cx="264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0160" y="4346640"/>
            <a:ext cx="264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EB81-0F04-41C3-AC0C-BFAB356A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2637000"/>
            <a:ext cx="8229600" cy="32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F22-6054-42C1-8F54-DD89FF54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406-34AD-4BF6-956B-3952C9F0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401580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2320" y="2637000"/>
            <a:ext cx="401580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0F46-1807-4B45-905F-1F67A746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C58-F2C7-4706-BC46-A14DBBFA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76B9-8AA0-4519-A602-54FCB801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2637000"/>
            <a:ext cx="401580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434664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2A51-E485-4DCB-AFE3-7DE93612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401580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263700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2320" y="434664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4DD-4E3F-4514-A29D-15F564FA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263700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4346640"/>
            <a:ext cx="822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DBA-15F5-40A7-AB3B-4DBCE3BD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637000"/>
            <a:ext cx="822960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436E-44DF-4396-A4B0-5E5B05575BC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287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2426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3" descr="nagłówek LEADER2"/>
          <p:cNvPicPr/>
          <p:nvPr/>
        </p:nvPicPr>
        <p:blipFill>
          <a:blip r:embed="rId4"/>
          <a:stretch/>
        </p:blipFill>
        <p:spPr>
          <a:xfrm>
            <a:off x="611280" y="299880"/>
            <a:ext cx="8064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356920"/>
            <a:ext cx="842472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rojektowane zmiany w katalogach kosztów kwalifikowalnych w działaniach 413 i 431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95280" y="1571400"/>
            <a:ext cx="822960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0) podroży lub wyżywienia uczestników szkolenia, spotkania aktywizującego, wydarzenia promocyjnego lub kulturalneg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1) udziału w szkoleniu — w przypadku szkolenia realizowanego przez podmiot inny niż LG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2) noclegu uczestników szkolenia — w przypadku szkolenia trwającego co najmniej dwa dn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3) Najmu lub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dzierżaw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nieruchomości, pomieszczeń lub sprzętu,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a w przypadku gdy koszt najmu albo dzierżawy sprzętu przekraczałby koszt jego zakupu – także koszty zakupu tego sprzęt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1642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4) doradztwa w zakresie przygotowania wniosku o przyznanie pomocy na realizację operacji w ramach działania, o którym mowa w art. 5 ust. 1 pkt 21 ustawy, w tym wynagrodzenia osób świadczących usługi w takim zakresie posiadających kwalifikacje lub doświadczenie w zakresie objętym tym wnioskiem, z wyłączeniem wynagrodzenia pracowników LG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5) powielenia formularzy wniosków o przyznanie pomocy w ramach działania, o którym mowa w art. 5 ust. 1 pkt 21 ustawy, oraz innych dokumentów niezbędnych do ubiegania się o przyznanie tej pomoc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2285640"/>
            <a:ext cx="822960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6) zakupu upominków i nagród o łącznej wartości nieprzekraczającej w ramach operacji 15 000 z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7) zakupu powierzchni wystawienniczej i innych usług związanych z organizacją lub uczestnictwem LGD w wydarzeniach promocyj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owy katalog kosztów kwalifikowalnych w ramach działania 413 „Wdrażanie LS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95280" y="2637000"/>
            <a:ext cx="8229600" cy="32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szty ogólne, obejmują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gotowanie dokumentacji technicznej małego projek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łat za patenty, licencje lub wynagrodzenia za przeniesienie autorskich praw majątkowy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łat notarialnych, skarbowych lub sąd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rawowania nadzoru autorskiego lub inwestorsk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1857240"/>
            <a:ext cx="82296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. Zakupu materiałów lub przedmiot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. Zakupu usł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4. najmu, dzierżawy lub zakupu oprogramowania, sprzętu, narzędzi, maszyn, z wyłączeniem środków transportu napędzanych mechanicznie, przy czym w przypadku realizacji operacji nieinwestycyjnej koszt zakupu podlega refundacji jedynie w przypadku, gdy koszt najmu albo dzierżawy przekraczałby koszt tego zaku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owy zakres operacji w małych projekt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2428920"/>
            <a:ext cx="8229600" cy="34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noszenie jakości życia społeczności lokalnej na obszarze objętym LSR prz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Udostępnianie urządzeń i sprzętu, z wyłączeniem środków transportu napędzanych mechaniczn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a szkoleń i innych przedsięwzięć o charakterze edukacyjnym i warsztatowym dla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podmiotów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z obszaru objętego LSR, innych niż realizowane w ramach działania 4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ację imprez kulturalnych, promocyjnych, rekreacyjnych i sportow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Zagospodarowanie wiejskiej przestrzeni publicznej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1785960"/>
            <a:ext cx="822960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. rozwijanie aktywności społeczności lokalnej prz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mocję i organizację lokalnej twórczości kulturalnej,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lokalnej przedsiębiorczości lub aktywnego trybu życ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z wyłączeniem remontu i budowy pomieszczeń mieszkalny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mont lub wyposażenie świetlic wiejskich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oraz innych obiektów, pełniących ich funkcję, oraz zagospodarowanie terenu przylegającego do tych obiekt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95280" y="1714680"/>
            <a:ext cx="8229600" cy="41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. rozwijanie turystyki lub rekreacji na obszarze objętym LSR prz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tworzenie lub zmodernizowanie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punktów informacji turystyczne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bazy informacji turystycznej oraz stron internet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gotowanie i wydanie folderów oraz innych publikacji informacyjnych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i promocyjnych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tyczących obszaru objętego LS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dowę, odbudowę,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zagospodarowan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lub oznakowanie małej infrastruktury turystycznej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i rekreacyj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95280" y="1500120"/>
            <a:ext cx="84628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pl-PL" sz="2200" spc="-1" strike="noStrike">
                <a:solidFill>
                  <a:srgbClr val="ff0000"/>
                </a:solidFill>
                <a:latin typeface="Arial"/>
              </a:rPr>
              <a:t>promowani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zachowanie, odtworzenie, zabezpieczenie lub oznakowanie cennego, lokalnego dziedzictwa krajobrazowego i przyrodniczego, w szczególności obszarów objętych poszczególnymi formami ochrony przyrody, w tym obszarów Natura 2000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6. zachowanie lokalnego dziedzictwa kulturowego i historycznego przez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budowę albo odnowienie lub oznakowanie budowli, obiektów lub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obiektów małej architektury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jętych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dzorem konserwatorskim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ub ewidencją zabyt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nowienie dachów budynków objętych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dzorem konserwatorskim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ub ewidencją zabyt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nowienie elewacji zewnętrznych budynków objętych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dzorem konserwatorskim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ub ewidencją zabyt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95280" y="150012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6. cd. zachowanie lokalnego dziedzictwa kulturowego i historycznego przez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remont lub renowację wewnętrznych elementów obiektów objętych nadzorem konserwatorskim lub ewidencją zabyt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remont lub renowację zabytków ruchom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mont lub wyposażenie muzeów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lub innych obiektów pełniących ich funkcj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romocję lokalnego dziedzictw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mocję lokalnej twórczości wykorzystującej lokalne dziedzictw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ultywowan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iejscowych tradycji, obrzędów i zwyczaj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ultywowanie języka regionalnego i gwa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ultywowanie tradycyjnych zawodów i rzemiosł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miany w działaniu 431 „Funkcjonowanie (…)” wg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projekt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rozporząd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9286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 2011 r. jedna, wieloletnia umowa do końca okresu realizacji LS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ermin składania wniosków: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od 15 sierpnia do 30 wrześ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liczenie bezgotówkowe w transakcjach powyżej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1000 z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95280" y="1928520"/>
            <a:ext cx="822960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. cd. zachowanie lokalnego dziedzictwa kulturowego i historycznego prz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prowadzenie badań nad obszarem wdrażania LSR, innych niż realizowane w ramach działania, o którym mowa w art. 5 ust. 1 pkt 23 ustawy z dnia 7 marca 2007 r. o wspieraniu rozwoju obszarów wiejskich z udziałem środków Europejskiego Funduszu Rolnego na Rzecz Rozwoju Obszarów Wi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95280" y="1642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7. inicjowanie powstawania, przetwarzania lub wprowadzania na rynek produktów i usług opartych na lokalnych zasobach, tradycyjnych sektorach gospodarki lub lokalnym dziedzictwie, w tym kulturowym, historycznym lub przyrodniczym, albo podnoszenie jakości takich produktów,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przy czym pomoc nie może dotyczyć działalności rolnicz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8. wykorzystanie energii pochodzącej ze źródeł odnawialnych w celu poprawienia warunków prowadzenia działalności kulturalnej lub gospodarczej, w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tym polegającej na wynajmie pokoi w gospodarstwie rolny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z wyłączeniem działalności rolnicz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miany w działaniu 431 „Funkcjonowanie (…)” c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27860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żeli LGD nie dokona kompletnych uzupełnień wniosek będzie rozpatrywany w zakresie, w jakim został prawidłowo wypełni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GD będzie mogła dokonać we wniosku zmian, nie wskazanych w pismach od SW, o ile będą one uzasadnione i SW wyrazi zgodę na ich wprowad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owy katalog kosztów kwalifikowalnych – koszty bieżą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250020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) wynagrodzenia członków rady albo innego organu LGD, do którego wyłącznej właściwości należy wybór operacji zgodnie z art. 62 ust. 4 rozporządzenia nr 1698/2005, zwanych dalej „organem decyzyjnym”, za udział w wyborze operacj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) podróży i pobytu członków organów LGD w związku z pełnioną funkcj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) Wynagrodzenia i innych świadczeń, o których mowa w Kodeksie pracy, związanych z pracą pracowników LGD, w tym nie więcej niż 3 członków zarządu LGD,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a także inne koszty ponoszone przez LGD na podstawie odrębnych przepisów w związku z zatrudnieniem tych pracownikó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1785960"/>
            <a:ext cx="822960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4) Podróży służbowych wolontariuszy, w rozumieniu przepisów o działalności pożytku publicznego i o wolontariacie, wykonujących świadczenia, odpowiadające świadczeniu pracy na rzecz LG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) Wynagrodzenia za wykonanie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umowy o dzieło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umowy zlecenia lub za świadczenie usług, w celu zapewnienia sprawnego funkcjonowania LGD oraz inne koszty ponoszone przez LGD na podstawie odrębnych przepisów w związku z zawarciem tych umów, z wyłączeniem wynagrodzenia za wykonywanie w pełnym zakresie zadań biura LG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6) Najmu lub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dzierżaw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i utrzymania pomieszczeń biurowych L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7) adaptacji lub remontu pomieszczeń biurowych L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95280" y="2071800"/>
            <a:ext cx="8229600" cy="38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8) zakupu, najmu lub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dzierżaw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wyposażenia, urządzeń i sprzętu biurowego, a także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instalac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utrzymania, konserwacji i naprawy tego wyposażenia, urządzeń i sprzę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9) zakupu materiałów biurow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0) opłat notarialnych, skarbowych i sądowych oraz podatku od nieruchomości i podatku od czynności cywilnoprawn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owy katalog kosztów kwalifikowalnych – koszty pozostał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2637000"/>
            <a:ext cx="8229600" cy="32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nagrodzenia osób posiadających kwalifikacje lub doświadczenie w zakresie zarządzania projektami współfinansowanymi ze środków pochodzących z budżetu Unii Europejskiej za wykonanie prac związanych z aktualizacją LS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ykonania opracowań dotyczących obszaru objętego LS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1714680"/>
            <a:ext cx="8229600" cy="41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zakupu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opracowania, przygotowania, druku lub powielenia i dystrybucji materiałów informacyjnych, szkoleniowych i promocyjnych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lub innych materiałów niezbędnych do nabywania umiejętności i prowadzenia aktywizacj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4) poniesione na przygotowanie projektów stron internetowych oraz na prowadzenie i aktualizację tych str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tworzenia i obsługi baz danych związanych z obszarem objętym LS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95280" y="1714680"/>
            <a:ext cx="8229600" cy="41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) tłumaczenia, jeżeli osoba prowadząca szkolenie, wydarzenie promocyjne, kulturalne lub aktywizujące społeczność lokalną nie używa języka polskiego, w tym tłumaczenia materiałów informacyjnych, szkoleniowych i promocyjn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7) zakupu czasu antenowego w telewizji i radi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zamieszczania materiałów prasowych w pras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9) wynagrodzenia, podroży i pobytu osób zajmujących się informowaniem, prowadzących szkolenie, wydarzenie promocyjne lub kulturalne lub spotkanie aktywizujące społeczność wiejsk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8:57:06Z</dcterms:created>
  <dc:creator>a.mowinska</dc:creator>
  <dc:description/>
  <dc:language>en-US</dc:language>
  <cp:lastModifiedBy>a.mowinska</cp:lastModifiedBy>
  <dcterms:modified xsi:type="dcterms:W3CDTF">2010-06-02T10:09:42Z</dcterms:modified>
  <cp:revision>133</cp:revision>
  <dc:subject/>
  <dc:title>Slajd 1</dc:title>
</cp:coreProperties>
</file>