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3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1"/>
          <p:cNvSpPr/>
          <p:nvPr/>
        </p:nvSpPr>
        <p:spPr>
          <a:xfrm>
            <a:off x="0" y="0"/>
            <a:ext cx="6846840" cy="9907560"/>
          </a:xfrm>
          <a:custGeom>
            <a:avLst/>
            <a:gdLst>
              <a:gd name="textAreaLeft" fmla="*/ 360 w 6846840"/>
              <a:gd name="textAreaRight" fmla="*/ 6846480 w 68468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255">
                <a:moveTo>
                  <a:pt x="5" y="0"/>
                </a:moveTo>
                <a:arcTo wR="5" hR="5" stAng="16200000" swAng="-5400000"/>
                <a:lnTo>
                  <a:pt x="0" y="31250"/>
                </a:lnTo>
                <a:arcTo wR="5" hR="5" stAng="10800000" swAng="-5400000"/>
                <a:lnTo>
                  <a:pt x="21595" y="312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5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9"/>
          </p:nvPr>
        </p:nvSpPr>
        <p:spPr>
          <a:xfrm>
            <a:off x="3876480" y="-360"/>
            <a:ext cx="2965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946080" y="742680"/>
            <a:ext cx="49514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684000" y="4704840"/>
            <a:ext cx="54752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20"/>
          </p:nvPr>
        </p:nvSpPr>
        <p:spPr>
          <a:xfrm>
            <a:off x="-360" y="9408960"/>
            <a:ext cx="2965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21"/>
          </p:nvPr>
        </p:nvSpPr>
        <p:spPr>
          <a:xfrm>
            <a:off x="3876480" y="9408960"/>
            <a:ext cx="2965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592B8C-069F-4E07-92B3-A86948B39B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76840" y="9408960"/>
            <a:ext cx="2965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198E3F-5972-4DA9-B5AA-1953FF9082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4608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4360" y="4704840"/>
            <a:ext cx="547848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2BB-3772-4E2E-AF8C-E10247BB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AF9-F907-48E3-8CF2-EF3426F2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82B9-5CAE-4595-B3A8-2747E52E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21C-CA22-4734-86E4-0005C89E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271E-E391-40C8-97F7-0C95DA94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A6E7-2E09-4056-B021-9E560828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63CC-FD57-4B3C-8197-29BA5B51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0E28-E81B-4651-A8C0-3A69AB97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2E37-EBA0-4D13-A35D-85F67887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16C2-FF4B-4B50-A000-668445E4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7D13-CB24-4A78-8B94-3BDCC5F8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AE4C-0C87-4AA9-A412-ADACD998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0098-D9A7-4A92-B31C-CBD8F7A3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B1A8-5E5D-44CE-818A-1CBFE981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EF6E-20FE-4324-BA48-EC5789B2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7AAF-7265-4A5F-A958-FB6BAA43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8249-2EB2-4EFB-81C7-A237B9D9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34C3F-6A4F-4570-AB4D-C16E7CBA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2D102-D14A-4E6B-AA3D-526F0DAC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698D8-1F47-48E9-B477-0E88F8DE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AC7E0-2B7C-4E6E-86B0-6A448F45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740D0-E6DD-4847-A6D7-A847E867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019F-4773-4748-A6EF-60BDC016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72118-B8FA-493E-BA2F-B17E29E1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97416-D1E3-4B70-9898-B9D94687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2F6F-204C-4DF1-B313-15268DAB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6DCED-3A4B-44C0-8662-5FF7F205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70658-5ABA-4101-B52D-B4E1F269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D30CD-3E98-494E-8303-99E2A46A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3256-B6D1-4512-9859-B2C489108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DB16C-C2CB-4E07-8C1E-8C7C3788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B8DAE-A4A2-4FD1-9273-365E22A5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88ABD-2A4B-470E-8087-ACBBC90E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5FE9-967C-4780-B281-33B5C8A1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5E863-4D5C-4C83-BB97-3B2CA410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73BA1-CEDC-4D51-B8AB-ADC22C3F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3AFE8-1D51-4184-9366-5F2F358E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C8F8C-8A1A-438E-8E38-C6013BD5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F0CEC-8412-42B3-8325-1C9C989A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E7915-0938-45DB-B465-0629AF36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FA2B4-B0DB-430F-9583-83B9F464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C710C-FA10-4848-8E2F-4A73D73E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3DE03-92A4-4B26-B1C5-08186D5D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5A979-12A3-44C0-9882-7E63CB68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3B2-9BC8-4755-91D1-66FD8085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49A75-0312-4AAE-9B64-47E12154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095EC-ECA9-4BCA-95A0-1D6CEECA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5AE24-8E64-4221-817C-72B14FB7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58A45-BAA6-469E-B619-93F85A11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800EE-402D-41C1-9169-0AFEADDB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B4455-11FF-4B23-94C3-E72F7FAD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93438-410C-40FA-9FF2-A6DE1BBB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494BB-2F2C-4390-BF95-1714E39F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B39C2-EF6E-4083-A778-A069BD74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513AB-2E88-4115-8305-A0AB725E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764-E55B-4C5F-9569-D1E9BC85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4FB61-09D7-463F-A85D-BA6E91C4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0F146-179D-4CF4-A66D-33513185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A668D-165D-4F13-9294-AD51D429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736B8-ABDB-4044-AFE9-56FFC506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42404-D783-458F-8C59-9135A865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B0D5E-99AF-473E-B216-F2566A50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3A1FE-DCAF-4334-B5B2-C04ABCC3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0C063-8FC1-459B-9EE1-BA7D97F7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6C7C5-8607-4428-AC7B-57A34579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21CC7-09EA-4C2B-B889-3B60E8DB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A81-F2EE-4AC5-8ACA-AD7E5D93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D0E9A-F014-459F-AF65-13887CD3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0568F-320B-4C45-8A2F-40B38242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A2606-345C-43FC-9FD3-4E7CE5147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31A-01CD-4ECA-9AAC-3F494215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3FD-EEB0-4A19-9FAD-E9550367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gencja Restrukturyzacji i Modernizacji Rolnict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potkanie z przedstawicielami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J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października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007 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4" name="Łącznik prosty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Agencja Restrukturyzacji i Modernizacji Rolnict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e8f0f4"/>
                </a:solidFill>
                <a:latin typeface="Times New Roman"/>
              </a:rPr>
              <a:t>Spotkanie z przedstawicielami </a:t>
            </a:r>
            <a:r>
              <a:rPr b="0" lang="pl-PL" sz="1000" spc="-1" strike="noStrike">
                <a:solidFill>
                  <a:srgbClr val="e8f0f4"/>
                </a:solidFill>
                <a:latin typeface="Times New Roman"/>
              </a:rPr>
              <a:t>J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października </a:t>
            </a: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2007 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gencja Restrukturyzacji i Modernizacji Rolnict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potkanie z przedstawicielami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J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października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007 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gencja Restrukturyzacji i Modernizacji Rolnict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potkanie z przedstawicielami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J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października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007 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gencja Restrukturyzacji i Modernizacji Rolnict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potkanie z przedstawicielami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J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października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007 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Trójkąt prostokątny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2" name="Łącznik prosty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gencja Restrukturyzacji i Modernizacji Rolnictw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potkanie z przedstawicielami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J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października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007 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inrol.gov.pl/" TargetMode="External"/><Relationship Id="rId2" Type="http://schemas.openxmlformats.org/officeDocument/2006/relationships/hyperlink" Target="http://www.arimr.gov.pl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ytuł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69480" cy="18414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464646"/>
                </a:solidFill>
                <a:latin typeface="Lucida Sans Unicode"/>
              </a:rPr>
              <a:t>Nowe możliwości finansowania inwestycji </a:t>
            </a:r>
            <a:br>
              <a:rPr sz="2700"/>
            </a:br>
            <a:r>
              <a:rPr b="1" lang="pl-PL" sz="2700" spc="-1" strike="noStrike">
                <a:solidFill>
                  <a:srgbClr val="464646"/>
                </a:solidFill>
                <a:latin typeface="Lucida Sans Unicode"/>
              </a:rPr>
              <a:t>z PROW 2007 - 201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Symbol zastępczy stopki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395280" y="227664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8" descr="UE"/>
          <p:cNvPicPr/>
          <p:nvPr/>
        </p:nvPicPr>
        <p:blipFill>
          <a:blip r:embed="rId2"/>
          <a:stretch/>
        </p:blipFill>
        <p:spPr>
          <a:xfrm>
            <a:off x="500040" y="357120"/>
            <a:ext cx="1504800" cy="10065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9" descr="LEADER UE"/>
          <p:cNvPicPr/>
          <p:nvPr/>
        </p:nvPicPr>
        <p:blipFill>
          <a:blip r:embed="rId3"/>
          <a:stretch/>
        </p:blipFill>
        <p:spPr>
          <a:xfrm>
            <a:off x="3000240" y="357120"/>
            <a:ext cx="1008360" cy="10018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0" descr="LEADER KRAJ"/>
          <p:cNvPicPr/>
          <p:nvPr/>
        </p:nvPicPr>
        <p:blipFill>
          <a:blip r:embed="rId4"/>
          <a:stretch/>
        </p:blipFill>
        <p:spPr>
          <a:xfrm>
            <a:off x="4857840" y="42876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8" descr=""/>
          <p:cNvPicPr/>
          <p:nvPr/>
        </p:nvPicPr>
        <p:blipFill>
          <a:blip r:embed="rId5"/>
          <a:stretch/>
        </p:blipFill>
        <p:spPr>
          <a:xfrm>
            <a:off x="6572160" y="428760"/>
            <a:ext cx="1835280" cy="985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Lucida Sans Unicode"/>
              </a:rPr>
              <a:t>„</a:t>
            </a:r>
            <a:r>
              <a:rPr b="1" lang="pl-PL" sz="1800" spc="-1" strike="noStrike">
                <a:solidFill>
                  <a:srgbClr val="000000"/>
                </a:solidFill>
                <a:latin typeface="Lucida Sans Unicode"/>
              </a:rPr>
              <a:t>Wdrażanie lokalnych strategii rozwoju” dla operacji, które odpowiadają warunkom przyznania pomocy w ramach działań Osi 3, rozpatrywane będą w </a:t>
            </a:r>
            <a:r>
              <a:rPr b="1" lang="pl-PL" sz="1800" spc="-1" strike="noStrike">
                <a:solidFill>
                  <a:srgbClr val="c00000"/>
                </a:solidFill>
                <a:latin typeface="Lucida Sans Unicode"/>
              </a:rPr>
              <a:t>Oddziale Regionalnym ARiMR, w którym zostały ocenione wnioski o przyznanie pomocy Beneficjentów tych działań</a:t>
            </a:r>
            <a:r>
              <a:rPr b="1" lang="pl-PL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Lucida Sans Unicode"/>
              </a:rPr>
              <a:t>„</a:t>
            </a:r>
            <a:r>
              <a:rPr b="1" lang="pl-PL" sz="1800" spc="-1" strike="noStrike">
                <a:solidFill>
                  <a:srgbClr val="000000"/>
                </a:solidFill>
                <a:latin typeface="Lucida Sans Unicode"/>
              </a:rPr>
              <a:t>Wdrażanie lokalnych strategii rozwoju” dla małych projektów rozpatrywał będzie </a:t>
            </a:r>
            <a:r>
              <a:rPr b="1" lang="pl-PL" sz="1800" spc="-1" strike="noStrike">
                <a:solidFill>
                  <a:srgbClr val="c00000"/>
                </a:solidFill>
                <a:latin typeface="Lucida Sans Unicode"/>
              </a:rPr>
              <a:t>Oddział Regionalny ARiMR właściwy ze względu na siedzibę Lokalnej Grupy Działania</a:t>
            </a:r>
            <a:r>
              <a:rPr b="1" lang="pl-PL" sz="1800" spc="-1" strike="noStrike">
                <a:solidFill>
                  <a:srgbClr val="000000"/>
                </a:solidFill>
                <a:latin typeface="Lucida Sans Unicode"/>
              </a:rPr>
              <a:t>, która wybrała małe projekty do finansowania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Lucida Sans Unicode"/>
              </a:rPr>
              <a:t>„</a:t>
            </a:r>
            <a:r>
              <a:rPr b="1" lang="pl-PL" sz="1800" spc="-1" strike="noStrike">
                <a:solidFill>
                  <a:srgbClr val="000000"/>
                </a:solidFill>
                <a:latin typeface="Lucida Sans Unicode"/>
              </a:rPr>
              <a:t>Wdrażanie projektów współpracy”, „Funkcjonowanie lokalnej grupy działania, nabywanie umiejętności i aktywizacja” rozpatrywał będzie </a:t>
            </a:r>
            <a:r>
              <a:rPr b="1" lang="pl-PL" sz="1800" spc="-1" strike="noStrike">
                <a:solidFill>
                  <a:srgbClr val="c00000"/>
                </a:solidFill>
                <a:latin typeface="Lucida Sans Unicode"/>
              </a:rPr>
              <a:t>Oddział Regionalny ARiMR właściwy ze względu na siedzibę Lokalnej Grupy Działania (LGD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Symbol zastępczy stopki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Tytuł 1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3692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Po rozpatrzeniu wniosku, agencja płatnicza (ARiMR) w terminie 30 dni od dnia złożenia wniosku informuje Beneficjenta w formie pisemnej o terminie zawarcia Umowy zmieniającej Umowę (Aneks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Wypłata zaliczki w określonej wysokości następuje na podstawie zawartej Umowy zmieniającej Umowę przyznania pomocy (Aneksu), zgodnie z jej postanowieniami, w tym dotyczącymi zaliczki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Symbol zastępczy stopki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Tytuł 1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3692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Warunkiem wypłaty zaliczki jest ustanowienie </a:t>
            </a:r>
            <a:r>
              <a:rPr b="1" lang="pl-PL" sz="2000" spc="-1" strike="noStrike">
                <a:solidFill>
                  <a:srgbClr val="ff0000"/>
                </a:solidFill>
                <a:latin typeface="Lucida Sans Unicode"/>
              </a:rPr>
              <a:t>gwarancji bankowej lub równoważnej gwarancji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odpowiadającej 110% kwoty zaliczki oraz jej złożenie w dniu podpisania Umowy zmieniającej Umowę przyznania pomocy (Aneksu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Gwarancje – podmioty publiczne !!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Gwarancja na okres nie krótszy niż okres zakończenia weryfikacji wniosku o płatność ostateczną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Wykaz gwarantów , form gwarancji , wzoru gwarancji–</a:t>
            </a:r>
            <a:r>
              <a:rPr b="0" lang="pl-PL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minrol.gov.pl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pl-PL" sz="20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www.arimr.gov.pl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Symbol zastępczy daty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Symbol zastępczy stopki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Tytuł 4" descr=""/>
          <p:cNvPicPr/>
          <p:nvPr/>
        </p:nvPicPr>
        <p:blipFill>
          <a:blip r:embed="rId3"/>
          <a:stretch/>
        </p:blipFill>
        <p:spPr>
          <a:xfrm>
            <a:off x="324000" y="268200"/>
            <a:ext cx="83692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Jeżeli wniosek, nie został złożony w </a:t>
            </a:r>
            <a:r>
              <a:rPr b="0" lang="pl-PL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terminie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, pozostawia się go bez rozpatrzenia, informując Beneficjenta o przyczynach pozostawienia wniosku bez rozpatrzenia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Jeśli wniosek nie spełnia innych wymogów formalnych, agencja płatnicza (ARiMR) wzywa w formie pisemnej Beneficjenta do usunięcia braków w terminie </a:t>
            </a:r>
            <a:r>
              <a:rPr b="1" lang="pl-PL" sz="2000" spc="-1" strike="noStrike">
                <a:solidFill>
                  <a:srgbClr val="c00000"/>
                </a:solidFill>
                <a:latin typeface="Lucida Sans Unicode"/>
              </a:rPr>
              <a:t>7 dni kalendarzowych od dnia doręczenia wezwania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Jeżeli we wniosku, nie usunięto braków w terminie, agencja płatnicza (ARiMR) wniosek pozostawia bez rozpatrzenia, informując Beneficjenta pisemnie o przyczynach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Symbol zastępczy stopki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Tytuł 1" descr=""/>
          <p:cNvPicPr/>
          <p:nvPr/>
        </p:nvPicPr>
        <p:blipFill>
          <a:blip r:embed="rId2"/>
          <a:stretch/>
        </p:blipFill>
        <p:spPr>
          <a:xfrm>
            <a:off x="324000" y="268200"/>
            <a:ext cx="83692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Lucida Sans Unicode"/>
              </a:rPr>
              <a:t>Beneficjentowi przysługuje prawo wniesienia skargi do sądu administracyjnego na zasadach i w trybie określonych dla aktów lub czynności, o których mowa w art. 3 § 2 pkt 4 ustawy z dnia 30 sierpnia 2002 r. – Prawo o postępowaniu przed sądami administracyjnymi (Dz.U. Nr 153, poz. 1270, z późn. zm.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Lucida Sans Unicode"/>
              </a:rPr>
              <a:t>W przypadku pozytywnego rozpatrzenia wniosku, na podstawie zmienionej Umowy przyznania pomocy (Aneksu), o której mowa w art. 22 ust.1 ustawy PROW </a:t>
            </a:r>
            <a:r>
              <a:rPr b="1" i="1" lang="pl-PL" sz="1800" spc="-1" strike="noStrike">
                <a:solidFill>
                  <a:srgbClr val="000000"/>
                </a:solidFill>
                <a:latin typeface="Lucida Sans Unicode"/>
              </a:rPr>
              <a:t>z dnia 7 marca 2007 r., środki finansowe tytułem zaliczki zostaną przekazane na rachunek bankowy wskazany w przedłożonym przez Beneficjenta załączniku informującym o numerze rachunku bankowego Beneficjenta lub jego pełnomocnika, na który mają być przekazane środki finansowe tytułem zaliczki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ymbol zastępczy stopki 4"/>
          <p:cNvSpPr/>
          <p:nvPr/>
        </p:nvSpPr>
        <p:spPr>
          <a:xfrm>
            <a:off x="0" y="6591240"/>
            <a:ext cx="56880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Tytuł 1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3692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Symbol zastępczy stopki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Tytuł 1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369280" cy="1158840"/>
          </a:xfrm>
          <a:prstGeom prst="rect">
            <a:avLst/>
          </a:prstGeom>
          <a:ln w="0">
            <a:noFill/>
          </a:ln>
        </p:spPr>
      </p:pic>
      <p:pic>
        <p:nvPicPr>
          <p:cNvPr id="351" name="Obraz 5" descr="Diagram1.wmf"/>
          <p:cNvPicPr/>
          <p:nvPr/>
        </p:nvPicPr>
        <p:blipFill>
          <a:blip r:embed="rId2"/>
          <a:stretch/>
        </p:blipFill>
        <p:spPr>
          <a:xfrm>
            <a:off x="1944720" y="1371600"/>
            <a:ext cx="531504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ytuł 5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 u="sng">
              <a:solidFill>
                <a:srgbClr val="464646"/>
              </a:solidFill>
              <a:uFillTx/>
              <a:latin typeface="Lucida Sans Unicode"/>
            </a:endParaRPr>
          </a:p>
        </p:txBody>
      </p:sp>
      <p:sp>
        <p:nvSpPr>
          <p:cNvPr id="354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Symbol zastępczy stopki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5280" y="1412640"/>
            <a:ext cx="856944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Lucida Sans Unicode"/>
              </a:rPr>
              <a:t>Rozporządzenie Komisji (WE) nr 1974/2006 z dnia 15 grudnia 2006 r. ustanawiające szczegółowe zasady stosowania rozporządzenia Rady (WE) nr 1698/2005 w sprawie wsparcia rozwoju obszarów wiejskich przez Europejski Fundusz Rolny na rzecz Rozwoju Obszarów Wiejskich (EFRROW)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 (Dz. Urz. UE L 368/15 z 23.12.2006 r. z późn. zm.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Lucida Sans Unicode"/>
              </a:rPr>
              <a:t>Ustawa z dnia 22 września 2006 r. o uruchamianiu środków pochodzących z budżetu Unii Europejskiej przeznaczonych na finansowanie wspólnej polityki rolnej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 (Dz.U z Nr 187 poz. 1381 z późn. zm.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buClr>
                <a:srgbClr val="2da2bf"/>
              </a:buClr>
              <a:buSzPct val="68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Symbol zastępczy daty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Symbol zastępczy stopki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Rectangle 2" descr=""/>
          <p:cNvPicPr/>
          <p:nvPr/>
        </p:nvPicPr>
        <p:blipFill>
          <a:blip r:embed="rId1"/>
          <a:stretch/>
        </p:blipFill>
        <p:spPr>
          <a:xfrm>
            <a:off x="981000" y="682560"/>
            <a:ext cx="8169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121 „Modernizacja gospodarstw rolnych”,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123 „Zwiększanie wartości dodanej podstawowej produkcji rolnej i leśnej”,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311 „Różnicowanie w kierunku działalności nierolniczej”,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312 „Tworzenie i rozwój mikroprzedsiębiorstw”,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413 „Wdrażanie lokalnych strategii rozwoju”: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a) dla małych projektów, tj. operacji, które nie odpowiadają warunkom przyznania pomocy w ramach działań Osi 3 „Jakość życia na obszarach wiejskich i różnicowanie gospodarki wiejskiej”, ale przyczyniają się do osiągnięcia celów tej Osi,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b) dla operacji, które odpowiadają warunkom przyznania pomocy w ramach działania 311 „Różnicowanie w kierunku działalności nierolniczej”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c) dla operacji, które odpowiadają warunkom przyznania pomocy w ramach działania 312 „Tworzenie i rozwój mikroprzedsiębiorstw”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421 „Wdrażanie projektów współpracy”,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Lucida Sans Unicode"/>
              </a:rPr>
              <a:t>431 „Funkcjonowanie lokalnej grupy działania, nabywanie umiejętności i aktywizacja”,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Symbol zastępczy daty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Symbol zastępczy stopki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Tytuł 6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3692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Beneficjenci PROW realizujący operacje z udziałem środków Europejskiego Funduszu Rolnego na rzecz Rozwoju Obszarów Wiejskich (EFRROW) i krajowych środków publicznych przeznaczonych na współfinansowanie wydatków realizowanych z EFRROW, mogą otrzymać zaliczkę na realizację operacji, określonej w Umowie przyznania pomocy zawartej odpowiednio przez ARiMR albo Samorząd Województwa z Beneficjente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Symbol zastępczy daty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ymbol zastępczy stopki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Tytuł 6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3692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Lucida Sans Unicode"/>
              </a:rPr>
              <a:t>Zaliczka przysługuje na koszty inwestycyjne !!!!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Kwota zaliczki nie może przekroczyć </a:t>
            </a:r>
            <a:r>
              <a:rPr b="1" lang="pl-PL" sz="2000" spc="-1" strike="noStrike">
                <a:solidFill>
                  <a:srgbClr val="ff0000"/>
                </a:solidFill>
                <a:latin typeface="Lucida Sans Unicode"/>
              </a:rPr>
              <a:t>20% kwoty pomocy publicznej związanej z inwestycją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W przypadku inwestycji, na którą przyznano pomoc w 2009 r. lub 2010 r. kwota zaliczki może zostać podniesiona do 50 % kwoty pomocy publicznej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Działanie Funkcjonowanie lokalnej grupy działania, nabywanie umiejętności i aktywizacja – kwota zaliczki nie może przekroczyć </a:t>
            </a:r>
            <a:r>
              <a:rPr b="1" lang="pl-PL" sz="2000" spc="-1" strike="noStrike">
                <a:solidFill>
                  <a:srgbClr val="ff0000"/>
                </a:solidFill>
                <a:latin typeface="Lucida Sans Unicode"/>
              </a:rPr>
              <a:t>20 %  kwoty pomocy publicznej na sfinansowanie kosztów bieżących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Symbol zastępczy daty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Symbol zastępczy stopki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Tytuł 4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3692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Zaliczka </a:t>
            </a:r>
            <a:r>
              <a:rPr b="1" lang="pl-PL" sz="2000" spc="-1" strike="noStrike">
                <a:solidFill>
                  <a:srgbClr val="c00000"/>
                </a:solidFill>
                <a:latin typeface="Lucida Sans Unicode"/>
              </a:rPr>
              <a:t>nie przysługuje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na realizację operacji w ramach działania 413 „Wdrażania lokalnych strategii rozwoju”, 421 „Wdrażanie projektów współpracy”, 431 „Funkcjonowanie lokalnej grupy działania, nabywanie umiejętności i aktywizacja”, jeżeli na podstawie dotychczasowego przepisu ustawy o uruchamianiu środków (…), Beneficjent otrzymał środki finansowe na </a:t>
            </a:r>
            <a:r>
              <a:rPr b="1" lang="pl-PL" sz="2000" spc="-1" strike="noStrike">
                <a:solidFill>
                  <a:srgbClr val="c00000"/>
                </a:solidFill>
                <a:latin typeface="Lucida Sans Unicode"/>
              </a:rPr>
              <a:t>wyprzedzające finansowanie kosztów kwalifikowalnych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ponoszonych na realizację tej operacji lub ubiega się o wypłatę tych środków. Nie ma możliwości jednoczesnego uzyskania środków z tytułu wyprzedzającego finansowania i środków z tytułu zaliczki na tę samą operację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Symbol zastępczy stopki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Tytuł 5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3692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Wniosek o zaliczkę dotyczy tych Beneficjentów, którzy złożyli wnioski o przyznanie pomocy przed dniem wejścia w życie ustawy z dnia 12 lutego 2010 r. o zmianie ustawy o uruchamianiu środków (…) i nie zakończyli realizacji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operacji (nie złożyli wniosku o płatność ostateczną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Symbol zastępczy stopki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Tytuł 1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369280" cy="1158840"/>
          </a:xfrm>
          <a:prstGeom prst="rect">
            <a:avLst/>
          </a:prstGeom>
          <a:ln w="0">
            <a:noFill/>
          </a:ln>
        </p:spPr>
      </p:pic>
      <p:sp>
        <p:nvSpPr>
          <p:cNvPr id="317" name="Objaśnienie liniowe 1 5"/>
          <p:cNvSpPr/>
          <p:nvPr/>
        </p:nvSpPr>
        <p:spPr>
          <a:xfrm>
            <a:off x="7500960" y="2214720"/>
            <a:ext cx="1214280" cy="642960"/>
          </a:xfrm>
          <a:prstGeom prst="borderCallout1">
            <a:avLst>
              <a:gd name="adj1" fmla="val 18750"/>
              <a:gd name="adj2" fmla="val -8333"/>
              <a:gd name="adj3" fmla="val 63125"/>
              <a:gd name="adj4" fmla="val -55652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0 maja 2010 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Lucida Sans Unicode"/>
              </a:rPr>
              <a:t>Zaliczka może być wypłacona Beneficjentowi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Lucida Sans Unicode"/>
              </a:rPr>
              <a:t>1) na jego wniosek złożony w terminie </a:t>
            </a:r>
            <a:r>
              <a:rPr b="1" lang="pl-PL" sz="1900" spc="-1" strike="noStrike">
                <a:solidFill>
                  <a:srgbClr val="c00000"/>
                </a:solidFill>
                <a:latin typeface="Lucida Sans Unicode"/>
              </a:rPr>
              <a:t>30 dni </a:t>
            </a:r>
            <a:r>
              <a:rPr b="1" lang="pl-PL" sz="1900" spc="-1" strike="noStrike">
                <a:solidFill>
                  <a:srgbClr val="000000"/>
                </a:solidFill>
                <a:latin typeface="Lucida Sans Unicode"/>
              </a:rPr>
              <a:t>od dnia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Lucida Sans Unicode"/>
              </a:rPr>
              <a:t>wejścia w życie ustawy z dnia 12 lutego 2010 r.,– w przypadku, gdy Umowa przyznania pomocy została zawarta przed dniem wejścia w życie ustawy, oraz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Lucida Sans Unicode"/>
              </a:rPr>
              <a:t>zawarcia Umowy przyznania pomocy - w przypadku, gdy Umowa przyznania pomocy została zawarta po dniu wejścia w życie tej ustawy,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Lucida Sans Unicode"/>
              </a:rPr>
              <a:t>2) na podstawie zmienionej Umowy (Aneksu), o której mowa w art. 22 ust.1 ustawy </a:t>
            </a:r>
            <a:r>
              <a:rPr b="1" i="1" lang="pl-PL" sz="1900" spc="-1" strike="noStrike">
                <a:solidFill>
                  <a:srgbClr val="000000"/>
                </a:solidFill>
                <a:latin typeface="Lucida Sans Unicode"/>
              </a:rPr>
              <a:t>z dnia 7 marca 2007 r. o wspieraniu rozwoju obszarów wiejskich z udziałem środków Europejskiego Funduszu Rolnego na rzecz Rozwoju Obszarów Wiejskich</a:t>
            </a:r>
            <a:r>
              <a:rPr b="1" lang="pl-PL" sz="1900" spc="-1" strike="noStrike">
                <a:solidFill>
                  <a:srgbClr val="000000"/>
                </a:solidFill>
                <a:latin typeface="Lucida Sans Unicode"/>
              </a:rPr>
              <a:t> (Dz. U. z 2007 r. Nr 64, poz. 427 z późn. zm.), zwanej dalej ustawą PROW.  </a:t>
            </a:r>
            <a:r>
              <a:rPr b="1" lang="pl-PL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pl-PL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Symbol zastępczy stopki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Tytuł 1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369280" cy="1158840"/>
          </a:xfrm>
          <a:prstGeom prst="rect">
            <a:avLst/>
          </a:prstGeom>
          <a:ln w="0">
            <a:noFill/>
          </a:ln>
        </p:spPr>
      </p:pic>
      <p:sp>
        <p:nvSpPr>
          <p:cNvPr id="322" name="Objaśnienie liniowe 1 5"/>
          <p:cNvSpPr/>
          <p:nvPr/>
        </p:nvSpPr>
        <p:spPr>
          <a:xfrm>
            <a:off x="7715160" y="1785960"/>
            <a:ext cx="1214640" cy="571320"/>
          </a:xfrm>
          <a:prstGeom prst="borderCallout1">
            <a:avLst>
              <a:gd name="adj1" fmla="val 18750"/>
              <a:gd name="adj2" fmla="val -8333"/>
              <a:gd name="adj3" fmla="val 88726"/>
              <a:gd name="adj4" fmla="val -5715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10 maja 2010 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Wniosek składa się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na formularzu udostępnionym przez agencję płatniczą (ARiMR)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w miejscu, </a:t>
            </a:r>
            <a:r>
              <a:rPr b="1" lang="pl-PL" sz="2000" spc="-1" strike="noStrike">
                <a:solidFill>
                  <a:srgbClr val="c00000"/>
                </a:solidFill>
                <a:latin typeface="Lucida Sans Unicode"/>
              </a:rPr>
              <a:t>w którym został złożony wniosek o przyznanie pomocy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osobiście  przez Beneficjenta lub przez osobę upoważnioną lub za pośrednictwem poczty (np. placówka pocztowa operatora publicznego, kurier). W przypadku nadawania przesyłki za pośrednictwem placówki pocztowej operatora publicznego, zaleca się aby wniosek był wysyłany przesyłką rejestrowaną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ymbol zastępczy stopki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Tytuł 1" descr=""/>
          <p:cNvPicPr/>
          <p:nvPr/>
        </p:nvPicPr>
        <p:blipFill>
          <a:blip r:embed="rId1"/>
          <a:stretch/>
        </p:blipFill>
        <p:spPr>
          <a:xfrm>
            <a:off x="324000" y="268200"/>
            <a:ext cx="8369280" cy="1158840"/>
          </a:xfrm>
          <a:prstGeom prst="rect">
            <a:avLst/>
          </a:prstGeom>
          <a:ln w="0">
            <a:noFill/>
          </a:ln>
        </p:spPr>
      </p:pic>
      <p:sp>
        <p:nvSpPr>
          <p:cNvPr id="327" name="Objaśnienie liniowe 1 5"/>
          <p:cNvSpPr/>
          <p:nvPr/>
        </p:nvSpPr>
        <p:spPr>
          <a:xfrm>
            <a:off x="2714760" y="2857680"/>
            <a:ext cx="4286160" cy="357120"/>
          </a:xfrm>
          <a:prstGeom prst="borderCallout1">
            <a:avLst>
              <a:gd name="adj1" fmla="val 18750"/>
              <a:gd name="adj2" fmla="val -8333"/>
              <a:gd name="adj3" fmla="val 40726"/>
              <a:gd name="adj4" fmla="val -9851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iezwłocznie przekazywane do OR ARiM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onika antosiak</dc:creator>
  <dc:description/>
  <dc:language>en-US</dc:language>
  <cp:lastModifiedBy>konferencja</cp:lastModifiedBy>
  <dcterms:modified xsi:type="dcterms:W3CDTF">2010-06-07T20:36:04Z</dcterms:modified>
  <cp:revision>47</cp:revision>
  <dc:subject/>
  <dc:title>Prezentacja programu PowerPoint</dc:title>
</cp:coreProperties>
</file>