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25.png" ContentType="image/pn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2.png" ContentType="image/pn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F4A-2F3C-4793-9115-0C6E096B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921-5213-48A3-8A88-022B213C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004FA-7CA7-470C-B8A8-B7A7652B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2C0A9-B59B-47EB-9C7E-81451DC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023A2-4450-466E-A8C9-6E3035FC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04335-69AA-4E54-B82F-7F7AE028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9C747-4BF0-4E9E-8047-568B88D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79CD2-5DF9-4539-B653-A05F7223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DC979-7DAB-453D-8C7E-A6A19DD4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D962E-4CD2-4725-9107-D78E0ADA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60C80-6759-42D8-A6AF-E5F05DD4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C6875-A52A-4B45-B0F5-AB57F9AD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958-6032-4C1C-89A8-2DF65C8B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180BB-2DFF-4F14-AA66-702FA614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69479-8FC7-48BC-A71C-CA26F9BF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25805-D5D8-4890-AF3E-FE1E8BDF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C85F4-8765-4831-B545-1D8F86DB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0229A-2596-486A-9D1C-6FFB457A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8E271-3082-49AC-82CF-5A4DB875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9202A-AA5E-4563-8075-F5550574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89269-0A08-4048-95C6-3E06D61C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D55FC-C763-4B28-9959-E136A09C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0A1A8-6ED2-4D5A-A3B9-C9F0A0FE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9FE-0B10-4D30-9F96-4E273E66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6B58E-D837-4732-BA35-F4B38D26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879E9-CF4A-4276-8EFE-B4404022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D049A-25BF-4FF2-A9DE-21153D31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561D8-B8E3-43A5-ADC3-0C86F6D3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BDDA7-4C69-41D3-B5CD-F863C4EA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D1243-3C99-470C-8838-3F7E3070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474E7-20C5-45E6-925A-7675DB79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38107-AD73-44DB-9FFA-CAF578E8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77CFF-3862-4AF0-869A-F4359F9B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64E3B-EE2C-4074-9FDB-AA2BE485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6E3D-0126-4A87-A77B-FBCD13A4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2ACCC-10EA-460D-8DDB-F1F98EDA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8FAE3-A4A3-43C8-A23A-BAE4F06F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3AC0B-3CF3-4255-B5DC-EF56280C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3DF82-A4CD-4EEE-87EF-362812DC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65527-9C85-4B56-BC18-281AEE6D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9A9B3-A3A9-4D82-BBEF-6FCA085B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74C2C-9E72-4606-827E-297F1966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70674-CB79-41AF-A6B0-FF7E0E11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0FDCD-2CC3-4503-844B-468DAE38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CCD01-ABDB-41B0-A626-1E3D3DA9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F40B-59B9-48E4-96FB-2C625277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22DF6-7524-4005-BDCB-B1E1523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1626E-D09E-4B1D-A1D7-76D9F9C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56A95-50D0-4CEA-AC2F-58D2E8A3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8CAE5-2200-45E7-83B6-1D7363C4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A622B-3DA0-47B8-9F10-108AA970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4316-479B-4BB3-8166-B381CB5D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6718-5B9E-43B9-A4BB-1804FF70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4486-B98C-4230-BD38-306121CD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E6A1-4B69-48F5-8036-57AFB4B0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A858-1236-4F97-BAAC-01CFB6FE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354-C980-406C-A76B-D6125C58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7AFF-C2CE-4FB7-A514-36821DF4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9DDD-0B72-4BCC-9535-57DDF5E7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CE4D-5C1E-40C2-AFC6-786A0912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6ADA-D7B8-454D-8A2B-BE2AEE4F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D770-9F5F-4802-B561-46C45DE8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3944-8C85-49C0-9ECD-78FB73E3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643E-048D-4E23-9B2C-081434BE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8EB82-FAC8-4E3D-8060-02607DAD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77DA-B5D9-48BF-AA6A-44AC98AF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6697-861F-4C7A-864B-D7871F9A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1BF-76A3-4E03-96BC-04F1F42D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EB339-9B83-4327-835C-AAEF15AD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A621C-2E7B-415B-B098-BA5AFC5D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1513-7C5E-4328-9F78-56D8D59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E4AA0-61B8-4ADF-AFE3-182A415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C9E64-92B7-4265-908D-D228D331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B414C-C35B-46E5-BDCD-F62E39DB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FDCD-432D-42CE-B511-4F1A0B2C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8A59A-A8B0-4792-ABB1-7ABD4A45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F1C4-9FBF-4F87-8204-344C43FE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3E6E-9269-49F5-AF65-45250ACE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11B-60C5-47CA-9606-7701F2FE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AF4B5-1E34-4BEB-AB33-BFD0556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E7C6-E8B3-4F29-923A-2AC223D0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DB497-08FF-475B-B201-B7CDAB92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F2C77-9925-473D-BD68-FC880AED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40CD5-F1A4-4B7C-ADD2-D07EFE03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E35C-6BAD-476F-BF9A-BF01DE87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341D8-9A7A-4732-84CD-7337AC6D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0B02-8BC8-4EEC-A7CF-4DE716EBA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D802D-D3F9-4629-AA75-94C25DE0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DFAD-911C-457F-AC77-A4E834AE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9725-E832-43AC-A254-B5A11B7D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75381-A98F-4913-BFAD-00D635DA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ED193-61E4-4354-B0D7-F8E16CC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4FE97-659A-4CAD-8919-9D9102CB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9F077-0142-4458-9CF1-A124BB32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07379-CB76-49D9-A702-2ABD28E3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BECD-4C7A-4BBE-A9AD-FBB9B6C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EDB2B-9FC0-4A76-B8BD-117963F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0D88-A3EB-4AE5-B377-886D5ABB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ABDF9-CF84-4650-98D9-259E6946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0CDD1-AAB7-4892-868E-9A84D7E2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B7B-74BC-44CF-BA6A-E2D851B9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ED55-A409-4DC2-928E-8C846AB2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EFCD7-8E49-4E3B-A789-D5B6B597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572E8-D759-44D1-A138-7B5C55C0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2968-D08B-4F83-BF3A-57C10E24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B176-9ACA-46DC-9246-BFC35933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9B766-D7A4-4D82-969D-0372AB6E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010EB-2940-4099-8C66-1CB22B2E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4513-D5A9-42C4-AEA4-A1DFD74B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8D5EF-93D6-4C60-ACEE-61B1209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27F86-479A-497C-8BD3-BBA5342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107-0844-4F5F-A107-B4E884F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06559-3735-4423-8D63-FE2BB56E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BD4EB-7F6E-4D43-B51F-C7652AE8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FBE5F-7147-424E-937E-B251C472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35CE5-010B-4FFC-B5B7-7CE5123E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3071E-37AD-4D1C-AA25-6BCF3874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21B0F-AA71-4A57-AF35-6BDEB686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8D428-A38B-443D-A06B-62CEC829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E3ECB-B8D8-4A45-9D92-D836AC6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A3EFB-6578-41F0-877B-8B6701E2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C1A54-F1AE-401F-9B49-F18A764A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584-0CEF-41F7-A957-09BF847D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4BF94-E22C-4AAF-AF4C-3CB30723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F5E5A-DEA0-4695-B565-79E2C55B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2D5D5-3969-4874-AF49-B2D49BA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FC9D6-C885-4C5D-876B-49590F13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CCBA8-4DD1-48AC-8199-75646BF3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E25C4-DF0D-4121-B521-BA09EC95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E174E-D3CE-426B-B4F2-27E03A4D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4381E-5287-4E6C-BE63-0AE0D48F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5534D-4CB1-4E61-BAA3-E9A9C387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DFE10-3ED1-43A2-83E3-C8CCD6F6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8A9-A8C2-460A-8B92-0DC9EE91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B94AA-56B2-430F-9E92-29C75502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955F8-ED8E-4491-84E2-ED3BE983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40724-61F7-47FE-80CC-3191A2C0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1996B-EA39-44F2-8CDF-E6DF8639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5F435-309D-4A7F-9096-B849065C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3123D-2763-4D13-A5AD-A69DC947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D5FEE-B4BD-4199-BF49-F393BC37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0B742-6C76-4347-9A0A-94C17C58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62E6E-1CE6-49A1-B002-C7E084DD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464FD-2698-4A4A-A396-F034455B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9604-5729-4A93-B0F6-714BF90DE1AC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23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426" name="Obraz 6" descr="Leader baner.jpg"/>
          <p:cNvPicPr/>
          <p:nvPr/>
        </p:nvPicPr>
        <p:blipFill>
          <a:blip r:embed="rId5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427" name="Obraz 7" descr="Leader 07-13'.jpg"/>
          <p:cNvPicPr/>
          <p:nvPr/>
        </p:nvPicPr>
        <p:blipFill>
          <a:blip r:embed="rId6"/>
          <a:srcRect l="0" t="0" r="2280" b="0"/>
          <a:stretch/>
        </p:blipFill>
        <p:spPr>
          <a:xfrm>
            <a:off x="8072280" y="5786280"/>
            <a:ext cx="925560" cy="9288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F83E-8A1E-4251-A956-1757ABB5CC84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72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475" name="Obraz 6" descr="Leader baner.jpg"/>
          <p:cNvPicPr/>
          <p:nvPr/>
        </p:nvPicPr>
        <p:blipFill>
          <a:blip r:embed="rId5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41E8-7418-4056-A9DB-B0A5D7F4C8D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20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523" name="Obraz 6" descr="Leader baner.jpg"/>
          <p:cNvPicPr/>
          <p:nvPr/>
        </p:nvPicPr>
        <p:blipFill>
          <a:blip r:embed="rId5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0DD1-2793-49D3-AF15-CC1A810856D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ójkąt prostokątny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a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Dowolny kształt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Dowolny kształt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Dowolny kształt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Dowolny kształt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Łącznik prosty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C728-4828-424C-A069-E2021A7E248A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0" descr="Leader 07-13'.jpg"/>
          <p:cNvPicPr/>
          <p:nvPr/>
        </p:nvPicPr>
        <p:blipFill>
          <a:blip r:embed="rId5"/>
          <a:srcRect l="0" t="0" r="2280" b="0"/>
          <a:stretch/>
        </p:blipFill>
        <p:spPr>
          <a:xfrm>
            <a:off x="8172360" y="5867280"/>
            <a:ext cx="925560" cy="928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0C52-E5BE-4ADA-94AA-6F63213F5C6B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7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0" name="Pag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ag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55B-B600-4F67-93BD-104A8D01083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6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199" name="Obraz 6" descr="Leader baner.jpg"/>
          <p:cNvPicPr/>
          <p:nvPr/>
        </p:nvPicPr>
        <p:blipFill>
          <a:blip r:embed="rId5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8977-37B1-4277-AF0A-5FB67B4C0BB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B0DA-C2E6-4594-ACE6-160FF85BA76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Dowolny kształt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olny kształt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Trójkąt prostokątny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5" name="Trójkąt prostokątny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Łącznik prosty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pic>
        <p:nvPicPr>
          <p:cNvPr id="288" name="Obraz 10" descr="Leader baner.jpg"/>
          <p:cNvPicPr/>
          <p:nvPr/>
        </p:nvPicPr>
        <p:blipFill>
          <a:blip r:embed="rId5"/>
          <a:srcRect l="0" t="0" r="1670" b="0"/>
          <a:stretch/>
        </p:blipFill>
        <p:spPr>
          <a:xfrm>
            <a:off x="0" y="0"/>
            <a:ext cx="1143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616B-67B1-4B01-9DBB-FA19B88E980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66BE-9491-4CD4-9E25-865175DB866F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owolny kształt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Dowolny kształt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Trójkąt prostokątny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4" name="Trójkąt prostokątny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Łącznik prosty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7" name="Pag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ag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012B-2C3A-460A-BF93-D5F2DE9E2E98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NEKS DO UMOW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 WARUNKACH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 SPOSOBIE REALIZACJI LS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67" name="Picture 8" descr="UE"/>
          <p:cNvPicPr/>
          <p:nvPr/>
        </p:nvPicPr>
        <p:blipFill>
          <a:blip r:embed="rId1"/>
          <a:stretch/>
        </p:blipFill>
        <p:spPr>
          <a:xfrm>
            <a:off x="500040" y="357120"/>
            <a:ext cx="1504800" cy="1006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0" descr="LEADER KRAJ"/>
          <p:cNvPicPr/>
          <p:nvPr/>
        </p:nvPicPr>
        <p:blipFill>
          <a:blip r:embed="rId2"/>
          <a:stretch/>
        </p:blipFill>
        <p:spPr>
          <a:xfrm>
            <a:off x="3786120" y="42876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8" descr=""/>
          <p:cNvPicPr/>
          <p:nvPr/>
        </p:nvPicPr>
        <p:blipFill>
          <a:blip r:embed="rId3"/>
          <a:stretch/>
        </p:blipFill>
        <p:spPr>
          <a:xfrm>
            <a:off x="6572160" y="428760"/>
            <a:ext cx="183528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285560" y="1916280"/>
            <a:ext cx="70722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Było: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niepowoływania na członków organu decyzyjnego LGD osób o kwalifikacjach i doświadczeniu niższym niż w dniu dokonania wyboru LGD do realizacji LSR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Jest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zapewnienia, aby członkowie organu decyzyjnego LGD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oraz osoby reprezentujące członków tego organu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posiadały kwalifikacje i doświadczenie nie niższe niż posiadane w dniu dokonania wyboru LGD do realizacji LSR przez członków tego organu lub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osoby reprezentujące członków tego organu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7" name="Tytuł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Był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zatrudniania członków organu decyzyjnego w biurze LG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Jest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zatrudniania członków organu decyzyjnego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oraz osób reprezentujących członków tego organu w biurze LGD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1499760" y="1844280"/>
            <a:ext cx="71866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Był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stosowania do wyboru operacji procedur i kryteriów zapewniających efektywną i prawidłową realizację LSR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Jest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stosowania do wyboru operacji procedur i kryteriów </a:t>
            </a: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określonych w LSR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Był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złożenia sprawozdania z realizacji LSR do 30 czerwca 2015r. na formularzu udostępnionym przez Samorząd Województwa 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Jest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złożenia Samorządowi Województwa sprawozdania z realizacji LSR </a:t>
            </a:r>
            <a:r>
              <a:rPr b="1" lang="pl-PL" sz="2800" spc="-1" strike="noStrike">
                <a:solidFill>
                  <a:srgbClr val="000000"/>
                </a:solidFill>
                <a:latin typeface="Lucida Sans Unicode"/>
              </a:rPr>
              <a:t>do dnia 31 grudnia 2015 r.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 na formularzu udostępnionym przez Samorząd Województw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monitorowanie realizacji LSR oraz opracowanie i udostępnienie formularza ankiety monitorującej na potrzeby monitorowania realizacji LSR beneficjentom działania, o którym mowa w § 4 ust. 1 pkt 1 umowy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składanie Samorządowi Województwa do dnia 15 lutego każdego roku realizacji LSR sprawozdania z realizacji LSR za rok poprzedni na formularzu udostępnionym przez Samorząd Województw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określenie wskaźników realizacji celów LSR oraz przedsięwzięć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stosowanie zasad wymiany informacji oraz interpretacji przekazywanych przez Ministerstwo Rolnictwa i Rozwoju Wsi w związku z postępowaniem w sprawie wyboru operacji zgodnie z art. 62 ust 4 rozporządzenia nr 1698/2005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1476000" y="170028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niezwłoczne powiadamianie Samorządu Województwa o zmianie swoich danych zawartych w umowie; zmiana tych danych nie wymaga zmiany umow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W oparciu o analizę sprawozdań „rocznych” i po uzyskaniu wyjaśnień od LGD w zakresie informacji zawartych w tych sprawozdaniach, Samorząd Województwa może wydać LGD zalecenia mające na celu poprawę efektywności realizacji LS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142560" y="1714680"/>
            <a:ext cx="85201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Lucida Sans Unicode"/>
              </a:rPr>
              <a:t>Par.6.1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 LGD zobowiązuje się do poddania się ocenie efektywności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działalności LGD oraz realizacji LSR w terminie 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wyznaczonym przez SW –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brak trybu i wytycznych</a:t>
            </a:r>
            <a:r>
              <a:rPr b="0" lang="pl-PL" sz="2000" spc="-1" strike="noStrike">
                <a:solidFill>
                  <a:srgbClr val="ff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 przypadku uzyskania podczas oceny efektywności działalności LGD oraz realizacji LSR negatywnej opinii Samorządu Województwa, LGD jest zobowiązana do zrealizowania programu naprawczego opracowanego przez LGD wraz z Samorządem Województwa, w terminie wskazanym w tym programi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3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Rozszerzenie obszaru LSR o gminy, które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nie były dotychczas członkiem albo partnerem innej LGD alb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były członkiem albo partnerem LGD, z którą rozwiązano umowę nie później niż w 2010 r. oraz która nie wydatkowała lub zwróciła środki w ramach działań 4.2 oraz 431. – </a:t>
            </a:r>
            <a:r>
              <a:rPr b="0" lang="pl-PL" sz="2800" spc="-1" strike="noStrike">
                <a:solidFill>
                  <a:srgbClr val="ff0000"/>
                </a:solidFill>
                <a:latin typeface="Lucida Sans Unicode"/>
              </a:rPr>
              <a:t>proporcjonalne zwiększenie kwo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5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11872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Był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w ramach działania „Wdrażanie lokalnych strategii rozwoju” nie mogą przekroczyć kwoty .............. zł (słownie złotych: .........................................) oraz kwoty wynikającej z § 2 ust. 1 pkt 5 lit a) rozporządzenia, w tym na operacje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Różnicowanie w kierunku działalności nierolniczej” przewidziano kwotę …………… zł (słownie złotych: ……………..…….………),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Tworzenie i rozwój mikroprzedsiębiorstw” przewidziano kwotę …………… zł (słownie złotych: ….………………………………),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Odnowa i rozwój wsi” przewidziano kwotę …………… zł (słownie złotych ………………………………….……….……),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Małe projekty” przewidziano kwotę …………… zł (słownie złotych …………………………………….……)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Jest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w ramach działania „Wdrażanie lokalnych strategii rozwoju” nie mogą przekroczyć kwoty .............. zł (słownie złotych: .........................................) oraz kwoty wynikającej z § 2 ust. 1 pkt 5 lit. a rozporządzenia;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1" name="Rectangle 2" descr=""/>
          <p:cNvPicPr/>
          <p:nvPr/>
        </p:nvPicPr>
        <p:blipFill>
          <a:blip r:embed="rId1"/>
          <a:stretch/>
        </p:blipFill>
        <p:spPr>
          <a:xfrm>
            <a:off x="268200" y="219240"/>
            <a:ext cx="842508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opis rozpowszechniania założeń LSR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opis rozpowszechniania informacji o zasadach przyznawania pomocy finansowej w ramach działania „Wdrażanie lokalnych strategii rozwoju”, w tym o warunkach i trybie jej przyznawania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warunki techniczne i lokalowe biura LG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rocedura naboru pracowników LG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LSR, w zakresie charakterystyki członków albo partnerów LGD, struktury organu decyzyjnego LGD oraz kwalifikacji i doświadczenia organu decyzyjnego LGD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w załączniku nr 2 (limity środków) do umowy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7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540640" cy="131112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 rot="10800000">
            <a:off x="1979640" y="5373720"/>
            <a:ext cx="4968720" cy="1295280"/>
          </a:xfrm>
          <a:prstGeom prst="cloudCallout">
            <a:avLst>
              <a:gd name="adj1" fmla="val -72208"/>
              <a:gd name="adj2" fmla="val 11250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3203640" y="5805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 ZGODĄ SW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042920" y="980640"/>
            <a:ext cx="78501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wykonanie w danym roku w postępowaniu w sprawie wyboru operacji zobowiązań: 5 (</a:t>
            </a:r>
            <a:r>
              <a:rPr b="0" lang="pl-PL" sz="1400" spc="-1" strike="noStrike">
                <a:solidFill>
                  <a:srgbClr val="000000"/>
                </a:solidFill>
                <a:latin typeface="Lucida Sans Unicode"/>
              </a:rPr>
              <a:t>przekazywanie list, wniosków, etc.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), 16 (</a:t>
            </a: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stosowanie do wyboru procedur i kryteriów określonych w LSR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) lub 25 (</a:t>
            </a: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stosowanie zasad wymiany info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.) – środki przewidziane na działanie 413 i środki na dodatkowe zadania w 413 ulegają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zmniejszeniu o  kwotę stanowiącą 20% kwoty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 środków przewidzianych na to działanie oraz te zadania w kolejnym roku, w którym przewidziane są te środki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1" name="Rectangle 2" descr=""/>
          <p:cNvPicPr/>
          <p:nvPr/>
        </p:nvPicPr>
        <p:blipFill>
          <a:blip r:embed="rId1"/>
          <a:stretch/>
        </p:blipFill>
        <p:spPr>
          <a:xfrm>
            <a:off x="1200240" y="-30240"/>
            <a:ext cx="7493040" cy="762120"/>
          </a:xfrm>
          <a:prstGeom prst="rect">
            <a:avLst/>
          </a:prstGeom>
          <a:ln w="0">
            <a:noFill/>
          </a:ln>
        </p:spPr>
      </p:pic>
      <p:sp>
        <p:nvSpPr>
          <p:cNvPr id="612" name="AutoShape 4"/>
          <p:cNvSpPr/>
          <p:nvPr/>
        </p:nvSpPr>
        <p:spPr>
          <a:xfrm>
            <a:off x="2700360" y="5013360"/>
            <a:ext cx="4176720" cy="1728720"/>
          </a:xfrm>
          <a:prstGeom prst="cloudCallout">
            <a:avLst>
              <a:gd name="adj1" fmla="val 22444"/>
              <a:gd name="adj2" fmla="val -99217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MIMO DWUKROTNEGO WEZWANIA LGD PRZEZ SW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realizacji LSR na warunkach wynikających z umowy, ustawy oraz rozporządzenia w okresie od ………………….. do ….….………….. 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siągnięcia wynikających z LSR celów ogólnych, zgodnie z określoną w LSR misją LGD 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terminowego przeprowadzania postępowania w sprawie wyboru operacji, które są zgodne z LSR 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prawdzania zgodności operacji realizowanych w ramach działania 413 z LSR oraz wybierania operacji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4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umożliwienia przeprowadzania kontroli LG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przechowywania dokumentów, dotyczących wyboru LGD i realizacji LSR, a także dokumentów potwierdzających bezpłatne doradztwo biura LG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niezatrudniania członków organu decyzyjnego oraz osób reprezentujących członków tego organu w biurze LGD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6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yłączania członka organu decyzyjnego od udziału w dokonywaniu wyboru operacji w razie zaistnienia okoliczności, które mogą wywołać wątpliwości co do jego bezstronności, w szczególności w przypadku ubiegania się przez członka organu decyzyjnego o wybór jego operacji w ramach działania 413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oddania się ocenie efektywności działalności LGD oraz realizacji LSR w terminie wyznaczonym przez Samorząd Województwa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achowania warunków realizacji LSR dotyczących statutu fundacji, stowarzyszenia lub związku stowarzyszeń działających jako LGD, w zakresie celów związanych z realizacją LSR oraz zasad przyjmowania nowych członków, co najmniej 50-procentowego udziału partnerów podmiotów sektora społecznego i gospodarczego w składzie organu decyzyjnego LGD, spełniania wymogu trójsektorowości partnerstwa LGD, spójności przestrzennej obszaru LSR, rozdzielenia funkcji zarządczej od decyzyjnej w LGD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0" name="Rectang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rozpowszechniania założeń LSR (zgodnie z opisem zawartym w umowie lub rozdziałem LSR Opis procesu wdrażania i aktualizacji LSR)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rozpowszechniania informacji o zasadach przyznawania pomocy finansowej w ramach działania 413, w tym o warunkach i trybie jej przyznawania (zgodnie z opisem zawartym w umowie lub rozdziałem LSR Opis procesu wdrażania i aktualizacji LSR)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2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5042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bezpłatnego świadczenia przez pracownika lub pracowników biura LGD, doradztwa w zakresie przygotowywania wniosków o przyznanie pomocy w ramach działania 413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kładania do Samorządu Województwa wniosku o podanie do publicznej wiadomości informacji o możliwości składania wniosków o przyznanie pomocy w ramach działania 413, zgodnie z harmonogramem, przy czym złożenie ostatniego wniosku o podanie do publicznej wiadomości informacji o możliwości składania wniosków o przyznanie pomocy w ramach działania 413 może nastąpić 30 czerwca 2014 r.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5042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informowania o możliwości składania wniosków o przyznanie pomocy, w szczególności poprzez zamieszczanie informacji na stronie internetowej (zamieszczenie również formularza wniosku o przyznanie pomocy)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aktualizacji lub zmiany LSR w formie pisemnej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osiadania i utrzymywania biura LGD zgodnie z opisem technicznym załączonym do wniosku lub zawartym w umowie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6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5042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zatrudniania pracowników o wymaganiach zgodnych z procedurą naboru pracowników załączoną do wniosku lub opisaną w umowie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zapewnienia, aby członkowie organu decyzyjnego LGD oraz osoby reprezentujące członków tego organu posiadały kwalifikacje i doświadczenie nie niższe niż posiadane w dniu dokonania wyboru LGD do realizacji LSR przez członków tego organu lub osoby reprezentujące członków tego organu 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8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5042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499760" y="2060280"/>
            <a:ext cx="71866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1a. Środki finansowe na realizację LSR w zakresie dodatkowych zadań nie mogą przekroczyć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w ramach działania „Wdrażanie lokalnych strategii rozwoju”   .............. zł (słownie złotych: .........................................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w ramach działania „Wdrażanie projektów współpracy”................................ zł (słownie złotych:....................................................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Lucida Sans Unicode"/>
              </a:rPr>
              <a:t>w ramach działania „Funkcjonowanie lokalnej grupy działania, nabywanie umiejętności i aktywizacja” ............. zł (słownie złotych:..............................).”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268200" y="189000"/>
            <a:ext cx="842508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złożenia Samorządowi Województwa sprawozdania z realizacji LSR do dnia 31 grudnia 2015 r. na formularzu udostępnionym przez Samorząd Województwa 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zwłocznego informowania Samorządu Województwa o okolicznościach mogących mieć wpływ na wykonanie umowy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podawania do publicznej wiadomości, w szczególności poprzez zamieszczenie na stronie internetowej LGD zestawień rzeczowo – finansowych z realizacji operacji, stanowiących załączniki do umów przyznania pomocy (działanie 4.2 i 431)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0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5042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współpracy z Krajową Siecią Obszarów Wiejskich w zakresie przekazywania informacji dotyczących realizacji LSR 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monitorowania realizacji LSR oraz opracowania i udostępnienia formularza ankiety monitorującej na potrzeby monitorowania realizacji LSR beneficjentom działania Wdrażanie LSR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kładania Samorządowi Województwa do dnia 15 lutego każdego roku realizacji LSR sprawozdania z realizacji LSR za rok poprzedni na formularzu udostępnionym przez Samorząd Województwa,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2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5042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Niewykonanie zobowiązań dotyczących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określenia wskaźników realizacji celów LSR oraz przedsięwzięć 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stosowania zasad wymiany informacji oraz interpretacji przekazywanych przez Ministerstwo Rolnictwa i Rozwoju Wsi w związku z postępowaniem w sprawie wyboru operacji zgodnie z art. 62 ust 4 rozporządzenia nr 1698/2005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do niezwłocznego powiadamiania Samorządu Województwa o zmianie swoich danych zawartych w umowie; zmiana tych danych nie wymaga zmiany umow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4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5042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324000" y="1600200"/>
          <a:ext cx="8694720" cy="4800600"/>
        </p:xfrm>
        <a:graphic>
          <a:graphicData uri="http://schemas.openxmlformats.org/drawingml/2006/table">
            <a:tbl>
              <a:tblPr/>
              <a:tblGrid>
                <a:gridCol w="422280"/>
                <a:gridCol w="882360"/>
                <a:gridCol w="976680"/>
                <a:gridCol w="344880"/>
                <a:gridCol w="346320"/>
                <a:gridCol w="414360"/>
                <a:gridCol w="346320"/>
                <a:gridCol w="277920"/>
                <a:gridCol w="344520"/>
                <a:gridCol w="346320"/>
                <a:gridCol w="39492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315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szczególnien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c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łniają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unk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d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óżnicowan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kierunk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lności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rolnicze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i rozwój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kroprzedsiębior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4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nowa i rozwój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łe projek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36" name="Rectangle 965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1499760" y="1600200"/>
            <a:ext cx="71866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określić wskaźniki realizacji celów LSR oraz przedsięwzięć i zaktualizować LSR o te wskaźniki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złożyć Samorządowi Województwa, na formularzu udostępnionym przez Samorząd Województwa, sprawozdanie z realizacji LSR za 2009 r.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opracować formularz ankiety monitorującej na potrzeby monitorowania realizacji LS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3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39" name="AutoShape 4"/>
          <p:cNvSpPr/>
          <p:nvPr/>
        </p:nvSpPr>
        <p:spPr>
          <a:xfrm>
            <a:off x="3203640" y="5562720"/>
            <a:ext cx="3529080" cy="1106280"/>
          </a:xfrm>
          <a:prstGeom prst="cloudCallout">
            <a:avLst>
              <a:gd name="adj1" fmla="val 17925"/>
              <a:gd name="adj2" fmla="val -107388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erminie 3 m-cy od podpisania anek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Tytuł 5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 u="sng">
              <a:solidFill>
                <a:srgbClr val="464646"/>
              </a:solidFill>
              <a:uFillTx/>
              <a:latin typeface="Lucida Sans Unicode"/>
            </a:endParaRPr>
          </a:p>
        </p:txBody>
      </p:sp>
      <p:sp>
        <p:nvSpPr>
          <p:cNvPr id="642" name="Symbol zastępczy daty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ymbol zastępczy stopki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1499760" y="1599840"/>
            <a:ext cx="71866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Lucida Sans Unicode"/>
              </a:rPr>
              <a:t>„</a:t>
            </a:r>
            <a:r>
              <a:rPr b="0" lang="pl-PL" sz="1700" spc="-1" strike="noStrike">
                <a:solidFill>
                  <a:srgbClr val="000000"/>
                </a:solidFill>
                <a:latin typeface="Lucida Sans Unicode"/>
              </a:rPr>
              <a:t>4) terminowego przeprowadzania postępowania w sprawie wyboru operacji zgodnie z art. 62 ust. 4 rozporządzenia nr 1698/2005 oraz procedurą określoną w rozporządzeniu Ministra Rolnictwa i Rozwoju Wsi z dnia 8 lipca 2008 r. w sprawie szczegółowych warunków i trybu przyznawania oraz wypłaty pomocy finansowej w ramach działania „Wdrażanie lokalnych strategii rozwoju” objętego Programem Rozwoju Obszarów Wiejskich na lata 2007-2013 (Dz. U. Nr 138, poz. 868, z późn. zm.), które są zgodne z LSR;”,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Lucida Sans Unicode"/>
              </a:rPr>
              <a:t>4a) składania do Samorządu Województwa wniosku o podanie do publicznej wiadomości informacji o możliwości składania wniosków o przyznanie pomocy w ramach działania, o którym mowa w § 4 ust. 1 pkt 1 umowy, zgodnie z harmonogramem przewidywanych terminów podawania do publicznej wiadomości informacji o możliwości składania wniosków o przyznanie pomocy w ramach działania, o którym mowa w § 4 ust. 1 pkt 1 umowy, stanowiącym Załącznik nr 3 do umowy, przy czym złożenie ostatniego wniosku o podanie do publicznej wiadomości informacji o możliwości składania wniosków o przyznanie pomocy w ramach działania, o którym mowa w § 4 ust. 1 pkt 1 umowy, może nastąpić do dnia </a:t>
            </a:r>
            <a:r>
              <a:rPr b="1" lang="pl-PL" sz="1700" spc="-1" strike="noStrike">
                <a:solidFill>
                  <a:srgbClr val="ff0000"/>
                </a:solidFill>
                <a:latin typeface="Lucida Sans Unicode"/>
              </a:rPr>
              <a:t>30 czerwca 2014 r.;”,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5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499760" y="1599840"/>
            <a:ext cx="71866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Był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rzekazywania właściwemu podmiotowi wdrażającemu list wybranych operacji, list operacji, które nie zostały wybrane, uchwał właściwego organu LGD w sprawie wyboru operacji, wszystkich złożonych wniosków o przyznanie pomocy na operacje, w ramach działania o którym mowa w § 4 ust. 1 pkt 1 umowy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Jest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rzekazywania właściwemu podmiotowi wdrażającemu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kompletnych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list wybranych operacji,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kompletnych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list operacji, które nie zostały wybrane, w tym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zestawienia operacji niezgodnych z LSR</a:t>
            </a:r>
            <a:r>
              <a:rPr b="0" lang="pl-PL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wszystkich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uchwał właściwego organu LGD w sprawie wyboru operacji,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kompletnego zestawienia pozostałych operacji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 oraz wszystkich złożonych wniosków o przyznanie pomocy na operacje, w ramach działania o którym mowa w § 4 ust. 1 pkt 1 umowy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1499760" y="1341000"/>
            <a:ext cx="71866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Był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sprawdzania zgodności operacji realizowanych w ramach działania, o którym mowa w § 4 ust. 1 pkt 1 umowy z LSR oraz wybierania operacji zgodnie z art 62 ust 4 rozporządzenia nr 1698/2005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Jest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sprawdzania zgodności operacji realizowanych w ramach działania, o którym mowa w § 4 ust. 1 pkt 1 umowy, z LSR oraz wybierania operacji zgodnie z art. 62 ust. 4 rozporządzenia nr 1698/2005 i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rozporządzeniem Ministra Rolnictwa i Rozwoju Wsi z dnia 8 lipca 2008 r. w sprawie szczegółowych warunków i trybu przyznawania oraz wypłaty pomocy finansowej w ramach działania „Wdrażanie lokalnych strategii rozwoju” objętego Programem Rozwoju Obszarów Wiejskich na lata 2007-2013 (Dz. U. Nr 138, poz. 868, z późn. zm.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Był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umożliwienia przeprowadzania kontroli LGD przez przedstawicieli Samorządu Województwa, Agencji, Ministerstwa Finansów, Ministerstwa Rolnictwa i Rozwoju Wsi, Komisji Europejskiej, organom kontroli państwowej i skarbowej oraz innym podmiotom upoważnionym do takich czynności, w zakresie wyboru LGD i realizacji LSR, do końca 2020 roku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Jest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80880" indent="-380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umożliwienia przeprowadzania kontroli LGD przez przedstawicieli Samorządu Województwa, Agencji, Ministerstwa Finansów, Ministerstwa Rolnictwa i Rozwoju Wsi, Komisji Europejskiej, organom kontroli państwowej i skarbowej oraz innym podmiotom upoważnionym do takich czynności, w zakresie wyboru LGD i realizacji LSR, </a:t>
            </a:r>
            <a:r>
              <a:rPr b="1" lang="pl-PL" sz="2400" spc="-1" strike="noStrike">
                <a:solidFill>
                  <a:srgbClr val="000000"/>
                </a:solidFill>
                <a:latin typeface="Lucida Sans Unicode"/>
              </a:rPr>
              <a:t>w tym dokonywania wyboru operacji przez LGD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, do końca 2020 r.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Lucida Sans Unicode"/>
              </a:rPr>
              <a:t>Samorząd Województwa przeprowadzając kontrole, o których mowa w § 5 pkt 9 umowy, stosuje odpowiednio przepisy rozporządzenia Ministra Rolnictwa i Rozwoju Wsi z dnia 31 sierpnia 2007 r. w sprawie szczegółowych warunków i trybu przeprowadzania kontroli na miejscu i wizytacji w miejscu w ramach Programu Rozwoju Obszarów Wiejskich (Dz. U. Nr 168, poz. 1181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1618920" y="1817280"/>
            <a:ext cx="7186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Był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rzechowywania dokumentów, dotyczących wyboru LGD i realizacji LSR, do końca 2020 r.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Jest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przechowywania dokumentów, dotyczących wyboru LGD i realizacji LSR, a </a:t>
            </a:r>
            <a:r>
              <a:rPr b="1" lang="pl-PL" sz="2000" spc="-1" strike="noStrike">
                <a:solidFill>
                  <a:srgbClr val="000000"/>
                </a:solidFill>
                <a:latin typeface="Lucida Sans Unicode"/>
              </a:rPr>
              <a:t>także dokumentów potwierdzających wykonanie zobowiązania, o którym mowa w § 5 ust. 1 pkt 3 umowy, w szczególności list osób, którym udzielono bezpłatnego doradztwa, o którym mowa w § 5 ust. 1 pkt 3 umowy, oraz oświadczeń takich osób</a:t>
            </a:r>
            <a:r>
              <a:rPr b="0" lang="pl-PL" sz="2000" spc="-1" strike="noStrike">
                <a:solidFill>
                  <a:srgbClr val="000000"/>
                </a:solidFill>
                <a:latin typeface="Lucida Sans Unicode"/>
              </a:rPr>
              <a:t>, do końca 2020 r.;”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2:46:28Z</dcterms:created>
  <dc:creator>ltom</dc:creator>
  <dc:description/>
  <dc:language>en-US</dc:language>
  <cp:lastModifiedBy>konferencja</cp:lastModifiedBy>
  <dcterms:modified xsi:type="dcterms:W3CDTF">2010-06-07T20:31:45Z</dcterms:modified>
  <cp:revision>363</cp:revision>
  <dc:subject/>
  <dc:title>Podejście Leader</dc:title>
</cp:coreProperties>
</file>