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F614-EDFD-49D1-B7B7-D386D640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296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5280" y="4346640"/>
            <a:ext cx="82296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2B90-70CE-4857-9195-F51776B0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40158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2320" y="2637000"/>
            <a:ext cx="40158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5280" y="4346640"/>
            <a:ext cx="40158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2320" y="4346640"/>
            <a:ext cx="40158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E05F-F402-4E8C-B17A-0EEA912D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26496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7720" y="2637000"/>
            <a:ext cx="26496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0160" y="2637000"/>
            <a:ext cx="26496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5280" y="4346640"/>
            <a:ext cx="26496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7720" y="4346640"/>
            <a:ext cx="26496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0160" y="4346640"/>
            <a:ext cx="26496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C09F-8FE7-4365-B38F-7D5A66BB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5280" y="2637000"/>
            <a:ext cx="8229600" cy="32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97BA-42FE-4138-A066-462B5FC2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29600" cy="32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A23F-796C-45F5-B1D7-D5BA3FAC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4015800" cy="32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2320" y="2637000"/>
            <a:ext cx="4015800" cy="32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4D08-8F98-4529-BA83-E18E44AB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BAE2-E58A-4D1A-B70D-668597A8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34C0-CAAA-496C-AD02-1A02A1CB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40158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2320" y="2637000"/>
            <a:ext cx="4015800" cy="32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5280" y="4346640"/>
            <a:ext cx="40158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D80E-0F02-460A-BCA2-F6540897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4015800" cy="32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2320" y="2637000"/>
            <a:ext cx="40158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2320" y="4346640"/>
            <a:ext cx="40158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1C5D-A69D-48F3-AA90-EE356028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40158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2320" y="2637000"/>
            <a:ext cx="40158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5280" y="4346640"/>
            <a:ext cx="8229600" cy="15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E71D-1C96-40AB-8821-D8ACE659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2637000"/>
            <a:ext cx="8229600" cy="32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2998-68D0-46B8-9F2E-C3BFF8A3B42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1" descr=""/>
          <p:cNvPicPr/>
          <p:nvPr/>
        </p:nvPicPr>
        <p:blipFill>
          <a:blip r:embed="rId2"/>
          <a:stretch/>
        </p:blipFill>
        <p:spPr>
          <a:xfrm>
            <a:off x="0" y="6165720"/>
            <a:ext cx="9144000" cy="287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2" descr=""/>
          <p:cNvPicPr/>
          <p:nvPr/>
        </p:nvPicPr>
        <p:blipFill>
          <a:blip r:embed="rId3"/>
          <a:stretch/>
        </p:blipFill>
        <p:spPr>
          <a:xfrm>
            <a:off x="0" y="6453360"/>
            <a:ext cx="9144000" cy="2426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3" descr="nagłówek LEADER2"/>
          <p:cNvPicPr/>
          <p:nvPr/>
        </p:nvPicPr>
        <p:blipFill>
          <a:blip r:embed="rId4"/>
          <a:stretch/>
        </p:blipFill>
        <p:spPr>
          <a:xfrm>
            <a:off x="611280" y="299880"/>
            <a:ext cx="8064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356920"/>
            <a:ext cx="842472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rojektowane zapisy dotyczące wyboru LGD do realizacji LSR w zakresie dodatkowych zadań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13568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as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4200" y="2071800"/>
            <a:ext cx="8715600" cy="38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 realizacji LSR w zakresie dodatkowych zadań wybiera się nie więcej niż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30% LGD z danego województwa i nie więcej niż 20% w skali kra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lanowana wysokość środków finansowy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6 000 000 zł „Wdrażanie LS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80 000 zł „Wdrażanie projektów współpracy” (tylko jeśli LGD została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uż przyznana pomoc w ramach tego działan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 200 000 zł „Funkcjonowanie (…)”, ale nie więcej niż15% kosztó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alizacji LS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Ocena LGD i LS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5280" y="2356920"/>
            <a:ext cx="822960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cena będzie ponownie dotyczyła dwóch dziedz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rawności LGD w realizacji L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ójności dodatkowych zadań z dotychczasowymi zapisami L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GD może zostać wybrana do realizacji dodatkowych zadań, jeżeli uzyska 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co najmniej 70%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unktów w ramach oceny S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cena ma być dokonana wg stanu na dzień 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31.12.2010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5280" y="2637000"/>
            <a:ext cx="8229600" cy="32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GD zobowiązana będzie dostarczyć papierową wersję projektu zmian w L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as na dokonanie oceny wynosi 2 miesią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odatkowe zmiany ujęte w nowelizacj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5280" y="2500200"/>
            <a:ext cx="822960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owiązek określenia wskaźników produktu, rezultatu i oddziaływania dla wszystkich celów i przedsięwzięć zapisanych w LS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miana w harmonogramie ogłaszania konkursów (od 2011 r. podział na półrocza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prowadzenie zapisów dotyczących przygotowywania corocznych sprawozdań do SW (w ramach ewaluacji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owiązek przygotowania ankiet monitorujących realizację L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2637000"/>
            <a:ext cx="8229600" cy="32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okalne strategie rozwoju muszą zostać dostosowane do powyższych zmian w terminie 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3 miesięc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d dnia wejścia w życie rozporządze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08:57:06Z</dcterms:created>
  <dc:creator>a.mowinska</dc:creator>
  <dc:description/>
  <dc:language>en-US</dc:language>
  <cp:lastModifiedBy>a.mowinska</cp:lastModifiedBy>
  <dcterms:modified xsi:type="dcterms:W3CDTF">2010-06-07T08:58:53Z</dcterms:modified>
  <cp:revision>152</cp:revision>
  <dc:subject/>
  <dc:title>Slajd 1</dc:title>
</cp:coreProperties>
</file>