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8D7-84E6-4652-A52F-8D3B820B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44B-661F-461C-A88F-7B7DE1C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E1A-32AB-4829-8116-68EE8D09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902-E030-4F05-9EEA-ABAED896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B94B-8C46-4305-BD45-AAA68D28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A591-843F-4C6B-990B-9FC3A2C6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5A0A-4556-4030-8F3D-D89C34E7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0A36-7A4C-44B6-BF34-79E6F013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1A82-E645-4FA4-9B77-64997DF5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6BDC-337E-4E89-8A19-9C80B0B6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8056-5CD9-4AD2-B7E7-F4FD00E4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A0B-4ECB-4D3E-A3CA-F4DDD487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F62C-51D9-4BD1-B945-64CD6AB5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974F-CC0D-4566-A545-342D266A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5459-88E0-450F-A1C7-5AD6081A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C75E-FF49-4FF5-8AF4-73F31968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4569-A360-4D77-821D-06029982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B6FD-D8C0-4586-9A53-7575ED25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A9F-87E4-4067-AD3C-CC4A7120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3BD8-AED6-4557-B234-35596AA3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4F9-2BF9-4754-A798-ADB0FEBD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024-53DE-4C4F-93F1-E4440604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3FC-E3C3-436E-B351-11BF483E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0AD-2368-4800-A835-3E0A026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owolny kształt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owolny kształt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3AF6-1606-49DD-AE17-DEA3855DB6D9}" type="slidenum">
              <a:rPr b="0" lang="pl-PL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up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Dowolny kształt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Dowolny kształt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Dowolny kształt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Dowolny kształt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ze ściętym i zaokrąglonym rogiem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rójkąt prostokątny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olny kształt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olny kształt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5BDA-E482-4BEC-ABBA-48E8B2A54BAB}" type="slidenum">
              <a:rPr b="0" lang="pl-PL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698508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Regionalna debata </a:t>
            </a:r>
            <a:br>
              <a:rPr sz="5400"/>
            </a:br>
            <a:r>
              <a:rPr b="1" lang="pl-PL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nad przyszłością podejścia LEADER po roku 2013</a:t>
            </a:r>
            <a:br>
              <a:rPr sz="5400"/>
            </a:br>
            <a:r>
              <a:rPr b="1" lang="pl-PL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Toruń 20.04.2011r</a:t>
            </a:r>
            <a:r>
              <a:rPr b="1" lang="pl-PL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5589360"/>
            <a:ext cx="821844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4456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LEADER – tylko PROW czy także małe projekty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98508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Rola LG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98508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470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Funkcje  wdrożeniowe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431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470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Funkcje  wdrożeniowe i płatnicze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27236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445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4617b"/>
                </a:solidFill>
                <a:latin typeface="Calibri"/>
              </a:rPr>
              <a:t>Główne bloki tematyczne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Miejsce Leadera w polityce rozwoju obszarów wiejskich po 2013 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Rola i zakres zadań LGD w nowej perspektywie finansowej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Ramy instytucjonalne – propozycje na nowy okres programowa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  <a:ea typeface="Arial"/>
              </a:rPr>
              <a:t>Możliwości wsparcia finansowego udzielanego przez LGD w latach 2013-202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6985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0" spc="-1" strike="noStrike">
                <a:solidFill>
                  <a:srgbClr val="04617b"/>
                </a:solidFill>
                <a:latin typeface="Calibri"/>
              </a:rPr>
              <a:t>Wstępne wnioski z ankiet dotyczących podejścia typu LEADER (12 ankiet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5589360"/>
            <a:ext cx="8218440" cy="73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rbel"/>
              </a:rPr>
              <a:t>Zenon Lewandowski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Wielkość obszaru LGD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70000" y="1954080"/>
            <a:ext cx="72802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Rola LGD w nowym okresie programowan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08040" y="1935000"/>
            <a:ext cx="61279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4470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Partnerstwo międzysektorow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57200" y="3257640"/>
            <a:ext cx="822960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Typy działań wdrażane za pomocą podejścia Lead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7212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4470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LEADER – tylko PROW czy szerzej?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942840" y="1935000"/>
            <a:ext cx="7258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071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Inne programy w podejściu Lead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90600" y="1341360"/>
            <a:ext cx="8294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4617b"/>
                </a:solidFill>
                <a:latin typeface="Corbel"/>
              </a:rPr>
              <a:t>Zakres działań wdrażanych za pomocą podejścia Lead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2296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0:49:28Z</dcterms:created>
  <dc:creator>astawinski</dc:creator>
  <dc:description/>
  <dc:language>en-US</dc:language>
  <cp:lastModifiedBy>konferencja</cp:lastModifiedBy>
  <dcterms:modified xsi:type="dcterms:W3CDTF">2011-04-20T07:55:01Z</dcterms:modified>
  <cp:revision>48</cp:revision>
  <dc:subject/>
  <dc:title>Slajd 1</dc:title>
</cp:coreProperties>
</file>