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2AE-B45B-4EEA-8BF5-AF82BE63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A54-38A7-4128-9648-F3C2BADA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B84-D480-4592-A5B1-9CCD337D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13EB-4269-427A-8700-91BB0E79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CD41-1859-41D4-822C-6934CA0A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A82C-A3F5-403A-8F2C-38247AD0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9382-A7CE-439E-8871-CAA718A8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47E3-506D-4D81-9181-C111402B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B31E-0485-4460-B30D-81CEB337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D7F0-32E9-4451-BA23-DE57E884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232E-ECBF-4F41-B03C-303BB1EC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99C9-1A58-43BB-9A00-6CC54E6D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C0B6-965B-4B11-A764-2034403A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8E8B-637B-4DA6-8BCD-A856F1B4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86D6-A948-4822-AB97-733D11E2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EBA9-1A50-4E36-B373-C35C9E11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F4AB-11C3-45FF-9194-162E497D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F5C45-736F-440D-BB74-8CE91E68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9DC75-1EDB-40B6-964D-50EAF8D7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1455F-35C2-4E64-A2A6-863FA981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CDA8E-5E13-4B34-B46F-63CEEA44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59C11-685B-447C-A6CA-A0DC35B7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837C-7902-4C9F-9F1A-C1A3B759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D137F-4854-4546-81AF-9CAC748A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6C14C-D601-4ECF-9756-F1B7528B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6FE3D-3F14-4037-B62D-70059251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F71A6-79E2-4ACE-A3E9-952115F0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73461-C161-449E-BB08-EC7BD6CB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C74B9-AC6B-4BBF-9827-7A89CA85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9D7FB-C617-4DB9-8600-570B41A3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28662-532B-41F9-B692-3FD15065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DA6D2-B206-4363-BA68-F744FEF8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064FD-0899-4997-8D79-91BA5E20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40D-5FD0-4DB6-986B-5781EC53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3BB74-BA68-4E3B-B7A1-6AA59E07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AE983-89B5-4DB8-8D15-42E0FC7D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897A8-41E7-4FCC-8A5C-6E72297D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33718-E451-4292-B5C6-51E02EA7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EA34C-82F2-45ED-8C09-025A7E64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965F9-633F-4A3A-94DF-7053CFB9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ECA8E-E8CF-4A73-8D5B-E1BBB0CC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E9966-D628-4B78-82F6-C6D2E704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E0A10-FDD2-42B9-9818-195EE277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171EE-3B47-4CDB-9259-28861000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3C7-0656-4E52-8BAC-F3220D4E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5BAEC-CB8A-4445-97A4-F657352E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9BBDF-7840-4225-88BF-96912054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EF2B4-08F9-4F50-A97E-D7BC1109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F5604-DA7B-48AE-AB58-D29FBD70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07539-BBCE-4156-9F1A-3A2FCDE3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D8911-F796-4FC4-9E9D-E769312B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6B599-6DC2-4834-8D74-A38CB3D8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1D342-B76C-448F-BFAB-6B63F317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4972D-91B3-460F-B3B6-A8A4BEA9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B1F89-3B4B-43C8-8074-9A473DD2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5F36-DA14-4A06-8C73-88804B97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0A8D8-AE89-4963-8D71-14159257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0FD-228D-4278-A706-7537274F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B56-CA25-4651-BE88-1E561F15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8FA4-710E-44D9-874E-1B980B3C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rostokąt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C670-6829-4D5B-8228-F88EE39FB787}" type="slidenum">
              <a:rPr b="0" lang="pl-P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Prostokąt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Prostokąt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Łącznik prosty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A5F9-A7D4-4BBB-9A4C-53E47C9FBF09}" type="slidenum">
              <a:rPr b="0" lang="pl-P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Prostokąt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C340-1A52-41AE-8F70-73DC2B07E0DF}" type="slidenum">
              <a:rPr b="0" lang="pl-P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ostokąt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ostokąt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4934-A042-4A90-814B-9B663C8C2AA9}" type="slidenum">
              <a:rPr b="0" lang="pl-PL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Prostokąt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2CDC-B332-43DF-81FB-8E1C2420D991}" type="slidenum">
              <a:rPr b="0" lang="pl-P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ytuł 1" descr=""/>
          <p:cNvPicPr/>
          <p:nvPr/>
        </p:nvPicPr>
        <p:blipFill>
          <a:blip r:embed="rId1"/>
          <a:stretch/>
        </p:blipFill>
        <p:spPr>
          <a:xfrm>
            <a:off x="3103560" y="530280"/>
            <a:ext cx="547992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700000" y="4292640"/>
            <a:ext cx="576900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Ryszard Kamiński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KPODR Minikow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Forum Aktywizacji Obszarów Wiejskic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Toruń, 20.04.2011 r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odtytuł 2"/>
          <p:cNvSpPr/>
          <p:nvPr/>
        </p:nvSpPr>
        <p:spPr>
          <a:xfrm>
            <a:off x="1332000" y="3500280"/>
            <a:ext cx="6912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ytuł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Na obszarach wiejskich działałyby partnerstwa wielosektorowe. Mówi się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o nich powołując się na doświadczenia Programu Leader, ale nie wymienia się bezpośrednio LGD. Wzbudziło to obawy LGD z różnych części Europy, ale ponoć w dalszej dyskusji ma to być wyjaśnione, że chodzi o LGD, ale czy z kolei mają one potencjał do realizacji większych zadań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ytuł 3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57200" y="162864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Bez zmian – fragment programu operacyjnego funduszu rolneg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62388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Powrót do programu wydzielonego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z „głównego nurtu”, jak miało to miejsce w latach poprzednich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62388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LGD jako lokalna organizacja prorozwojowa operująca różnymi funduszami, nie tylko rolnym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ytuł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zbytnie ograniczenie autonomii LGD w ustalaniu celów strategii i w wyborze projektów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W wielu przypadkach rodzaje działań w strategii, kategorie beneficjentów i kosztów kwalifikowalnych zostały ustalone „odgórnie” przez Instytucje Zarządzające; dodatkowo w niektórych krajach LGD mogą wspierać jedynie projekty mieszczące się w ramach standardowych działań przewidzianych w krajowych Programach Operacyjnych, albo wręcz tylko działań Osi 3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ytuł 1" descr=""/>
          <p:cNvPicPr/>
          <p:nvPr/>
        </p:nvPicPr>
        <p:blipFill>
          <a:blip r:embed="rId1"/>
          <a:stretch/>
        </p:blipFill>
        <p:spPr>
          <a:xfrm>
            <a:off x="285840" y="79200"/>
            <a:ext cx="7669080" cy="13892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Lokalne Grupy Działania stają się po prostu dodatkowym szczeblem administracyjnym, a ich funkcje są często powielane przez administrację na poziomie regionalnym i krajowy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Trybunał krytycznie ocenia m.in. sytuacje, w których ze środków Leadera finansowane były działania, stanowiące normalną działalność lokalnych władz (np. ogrodzenie placu zabaw czy modernizacja kanalizacji i nawierzchni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ytuł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388280" cy="12002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ETO cytuje jako szczególnie rażący przykład z Węgier, gdzie wniosek o przyznanie 5400 euro obejmował 126 st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6c6c6c"/>
                </a:solidFill>
                <a:latin typeface="Trebuchet MS"/>
              </a:rPr>
              <a:t>A u nas lepiej???!!!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rebuchet MS"/>
              </a:rPr>
              <a:t>zbytnia koncentracja na monitorowaniu projektów, a zbyt mała na osiąganiu celów strategi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ytuł 1" descr=""/>
          <p:cNvPicPr/>
          <p:nvPr/>
        </p:nvPicPr>
        <p:blipFill>
          <a:blip r:embed="rId1"/>
          <a:stretch/>
        </p:blipFill>
        <p:spPr>
          <a:xfrm>
            <a:off x="225360" y="-73080"/>
            <a:ext cx="7662960" cy="15415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dominację </a:t>
            </a: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sektora publicznego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w decyzjach podejmowanych przez organ decyzyjny LG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brak odpowiedniej </a:t>
            </a: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dokumentacji sposobu podejmowania decyzji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o finansowaniu projektu, w tym informacji o tym że osoby zainteresowane nie uczestniczyły w głosowani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potencjalny </a:t>
            </a: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konflikt interesów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w sytuacjach, kiedy większość projektów jest realizowana przez podmioty, których przedstawiciele zasiadają w organie decyzyjnym LGD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ytuł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Kreatorem wartości dodanej podejścia Leader są Lokalne Grupy Działania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. Rolą Instytucji Zarządzających jest jedyni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6c6c6c"/>
                </a:solidFill>
                <a:latin typeface="Trebuchet MS"/>
              </a:rPr>
              <a:t>doradzanie i wspieranie LGD,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6c6c6c"/>
                </a:solidFill>
                <a:latin typeface="Trebuchet MS"/>
              </a:rPr>
              <a:t>zapewnienie, aby przepisy prawa i systemy zarządzania gwarantowały minimalne standardy,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6c6c6c"/>
                </a:solidFill>
                <a:latin typeface="Trebuchet MS"/>
              </a:rPr>
              <a:t>stwarzanie odpowiednich zachęt dla LGD do tworzenia wartości dodanej, oraz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6c6c6c"/>
                </a:solidFill>
                <a:latin typeface="Trebuchet MS"/>
              </a:rPr>
              <a:t>usuwanie przeszkód i czynników zniechęcających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ytuł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731000" cy="9572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każdy projekt, zgodnie z tytułem I i II Rozporządzenia Komisji (WE) 1975/2006 do rozporządzenia 1698/2005 w zakresie wprowadzenia procedur kontroli, jak również wzajemnej zgodności w odniesieniu do środków wsparcia rozwoju obszarów wiejskich, podlega kontroli administracyjnej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w jej ramach wykonuje się kontrole krzyżowe (nakładanie się pomocy z innymi funduszami) – art. 11 ww. rozporządzenia oraz badanie  racjonalności zaproponowanych kosztów w oparciu o odpowiedni system oceny, np. koszty referencyjne, porównanie różnych ofert – art. 26 ww. rozporządzeni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ytuł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Celem Osi czwartej LEADER jest przede wszystkim aktywizacja mieszkańców obszarów wiejskich  poprzez budowanie kapitału społecznego na wsi, a także polepszenie zarządzania lokalnymi zasobami i ich waloryzacja.” (Program Rozwoju Obszarów Wiejskich na lata 2007-2013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ytuł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Kapitał społeczny w ostatnich latach jest traktowany, jako ważny czynnik wpływający na rozwoj społeczny i gospodarczy kraju, a także jako element charakteryzujący warunki życia obywateli. </a:t>
            </a:r>
            <a:r>
              <a:rPr b="0" i="1" lang="pl-PL" sz="1800" spc="-1" strike="noStrike">
                <a:solidFill>
                  <a:srgbClr val="000000"/>
                </a:solidFill>
                <a:latin typeface="Trebuchet MS"/>
              </a:rPr>
              <a:t>(KSRR 58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Najlepsza droga do dobrobytu to wykorzystywanie kapitału społecznego, a dokładniej szczególnej cechy kulturowej, którą jest </a:t>
            </a:r>
            <a:r>
              <a:rPr b="0" lang="pl-PL" sz="2600" spc="-1" strike="noStrike">
                <a:solidFill>
                  <a:srgbClr val="ff0000"/>
                </a:solidFill>
                <a:latin typeface="Trebuchet MS"/>
              </a:rPr>
              <a:t>poziom zaufania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 danym  społeczeństwie</a:t>
            </a:r>
            <a:r>
              <a:rPr b="0" i="1" lang="pl-PL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6c6c6c"/>
                </a:solidFill>
                <a:latin typeface="Trebuchet MS"/>
              </a:rPr>
              <a:t>F. Fukuyama, Zaufanie. Kapitał społeczny a droga do dobrobytu 1997r.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ytuł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1332000" y="1267920"/>
            <a:ext cx="7634160" cy="50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rebuchet MS"/>
              </a:rPr>
              <a:t>2000-2006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c6c6c"/>
                </a:solidFill>
                <a:latin typeface="Trebuchet MS"/>
              </a:rPr>
              <a:t>Filar I WPR – dopłaty i regulacje rynkowe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c6c6c"/>
                </a:solidFill>
                <a:latin typeface="Trebuchet MS"/>
              </a:rPr>
              <a:t>Filar II WPR (PROW) – ONW, renty strukturalne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c6c6c"/>
                </a:solidFill>
                <a:latin typeface="Trebuchet MS"/>
              </a:rPr>
              <a:t>EFOiGR sekcja orientacji (SPO ROL) – rozwój obszarów wiejskich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rebuchet MS"/>
              </a:rPr>
              <a:t>2007-2013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c6c6c"/>
                </a:solidFill>
                <a:latin typeface="Trebuchet MS"/>
              </a:rPr>
              <a:t>WPR - dopłaty i regulacje rynkowe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c6c6c"/>
                </a:solidFill>
                <a:latin typeface="Trebuchet MS"/>
              </a:rPr>
              <a:t>EFRROW (PROW) – ONW, renty + rozwój obszarów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rebuchet MS"/>
              </a:rPr>
              <a:t>2014-2020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c6c6c"/>
                </a:solidFill>
                <a:latin typeface="Trebuchet MS"/>
              </a:rPr>
              <a:t>I filar WPR – dopłaty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6c6c6c"/>
                </a:solidFill>
                <a:latin typeface="Trebuchet MS"/>
              </a:rPr>
              <a:t>II filar WPR - ???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68000" y="1412640"/>
            <a:ext cx="7310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Biorąc pod uwagę zaufanie społeczne obywateli w 2006 r. Polska znalazła się na przedostatnim miejscu wśrod krajow objętych badaniem  European Social Survey (ESS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W 2009  49% obywateli wykazywało obojętność wobec sześciu form naruszania dobra wspólnego </a:t>
            </a:r>
            <a:r>
              <a:rPr b="0" lang="pl-PL" sz="1600" spc="-1" strike="noStrike">
                <a:solidFill>
                  <a:srgbClr val="000000"/>
                </a:solidFill>
                <a:latin typeface="Trebuchet MS"/>
              </a:rPr>
              <a:t>(odsetek obojętnych wzrósł o 14% w stosunku do roku 2005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0" name="Tytuł 2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ytuł 1" descr=""/>
          <p:cNvPicPr/>
          <p:nvPr/>
        </p:nvPicPr>
        <p:blipFill>
          <a:blip r:embed="rId1"/>
          <a:stretch/>
        </p:blipFill>
        <p:spPr>
          <a:xfrm>
            <a:off x="407880" y="165240"/>
            <a:ext cx="7620120" cy="1109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394920" y="1412640"/>
            <a:ext cx="79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rebuchet MS"/>
              </a:rPr>
              <a:t>W kapitał ludzki można inwestować indywidualnie, natomiast w kapitał społeczny indywidualnie inwestować się nie da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rebuchet MS"/>
              </a:rPr>
              <a:t>Po pierwsze, jak twierdzi Putnam, jest on zależny od rozciągniętego w czasie procesu historycznego formującego wspólnotę  obywatelską, a po drugie, w tym historycznym procesie ogromną rolę odgrywa to, co dzieje się w przestrzeni publicznej: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743400" indent="-22392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rebuchet MS"/>
              </a:rPr>
              <a:t>w polityce,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743400" indent="-22392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rebuchet MS"/>
              </a:rPr>
              <a:t>szkole,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743400" indent="-22392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rebuchet MS"/>
              </a:rPr>
              <a:t>w samorządach,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743400" indent="-22392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rebuchet MS"/>
              </a:rPr>
              <a:t>na ulicy,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743400" indent="-22392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rebuchet MS"/>
              </a:rPr>
              <a:t>w urzędach,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rebuchet MS"/>
              </a:rPr>
              <a:t>w dużej mierze zależy to od elit, zwłaszcza od polityków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Pracownicy biur lokalnych grup działania zaniechali prowadzonej jeszcze w latach  2007-2008 działalności aktywizacyjnej, bowiem najważniejszym ich zajęciem jest rozliczanie się i udowadnianie racjonalności kosztowej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Biurokracja w programie LEADER krok po kroku trwoni entuzjazm mieszkańców wsi z okresu tworzenia partnerstw lokalnych i zaufanie nie tylko do Unii Europejskiej, ale również do polskich urzędów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4" name="Tytuł 1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632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ytuł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2"/>
          <a:stretch/>
        </p:blipFill>
        <p:spPr>
          <a:xfrm>
            <a:off x="1679400" y="1000080"/>
            <a:ext cx="6535800" cy="5835600"/>
          </a:xfrm>
          <a:prstGeom prst="rect">
            <a:avLst/>
          </a:prstGeom>
          <a:ln w="0">
            <a:noFill/>
          </a:ln>
        </p:spPr>
      </p:pic>
      <p:sp>
        <p:nvSpPr>
          <p:cNvPr id="297" name="Prostokąt 4"/>
          <p:cNvSpPr/>
          <p:nvPr/>
        </p:nvSpPr>
        <p:spPr>
          <a:xfrm>
            <a:off x="7494120" y="6308640"/>
            <a:ext cx="171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Dane MRiRW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ytuł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7430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611280" y="1071360"/>
            <a:ext cx="741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Plan na lata 2007-13 zakładał powołanie 200 lokalnych grup działania które miały funkcjonować na obszarze pokrywającym w ponad 50 % terytorium Polski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Sytuacja 2011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468360" indent="-205560" algn="just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6c6c6c"/>
                </a:solidFill>
                <a:latin typeface="Trebuchet MS"/>
              </a:rPr>
              <a:t>wnioski o wybór 344 LGD – wybrano 338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468360" indent="-205560" algn="just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pl-PL" sz="2300" spc="-1" strike="noStrike">
                <a:solidFill>
                  <a:srgbClr val="6c6c6c"/>
                </a:solidFill>
                <a:latin typeface="Trebuchet MS"/>
              </a:rPr>
              <a:t>278 235,7 km2 powierzchni kraju, 93,22 % obszaru uprawnionego do korzystania z wsparcia ze środków PROW 2007 – 2013.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468360" indent="-205560" algn="just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6c6c6c"/>
                </a:solidFill>
                <a:latin typeface="Trebuchet MS"/>
              </a:rPr>
              <a:t>16 877 180 osób, czyli 91,29 % ludności wiejskiej w Polsce i 44,27 % ogółu Polaków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468360" indent="-205560" algn="just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6c6c6c"/>
                </a:solidFill>
                <a:latin typeface="Trebuchet MS"/>
              </a:rPr>
              <a:t>średnia liczba ludności,  49,93 tys. osób/LGD/LSR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468360" indent="-205560" algn="just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6c6c6c"/>
                </a:solidFill>
                <a:latin typeface="Trebuchet MS"/>
              </a:rPr>
              <a:t>całkowity budżet LGD 3 039 253 970,99 zł, czyli średnio 8 991 875,65 zł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468360" indent="-205560" algn="just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45520" indent="-24552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ytuł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Optymalne rozwiązanie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6c6c6c"/>
                </a:solidFill>
                <a:latin typeface="Trebuchet MS"/>
              </a:rPr>
              <a:t>na danym terenie będzie istniało </a:t>
            </a:r>
            <a:r>
              <a:rPr b="1" lang="pl-PL" sz="2300" spc="-1" strike="noStrike">
                <a:solidFill>
                  <a:srgbClr val="6c6c6c"/>
                </a:solidFill>
                <a:latin typeface="Trebuchet MS"/>
              </a:rPr>
              <a:t>jedno lokalne partnerstwo</a:t>
            </a:r>
            <a:r>
              <a:rPr b="0" lang="pl-PL" sz="2300" spc="-1" strike="noStrike">
                <a:solidFill>
                  <a:srgbClr val="6c6c6c"/>
                </a:solidFill>
                <a:latin typeface="Trebuchet MS"/>
              </a:rPr>
              <a:t> (obejmujące przedstawicieli sektora publicznego, społecznego i prywatnego)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6c6c6c"/>
                </a:solidFill>
                <a:latin typeface="Trebuchet MS"/>
              </a:rPr>
              <a:t>które opracuje </a:t>
            </a:r>
            <a:r>
              <a:rPr b="1" lang="pl-PL" sz="2300" spc="-1" strike="noStrike">
                <a:solidFill>
                  <a:srgbClr val="6c6c6c"/>
                </a:solidFill>
                <a:latin typeface="Trebuchet MS"/>
              </a:rPr>
              <a:t>jedną, zintegrowaną strategię rozwoju danego obszaru</a:t>
            </a:r>
            <a:r>
              <a:rPr b="0" lang="pl-PL" sz="2300" spc="-1" strike="noStrike">
                <a:solidFill>
                  <a:srgbClr val="6c6c6c"/>
                </a:solidFill>
                <a:latin typeface="Trebuchet MS"/>
              </a:rPr>
              <a:t>,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pl-PL" sz="2300" spc="-1" strike="noStrike">
                <a:solidFill>
                  <a:srgbClr val="6c6c6c"/>
                </a:solidFill>
                <a:latin typeface="Trebuchet MS"/>
              </a:rPr>
              <a:t>a następnie – do jej realizacji – będzie mogło czerpać środki z </a:t>
            </a:r>
            <a:r>
              <a:rPr b="1" lang="pl-PL" sz="2300" spc="-1" strike="noStrike">
                <a:solidFill>
                  <a:srgbClr val="6c6c6c"/>
                </a:solidFill>
                <a:latin typeface="Trebuchet MS"/>
              </a:rPr>
              <a:t>różnych funduszy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35840" indent="-2214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dla niektórych działań niezbędne będzie stworzenie osobnego „organu decyzyjnego” (np. EFR przy podejmowaniu decyzji o projektach znaczący głos powinni mieć przedstawiciele sektora rybackiego itp.)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Tytuł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300" spc="-1" strike="noStrike">
                <a:solidFill>
                  <a:srgbClr val="ff0000"/>
                </a:solidFill>
                <a:latin typeface="Trebuchet MS"/>
              </a:rPr>
              <a:t>Rozwój lokalny w podążaniu za potrzebami wspólnot lokalnych  „jeden obszar – jedna strategia”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51120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700" spc="-1" strike="noStrike">
                <a:solidFill>
                  <a:srgbClr val="ff0000"/>
                </a:solidFill>
                <a:latin typeface="Trebuchet MS"/>
              </a:rPr>
              <a:t>Community-led local development through bottom-up local development strategies: „one area, one strategy“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6c6c6c"/>
                </a:solidFill>
                <a:latin typeface="Trebuchet MS"/>
              </a:rPr>
              <a:t>Leader powinien bardziej przyczynić się do innowacyjności i dobrego rządzenia „governance” (współrządzenia) na poziomie lokalnym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51120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rebuchet MS"/>
              </a:rPr>
              <a:t>Goal</a:t>
            </a: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: Make Leader fit to better serve innovation and local governan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ytuł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c6c6c"/>
                </a:solidFill>
                <a:latin typeface="Trebuchet MS"/>
              </a:rPr>
              <a:t>Wzmocnienie znaczenia lokalnej strategii rozwoju jako głównego narzędzia osiągania celów rozwoju obszaru 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6c6c6c"/>
                </a:solidFill>
                <a:latin typeface="Trebuchet MS"/>
              </a:rPr>
              <a:t>Zapewnienie wdrażania wszystkich cech podejścia LEADER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0000"/>
                </a:solidFill>
                <a:latin typeface="Trebuchet MS"/>
              </a:rPr>
              <a:t>Więcej „wolności” dla LGD w wyborze projektów które najlepiej przyczyniają się  do osiągania celów LSR (</a:t>
            </a:r>
            <a:r>
              <a:rPr b="1" lang="en-GB" sz="2000" spc="-1" strike="noStrike">
                <a:solidFill>
                  <a:srgbClr val="000099"/>
                </a:solidFill>
                <a:latin typeface="Trebuchet MS"/>
              </a:rPr>
              <a:t>More freedom for LAGs to chose those projects which best fit their strategies</a:t>
            </a:r>
            <a:r>
              <a:rPr b="1" lang="pl-PL" sz="2000" spc="-1" strike="noStrike">
                <a:solidFill>
                  <a:srgbClr val="000099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Trebuchet MS"/>
              </a:rPr>
              <a:t>Jasny podział zadań między LGD a instytucjami wdrażającymi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Trebuchet MS"/>
              </a:rPr>
              <a:t>Więcej uwagi dla animacji i budowaniu oddolnego potencjału (również na poziomie przygotowania LSR)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Trebuchet MS"/>
              </a:rPr>
              <a:t>Wzmocnienie zaangażowania sektora prywatnego (biznesu)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ytuł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Przywrócenie funkcji sieciowania LGD na poziomie europejskim i krajowy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Beneficjenci współpracują </a:t>
            </a:r>
            <a:r>
              <a:rPr b="1" lang="pl-PL" sz="2600" spc="-1" strike="noStrike" u="sng">
                <a:solidFill>
                  <a:srgbClr val="ff0000"/>
                </a:solidFill>
                <a:uFillTx/>
                <a:latin typeface="Trebuchet MS"/>
              </a:rPr>
              <a:t>tylko z jednym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– dobrze zdefiniowanym partnerem (interlokutorem)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Rozszerzenie możliwości współpracy na obszarach podmiejskich i z małymi/średnimi miastami w ramach LG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ytuł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777080" cy="11764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Wspólna Polityka Rolna Unii Europejskiej okazała się niezdolna do wykreowania wewnątrz społeczności wiejskich zdolności do stałego endogennego rozwoju społeczno-ekonomiczneg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W wielu wsiach likwidowane są szkoły, przedszkola, sklepy, świetlice wiejskie,  oddziały poczty, linie autobusowe i kolejowe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Brak perspektyw związanych z własnymi gospodarstwami, powoduje zniechęcenie rolników , zagubienie i trudności w zdefiniowaniu statusu i przyszłości miejsca, w którym żyj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6011640" y="692280"/>
            <a:ext cx="2903760" cy="1834920"/>
            <a:chOff x="6011640" y="692280"/>
            <a:chExt cx="2903760" cy="1834920"/>
          </a:xfrm>
        </p:grpSpPr>
        <p:grpSp>
          <p:nvGrpSpPr>
            <p:cNvPr id="228" name="Group 3"/>
            <p:cNvGrpSpPr/>
            <p:nvPr/>
          </p:nvGrpSpPr>
          <p:grpSpPr>
            <a:xfrm>
              <a:off x="6011640" y="692280"/>
              <a:ext cx="2903760" cy="1834920"/>
              <a:chOff x="6011640" y="692280"/>
              <a:chExt cx="2903760" cy="1834920"/>
            </a:xfrm>
          </p:grpSpPr>
          <p:sp>
            <p:nvSpPr>
              <p:cNvPr id="229" name="Oval 4"/>
              <p:cNvSpPr/>
              <p:nvPr/>
            </p:nvSpPr>
            <p:spPr>
              <a:xfrm>
                <a:off x="6804000" y="692280"/>
                <a:ext cx="1765440" cy="11458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5"/>
              <p:cNvSpPr/>
              <p:nvPr/>
            </p:nvSpPr>
            <p:spPr>
              <a:xfrm flipH="1">
                <a:off x="6588000" y="1844640"/>
                <a:ext cx="449280" cy="2462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6"/>
              <p:cNvSpPr/>
              <p:nvPr/>
            </p:nvSpPr>
            <p:spPr>
              <a:xfrm flipH="1">
                <a:off x="6481800" y="1658880"/>
                <a:ext cx="449280" cy="1317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"/>
              <p:cNvSpPr/>
              <p:nvPr/>
            </p:nvSpPr>
            <p:spPr>
              <a:xfrm flipH="1">
                <a:off x="6948360" y="1916280"/>
                <a:ext cx="347760" cy="4060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8"/>
              <p:cNvSpPr/>
              <p:nvPr/>
            </p:nvSpPr>
            <p:spPr>
              <a:xfrm>
                <a:off x="7885080" y="1916280"/>
                <a:ext cx="231840" cy="4791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9"/>
              <p:cNvSpPr/>
              <p:nvPr/>
            </p:nvSpPr>
            <p:spPr>
              <a:xfrm flipH="1" flipV="1">
                <a:off x="8218440" y="1753920"/>
                <a:ext cx="696960" cy="245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10"/>
              <p:cNvSpPr/>
              <p:nvPr/>
            </p:nvSpPr>
            <p:spPr>
              <a:xfrm flipH="1">
                <a:off x="7308360" y="1989000"/>
                <a:ext cx="187560" cy="4795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11"/>
              <p:cNvSpPr/>
              <p:nvPr/>
            </p:nvSpPr>
            <p:spPr>
              <a:xfrm flipH="1" flipV="1">
                <a:off x="8100720" y="1844640"/>
                <a:ext cx="477720" cy="493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2"/>
              <p:cNvSpPr/>
              <p:nvPr/>
            </p:nvSpPr>
            <p:spPr>
              <a:xfrm>
                <a:off x="7667640" y="1989000"/>
                <a:ext cx="46080" cy="5382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13"/>
              <p:cNvSpPr/>
              <p:nvPr/>
            </p:nvSpPr>
            <p:spPr>
              <a:xfrm flipH="1">
                <a:off x="6011640" y="1197000"/>
                <a:ext cx="593640" cy="28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4"/>
              <p:cNvSpPr/>
              <p:nvPr/>
            </p:nvSpPr>
            <p:spPr>
              <a:xfrm flipH="1">
                <a:off x="6084720" y="1484280"/>
                <a:ext cx="508320" cy="572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Text Box 15"/>
            <p:cNvSpPr/>
            <p:nvPr/>
          </p:nvSpPr>
          <p:spPr>
            <a:xfrm>
              <a:off x="6804000" y="105264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Comic Sans MS"/>
                </a:rPr>
                <a:t>Innowacyjnoś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Line 16"/>
          <p:cNvSpPr/>
          <p:nvPr/>
        </p:nvSpPr>
        <p:spPr>
          <a:xfrm flipH="1">
            <a:off x="4829040" y="3511440"/>
            <a:ext cx="55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1146240" y="3322800"/>
            <a:ext cx="1539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Partners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3325680" y="1665360"/>
            <a:ext cx="15829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Podejście terytorial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3352680" y="3117960"/>
            <a:ext cx="1393920" cy="703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mic Sans MS"/>
              </a:rPr>
              <a:t>Oddolne podejś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0"/>
          <p:cNvSpPr/>
          <p:nvPr/>
        </p:nvSpPr>
        <p:spPr>
          <a:xfrm>
            <a:off x="5545080" y="3305160"/>
            <a:ext cx="17715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Zintegrowane podejś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1"/>
          <p:cNvSpPr/>
          <p:nvPr/>
        </p:nvSpPr>
        <p:spPr>
          <a:xfrm>
            <a:off x="3078000" y="4500720"/>
            <a:ext cx="1725840" cy="824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mic Sans MS"/>
              </a:rPr>
              <a:t>Lokalne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omic Sans MS"/>
              </a:rPr>
              <a:t> finansowanie i zarządza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1827360" y="5859360"/>
            <a:ext cx="5408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Współpraca, tworzenie sie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3"/>
          <p:cNvSpPr/>
          <p:nvPr/>
        </p:nvSpPr>
        <p:spPr>
          <a:xfrm rot="19766400">
            <a:off x="1501560" y="2112480"/>
            <a:ext cx="1339560" cy="355680"/>
          </a:xfrm>
          <a:custGeom>
            <a:avLst/>
            <a:gdLst>
              <a:gd name="textAreaLeft" fmla="*/ 234360 w 1339560"/>
              <a:gd name="textAreaRight" fmla="*/ 971280 w 1339560"/>
              <a:gd name="textAreaTop" fmla="*/ 47520 h 355680"/>
              <a:gd name="textAreaBottom" fmla="*/ 308160 h 355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4"/>
          <p:cNvSpPr/>
          <p:nvPr/>
        </p:nvSpPr>
        <p:spPr>
          <a:xfrm rot="8966400">
            <a:off x="5356080" y="4632480"/>
            <a:ext cx="1339920" cy="357120"/>
          </a:xfrm>
          <a:custGeom>
            <a:avLst/>
            <a:gdLst>
              <a:gd name="textAreaLeft" fmla="*/ 234360 w 1339920"/>
              <a:gd name="textAreaRight" fmla="*/ 971640 w 133992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5"/>
          <p:cNvSpPr/>
          <p:nvPr/>
        </p:nvSpPr>
        <p:spPr>
          <a:xfrm rot="13319400">
            <a:off x="1333440" y="4493880"/>
            <a:ext cx="1339920" cy="407880"/>
          </a:xfrm>
          <a:custGeom>
            <a:avLst/>
            <a:gdLst>
              <a:gd name="textAreaLeft" fmla="*/ 234360 w 1339920"/>
              <a:gd name="textAreaRight" fmla="*/ 971640 w 1339920"/>
              <a:gd name="textAreaTop" fmla="*/ 54360 h 407880"/>
              <a:gd name="textAreaBottom" fmla="*/ 353520 h 407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6"/>
          <p:cNvSpPr/>
          <p:nvPr/>
        </p:nvSpPr>
        <p:spPr>
          <a:xfrm rot="2268000">
            <a:off x="5378400" y="2185560"/>
            <a:ext cx="1339920" cy="362160"/>
          </a:xfrm>
          <a:custGeom>
            <a:avLst/>
            <a:gdLst>
              <a:gd name="textAreaLeft" fmla="*/ 234360 w 1339920"/>
              <a:gd name="textAreaRight" fmla="*/ 971640 w 1339920"/>
              <a:gd name="textAreaTop" fmla="*/ 48240 h 362160"/>
              <a:gd name="textAreaBottom" fmla="*/ 313920 h 362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7"/>
          <p:cNvSpPr/>
          <p:nvPr/>
        </p:nvSpPr>
        <p:spPr>
          <a:xfrm>
            <a:off x="4106880" y="243540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8"/>
          <p:cNvSpPr/>
          <p:nvPr/>
        </p:nvSpPr>
        <p:spPr>
          <a:xfrm flipH="1" flipV="1">
            <a:off x="2813040" y="3525840"/>
            <a:ext cx="378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4030560" y="3897360"/>
            <a:ext cx="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2682720" y="2692440"/>
            <a:ext cx="47952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1"/>
          <p:cNvSpPr/>
          <p:nvPr/>
        </p:nvSpPr>
        <p:spPr>
          <a:xfrm flipH="1">
            <a:off x="4857480" y="2736720"/>
            <a:ext cx="390600" cy="47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2"/>
          <p:cNvSpPr/>
          <p:nvPr/>
        </p:nvSpPr>
        <p:spPr>
          <a:xfrm>
            <a:off x="4795920" y="3978360"/>
            <a:ext cx="333360" cy="34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33"/>
          <p:cNvSpPr/>
          <p:nvPr/>
        </p:nvSpPr>
        <p:spPr>
          <a:xfrm flipH="1">
            <a:off x="2581200" y="3957480"/>
            <a:ext cx="465120" cy="4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15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ytuł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570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bb13e"/>
                </a:solidFill>
                <a:latin typeface="Trebuchet MS"/>
              </a:rPr>
              <a:t>Leader I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(1991-93) 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– eksperyment  - podejście zintegrowane zamiast pojedynczych projektów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– 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17 L</a:t>
            </a:r>
            <a:r>
              <a:rPr b="1" lang="pl-PL" sz="2000" spc="-1" strike="noStrike">
                <a:solidFill>
                  <a:srgbClr val="ff3300"/>
                </a:solidFill>
                <a:latin typeface="Trebuchet MS"/>
              </a:rPr>
              <a:t>GD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bb13e"/>
                </a:solidFill>
                <a:latin typeface="Trebuchet MS"/>
              </a:rPr>
              <a:t>Leader II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(1994-99) 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– „laboratorium”  - ograniczenie do obszarów problemowych i dysfunkcyjnych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(pilotaż projektów innowacyjnych i współpracy międzynarodowej)</a:t>
            </a: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 – </a:t>
            </a:r>
            <a:r>
              <a:rPr b="1" lang="de-DE" sz="2000" spc="-1" strike="noStrike">
                <a:solidFill>
                  <a:srgbClr val="ff3300"/>
                </a:solidFill>
                <a:latin typeface="Trebuchet MS"/>
              </a:rPr>
              <a:t>906 L</a:t>
            </a:r>
            <a:r>
              <a:rPr b="1" lang="pl-PL" sz="2000" spc="-1" strike="noStrike">
                <a:solidFill>
                  <a:srgbClr val="ff3300"/>
                </a:solidFill>
                <a:latin typeface="Trebuchet MS"/>
              </a:rPr>
              <a:t>G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bb13e"/>
                </a:solidFill>
                <a:latin typeface="Trebuchet MS"/>
              </a:rPr>
              <a:t>Leader+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(2000-06 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oraz </a:t>
            </a: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 2004-2006) </a:t>
            </a:r>
            <a:r>
              <a:rPr b="1" lang="de-DE" sz="2000" spc="-1" strike="noStrike">
                <a:solidFill>
                  <a:srgbClr val="ff3300"/>
                </a:solidFill>
                <a:latin typeface="Trebuchet MS"/>
              </a:rPr>
              <a:t> 1153 L</a:t>
            </a:r>
            <a:r>
              <a:rPr b="1" lang="pl-PL" sz="2000" spc="-1" strike="noStrike">
                <a:solidFill>
                  <a:srgbClr val="ff3300"/>
                </a:solidFill>
                <a:latin typeface="Trebuchet MS"/>
              </a:rPr>
              <a:t>GD</a:t>
            </a:r>
            <a:r>
              <a:rPr b="1" lang="de-DE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Trebuchet MS"/>
              </a:rPr>
              <a:t>Inicjatywa wspólnotowa</a:t>
            </a:r>
            <a:r>
              <a:rPr b="1" lang="fr-BE" sz="2000" spc="-1" strike="noStrike">
                <a:solidFill>
                  <a:srgbClr val="000099"/>
                </a:solidFill>
                <a:latin typeface="Trebuchet MS"/>
              </a:rPr>
              <a:t>:</a:t>
            </a:r>
            <a:r>
              <a:rPr b="1" lang="fr-BE" sz="20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1" lang="de-DE" sz="2000" spc="-1" strike="noStrike">
                <a:solidFill>
                  <a:srgbClr val="ff3300"/>
                </a:solidFill>
                <a:latin typeface="Trebuchet MS"/>
              </a:rPr>
              <a:t>893 L</a:t>
            </a:r>
            <a:r>
              <a:rPr b="1" lang="pl-PL" sz="2000" spc="-1" strike="noStrike">
                <a:solidFill>
                  <a:srgbClr val="ff3300"/>
                </a:solidFill>
                <a:latin typeface="Trebuchet MS"/>
              </a:rPr>
              <a:t>GD</a:t>
            </a:r>
            <a:r>
              <a:rPr b="1" lang="pl-PL" sz="20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1" lang="fr-BE" sz="20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1" lang="pl-PL" sz="2000" spc="-1" strike="noStrike">
                <a:solidFill>
                  <a:srgbClr val="6c6c6c"/>
                </a:solidFill>
                <a:latin typeface="Trebuchet MS"/>
              </a:rPr>
              <a:t>-kwalifikowalnosc do wszystkich obszarów wiejskich, znaczna rola tworzenia sieci i współpracy międzynarodowej</a:t>
            </a:r>
            <a:r>
              <a:rPr b="1" lang="de-DE" sz="20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9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Trebuchet MS"/>
              </a:rPr>
              <a:t>Podejście typu LEADER w Nowych krajach członkowskich</a:t>
            </a:r>
            <a:r>
              <a:rPr b="1" lang="de-DE" sz="2000" spc="-1" strike="noStrike">
                <a:solidFill>
                  <a:srgbClr val="000099"/>
                </a:solidFill>
                <a:latin typeface="Trebuchet MS"/>
              </a:rPr>
              <a:t> 2004-2006</a:t>
            </a:r>
            <a:r>
              <a:rPr b="1" lang="de-DE" sz="2000" spc="-1" strike="noStrike">
                <a:solidFill>
                  <a:srgbClr val="6c6c6c"/>
                </a:solidFill>
                <a:latin typeface="Trebuchet MS"/>
              </a:rPr>
              <a:t> – </a:t>
            </a:r>
            <a:r>
              <a:rPr b="1" lang="de-DE" sz="2000" spc="-1" strike="noStrike">
                <a:solidFill>
                  <a:srgbClr val="ff3300"/>
                </a:solidFill>
                <a:latin typeface="Trebuchet MS"/>
              </a:rPr>
              <a:t>260 LAGs</a:t>
            </a:r>
            <a:r>
              <a:rPr b="1" lang="de-DE" sz="2000" spc="-1" strike="noStrike">
                <a:solidFill>
                  <a:srgbClr val="6c6c6c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bb13e"/>
                </a:solidFill>
                <a:latin typeface="Trebuchet MS"/>
              </a:rPr>
              <a:t>Oś LEADER 2007-13 </a:t>
            </a:r>
            <a:r>
              <a:rPr b="1" lang="pl-PL" sz="2000" spc="-1" strike="noStrike">
                <a:solidFill>
                  <a:srgbClr val="000000"/>
                </a:solidFill>
                <a:latin typeface="Trebuchet MS"/>
              </a:rPr>
              <a:t> – nie jest specyficznym programem, ale częścią „głównego nurtu” polityki wobec wsi.</a:t>
            </a:r>
            <a:r>
              <a:rPr b="1" lang="de-DE" sz="2000" spc="-1" strike="noStrike">
                <a:solidFill>
                  <a:srgbClr val="ff3300"/>
                </a:solidFill>
                <a:latin typeface="Trebuchet MS"/>
              </a:rPr>
              <a:t>2192</a:t>
            </a:r>
            <a:r>
              <a:rPr b="1" lang="pl-PL" sz="2000" spc="-1" strike="noStrike">
                <a:solidFill>
                  <a:srgbClr val="ff3300"/>
                </a:solidFill>
                <a:latin typeface="Trebuchet MS"/>
              </a:rPr>
              <a:t> </a:t>
            </a:r>
            <a:r>
              <a:rPr b="1" lang="de-DE" sz="2000" spc="-1" strike="noStrike">
                <a:solidFill>
                  <a:srgbClr val="ff3300"/>
                </a:solidFill>
                <a:latin typeface="Trebuchet MS"/>
              </a:rPr>
              <a:t>L</a:t>
            </a:r>
            <a:r>
              <a:rPr b="1" lang="pl-PL" sz="2000" spc="-1" strike="noStrike">
                <a:solidFill>
                  <a:srgbClr val="ff3300"/>
                </a:solidFill>
                <a:latin typeface="Trebuchet MS"/>
              </a:rPr>
              <a:t>GD</a:t>
            </a:r>
            <a:r>
              <a:rPr b="1" lang="de-DE" sz="2000" spc="-1" strike="noStrike">
                <a:solidFill>
                  <a:srgbClr val="ff33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3300"/>
                </a:solidFill>
                <a:latin typeface="Trebuchet MS"/>
              </a:rPr>
              <a:t>Średnio </a:t>
            </a:r>
            <a:r>
              <a:rPr b="1" lang="de-DE" sz="2000" spc="-1" strike="noStrike">
                <a:solidFill>
                  <a:srgbClr val="ff3300"/>
                </a:solidFill>
                <a:latin typeface="Trebuchet MS"/>
              </a:rPr>
              <a:t>6: % </a:t>
            </a:r>
            <a:r>
              <a:rPr b="1" lang="pl-PL" sz="2000" spc="-1" strike="noStrike">
                <a:solidFill>
                  <a:srgbClr val="ff3300"/>
                </a:solidFill>
                <a:latin typeface="Trebuchet MS"/>
              </a:rPr>
              <a:t>budżetu PROW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ytuł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Komisja przedstawiła swoje wstępne stanowisko 18 listopada 2010 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 stanowisku jest mowa o „dwóch filarach”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i trzech celach strategicznych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6c6c6c"/>
                </a:solidFill>
                <a:latin typeface="Trebuchet MS"/>
              </a:rPr>
              <a:t>Zabezpieczenie dostatecznej ilości żywności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6c6c6c"/>
                </a:solidFill>
                <a:latin typeface="Trebuchet MS"/>
              </a:rPr>
              <a:t>Jakość, wartość i zróżnicowanie żywności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6c6c6c"/>
                </a:solidFill>
                <a:latin typeface="Trebuchet MS"/>
              </a:rPr>
              <a:t>Zatrudnienie na obszarach rolniczych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Zdefiniowano trzy cele i trzy grupy instrumentów, nie do końca tożsame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ytuł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Zawsze jako trzeci pojawia się rozwój obszarów wiejskich, „równowaga terytorialna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Partnerstwo pojawia się tylko w przypisie jako ‘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innovation partnership "agricultural productivity and sustainability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” i dotyczy partnerstw na rzecz innowacyjności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 produkcji rolniczej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ytuł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Agricultural &amp; Rural Convention (ARC) to koalicja NGO działających na rzecz rozwoju obszarów wiejskich w Europi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ARC przygotowała swoje stanowisko dla Komisji Europejskiej w listopadzie 2010 r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ARC proponuje odejście od wsparcia rolnictwa „przemysłowego” na rzecz rolnictwa zrównoważonego,  powiązanego z ochroną środowisk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ytuł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ARC proponuje „renesans” obszarów wiejskich oraz utworzenie osobnych funduszy dla rolnictwa i dla obszarów wiejskic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Rozwój obszarów wiejskich miałby polegać na zintegrowaniu działań obecnie rozproszonych po różnych funduszach (gospodarka, infrastruktura, kultura, edukacja, sprawy społeczn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07:02:32Z</dcterms:created>
  <dc:creator>user</dc:creator>
  <dc:description/>
  <dc:language>en-US</dc:language>
  <cp:lastModifiedBy>Ryszard Kamiński</cp:lastModifiedBy>
  <dcterms:modified xsi:type="dcterms:W3CDTF">2011-04-20T08:05:58Z</dcterms:modified>
  <cp:revision>22</cp:revision>
  <dc:subject/>
  <dc:title>Slajd 1</dc:title>
</cp:coreProperties>
</file>