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916B-D5B3-4F48-B72B-B3634340DC5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jekt  musi zakładać wypracowanie modelu współpracy uczelni wyższych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sektorem przedsiębiorczości w zakresie rozwoju przedsiębiorczości akademickiej oraz komercjalizacji wyników prac badawczych. Stworzenie modelu współpracy uczelni wyższych, jednostek badawczych, jednostek badawczo-rozwojowych z przemysłem zwiększy szansę na transfer wiedzy oraz zastosowanie wyników prac badawczych w procesach przemysłowych zachodzących w przedsiębiorstwach. Opracowanie modelu pozwoli zwiększyć efektywność działań podejmowanych na rzecz transferu wiedzy i przeniesienie innowacji pomiędzy obszarem B+R do przedsiębiorst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207-CF56-4C32-B959-D79E019E249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2D0D-31E2-4B45-80CA-C29F159FBC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539D-5B70-4C1D-9807-8910B21368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 synergia udrożni proces wprowadzania do praktyki gospodarczej efektów badań naukowych i prac badawczo-rozwojowych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funkcjonowania systemu niezbędny jest rozwój potencjału rzeczowego i ludzkiego oraz zmiany organizacyjne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instytucjach sektora badawczo-rozwojow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05C-99FC-440F-8948-8E9729939F8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83AB-0E99-49F5-808C-C59B57EA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C2F-6252-4C08-81BF-BC046248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6D0-3FCF-4382-BF0D-F963248E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E90-9222-4FA7-805B-4CD8D26C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A117-94FB-41F7-95C9-1F40D2D2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51A-F9DC-4F11-AD8B-3D3CCD58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73A4-A442-4289-AE1B-36E16441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9145-BAD7-4EE0-9F90-6463294F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1F1C-E095-4B14-A11C-8B617847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D8FD-4301-4BE0-B19A-AFB7A856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465B-B4C8-4D9E-8B9D-E9C58CDB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9A4-DE28-4185-A3C3-299AFE4A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7E78-1977-46DE-929F-F4BE087E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8E65-B0F9-48C9-BEC6-4FA77364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6A27-465F-4545-930C-DF40E0B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7CD1-900F-4D1A-B47F-94CF621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C021-40A7-496B-946A-CFCACBE6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68FD5-4839-4765-B54D-14F7C010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1B727-33C7-4125-B216-370CE6A3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72575-B4F0-4541-BBC7-6E571E5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BD291-EBD1-4575-AF64-F12643FC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04990-6568-4905-8AF3-F461DDE6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444-0ADA-45CA-9F8E-CBA9F948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080701-84F3-4A7F-BF60-8D71BE5E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0519F-F001-4468-B00E-B65DD085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30A52-A3D1-46A9-B004-4C0428D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3689C-C6A2-4775-9433-26A9B0F8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21CE3-390B-4E09-B9CC-88DB97DA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17021-B2DD-412F-8701-D7E6A34C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F904B-0188-435F-BEA8-ABFE7686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B7CEC-3D58-4F0E-8F7E-7438C117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371734-42AC-40D7-98BA-6DD0256A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B5B54-1215-475E-8F2F-0F03CFDF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C63-859A-4A79-A9CD-2848E39B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2B1AC-70D8-40CA-AE75-A752587A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A6020B-C083-42B6-93C2-AEFBF568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02BAC-62D0-46FE-813B-0694EAB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B0E90-4413-4CA1-A9B0-81FA6F0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A56CA3-6C18-40D9-9D9B-309D7B3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F55845-304A-4DC3-8EC6-1DAEA10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E95EC-696A-4BAC-B401-6BF9962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F5DF5-3174-435E-A5CE-888B9040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D1924-B349-4627-AB39-78EA73E7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2BFB0-0A26-411D-BB9F-9845106D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BD8-5454-48BA-89A0-03617C4D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0940F-C8B1-4559-9D38-0C72888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4316B-7427-451A-9706-CC54ECFA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9A7E7-0B79-4F5B-A989-C7919EB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B74E1-D86E-44DE-9231-14705EA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2B68A-5655-4A66-8F99-AE736D7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FFEE8-4CFA-4555-8E6D-28163351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972B56-3813-49CE-8C28-99414C7D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26F64-B110-43F2-A6F7-D04A0C5E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A7B8E-26EE-43EB-B8E2-13E85E2B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9C50B3-336F-4459-B4CB-BC0A6BAF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9D6-CAF4-4555-B952-F0E68C59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95816-5149-402C-B168-2A6C9062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D73F1-9C78-47EA-B13C-671EB0FA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B2C33-761A-4C5A-AD80-5734E1B4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34D27-E22E-4403-AC7C-67E8BFFA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A846C-7A43-4523-BAD7-E249F59B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4A420-C8D3-4EA3-89C0-B78268AF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0EA7-A6B5-4CA3-8621-9677EA50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52FEA-0B20-44E9-B959-4EE38F4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45C7F-A4CD-4B67-BE2C-59C026BD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E7AB5-ABE1-4C40-B372-FFA8FAD3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B3D7-D4ED-4385-BC88-1970AA41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E8193-F7A0-41CB-9FA1-3CE3CC42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2B37-F987-4F01-B70C-381B9081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DF015-C556-4DD9-A92A-F783AA39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85EF2-32E4-4F62-AD03-127D4E7A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8413E-B064-41C8-A302-5FF0AF2F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612C8-F496-479E-9EEB-FFFA590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95DAE-571D-48F0-9F4A-EF5828E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676D0E-6A78-4441-95BE-0F99701F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59A61E-8165-451E-B5A6-D92E0ADB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2E772-38F6-4B94-99EE-DD650C23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0DA-6B6A-4FD9-8DB9-ADDB5FF0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B8A69-D59B-4EC8-8D6C-408EBDCA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56FA7-AB31-4B62-95AE-A1CD8D0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0F37EC-D293-43F7-8939-46459D7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6DC80-4346-47E8-9617-5EF7F79C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C8D2B-59E9-437A-BA2F-F6A4FD3C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E721F-DBD2-48DF-9311-E4760A72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C0E29-04CD-4487-B756-1D3ABB43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E9645-D700-4BB9-BF3C-C332375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654FA-AF70-46E0-A051-F1E00D39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3E6C0-019B-4881-B594-8EEA7BD5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C91-F97F-4466-9341-88D0C0EB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C7E2C-FF00-4B57-A773-933921B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A69D1-D63A-4C28-B6C6-28D2E11F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64D6D-6645-413B-AB55-FFD820D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F280C-24F0-4B82-A3C8-8186CCC5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1B49-DF6F-425C-AD8B-C4DD2FB0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FC4EA-9A03-4F4B-857E-FA7A8752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552B-E476-4372-B31C-7D517156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F525-D881-4BC2-BFA1-5685D394C8D1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1BFB-0605-43E0-8F8D-1ABDFE012A4F}" type="slidenum">
              <a:rPr b="1" lang="pl-P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7B03-4AEE-4AF0-935F-5564A0A5AD99}" type="slidenum">
              <a:rPr b="1" lang="pl-P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05D5-5757-4F4A-9D03-32AE3668352A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5EF-4890-4583-8222-20CFEEE3A0BC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F6D-44CA-43F2-81F9-BF74C958F2BE}" type="slidenum">
              <a:rPr b="1" lang="pl-P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220A-D0B2-4A9E-BCED-531B994E7FD0}" type="slidenum">
              <a:rPr b="1" lang="pl-P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EECA-E7BF-4075-996D-3B9BD3ABA337}" type="slidenum">
              <a:rPr b="1" lang="pl-P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1680" y="1143000"/>
            <a:ext cx="7772400" cy="31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ebddc3"/>
                </a:solidFill>
                <a:latin typeface="Tw Cen MT"/>
              </a:rPr>
              <a:t>TWORZENIE WARUNKÓW DLA WSPÓŁDZIAŁANIA NAUKI </a:t>
            </a:r>
            <a:br>
              <a:rPr sz="4000"/>
            </a:br>
            <a:r>
              <a:rPr b="1" i="1" lang="pl-PL" sz="4000" spc="-1" strike="noStrike">
                <a:solidFill>
                  <a:srgbClr val="ebddc3"/>
                </a:solidFill>
                <a:latin typeface="Tw Cen MT"/>
              </a:rPr>
              <a:t>I GOSPODARKI JAKO ELEMENT POLITYKI  INNOWACYJNEJ SAMORZĄDU WOJEWÓDZTWA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14720" y="600048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Tw Cen MT"/>
              </a:rPr>
              <a:t>Toruń, 9 grudnia 2010r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Poddziałanie 8.2.1 POKL - </a:t>
            </a:r>
            <a:br>
              <a:rPr sz="3600"/>
            </a:b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Projekty innowacyjne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213840" y="1785960"/>
            <a:ext cx="8551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Temat: Rozwijanie przedsiębiorczości akademickiej jako formy kształtowania innowacyjnych kadr nowoczesnej gospodarki oraz rozwiązania w zakresie wykorzystania wyników badań naukowych przez przedsiębiorców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Termin składania wniosków: </a:t>
            </a: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17 grudnia 2010 godz. 13:3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ojekt  musi zakładać wypracowanie modelu współpracy uczelni wyższych z sektorem przedsiębiorczości w zakresie rozwoju przedsiębiorczości akademickiej oraz komercjalizacji wyników prac badawczych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Poddziałanie 8.2.2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2960" y="17146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w Cen MT"/>
              </a:rPr>
              <a:t>Typy projektów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Tworzenie rozwój i aktualizacja Regionalnych Strategii Innowacj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sparcie tworzenia i rozwoju sieci współpracy i wymiany informacji między naukowcami  a przedsiębiorcami w zakresie innowacji i transferu technologii na poziomie regionalnym i lokalny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ypendia naukowe i wsparcie towarzyszące dla doktorantów kształcących się na kierunkach uznanych za szczególnie istotne z punktu widzenia rozwoju województw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Projekt- Centrum Zarządzania Regionalnym Systemem Innowacji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18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2900" spc="-1" strike="noStrike" u="sng">
                <a:solidFill>
                  <a:srgbClr val="000000"/>
                </a:solidFill>
                <a:uFillTx/>
                <a:latin typeface="Tw Cen MT"/>
              </a:rPr>
              <a:t>Cel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identyfikacja warunków rozwoju potencjału innowacyjnego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w regionie na rzecz aktualizacji RSI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wsparcie rozwoju sieci współpracy i wymiany informacji między nauką a biznesem w zakresie innowacji oraz transferu technologii,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upowszechnianie współpracy przedsiębiorców, środowisk naukowych i administracyjnych na rzecz innowacji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238880" cy="893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Spotkania środowiskow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4360" y="2204640"/>
            <a:ext cx="822960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spcAft>
                <a:spcPts val="1199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potkania przedstawicieli nauki, biznesu, administracj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łużą konfrontacji działań prowadzonych przez różne podmioty w województwie kujawsko-pomorskim, wymianie dobrych praktyk, mają na celu także nawiązanie współpracy przedstawicieli nauki i gospodark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Budowa Internetowej Platformy Innowacji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8360" y="206064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ystem informatyczny, który umożliwi wymianę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informacji o projektach i przedsięwzięciach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innowacyjnych, realizowanych na terenie województwa kujawsko-pomorskiego (między sektorem nauki,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biznesu i administracji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2880" indent="-2728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System ma na celu kojarzenie nauki z biznesem (przedsiębiorcy  z  odpowiednim naukowcem)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Działanie 5.4 RP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599840"/>
            <a:ext cx="81532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3000" spc="-1" strike="noStrike">
                <a:solidFill>
                  <a:srgbClr val="000000"/>
                </a:solidFill>
                <a:latin typeface="Tw Cen MT"/>
              </a:rPr>
              <a:t>Przykładowe typy projektów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ojekty mające na celu transfer technologii i udoskonalanie sieci współpracy obejmujące wyposażenie w środki i zasoby związane z tworzeniem i rozwojem powiązań kooperacyjnych realizowane w ramach współpracy przedsiębiorstw oraz instytucji B+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ojekty obejmujące roboty i wyposażenie w środki i zasoby związane z tworzeniem i funkcjonowaniem struktur wsparcia na rzecz inkubacji i rozwoju naukowo-technologicznego, w tym inkubatory przedsiębiorczości tworzone przy udziale jednostek naukowo-badawczych, parki przemysłowe, itp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drożenie wyników prac B+RT, w tym opracowanie wzorów przemysłowych i wzorów użytkowych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Realizowane projekty z działania 5.4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599840"/>
            <a:ext cx="81532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w Cen MT"/>
              </a:rPr>
              <a:t>Realizacja II etapu Regionalnego Centrum Innowacyjności przy UTP w Bydgoszcz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zedmiot projekt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96280" algn="just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utworzenie sieci laboratoriów badawczych w obszarze nauk technicznych i przyrodniczych w ramach struktur organizacyjnych Uniwersytetu Technologiczno-Przyrodniczego w Bydgoszczy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96280" algn="just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wzmocnienie potencjału ilościowego i jakościowego uczelni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w zakresie infrastruktury badawczej, umożliwiającego prowadzenie badań na rzecz otoczenia gospodarczego na najwyższym poziomie naukowym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 algn="just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Zakres projekt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96280" algn="just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modernizacja i adaptacja pomieszczeń na jednostkach UTP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96280" algn="just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w Cen MT"/>
              </a:rPr>
              <a:t>zakup specjalistycznej aparatury naukowo-badawczej i wyposa- żenia dla 28 laboratoriów (od 2010 roku do 2013 roku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56760" y="1428840"/>
            <a:ext cx="857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w Cen MT"/>
              </a:rPr>
              <a:t>Budowa Interdyscyplinarnego Centrum Nowoczesnych Technologii UMK w Toruni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Przedmiot projektu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budowa i wyposażenie Interdyscyplinarnego Centrum Nowoczesnych Technologii UMK w Toruniu, poprzez stworzenie infrastruktury badawczo-naukowej dla badań mających znaczenie aplikacyjne oraz dla przyciągania, stabilizacji oraz rozwoju kadry badawczej o najwyższych kwalifikacjach, warunkujących rozwój gospodarki województwa kujawsko-pomorskiego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zakup aparatury badawczo-naukowej wraz z wyposażeniem dla specjalistycznych laboratoriów w ramach czterech wybranych projektów badawczych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- Genomika funkcjonowania w badaniach biologicznych i biomedycznych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- Centrum Metod Separacyjnych i Bioanalitycznych „BioSep”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- Zespół Interdyscyplinarnej Fizyki i Informatyki,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- Neuroobrazowanie, neuropsychologia i neurobiologia funkcji poznawczych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Realizowane projekty z działania 5.4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Najbliższy konkurs zostanie ogłoszony w grudniu 2010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Maksymalna wartość projektów celowych wynosi do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400 tys. zł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Alokacja finansowa na konkurs 5 mln zł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Konkurs przeprowadzony zostanie dwuetapowo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z wykorzystaniem procedury preselekcj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Wstępnej oceny dokona </a:t>
            </a:r>
            <a:r>
              <a:rPr b="1" lang="pl-PL" sz="2600" spc="-1" strike="noStrike">
                <a:solidFill>
                  <a:srgbClr val="000000"/>
                </a:solidFill>
                <a:latin typeface="Tw Cen MT"/>
              </a:rPr>
              <a:t>Zespół ekspertów Zarządu Województwa Kujawsko-Pomorskiego ds. polityki innowacyjnej i badawczo-rozwojowe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Działanie 5.4 RP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Wojewódzki Fundusz Badań Naukowych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680" y="18568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Cel: wspieranie badań, które w istotny sposób wpływać będą na rozwój regionu. Celem jest również zacieśnienie współpracy sektora nauki z gospodarką. Odbywać się to będzie poprzez stosowanie instrumentów zachęcających naukowców do podejmowania prac badawczych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i rozwojowych zgodnie z potrzebami przedsiębiorców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Dotacje na projekty celowe dla ośrodków naukowo-badawczych realizujących badania ważne z punktu widzenia rozwoju województw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Regionalna Strategia Innowacji Województwa Kujawsko-Pomorskieg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42600" y="1785600"/>
            <a:ext cx="80312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Priorytet 2  Stworzenie efektywnego systemu współpracy pomiędzy sferami gospodarki </a:t>
            </a:r>
            <a:br>
              <a:rPr sz="2900"/>
            </a:br>
            <a:r>
              <a:rPr b="1" lang="pl-PL" sz="2900" spc="-1" strike="noStrike">
                <a:solidFill>
                  <a:srgbClr val="000000"/>
                </a:solidFill>
                <a:latin typeface="Tw Cen MT"/>
              </a:rPr>
              <a:t>i nauki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worzenie efektywnego systemu współpracy pomiędzy sferami gospodarki i nauki jest kluczowym warunkiem skuteczności działań proinnowacyjnych. System ten winien spowodować większe zainteresowanie przedstawicieli nauki rozwiązywaniem konkretnych problemów występując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 gospodarce. Musi także wpłynąć na zwiększenie otwartości przedsiębiorstw na kontakty z nauką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611280" y="198864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wota: 15 mln zł na lata 2011-201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Beneficjenci: ośrodki badawczo-naukowe, które prowadzą badania na rzecz rozwoju regionu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Wartość projektu badawczego wynosić będzie </a:t>
            </a:r>
            <a:br>
              <a:rPr sz="2900"/>
            </a:b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do 1 000 000 zł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Tytuł 1"/>
          <p:cNvSpPr/>
          <p:nvPr/>
        </p:nvSpPr>
        <p:spPr>
          <a:xfrm>
            <a:off x="6429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Wojewódzki Fundusz Badań Naukow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Vouchery innowacyj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4000" y="171468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Wprowadzenie voucherów dla mikro, małych i średnich przedsiębiorców, za który będą mogli kupić usługi badawczo-rozwojowe. Voucher ma być narzędziem inicjującym współpracę między sektorami biznesu i nauki,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co przyczyni się do podnoszenia innowacyjności w regionie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i przyspieszy transfer wiedz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18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Kujawsko-Pomorski Związek Pracodawców i Przedsiębiorców będzie podmiotem zarządzającym przedsięwzięciem w trakcie jego realizacji i po jego zrealizowaniu, do czego powoła wyodrębnioną komórkę organizacyjną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Vouchery innowacyj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Konkursy będą organizowane w 2011 i w 2012 roku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Rodzaje voucherów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Tw Cen MT"/>
              </a:rPr>
              <a:t>voucher badawczy na pierwszy kontakt z jednostką naukową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Tw Cen MT"/>
              </a:rPr>
              <a:t>voucher badawczy na rozwój współpracy badawczo-rozwojowe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7120" y="228600"/>
            <a:ext cx="87868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Voucher badawczy na pierwszy </a:t>
            </a:r>
            <a:br>
              <a:rPr sz="3600"/>
            </a:b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kontakt z jednostką naukową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57120" y="1499760"/>
            <a:ext cx="8408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przeznaczony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na</a:t>
            </a:r>
            <a:r>
              <a:rPr b="0" i="1" lang="pl-PL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zainicjowanie kontaktu przez mikro, małych lub średnich przedsiębiorców prowadzących działalność w regionie kujawsko-pomorskim z wykonawcą -jednostką naukową  poprzez zakup usługi/usług badawczo-rozwojowych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o ten typ vouchera mogą starać się wyłącznie MŚP, które nie korzystały do dnia złożenia wniosku z usług jednostki naukow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 zakresie prac badawczo-rozwojowych;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maksymalna wartość wsparcia w postaci vouchera to 25 000,00 zł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ielkość wsparcia może wynosić do 100% wydatków kwalifikujących się do objęcia wsparciem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ealizacja usługi i jej rozliczenie finansowe może obejmować maksymalnie okres 8 miesięcy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6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nioskodawca może korzystać z tego typu vouchera tylko jednokrotnie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71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Voucher badawczy na rozwój </a:t>
            </a:r>
            <a:br>
              <a:rPr sz="3600"/>
            </a:b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współpracy badawczo-rozwojowej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57120" y="1599840"/>
            <a:ext cx="8501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przeznaczony na zakup usługi/usług badawczo-rozwojowych</a:t>
            </a:r>
            <a:r>
              <a:rPr b="0" i="1" lang="pl-PL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przez </a:t>
            </a:r>
            <a:r>
              <a:rPr b="0" i="1" lang="pl-PL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mikro, małych lub średnich przedsiębiorców prowadzących działalność w regionie kujawsko-pomorskim od wykonawcy – jednostki naukowej;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przeznaczony dla wnioskodawców, którzy prowadzili już współpracę z jednostką naukową w zakresie usług badawczo-rozwojowych;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maksymalna wartość wsparcia w postaci vouchera to 50 000,00 zł;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wielkość wsparcia może wynosić do 80% wydatków kwalifikujących się do objęcia wsparciem;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realizacja usługi i jej rozliczenie finansowe może obejmować maksymalnie okres 12 miesięcy;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wnioskodawca może korzystać z tego typu vouchera jednokrotnie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Kryteria oceny merytorycznej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57120" y="1600200"/>
            <a:ext cx="840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1" lang="pl-PL" sz="2300" spc="-1" strike="noStrike">
                <a:solidFill>
                  <a:srgbClr val="000000"/>
                </a:solidFill>
                <a:latin typeface="Tw Cen MT"/>
              </a:rPr>
              <a:t>Kryteria oceny merytorycznej będą preferować Wnioskodawców przedstawiających do oceny projekty spełniające założenia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267840" indent="-267840" algn="just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ealizacja współpracy z jednostką naukową  posiadającą siedzibę/filię/oddział i prowadzącą działalność na terenie województwa kujawsko-pomorskiego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7840" indent="-267840" algn="just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ealizacja prac badawczo-rozwojowych prowadzących do zainicjowania lub rozwoju  współpracy z innymi przedsiębiorcami lub jednostkami badawczo-rozwojowymi w ramach powiązania kooperacyjnego (w tym klastra)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7840" indent="-267840" algn="just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ealizacja prac badawczo-rozwojowych w ramach branż kluczowych dla gospodarki regionalnej określonych w Regionalnej Strategii Innowacji  Województwa Kujawsko-Pomorskiego do roku 2015;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7840" indent="-267840" algn="just"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realizacja prac badawczo-rozwojowych dotyczących opracowania nowych produktów/produktu i procesów/procesu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643040" y="2928960"/>
            <a:ext cx="75009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w Cen MT"/>
              </a:rPr>
              <a:t>Anna Fladrowsk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Urząd Marszałkowski Województwa Kujawsko-Pomorskiego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ydział Rozwoju i Innowacji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1643040" y="85680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355d7e"/>
                </a:solidFill>
                <a:latin typeface="Tw Cen MT"/>
              </a:rPr>
              <a:t>Dziękuję za uwagę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ole tekstowe 4"/>
          <p:cNvSpPr/>
          <p:nvPr/>
        </p:nvSpPr>
        <p:spPr>
          <a:xfrm>
            <a:off x="2786040" y="4714920"/>
            <a:ext cx="54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Tel. 056 656 10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E-mail: a.fladrowska@kujawsko-pomorski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2876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spółpraca powinna być realizowana poprzez wzajemną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wymianę doświadczeń w ramach prowadzonej praktyki naukow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i gospodarczej. Sektor B+R powinien ponadto rozszerzyć działania identyfikujące potrzeby przedsiębiorstw i włączać się w procesy komercjalizacji zainicjowanych przedsięwzięć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200" spc="-1" strike="noStrike" u="sng">
                <a:solidFill>
                  <a:srgbClr val="000000"/>
                </a:solidFill>
                <a:uFillTx/>
                <a:latin typeface="Tw Cen MT"/>
              </a:rPr>
              <a:t>Konieczne działania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- organizowanie praktyk i staży (nauka - przemysł)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- wspomaganie kampanii reklamowych marek i produktów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- utworzenie regionalnego centrum wzornictwa przemysłowego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- stworzenie systemu doskonalenia pracowników przedsiębiorstw przez sektor badawczo-rozwojowy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w Cen MT"/>
              </a:rPr>
              <a:t>- stworzenie systemu monitorowania potrzeb przedsiębiorstw przez sektor B+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Regionalna Strategia Innowacji Województwa Kujawsko-Pomorskiego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Wnioski z przeprowadzonych badań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7168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Zdecydowana większość przedsiębiorców nie odczuwa potrzeby współpracy z instytucjami B+R. W większym stopniu potrzebę takiej współpracy dostrzegają przedsiębiorstwa bardziej rozwinięt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Ograniczeniami w nawiązywaniu przez sektor MŚP współpracy z sektorem nauki i B+R w regionie są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Brak środków finansowych,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Nieznajomość oferty regionalnych instytucji B+R,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w Cen MT"/>
              </a:rPr>
              <a:t>Uogólnione przekonanie, że ich oferta jest nieatrakcyjna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Rekomendacj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worzenie portalu prezentującego informacje na temat działających w regionie instytucji B+R i ich oferty oraz umożliwiającego zgłaszanie przez przedsiębiorstwa zapotrzebowania na prace z zakresu B+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rganizowanie doraźnych oraz stałych forów umożliwiających kontakt pomiędzy przedstawicielami sektora przedsiębiorstw a przedstawicielami sfery B+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ykorzystanie do stymulowania popytu na innowacje instrumentów wsparcia finansowego skierowanego zarówno do przedsiębiorców jak i do instytucji B+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Organizowanie staży pracowników naukowych i doktorantów w przedsiębiorstwach, w celu nawiązywania lub wzmacniania kontaktów MŚP z uczelniami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071360" y="2743200"/>
            <a:ext cx="742284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775f55"/>
                </a:solidFill>
                <a:latin typeface="Tw Cen MT"/>
              </a:rPr>
              <a:t>Działania podejmowane </a:t>
            </a:r>
            <a:br>
              <a:rPr sz="4400"/>
            </a:br>
            <a:r>
              <a:rPr b="1" lang="pl-PL" sz="4400" spc="-1" strike="noStrike">
                <a:solidFill>
                  <a:srgbClr val="775f55"/>
                </a:solidFill>
                <a:latin typeface="Tw Cen MT"/>
              </a:rPr>
              <a:t>przez Samorząd Województw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Obraz 3" descr="województwo kontury.png"/>
          <p:cNvPicPr/>
          <p:nvPr/>
        </p:nvPicPr>
        <p:blipFill>
          <a:blip r:embed="rId1"/>
          <a:stretch/>
        </p:blipFill>
        <p:spPr>
          <a:xfrm>
            <a:off x="1352520" y="1212840"/>
            <a:ext cx="6426360" cy="6273720"/>
          </a:xfrm>
          <a:prstGeom prst="rect">
            <a:avLst/>
          </a:prstGeom>
          <a:ln w="0">
            <a:noFill/>
          </a:ln>
        </p:spPr>
      </p:pic>
      <p:pic>
        <p:nvPicPr>
          <p:cNvPr id="370" name="Obraz 21" descr="e-edukacja.png"/>
          <p:cNvPicPr/>
          <p:nvPr/>
        </p:nvPicPr>
        <p:blipFill>
          <a:blip r:embed="rId2"/>
          <a:stretch/>
        </p:blipFill>
        <p:spPr>
          <a:xfrm>
            <a:off x="4572000" y="3643200"/>
            <a:ext cx="178596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1" name="Obraz 23" descr="sip2.png"/>
          <p:cNvPicPr/>
          <p:nvPr/>
        </p:nvPicPr>
        <p:blipFill>
          <a:blip r:embed="rId3"/>
          <a:stretch/>
        </p:blipFill>
        <p:spPr>
          <a:xfrm>
            <a:off x="3429000" y="4286160"/>
            <a:ext cx="1712880" cy="1697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2" name="Elipsa 9"/>
          <p:cNvSpPr/>
          <p:nvPr/>
        </p:nvSpPr>
        <p:spPr>
          <a:xfrm>
            <a:off x="2428920" y="2214720"/>
            <a:ext cx="3857760" cy="3714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Obraz 22" descr="e-zdrowie2.png"/>
          <p:cNvPicPr/>
          <p:nvPr/>
        </p:nvPicPr>
        <p:blipFill>
          <a:blip r:embed="rId4"/>
          <a:stretch/>
        </p:blipFill>
        <p:spPr>
          <a:xfrm>
            <a:off x="2428920" y="3643200"/>
            <a:ext cx="1557360" cy="15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4" name="Obraz 20" descr="wrota2.png"/>
          <p:cNvPicPr/>
          <p:nvPr/>
        </p:nvPicPr>
        <p:blipFill>
          <a:blip r:embed="rId5"/>
          <a:stretch/>
        </p:blipFill>
        <p:spPr>
          <a:xfrm>
            <a:off x="2928960" y="2357280"/>
            <a:ext cx="1500120" cy="14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5" name="Obraz 19" descr="wrota.png"/>
          <p:cNvPicPr/>
          <p:nvPr/>
        </p:nvPicPr>
        <p:blipFill>
          <a:blip r:embed="rId6"/>
          <a:stretch/>
        </p:blipFill>
        <p:spPr>
          <a:xfrm>
            <a:off x="3929040" y="2214720"/>
            <a:ext cx="1785960" cy="17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76" name="Prostokąt 10"/>
          <p:cNvSpPr/>
          <p:nvPr/>
        </p:nvSpPr>
        <p:spPr>
          <a:xfrm>
            <a:off x="0" y="21420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775f55"/>
                </a:solidFill>
                <a:latin typeface="Tw Cen MT"/>
              </a:rPr>
              <a:t>ROLĄ SAMORZĄDU JEST INTEGRACJA DZIAŁAŃ I STWORZENIE WARUNKÓW DO BUDOWY SYSTEMU INNOWACJ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Finansowanie systemu współpracy pomiędzy sferą gospodarki i nauki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1856880"/>
            <a:ext cx="7929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Działanie 8.2 Programu Operacyjnego Kapitał Ludzk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Cel: zwiększenie transferu wiedzy i wzmocnienie powiązań sfery B+R z przedsiębiorstwami, służące rozwojowi gospodarczem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Działanie 5.4 Regionalnego Programu Operacyjneg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w Cen MT"/>
              </a:rPr>
              <a:t>Cel: wykorzystanie potencjału nauki i jednostek B+RT dla wzrostu konkurencyjności region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775f55"/>
                </a:solidFill>
                <a:latin typeface="Tw Cen MT"/>
              </a:rPr>
              <a:t>Poddziałanie 8.2.1 POKL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pl-PL" sz="3000" spc="-1" strike="noStrike">
                <a:solidFill>
                  <a:srgbClr val="000000"/>
                </a:solidFill>
                <a:latin typeface="Tw Cen MT"/>
              </a:rPr>
              <a:t>Przykładowe typy projektów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Staże i szkolenia praktyczne dl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acowników przedsiębiorstw w jednostkach naukowych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acowników naukowych w przedsiębiorstw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Promocja idei przedsiębiorczości akademickiej, w celu komercjalizacji wiedzy i umiejętności zespołu działającego na uczelni lub w jednostce naukowej (firmy typu spin off lub spin ou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Wsparcie tworzenia i rozwoju sieci współpracy i wymiany informacji między naukowcami a przedsiębiorcami w zakresie innowacji i transferu technologii na poziomie regionalny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w Cen MT"/>
              </a:rPr>
              <a:t>i lokalny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8:08:13Z</dcterms:created>
  <dc:creator>Anna Fladrowska</dc:creator>
  <dc:description/>
  <dc:language>en-US</dc:language>
  <cp:lastModifiedBy>Anna Fladrowska</cp:lastModifiedBy>
  <dcterms:modified xsi:type="dcterms:W3CDTF">2010-12-06T09:11:21Z</dcterms:modified>
  <cp:revision>114</cp:revision>
  <dc:subject/>
  <dc:title>Tworzenie warunków dla współdziałania nauki i gospodarki jako element polityki innowacyjnej samorządu województwa</dc:title>
</cp:coreProperties>
</file>