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.wmf" ContentType="image/x-wmf"/>
  <Override PartName="/ppt/media/image2.jpeg" ContentType="image/jpeg"/>
  <Override PartName="/ppt/media/image24.png" ContentType="image/png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4FEE-9145-4806-A721-98D6A7B5849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FAA3-6295-4A6D-9720-E3FA89D4A41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80FD-DF4B-40C4-AD50-9BB4AD45366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B5E-8657-41B0-A8B0-E9B19B86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25988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586-4724-4E13-A50B-7F8F045B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206064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2598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2598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A25-53C2-4479-847D-59D9D9AB2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206064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206064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2598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2598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259880"/>
            <a:ext cx="264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B45-47F7-46B2-9B33-32080BEB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206064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4E8-E7F6-4693-ADE6-E34478BF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A77-55BD-4736-8109-C7621FFC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206064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AC4-F23E-46D4-A095-059CE18D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DB7-B105-4DC5-A91A-7B8A77F9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D80-DEEE-46F2-AF0B-E7DCE824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206064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2598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7E52-F0A7-417D-824B-556E061E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15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206064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25988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2B2E-957F-4B43-8BEF-ECF28427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2060640"/>
            <a:ext cx="40158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25988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ABCF-126B-483E-8227-58378CD4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06064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87F0-D263-4D5A-A473-F8C13DF5B1A7}" type="datetime">
              <a:rPr b="0" lang="pl-PL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6FF1-3544-48D5-8CC8-2D265AB079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Obraz 2" descr="nowe logo"/>
          <p:cNvPicPr/>
          <p:nvPr/>
        </p:nvPicPr>
        <p:blipFill>
          <a:blip r:embed="rId2"/>
          <a:stretch/>
        </p:blipFill>
        <p:spPr>
          <a:xfrm>
            <a:off x="1763640" y="44280"/>
            <a:ext cx="5641920" cy="72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398600"/>
            <a:ext cx="8928000" cy="32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254061"/>
                </a:solidFill>
                <a:latin typeface="Verdana"/>
              </a:rPr>
              <a:t>Identyfikacja kierunków </a:t>
            </a:r>
            <a:br>
              <a:rPr sz="2800"/>
            </a:br>
            <a:r>
              <a:rPr b="1" i="1" lang="pl-PL" sz="2800" spc="-1" strike="noStrike">
                <a:solidFill>
                  <a:srgbClr val="254061"/>
                </a:solidFill>
                <a:latin typeface="Verdana"/>
              </a:rPr>
              <a:t>rozwoju sektora MŚP w województwie kujawsko-pomorskim</a:t>
            </a:r>
            <a:br>
              <a:rPr sz="2800"/>
            </a:br>
            <a:br>
              <a:rPr sz="2800"/>
            </a:b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Najważniejsze wnioski i rekomendacj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5950080"/>
            <a:ext cx="6400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Toruń, 9. grudnia 201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2A32-305A-46A9-9B50-69C9B2D23A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az 5" descr=""/>
          <p:cNvPicPr/>
          <p:nvPr/>
        </p:nvPicPr>
        <p:blipFill>
          <a:blip r:embed="rId1"/>
          <a:stretch/>
        </p:blipFill>
        <p:spPr>
          <a:xfrm>
            <a:off x="3419640" y="4797360"/>
            <a:ext cx="215244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Zagadnien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557360"/>
            <a:ext cx="8785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Kondycja oraz poziom innowacyjności MŚ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Warunki powstawania i funkcjonowania MŚ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54061"/>
                </a:solidFill>
                <a:latin typeface="Calibri"/>
              </a:rPr>
              <a:t>Potrzeby MŚ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54061"/>
                </a:solidFill>
                <a:latin typeface="Calibri"/>
              </a:rPr>
              <a:t>Stan wybranych uwarunkowa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Artykulacja interesów MŚ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System wspar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Rekomendac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67DF-3253-4EA6-B52B-D14D7B5AF9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rostokąt 4"/>
          <p:cNvSpPr/>
          <p:nvPr/>
        </p:nvSpPr>
        <p:spPr>
          <a:xfrm>
            <a:off x="179280" y="2349360"/>
            <a:ext cx="8209080" cy="574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załka w prawo 5"/>
          <p:cNvSpPr/>
          <p:nvPr/>
        </p:nvSpPr>
        <p:spPr>
          <a:xfrm>
            <a:off x="250920" y="2997360"/>
            <a:ext cx="433440" cy="28728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Problemy w pierwszym roku (2004-2010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C6C3-509F-4019-9870-EFC223B7F0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rcRect l="780" t="1193" r="11300" b="20250"/>
          <a:stretch/>
        </p:blipFill>
        <p:spPr>
          <a:xfrm>
            <a:off x="509760" y="1487520"/>
            <a:ext cx="8124480" cy="4746600"/>
          </a:xfrm>
          <a:prstGeom prst="rect">
            <a:avLst/>
          </a:prstGeom>
          <a:ln w="0">
            <a:noFill/>
          </a:ln>
        </p:spPr>
      </p:pic>
      <p:sp>
        <p:nvSpPr>
          <p:cNvPr id="119" name="pole tekstowe 11"/>
          <p:cNvSpPr/>
          <p:nvPr/>
        </p:nvSpPr>
        <p:spPr>
          <a:xfrm>
            <a:off x="3995640" y="6308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Źródło: Badanie ankietowe MŚP, maj 2010 ro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254061"/>
                </a:solidFill>
                <a:latin typeface="Verdana"/>
              </a:rPr>
              <a:t>Uwarunkowania prowadzenia działalności 1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78B5-F738-4357-A4C6-64FA1F6425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ole tekstowe 11"/>
          <p:cNvSpPr/>
          <p:nvPr/>
        </p:nvSpPr>
        <p:spPr>
          <a:xfrm>
            <a:off x="4572000" y="6381720"/>
            <a:ext cx="43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Źródło: Badanie ankietowe MŚP, maj 2010 ro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780" t="1789" r="5065" b="19660"/>
          <a:stretch/>
        </p:blipFill>
        <p:spPr>
          <a:xfrm>
            <a:off x="112680" y="1449360"/>
            <a:ext cx="878040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254061"/>
                </a:solidFill>
                <a:latin typeface="Verdana"/>
              </a:rPr>
              <a:t>Uwarunkowania prowadzenia działalności 2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A7B2-13B5-4F82-9228-D0C2B5D12D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ole tekstowe 11"/>
          <p:cNvSpPr/>
          <p:nvPr/>
        </p:nvSpPr>
        <p:spPr>
          <a:xfrm>
            <a:off x="4572000" y="6381720"/>
            <a:ext cx="43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Źródło: Badanie ankietowe MŚP, maj 2010 ro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1170" t="1789" r="4675" b="25022"/>
          <a:stretch/>
        </p:blipFill>
        <p:spPr>
          <a:xfrm>
            <a:off x="184320" y="1703520"/>
            <a:ext cx="878040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254061"/>
                </a:solidFill>
                <a:latin typeface="Verdana"/>
              </a:rPr>
              <a:t>Uwarunkowania prowadzenia działalności 3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9B00-3767-4B93-BFA4-D3E0BFE34E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ole tekstowe 11"/>
          <p:cNvSpPr/>
          <p:nvPr/>
        </p:nvSpPr>
        <p:spPr>
          <a:xfrm>
            <a:off x="4643280" y="6381720"/>
            <a:ext cx="432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Źródło: Badanie ankietowe MŚP, maj 2010 ro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rcRect l="1560" t="1193" r="4285" b="27402"/>
          <a:stretch/>
        </p:blipFill>
        <p:spPr>
          <a:xfrm>
            <a:off x="222120" y="1703520"/>
            <a:ext cx="869976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CD1F-12A0-4FBC-A956-4F4CD3F803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ole tekstowe 12"/>
          <p:cNvSpPr/>
          <p:nvPr/>
        </p:nvSpPr>
        <p:spPr>
          <a:xfrm>
            <a:off x="108000" y="1413000"/>
            <a:ext cx="87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54061"/>
                </a:solidFill>
                <a:latin typeface="Verdana"/>
              </a:rPr>
              <a:t>Posiadanie strategi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254061"/>
                </a:solidFill>
                <a:latin typeface="Verdana"/>
              </a:rPr>
              <a:t>Awangarda </a:t>
            </a: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sektora MŚP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26" descr=""/>
          <p:cNvPicPr/>
          <p:nvPr/>
        </p:nvPicPr>
        <p:blipFill>
          <a:blip r:embed="rId1"/>
          <a:srcRect l="8879" t="28969" r="1778" b="0"/>
          <a:stretch/>
        </p:blipFill>
        <p:spPr>
          <a:xfrm>
            <a:off x="108000" y="1916280"/>
            <a:ext cx="8915400" cy="2385720"/>
          </a:xfrm>
          <a:prstGeom prst="rect">
            <a:avLst/>
          </a:prstGeom>
          <a:ln w="0">
            <a:noFill/>
          </a:ln>
        </p:spPr>
      </p:pic>
      <p:sp>
        <p:nvSpPr>
          <p:cNvPr id="136" name="pole tekstowe 6"/>
          <p:cNvSpPr/>
          <p:nvPr/>
        </p:nvSpPr>
        <p:spPr>
          <a:xfrm>
            <a:off x="468360" y="4508640"/>
            <a:ext cx="813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Wzrost obrotów 2009/2008 odnotował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40% spośród firm posiadających strategi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26% spośród firm nie posiadających strateg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Pozytywne efekty działalności inwestycyjnej odnotował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48% </a:t>
            </a: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spośród firm posiadających strategię, wdrażających innowac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35% spośród firm nie posiadających strategii, wdrażających innowac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6582-CC83-4962-8846-85041AFB40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95280" y="1700280"/>
          <a:ext cx="8569440" cy="4740120"/>
        </p:xfrm>
        <a:graphic>
          <a:graphicData uri="http://schemas.openxmlformats.org/drawingml/2006/table">
            <a:tbl>
              <a:tblPr/>
              <a:tblGrid>
                <a:gridCol w="2952720"/>
                <a:gridCol w="2664000"/>
                <a:gridCol w="295272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254061"/>
                          </a:solidFill>
                          <a:latin typeface="Verdana"/>
                        </a:rPr>
                        <a:t>Uwarunkow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254061"/>
                          </a:solidFill>
                          <a:latin typeface="Verdana"/>
                        </a:rPr>
                        <a:t>Odsetek wskazań jako istotne wśród MŚ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254061"/>
                          </a:solidFill>
                          <a:latin typeface="Verdana"/>
                        </a:rPr>
                        <a:t>posiadających strategi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254061"/>
                          </a:solidFill>
                          <a:latin typeface="Verdana"/>
                        </a:rPr>
                        <a:t>nie posiadających strateg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254061"/>
                          </a:solidFill>
                          <a:latin typeface="Verdana"/>
                        </a:rPr>
                        <a:t>Współpraca z uczelniami lub instytutami naukowymi z regio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254061"/>
                          </a:solidFill>
                          <a:latin typeface="Verdana"/>
                        </a:rPr>
                        <a:t>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254061"/>
                          </a:solidFill>
                          <a:latin typeface="Verdana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254061"/>
                          </a:solidFill>
                          <a:latin typeface="Verdana"/>
                        </a:rPr>
                        <a:t>Współpraca z uczelniami lub instytutami naukowymi spoza regio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254061"/>
                          </a:solidFill>
                          <a:latin typeface="Verdana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254061"/>
                          </a:solidFill>
                          <a:latin typeface="Verdana"/>
                        </a:rPr>
                        <a:t>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254061"/>
                          </a:solidFill>
                          <a:latin typeface="Verdana"/>
                        </a:rPr>
                        <a:t>Możliwości nawiązywania kontaktów z klientami i kontrahentami z zagrani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254061"/>
                          </a:solidFill>
                          <a:latin typeface="Verdana"/>
                        </a:rPr>
                        <a:t>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254061"/>
                          </a:solidFill>
                          <a:latin typeface="Verdana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254061"/>
                          </a:solidFill>
                          <a:latin typeface="Verdana"/>
                        </a:rPr>
                        <a:t>Oferta w zakresie szkoleń lub doradzt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254061"/>
                          </a:solidFill>
                          <a:latin typeface="Verdana"/>
                        </a:rPr>
                        <a:t>7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254061"/>
                          </a:solidFill>
                          <a:latin typeface="Verdana"/>
                        </a:rPr>
                        <a:t>6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254061"/>
                          </a:solidFill>
                          <a:latin typeface="Verdana"/>
                        </a:rPr>
                        <a:t>Przepustowość lotnis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254061"/>
                          </a:solidFill>
                          <a:latin typeface="Verdana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254061"/>
                          </a:solidFill>
                          <a:latin typeface="Verdana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254061"/>
                          </a:solidFill>
                          <a:latin typeface="Verdana"/>
                        </a:rPr>
                        <a:t>Dostępność centrów wystawiennicz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254061"/>
                          </a:solidFill>
                          <a:latin typeface="Verdana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254061"/>
                          </a:solidFill>
                          <a:latin typeface="Verdana"/>
                        </a:rPr>
                        <a:t>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Uwarunkowania</a:t>
            </a:r>
            <a:r>
              <a:rPr b="1" i="1" lang="pl-PL" sz="28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istotniejsze dla </a:t>
            </a:r>
            <a:r>
              <a:rPr b="1" i="1" lang="pl-PL" sz="2800" spc="-1" strike="noStrike">
                <a:solidFill>
                  <a:srgbClr val="254061"/>
                </a:solidFill>
                <a:latin typeface="Verdana"/>
              </a:rPr>
              <a:t>Awangardy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Zagadnien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79280" y="1557360"/>
            <a:ext cx="8785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Kondycja oraz poziom innowacyjności MŚ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Warunki powstawania i funkcjonowania MŚ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54061"/>
                </a:solidFill>
                <a:latin typeface="Calibri"/>
              </a:rPr>
              <a:t>Potrzeby MŚ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54061"/>
                </a:solidFill>
                <a:latin typeface="Calibri"/>
              </a:rPr>
              <a:t>Stan wybranych uwarunkowa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Artykulacja interesów MŚ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System wspar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Rekomendac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1392-AB69-472F-BFAA-9FBFE0067B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rostokąt 4"/>
          <p:cNvSpPr/>
          <p:nvPr/>
        </p:nvSpPr>
        <p:spPr>
          <a:xfrm>
            <a:off x="179280" y="2349360"/>
            <a:ext cx="8209080" cy="574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załka w prawo 5"/>
          <p:cNvSpPr/>
          <p:nvPr/>
        </p:nvSpPr>
        <p:spPr>
          <a:xfrm>
            <a:off x="250920" y="3500280"/>
            <a:ext cx="433440" cy="2890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Infrastruktura drogow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79280" y="558972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Verdana"/>
              </a:rPr>
              <a:t>	</a:t>
            </a:r>
            <a:r>
              <a:rPr b="0" i="1" lang="pl-PL" sz="1400" spc="-1" strike="noStrike">
                <a:solidFill>
                  <a:srgbClr val="254061"/>
                </a:solidFill>
                <a:latin typeface="Verdana"/>
              </a:rPr>
              <a:t>Droga, którą pani tu jeździ to nie jest droga, która jest pomocna w prowadzeniu biznesu. To jest jedna wąska ścieżka. Prosimy już od lat żeby zrobić tu dojazd. To jest nie tylko nasza firma, tu jest cały szereg właśnie [firm], w takiej dzielnicy a’ la przemysłowej. Podatki wszyscy tutaj płacimy, natomiast dziury są wielkie, wiosna, lato to już jest tragedia. [Wywiad z przedsiębiorcą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C785-004C-4900-9FE7-651320B6F1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raz 42" descr=""/>
          <p:cNvPicPr/>
          <p:nvPr/>
        </p:nvPicPr>
        <p:blipFill>
          <a:blip r:embed="rId1"/>
          <a:srcRect l="6999" t="3923" r="3181" b="18305"/>
          <a:stretch/>
        </p:blipFill>
        <p:spPr>
          <a:xfrm>
            <a:off x="611280" y="1341360"/>
            <a:ext cx="8281800" cy="3451320"/>
          </a:xfrm>
          <a:prstGeom prst="rect">
            <a:avLst/>
          </a:prstGeom>
          <a:ln w="0">
            <a:noFill/>
          </a:ln>
        </p:spPr>
      </p:pic>
      <p:sp>
        <p:nvSpPr>
          <p:cNvPr id="149" name="pole tekstowe 4"/>
          <p:cNvSpPr/>
          <p:nvPr/>
        </p:nvSpPr>
        <p:spPr>
          <a:xfrm>
            <a:off x="3203640" y="486900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Źródło: Obliczenia na podstawie danych 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ole tekstowe 6"/>
          <p:cNvSpPr/>
          <p:nvPr/>
        </p:nvSpPr>
        <p:spPr>
          <a:xfrm>
            <a:off x="324000" y="5157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IBnGR 2006-2009: WK-P na 10. miejscu pod względem dostępności transport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Podatki lokaln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9280" y="1413000"/>
            <a:ext cx="8785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54061"/>
                </a:solidFill>
                <a:latin typeface="Verdana"/>
              </a:rPr>
              <a:t>	</a:t>
            </a:r>
            <a:r>
              <a:rPr b="0" lang="pl-PL" sz="2400" spc="-1" strike="noStrike">
                <a:solidFill>
                  <a:srgbClr val="254061"/>
                </a:solidFill>
                <a:latin typeface="Verdana"/>
              </a:rPr>
              <a:t>Stawki podatków na poziomie niższym od maksymalnego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54061"/>
                </a:solidFill>
                <a:latin typeface="Verdana"/>
              </a:rPr>
              <a:t>	</a:t>
            </a:r>
            <a:r>
              <a:rPr b="0" lang="pl-PL" sz="2400" spc="-1" strike="noStrike">
                <a:solidFill>
                  <a:srgbClr val="254061"/>
                </a:solidFill>
                <a:latin typeface="Verdana"/>
              </a:rPr>
              <a:t>	</a:t>
            </a:r>
            <a:r>
              <a:rPr b="0" lang="pl-PL" sz="2400" spc="-1" strike="noStrike">
                <a:solidFill>
                  <a:srgbClr val="254061"/>
                </a:solidFill>
                <a:latin typeface="Verdana"/>
              </a:rPr>
              <a:t>od nieruchomości - 75% gm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54061"/>
                </a:solidFill>
                <a:latin typeface="Verdana"/>
              </a:rPr>
              <a:t>	</a:t>
            </a:r>
            <a:r>
              <a:rPr b="0" lang="pl-PL" sz="2400" spc="-1" strike="noStrike">
                <a:solidFill>
                  <a:srgbClr val="254061"/>
                </a:solidFill>
                <a:latin typeface="Verdana"/>
              </a:rPr>
              <a:t>	</a:t>
            </a:r>
            <a:r>
              <a:rPr b="0" lang="pl-PL" sz="2400" spc="-1" strike="noStrike">
                <a:solidFill>
                  <a:srgbClr val="254061"/>
                </a:solidFill>
                <a:latin typeface="Verdana"/>
              </a:rPr>
              <a:t>od środków transportowych – 73% gmi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7CC0-D445-4AB2-A2A4-35B0A95DD8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ole tekstowe 11"/>
          <p:cNvSpPr/>
          <p:nvPr/>
        </p:nvSpPr>
        <p:spPr>
          <a:xfrm>
            <a:off x="4572000" y="3049560"/>
            <a:ext cx="43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Źródło: Badanie ankietowe JST, maj 2010 ro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rostokąt 5"/>
          <p:cNvSpPr/>
          <p:nvPr/>
        </p:nvSpPr>
        <p:spPr>
          <a:xfrm>
            <a:off x="250920" y="3484440"/>
            <a:ext cx="8353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Verdana"/>
              </a:rPr>
              <a:t>Jeśli jest kryzys, to [oczekiwana jest] zmiana (…) w podejściu do tych podatków lokalowych i innych. Są firmy, które mają olbrzymi teren, nie jest on wykorzystany </a:t>
            </a:r>
            <a:br>
              <a:rPr sz="1400"/>
            </a:br>
            <a:r>
              <a:rPr b="0" i="1" lang="pl-PL" sz="1400" spc="-1" strike="noStrike">
                <a:solidFill>
                  <a:srgbClr val="254061"/>
                </a:solidFill>
                <a:latin typeface="Verdana"/>
              </a:rPr>
              <a:t>i muszą płacić. I po prostu te firmy często padają dlatego, że nikt do nich ręki nie wyciągnie, nie przyjdzie, nie pofatyguje się, nie zapyta dlaczego na przykład ta firma pada. A nawet jeśli się przedsiębiorcy zgłaszają z takimi uwagami to też nie są brane pod uwagę. (…) Jeśli jest koniunktura, to nawet jest w stanie przedsiębiorca zapłacić więcej, ale jeśli jest kryzys, to należałoby jednak elastycznie do tego podchodzić. [Przedsiębiorca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rostokąt 6"/>
          <p:cNvSpPr/>
          <p:nvPr/>
        </p:nvSpPr>
        <p:spPr>
          <a:xfrm>
            <a:off x="250920" y="5157720"/>
            <a:ext cx="856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Verdana"/>
              </a:rPr>
              <a:t>Kilka lat temu na pobliskiej ulicy był budowany wiadukt, w związku z czym przez praktycznie 3 lata byliśmy odcięci od świata. Próbowaliśmy wtedy prosić miasto o ulgi lub zniesienie choć jednej z opłat związanych z podatkiem gruntowym. Nie było odzewu. Więc pomoc ze strony gminy, to bajki. Być może w gminie istnieje klimat do pomocy MŚP, ale ja nie miałem możliwości skorzystania z tego. [Przedsiębiorca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Łącznik prosty 40"/>
          <p:cNvSpPr/>
          <p:nvPr/>
        </p:nvSpPr>
        <p:spPr>
          <a:xfrm flipH="1">
            <a:off x="2411280" y="3500280"/>
            <a:ext cx="3889440" cy="0"/>
          </a:xfrm>
          <a:prstGeom prst="line">
            <a:avLst/>
          </a:prstGeom>
          <a:ln w="381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załka w prawo 21"/>
          <p:cNvSpPr/>
          <p:nvPr/>
        </p:nvSpPr>
        <p:spPr>
          <a:xfrm rot="16200000">
            <a:off x="3168000" y="3177360"/>
            <a:ext cx="2520720" cy="287280"/>
          </a:xfrm>
          <a:prstGeom prst="rightArrow">
            <a:avLst>
              <a:gd name="adj1" fmla="val 50000"/>
              <a:gd name="adj2" fmla="val 50006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254061"/>
                </a:solidFill>
                <a:latin typeface="Verdana"/>
              </a:rPr>
              <a:t>Zakres badania, Aktorzy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3D5C-B29C-40C5-9881-8463E86E2F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ole tekstowe 5"/>
          <p:cNvSpPr/>
          <p:nvPr/>
        </p:nvSpPr>
        <p:spPr>
          <a:xfrm>
            <a:off x="3419640" y="46958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MŚ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ole tekstowe 6"/>
          <p:cNvSpPr/>
          <p:nvPr/>
        </p:nvSpPr>
        <p:spPr>
          <a:xfrm>
            <a:off x="3348000" y="1484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J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7"/>
          <p:cNvSpPr/>
          <p:nvPr/>
        </p:nvSpPr>
        <p:spPr>
          <a:xfrm>
            <a:off x="468360" y="2924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I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ole tekstowe 8"/>
          <p:cNvSpPr/>
          <p:nvPr/>
        </p:nvSpPr>
        <p:spPr>
          <a:xfrm>
            <a:off x="6443640" y="2852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B+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ole tekstowe 9"/>
          <p:cNvSpPr/>
          <p:nvPr/>
        </p:nvSpPr>
        <p:spPr>
          <a:xfrm>
            <a:off x="2987640" y="508464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254061"/>
                </a:solidFill>
                <a:latin typeface="Verdana"/>
              </a:rPr>
              <a:t>10-49 / 50-24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254061"/>
                </a:solidFill>
                <a:latin typeface="Verdana"/>
              </a:rPr>
              <a:t>niefinans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ole tekstowe 10"/>
          <p:cNvSpPr/>
          <p:nvPr/>
        </p:nvSpPr>
        <p:spPr>
          <a:xfrm>
            <a:off x="34920" y="3284640"/>
            <a:ext cx="26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254061"/>
                </a:solidFill>
                <a:latin typeface="Verdana"/>
              </a:rPr>
              <a:t>niekomercyj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254061"/>
                </a:solidFill>
                <a:latin typeface="Verdana"/>
              </a:rPr>
              <a:t>ponadlok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ole tekstowe 11"/>
          <p:cNvSpPr/>
          <p:nvPr/>
        </p:nvSpPr>
        <p:spPr>
          <a:xfrm>
            <a:off x="5508720" y="3422520"/>
            <a:ext cx="363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254061"/>
                </a:solidFill>
                <a:latin typeface="Verdana"/>
              </a:rPr>
              <a:t>współpracujące z MŚ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254061"/>
                </a:solidFill>
                <a:latin typeface="Verdana"/>
              </a:rPr>
              <a:t>bez przedsiębiorst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254061"/>
                </a:solidFill>
                <a:latin typeface="Verdana"/>
              </a:rPr>
              <a:t>n. matematyczne, techniczne, przyrodnic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ole tekstowe 12"/>
          <p:cNvSpPr/>
          <p:nvPr/>
        </p:nvSpPr>
        <p:spPr>
          <a:xfrm>
            <a:off x="2987640" y="5805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1" lang="pl-PL" sz="2000" spc="-1" strike="noStrike">
                <a:solidFill>
                  <a:srgbClr val="254061"/>
                </a:solidFill>
                <a:latin typeface="Verdana"/>
              </a:rPr>
              <a:t>kondy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13"/>
          <p:cNvSpPr/>
          <p:nvPr/>
        </p:nvSpPr>
        <p:spPr>
          <a:xfrm>
            <a:off x="3059280" y="6093000"/>
            <a:ext cx="26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2540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1" lang="pl-PL" sz="2000" spc="-1" strike="noStrike">
                <a:solidFill>
                  <a:srgbClr val="254061"/>
                </a:solidFill>
                <a:latin typeface="Verdana"/>
              </a:rPr>
              <a:t>innowacyjnoś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ole tekstowe 14"/>
          <p:cNvSpPr/>
          <p:nvPr/>
        </p:nvSpPr>
        <p:spPr>
          <a:xfrm>
            <a:off x="2916360" y="2852640"/>
            <a:ext cx="26636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54061"/>
                </a:solidFill>
                <a:latin typeface="Verdana"/>
              </a:rPr>
              <a:t>warunki powstawania </a:t>
            </a:r>
            <a:br>
              <a:rPr sz="2000"/>
            </a:br>
            <a:r>
              <a:rPr b="1" lang="pl-PL" sz="2000" spc="-1" strike="noStrike">
                <a:solidFill>
                  <a:srgbClr val="254061"/>
                </a:solidFill>
                <a:latin typeface="Verdana"/>
              </a:rPr>
              <a:t>i funkcjon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załka w prawo 15"/>
          <p:cNvSpPr/>
          <p:nvPr/>
        </p:nvSpPr>
        <p:spPr>
          <a:xfrm rot="5400000">
            <a:off x="3672000" y="2313000"/>
            <a:ext cx="792000" cy="2872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załka w prawo 16"/>
          <p:cNvSpPr/>
          <p:nvPr/>
        </p:nvSpPr>
        <p:spPr>
          <a:xfrm rot="5400000">
            <a:off x="3780000" y="4148640"/>
            <a:ext cx="719280" cy="289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załka w prawo 17"/>
          <p:cNvSpPr/>
          <p:nvPr/>
        </p:nvSpPr>
        <p:spPr>
          <a:xfrm>
            <a:off x="2050920" y="3068640"/>
            <a:ext cx="792360" cy="28908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załka w prawo 18"/>
          <p:cNvSpPr/>
          <p:nvPr/>
        </p:nvSpPr>
        <p:spPr>
          <a:xfrm rot="10800000">
            <a:off x="5796000" y="3068280"/>
            <a:ext cx="792000" cy="28908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ole tekstowe 19"/>
          <p:cNvSpPr/>
          <p:nvPr/>
        </p:nvSpPr>
        <p:spPr>
          <a:xfrm>
            <a:off x="5796000" y="491508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254061"/>
                </a:solidFill>
                <a:uFillTx/>
                <a:latin typeface="Verdana"/>
              </a:rPr>
              <a:t>Badania ankietowe</a:t>
            </a: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163 JST (19+144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49 IOB i B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600 MŚP (400+2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254061"/>
                </a:solidFill>
                <a:uFillTx/>
                <a:latin typeface="Verdana"/>
              </a:rPr>
              <a:t>Badania jakości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254061"/>
                </a:solidFill>
                <a:uFillTx/>
                <a:latin typeface="Verdana"/>
              </a:rPr>
              <a:t>Analiza danych zasta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załka w prawo 22"/>
          <p:cNvSpPr/>
          <p:nvPr/>
        </p:nvSpPr>
        <p:spPr>
          <a:xfrm rot="19683600">
            <a:off x="2152440" y="2168280"/>
            <a:ext cx="1581120" cy="288720"/>
          </a:xfrm>
          <a:prstGeom prst="rightArrow">
            <a:avLst>
              <a:gd name="adj1" fmla="val 50000"/>
              <a:gd name="adj2" fmla="val 50022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załka w prawo 23"/>
          <p:cNvSpPr/>
          <p:nvPr/>
        </p:nvSpPr>
        <p:spPr>
          <a:xfrm rot="12879600">
            <a:off x="2280960" y="4284720"/>
            <a:ext cx="1581120" cy="288720"/>
          </a:xfrm>
          <a:prstGeom prst="rightArrow">
            <a:avLst>
              <a:gd name="adj1" fmla="val 50000"/>
              <a:gd name="adj2" fmla="val 50022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ole tekstowe 24"/>
          <p:cNvSpPr/>
          <p:nvPr/>
        </p:nvSpPr>
        <p:spPr>
          <a:xfrm>
            <a:off x="324000" y="51577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c00000"/>
                </a:solidFill>
                <a:latin typeface="Verdana"/>
              </a:rPr>
              <a:t>Wpły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ole tekstowe 25"/>
          <p:cNvSpPr/>
          <p:nvPr/>
        </p:nvSpPr>
        <p:spPr>
          <a:xfrm>
            <a:off x="395280" y="5516640"/>
            <a:ext cx="2160720" cy="58068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254061"/>
                </a:solidFill>
                <a:latin typeface="Verdana"/>
              </a:rPr>
              <a:t>Artykulacja interesów MŚ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ole tekstowe 26"/>
          <p:cNvSpPr/>
          <p:nvPr/>
        </p:nvSpPr>
        <p:spPr>
          <a:xfrm>
            <a:off x="324000" y="4788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254061"/>
                </a:solidFill>
                <a:uFillTx/>
                <a:latin typeface="Verdana"/>
              </a:rPr>
              <a:t>Legenda</a:t>
            </a: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Łącznik prosty 27"/>
          <p:cNvSpPr/>
          <p:nvPr/>
        </p:nvSpPr>
        <p:spPr>
          <a:xfrm flipV="1">
            <a:off x="2411280" y="1989000"/>
            <a:ext cx="1440000" cy="935280"/>
          </a:xfrm>
          <a:prstGeom prst="line">
            <a:avLst/>
          </a:prstGeom>
          <a:ln w="381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Łącznik prosty 48"/>
          <p:cNvSpPr/>
          <p:nvPr/>
        </p:nvSpPr>
        <p:spPr>
          <a:xfrm flipH="1" flipV="1">
            <a:off x="4859280" y="1988640"/>
            <a:ext cx="1736640" cy="800280"/>
          </a:xfrm>
          <a:prstGeom prst="line">
            <a:avLst/>
          </a:prstGeom>
          <a:ln w="381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49"/>
          <p:cNvSpPr/>
          <p:nvPr/>
        </p:nvSpPr>
        <p:spPr>
          <a:xfrm>
            <a:off x="395280" y="6237360"/>
            <a:ext cx="2160720" cy="337320"/>
          </a:xfrm>
          <a:prstGeom prst="rect">
            <a:avLst/>
          </a:prstGeom>
          <a:noFill/>
          <a:ln w="255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254061"/>
                </a:solidFill>
                <a:latin typeface="Verdana"/>
              </a:rPr>
              <a:t>System wspa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Dostępność pracowników 1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D474-E232-4868-A22E-A5538061DF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ole tekstowe 4"/>
          <p:cNvSpPr/>
          <p:nvPr/>
        </p:nvSpPr>
        <p:spPr>
          <a:xfrm>
            <a:off x="108000" y="141300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IBnGR 2006-2009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WK-P na 6.</a:t>
            </a:r>
            <a:r>
              <a:rPr b="0" lang="pl-PL" sz="1800" spc="-1" strike="noStrike">
                <a:solidFill>
                  <a:srgbClr val="254061"/>
                </a:solidFill>
                <a:latin typeface="Wingdings"/>
                <a:ea typeface="Wingdings"/>
              </a:rPr>
              <a:t></a:t>
            </a: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 5. miejscu pod względem zasobów i kosztów p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pozytywnie wyróżnia się podregion bydgosko-toruński: duża liczba </a:t>
            </a: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wykwalifikowanych pracowników, duża podaż studentów i absolwen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Obraz 1" descr=""/>
          <p:cNvPicPr/>
          <p:nvPr/>
        </p:nvPicPr>
        <p:blipFill>
          <a:blip r:embed="rId1"/>
          <a:srcRect l="1359" t="7036" r="2711" b="5285"/>
          <a:stretch/>
        </p:blipFill>
        <p:spPr>
          <a:xfrm>
            <a:off x="250920" y="3340080"/>
            <a:ext cx="8497800" cy="2968560"/>
          </a:xfrm>
          <a:prstGeom prst="rect">
            <a:avLst/>
          </a:prstGeom>
          <a:ln w="0">
            <a:noFill/>
          </a:ln>
        </p:spPr>
      </p:pic>
      <p:sp>
        <p:nvSpPr>
          <p:cNvPr id="161" name="pole tekstowe 7"/>
          <p:cNvSpPr/>
          <p:nvPr/>
        </p:nvSpPr>
        <p:spPr>
          <a:xfrm>
            <a:off x="179280" y="292428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54061"/>
                </a:solidFill>
                <a:latin typeface="Arial"/>
              </a:rPr>
              <a:t>Liczba studentów szkół publicznych i niepublicznych na 10 tys. mieszkańc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ole tekstowe 4"/>
          <p:cNvSpPr/>
          <p:nvPr/>
        </p:nvSpPr>
        <p:spPr>
          <a:xfrm>
            <a:off x="3203640" y="636120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Źródło: Obliczenia na podstawie danych 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ole tekstowe 9"/>
          <p:cNvSpPr/>
          <p:nvPr/>
        </p:nvSpPr>
        <p:spPr>
          <a:xfrm>
            <a:off x="2916360" y="515772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254061"/>
                </a:solidFill>
                <a:latin typeface="Arial"/>
              </a:rPr>
              <a:t>Wartość wskaźnika dla WK-P: 81%-85% wartości dla P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Dostępność pracowników 2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4FD3-B39F-4256-B7A1-AFABDBFF88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ole tekstowe 6"/>
          <p:cNvSpPr/>
          <p:nvPr/>
        </p:nvSpPr>
        <p:spPr>
          <a:xfrm>
            <a:off x="179280" y="155736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Wywiady z przedsiębiorcam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niedostosowanie kierunków kształcenia ponad gimnazjalnego i wyższ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niewystarczające przygotowania absolwentó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ole tekstowe 7"/>
          <p:cNvSpPr/>
          <p:nvPr/>
        </p:nvSpPr>
        <p:spPr>
          <a:xfrm>
            <a:off x="179280" y="27828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54061"/>
                </a:solidFill>
                <a:latin typeface="Arial"/>
              </a:rPr>
              <a:t>Liczba studentów </a:t>
            </a:r>
            <a:r>
              <a:rPr b="1" lang="pl-PL" sz="1800" spc="-1" strike="noStrike" u="sng">
                <a:solidFill>
                  <a:srgbClr val="254061"/>
                </a:solidFill>
                <a:uFillTx/>
                <a:latin typeface="Arial"/>
              </a:rPr>
              <a:t>kierunków inżynieryjno-technicznych </a:t>
            </a:r>
            <a:r>
              <a:rPr b="1" lang="pl-PL" sz="1800" spc="-1" strike="noStrike">
                <a:solidFill>
                  <a:srgbClr val="254061"/>
                </a:solidFill>
                <a:latin typeface="Arial"/>
              </a:rPr>
              <a:t>szkół publicznych </a:t>
            </a:r>
            <a:br>
              <a:rPr sz="1800"/>
            </a:br>
            <a:r>
              <a:rPr b="1" lang="pl-PL" sz="1800" spc="-1" strike="noStrike">
                <a:solidFill>
                  <a:srgbClr val="254061"/>
                </a:solidFill>
                <a:latin typeface="Arial"/>
              </a:rPr>
              <a:t>i niepublicznych na 10 tys. mieszkańc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ole tekstowe 4"/>
          <p:cNvSpPr/>
          <p:nvPr/>
        </p:nvSpPr>
        <p:spPr>
          <a:xfrm>
            <a:off x="3203640" y="636120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Źródło: Obliczenia na podstawie danych 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Obraz 3" descr=""/>
          <p:cNvPicPr/>
          <p:nvPr/>
        </p:nvPicPr>
        <p:blipFill>
          <a:blip r:embed="rId1"/>
          <a:srcRect l="2038" t="5488" r="2711" b="7305"/>
          <a:stretch/>
        </p:blipFill>
        <p:spPr>
          <a:xfrm>
            <a:off x="395280" y="3429000"/>
            <a:ext cx="8504280" cy="2867040"/>
          </a:xfrm>
          <a:prstGeom prst="rect">
            <a:avLst/>
          </a:prstGeom>
          <a:ln w="0">
            <a:noFill/>
          </a:ln>
        </p:spPr>
      </p:pic>
      <p:sp>
        <p:nvSpPr>
          <p:cNvPr id="170" name="pole tekstowe 9"/>
          <p:cNvSpPr/>
          <p:nvPr/>
        </p:nvSpPr>
        <p:spPr>
          <a:xfrm>
            <a:off x="2916360" y="551664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254061"/>
                </a:solidFill>
                <a:latin typeface="Arial"/>
              </a:rPr>
              <a:t>Wartość wskaźnika dla WK-P: 59%-68% wartości dla P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Kapitał 1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E03F-0FA6-4A0A-80C0-8254BE218A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rcRect l="1170" t="596" r="5455" b="36934"/>
          <a:stretch/>
        </p:blipFill>
        <p:spPr>
          <a:xfrm>
            <a:off x="539640" y="2133720"/>
            <a:ext cx="8231400" cy="3598920"/>
          </a:xfrm>
          <a:prstGeom prst="rect">
            <a:avLst/>
          </a:prstGeom>
          <a:ln w="0">
            <a:noFill/>
          </a:ln>
        </p:spPr>
      </p:pic>
      <p:sp>
        <p:nvSpPr>
          <p:cNvPr id="174" name="pole tekstowe 11"/>
          <p:cNvSpPr/>
          <p:nvPr/>
        </p:nvSpPr>
        <p:spPr>
          <a:xfrm>
            <a:off x="4500720" y="5784840"/>
            <a:ext cx="43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Źródło: Badanie ankietowe MŚP, maj 2010 ro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ole tekstowe 6"/>
          <p:cNvSpPr/>
          <p:nvPr/>
        </p:nvSpPr>
        <p:spPr>
          <a:xfrm>
            <a:off x="539640" y="14842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Zapotrzebowanie na kapita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Kapitał 2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5850-9F39-45BC-BE1B-AEA1DDCCE6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ole tekstowe 5"/>
          <p:cNvSpPr/>
          <p:nvPr/>
        </p:nvSpPr>
        <p:spPr>
          <a:xfrm>
            <a:off x="179280" y="1700280"/>
            <a:ext cx="8713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Potrzeby MŚP – w znacznej mierze poza zasięgiem wsparcia udzielanego przez  fundusze pożyczkow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Niska  ocena wiarygodności MŚP według banków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wymóg wysokich zabezpieczeń </a:t>
            </a:r>
            <a:r>
              <a:rPr b="0" lang="pl-PL" sz="2000" spc="-1" strike="noStrike">
                <a:solidFill>
                  <a:srgbClr val="254061"/>
                </a:solidFill>
                <a:latin typeface="Wingdings"/>
                <a:ea typeface="Wingdings"/>
              </a:rPr>
              <a:t></a:t>
            </a: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 rola funduszy poręczeniowy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Problemem zwł. pozyskanie kwot od 1 mln złot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Niska dostępność kapitału zalążkowego i podwyższonego ryzy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ole tekstowe 6"/>
          <p:cNvSpPr/>
          <p:nvPr/>
        </p:nvSpPr>
        <p:spPr>
          <a:xfrm>
            <a:off x="179280" y="4851360"/>
            <a:ext cx="7921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Verdana"/>
              </a:rPr>
              <a:t>Odmawiamy współpracy, jeżeli rzeczywiście przedsiębiorca jest kompletnie „goły”. (…) Jeżeli przyjdzie ktoś i powie „nie mam rodziny, nie mam mieszkania, nie mam pieniędzy, ale mam pomysł”. Za sam pomysł, no nie ma takiej możliwości, żeby powierzyć komuś środki. [Przedstawiciel funduszu poręczeniowego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Szkolenia i doradztwo 1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648F-BD9F-44D9-BCDF-1A4DE08404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rcRect l="780" t="1193" r="14806" b="13701"/>
          <a:stretch/>
        </p:blipFill>
        <p:spPr>
          <a:xfrm>
            <a:off x="826920" y="1962000"/>
            <a:ext cx="7425000" cy="4896000"/>
          </a:xfrm>
          <a:prstGeom prst="rect">
            <a:avLst/>
          </a:prstGeom>
          <a:ln w="0">
            <a:noFill/>
          </a:ln>
        </p:spPr>
      </p:pic>
      <p:sp>
        <p:nvSpPr>
          <p:cNvPr id="183" name="pole tekstowe 5"/>
          <p:cNvSpPr/>
          <p:nvPr/>
        </p:nvSpPr>
        <p:spPr>
          <a:xfrm>
            <a:off x="468360" y="1413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Sugestie dotyczące poprawy szkoleń i doradztw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ole tekstowe 11"/>
          <p:cNvSpPr/>
          <p:nvPr/>
        </p:nvSpPr>
        <p:spPr>
          <a:xfrm>
            <a:off x="4572000" y="6093000"/>
            <a:ext cx="43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Źródło: Badanie ankietowe MŚP, maj 2010 ro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Szkolenia i doradztwo 2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	</a:t>
            </a:r>
            <a:r>
              <a:rPr b="1" lang="pl-PL" sz="1800" spc="-1" strike="noStrike">
                <a:solidFill>
                  <a:srgbClr val="254061"/>
                </a:solidFill>
                <a:latin typeface="Verdana"/>
              </a:rPr>
              <a:t>Tematy, w przypadku których IOB odczuwają niezaspokojone zainteresowanie ze strony MŚP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fundusze UE oraz inne źródła finansow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zarządzanie zasobami ludzki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rozwiązania informatycz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54061"/>
                </a:solidFill>
                <a:latin typeface="Verdana"/>
              </a:rPr>
              <a:t>Inne tematy, których wg IOB dotyczy zbyt mało szkoleń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prawne regulacje dot. działalności gospodarcz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ochrona własności intelektualn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bezpieczeństwo obrotu gospodarcz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lobb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działalność eksporto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	</a:t>
            </a:r>
            <a:r>
              <a:rPr b="1" lang="pl-PL" sz="1800" spc="-1" strike="noStrike">
                <a:solidFill>
                  <a:srgbClr val="254061"/>
                </a:solidFill>
                <a:latin typeface="Verdana"/>
              </a:rPr>
              <a:t>Tematy, w przypadku których zainteresowanie MŚP jest mniejsze, niż możliwości jego zaspokojeni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nowe usługi i produkty, wynalazki, innowac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ochrona własności intelektualn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wsparcie  z zakresu nauk technicz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8B98-7417-44E9-8D80-6DD04DEBFA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ole tekstowe 6"/>
          <p:cNvSpPr/>
          <p:nvPr/>
        </p:nvSpPr>
        <p:spPr>
          <a:xfrm>
            <a:off x="6227640" y="551664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254061"/>
                </a:solidFill>
                <a:latin typeface="Arial"/>
              </a:rPr>
              <a:t>Niedoskonałość strony popytowej  rynku usług dla MŚ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ole tekstowe 11"/>
          <p:cNvSpPr/>
          <p:nvPr/>
        </p:nvSpPr>
        <p:spPr>
          <a:xfrm>
            <a:off x="4211640" y="645336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Źródło: Badanie ankietowe IOB oraz B+R, maj 2010 ro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Korzystanie z usług B+R 1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9280" y="1413000"/>
            <a:ext cx="878544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	</a:t>
            </a:r>
            <a:r>
              <a:rPr b="1" lang="pl-PL" sz="1800" spc="-1" strike="noStrike">
                <a:solidFill>
                  <a:srgbClr val="254061"/>
                </a:solidFill>
                <a:latin typeface="Verdana"/>
              </a:rPr>
              <a:t>Przyczyny niekorzystania z usług B+R przez przedsiębiorstwa, którym byłyby przydatn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10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brak środków finansow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uogólnione przekonanie o nieatrakcyjności oferty B+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nieznajomość oferty B+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przywiązanie MŚP do dotychczasowej B+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6790-4D59-41B4-B725-7E38962CC4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ymbol zastępczy zawartości 2"/>
          <p:cNvSpPr/>
          <p:nvPr/>
        </p:nvSpPr>
        <p:spPr>
          <a:xfrm>
            <a:off x="574560" y="3429000"/>
            <a:ext cx="8569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54061"/>
                </a:solidFill>
                <a:latin typeface="Verdana"/>
              </a:rPr>
              <a:t>Stopniowy zwrot części uczelni ku współpracy z gospodark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Verdana"/>
              </a:rPr>
              <a:t>Jeżeli jest to zadanie, które ma ściśle określony cel, że coś pęka a nie ma pękać, to trzeba </a:t>
            </a:r>
            <a:br>
              <a:rPr sz="1400"/>
            </a:br>
            <a:r>
              <a:rPr b="0" i="1" lang="pl-PL" sz="1400" spc="-1" strike="noStrike">
                <a:solidFill>
                  <a:srgbClr val="254061"/>
                </a:solidFill>
                <a:latin typeface="Verdana"/>
              </a:rPr>
              <a:t>to tak przebadać, zaproponować taki sposób rozwiązania tego problemu żeby na koniec nie pękało. (….) Ludzie [pracownicy uczelni] często nie chcą rozwiązywać problemów prawdziwych, bo w prawdziwych problemach jest oczekiwane rozwiązanie konkretne. </a:t>
            </a:r>
            <a:br>
              <a:rPr sz="1400"/>
            </a:br>
            <a:r>
              <a:rPr b="0" i="1" lang="pl-PL" sz="1400" spc="-1" strike="noStrike">
                <a:solidFill>
                  <a:srgbClr val="254061"/>
                </a:solidFill>
                <a:latin typeface="Verdana"/>
              </a:rPr>
              <a:t>A w teoretycznych każdy wynik jest dobry. (…) Zmienia się też nastawienie wśród akademików do takiej współpracy, bowiem została zmieniona forma oceny pracowników naukowych. Kiedyś byliśmy rozliczani z ilości publikacji, dziś to się przesuwa np. w stronę ilości patentów, udziału w grantach, współpracy w projektach badawczych. To premiuje postawy pro gospodarcze. Ale to jest proces, to musi potrwać. [Naukowie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54061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ole tekstowe 5"/>
          <p:cNvSpPr/>
          <p:nvPr/>
        </p:nvSpPr>
        <p:spPr>
          <a:xfrm>
            <a:off x="611280" y="6021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54061"/>
                </a:solidFill>
                <a:latin typeface="Verdana"/>
              </a:rPr>
              <a:t>Brak umiejętności i zainteresowania w zakresie tworzenia firm </a:t>
            </a:r>
            <a:r>
              <a:rPr b="1" i="1" lang="pl-PL" sz="1800" spc="-1" strike="noStrike">
                <a:solidFill>
                  <a:srgbClr val="254061"/>
                </a:solidFill>
                <a:latin typeface="Verdana"/>
              </a:rPr>
              <a:t>spin-off </a:t>
            </a:r>
            <a:r>
              <a:rPr b="1" lang="pl-PL" sz="1800" spc="-1" strike="noStrike">
                <a:solidFill>
                  <a:srgbClr val="254061"/>
                </a:solidFill>
                <a:latin typeface="Verdana"/>
              </a:rPr>
              <a:t>oraz </a:t>
            </a:r>
            <a:r>
              <a:rPr b="1" i="1" lang="pl-PL" sz="1800" spc="-1" strike="noStrike">
                <a:solidFill>
                  <a:srgbClr val="254061"/>
                </a:solidFill>
                <a:latin typeface="Verdana"/>
              </a:rPr>
              <a:t>spin-out</a:t>
            </a:r>
            <a:r>
              <a:rPr b="1" lang="pl-PL" sz="1800" spc="-1" strike="noStrike">
                <a:solidFill>
                  <a:srgbClr val="254061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Samoocena potencjału B+R* / IOB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81C9-C583-4A82-BF8D-DDF7FA22BE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raz 185" descr=""/>
          <p:cNvPicPr/>
          <p:nvPr/>
        </p:nvPicPr>
        <p:blipFill>
          <a:blip r:embed="rId1"/>
          <a:srcRect l="1544" t="4725" r="1158" b="4134"/>
          <a:stretch/>
        </p:blipFill>
        <p:spPr>
          <a:xfrm>
            <a:off x="755640" y="1484280"/>
            <a:ext cx="7958160" cy="488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1619280" y="3240000"/>
          <a:ext cx="6337440" cy="2506680"/>
        </p:xfrm>
        <a:graphic>
          <a:graphicData uri="http://schemas.openxmlformats.org/drawingml/2006/table">
            <a:tbl>
              <a:tblPr/>
              <a:tblGrid>
                <a:gridCol w="3168720"/>
                <a:gridCol w="3168720"/>
              </a:tblGrid>
              <a:tr h="2506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zasoby finans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zaplecze lokalo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wyposażenie biu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paratura badawcza, laborato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iczba pracownikó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kwalifikacje pracownikó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kontakty z ekspertami zewnętrzny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zasady wpływające na motywację pracowników do współpracy z przedsiębiorstwa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formalne zasady współpracy z przedsiębiorstwa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AutoNum type="arabicPeriod" startAt="1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wiedza o potrzebach MŚP z region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AutoNum type="arabicPeriod" startAt="1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oziom znajomości instytucji wśród MŚP z region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AutoNum type="arabicPeriod" startAt="1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lacje z IOB z region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AutoNum type="arabicPeriod" startAt="1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lacje z jednostkami B+R z region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AutoNum type="arabicPeriod" startAt="1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lacje ze szkołami wyższymi z region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AutoNum type="arabicPeriod" startAt="1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lacje z władzami samorządowymi gmin, w których działa instytuc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AutoNum type="arabicPeriod" startAt="1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lacje z władzami samorządowymi powiatów, w których działa instytuc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Verdana"/>
                        <a:buAutoNum type="arabicPeriod" startAt="1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lacje z władzami samorządowymi województwa kujawsko-pomorskie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pole tekstowe 11"/>
          <p:cNvSpPr/>
          <p:nvPr/>
        </p:nvSpPr>
        <p:spPr>
          <a:xfrm>
            <a:off x="4140360" y="655020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Źródło: Badanie ankietowe IOB oraz B+R, maj 2010 ro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ole tekstowe 11"/>
          <p:cNvSpPr/>
          <p:nvPr/>
        </p:nvSpPr>
        <p:spPr>
          <a:xfrm>
            <a:off x="3059280" y="1341360"/>
            <a:ext cx="604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54061"/>
                </a:solidFill>
                <a:latin typeface="Verdana"/>
              </a:rPr>
              <a:t>* Nie uwzględniono  przedsiębiorstw prowadzących B+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Instytucje prowadzące B+R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21F7-B415-4BBB-BD10-03C0CD5C71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Obraz 70" descr=""/>
          <p:cNvPicPr/>
          <p:nvPr/>
        </p:nvPicPr>
        <p:blipFill>
          <a:blip r:embed="rId1"/>
          <a:srcRect l="3602" t="28973" r="1798" b="5272"/>
          <a:stretch/>
        </p:blipFill>
        <p:spPr>
          <a:xfrm>
            <a:off x="-49320" y="2836800"/>
            <a:ext cx="9105840" cy="2876760"/>
          </a:xfrm>
          <a:prstGeom prst="rect">
            <a:avLst/>
          </a:prstGeom>
          <a:ln w="0">
            <a:noFill/>
          </a:ln>
        </p:spPr>
      </p:pic>
      <p:sp>
        <p:nvSpPr>
          <p:cNvPr id="204" name="pole tekstowe 4"/>
          <p:cNvSpPr/>
          <p:nvPr/>
        </p:nvSpPr>
        <p:spPr>
          <a:xfrm>
            <a:off x="3348000" y="607392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Źródło: Obliczenia na podstawie danych GUS, dane za rok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ole tekstowe 7"/>
          <p:cNvSpPr/>
          <p:nvPr/>
        </p:nvSpPr>
        <p:spPr>
          <a:xfrm>
            <a:off x="250920" y="178596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Liczba podmiotów prowadzących działalność B+R w przeliczeniu </a:t>
            </a:r>
            <a:br>
              <a:rPr sz="2000"/>
            </a:b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na 100 tys. mieszkańców: porównanie WK-P, WPOM i 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ole tekstowe 8"/>
          <p:cNvSpPr/>
          <p:nvPr/>
        </p:nvSpPr>
        <p:spPr>
          <a:xfrm>
            <a:off x="6156360" y="273204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34 przedsiębiorstwa + 9 innych instytucji (szkoły wyższe, JBR, placówki P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Nakłady na B+R </a:t>
            </a:r>
            <a:br>
              <a:rPr sz="2800"/>
            </a:b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w dziedzinie nauk technicznych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F011-0997-4011-A83B-D89D106C9D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Obraz 45" descr=""/>
          <p:cNvPicPr/>
          <p:nvPr/>
        </p:nvPicPr>
        <p:blipFill>
          <a:blip r:embed="rId1"/>
          <a:srcRect l="1292" t="18443" r="1292" b="22132"/>
          <a:stretch/>
        </p:blipFill>
        <p:spPr>
          <a:xfrm>
            <a:off x="168120" y="3213000"/>
            <a:ext cx="8940960" cy="1906560"/>
          </a:xfrm>
          <a:prstGeom prst="rect">
            <a:avLst/>
          </a:prstGeom>
          <a:ln w="0">
            <a:noFill/>
          </a:ln>
        </p:spPr>
      </p:pic>
      <p:sp>
        <p:nvSpPr>
          <p:cNvPr id="210" name="pole tekstowe 5"/>
          <p:cNvSpPr/>
          <p:nvPr/>
        </p:nvSpPr>
        <p:spPr>
          <a:xfrm>
            <a:off x="250920" y="178596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Nakłady ze środków budżetowych i pozabudżetowych na działalność B+R w dziedzinie nauk technicznych: porównanie WK-P i WP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ole tekstowe 6"/>
          <p:cNvSpPr/>
          <p:nvPr/>
        </p:nvSpPr>
        <p:spPr>
          <a:xfrm>
            <a:off x="4140360" y="378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58,7 mln złot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ole tekstowe 7"/>
          <p:cNvSpPr/>
          <p:nvPr/>
        </p:nvSpPr>
        <p:spPr>
          <a:xfrm>
            <a:off x="6948360" y="3924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270,4 mln złot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ole tekstowe 4"/>
          <p:cNvSpPr/>
          <p:nvPr/>
        </p:nvSpPr>
        <p:spPr>
          <a:xfrm>
            <a:off x="3276720" y="530064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Źródło: Obliczenia na podstawie danych GUS, dane za rok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Zagadnien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9280" y="141264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Kondycja oraz poziom innowacyjności MŚ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Warunki powstawania i funkcjonowania MŚ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Artykulacja interesów MŚ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System wspar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Rekomendac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BBFE-1B3D-4A44-80E2-CA168F2A76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rostokąt 4"/>
          <p:cNvSpPr/>
          <p:nvPr/>
        </p:nvSpPr>
        <p:spPr>
          <a:xfrm>
            <a:off x="179280" y="1844640"/>
            <a:ext cx="8209080" cy="5763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Zagadnien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79280" y="141264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Kondycja oraz poziom innowacyjności MŚ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Warunki powstawania i funkcjonowania MŚ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Artykulacja interesów MŚ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System wspar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Rekomendac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4875-C377-404D-9164-73A8504F34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rostokąt 4"/>
          <p:cNvSpPr/>
          <p:nvPr/>
        </p:nvSpPr>
        <p:spPr>
          <a:xfrm>
            <a:off x="179280" y="3573360"/>
            <a:ext cx="8209080" cy="5763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Kierowanie przez MŚP postulatów do władz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A65B-03A8-4ADD-93DB-1D7AB1BF06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ole tekstowe 11"/>
          <p:cNvSpPr/>
          <p:nvPr/>
        </p:nvSpPr>
        <p:spPr>
          <a:xfrm>
            <a:off x="4572000" y="6093000"/>
            <a:ext cx="43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Źródło: Badanie ankietowe MŚP, maj 2010 ro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1" descr=""/>
          <p:cNvPicPr/>
          <p:nvPr/>
        </p:nvPicPr>
        <p:blipFill>
          <a:blip r:embed="rId1"/>
          <a:srcRect l="4774" t="1029" r="10741" b="6174"/>
          <a:stretch/>
        </p:blipFill>
        <p:spPr>
          <a:xfrm>
            <a:off x="272880" y="1700280"/>
            <a:ext cx="8653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254061"/>
                </a:solidFill>
                <a:latin typeface="Verdana"/>
              </a:rPr>
              <a:t>Znajomość organizacji reprezentujących MŚP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79280" y="1267920"/>
            <a:ext cx="87854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54061"/>
                </a:solidFill>
                <a:latin typeface="Verdana"/>
              </a:rPr>
              <a:t>	</a:t>
            </a:r>
            <a:r>
              <a:rPr b="0" lang="pl-PL" sz="2400" spc="-1" strike="noStrike">
                <a:solidFill>
                  <a:srgbClr val="254061"/>
                </a:solidFill>
                <a:latin typeface="Verdana"/>
              </a:rPr>
              <a:t>Znajomość organizacji reprezentującej </a:t>
            </a:r>
            <a:br>
              <a:rPr sz="2400"/>
            </a:br>
            <a:r>
              <a:rPr b="0" lang="pl-PL" sz="2400" spc="-1" strike="noStrike">
                <a:solidFill>
                  <a:srgbClr val="254061"/>
                </a:solidFill>
                <a:latin typeface="Verdana"/>
              </a:rPr>
              <a:t>w województwie kujawsko-pomorskim interesy „przedsiębiorstw takich, jak firma respondenta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1EE8-7B23-4128-82E6-8B582A089C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az 57" descr=""/>
          <p:cNvPicPr/>
          <p:nvPr/>
        </p:nvPicPr>
        <p:blipFill>
          <a:blip r:embed="rId1"/>
          <a:srcRect l="9879" t="53983" r="2631" b="3950"/>
          <a:stretch/>
        </p:blipFill>
        <p:spPr>
          <a:xfrm>
            <a:off x="200160" y="2637000"/>
            <a:ext cx="8764560" cy="2255760"/>
          </a:xfrm>
          <a:prstGeom prst="rect">
            <a:avLst/>
          </a:prstGeom>
          <a:ln w="0">
            <a:noFill/>
          </a:ln>
        </p:spPr>
      </p:pic>
      <p:sp>
        <p:nvSpPr>
          <p:cNvPr id="226" name="pole tekstowe 11"/>
          <p:cNvSpPr/>
          <p:nvPr/>
        </p:nvSpPr>
        <p:spPr>
          <a:xfrm>
            <a:off x="4573440" y="4921200"/>
            <a:ext cx="43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Źródło: Badanie ankietowe MŚP, maj 2010 ro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ole tekstowe 6"/>
          <p:cNvSpPr/>
          <p:nvPr/>
        </p:nvSpPr>
        <p:spPr>
          <a:xfrm>
            <a:off x="324000" y="5445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Znajomość organizacji reprezentującej w zależności od wieku MŚ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wśród MŚP założonych przed 1989: 4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wśród działających od 6 do 21 lat: 29% - 3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wśród działających do 5 lat: 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Opinie MŚP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4076280"/>
            <a:ext cx="87850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Verdana"/>
              </a:rPr>
              <a:t>	</a:t>
            </a:r>
            <a:r>
              <a:rPr b="0" i="1" lang="pl-PL" sz="1400" spc="-1" strike="noStrike">
                <a:solidFill>
                  <a:srgbClr val="254061"/>
                </a:solidFill>
                <a:latin typeface="Verdana"/>
              </a:rPr>
              <a:t>W związku z tym, że na niespotykaną skalę w gminie rozpoczęły się inwestycje właśnie strukturalne, burmistrz opowiedział się za tym i przekonał do tego przedsiębiorców, (…) </a:t>
            </a:r>
            <a:br>
              <a:rPr sz="1400"/>
            </a:br>
            <a:r>
              <a:rPr b="0" i="1" lang="pl-PL" sz="1400" spc="-1" strike="noStrike">
                <a:solidFill>
                  <a:srgbClr val="254061"/>
                </a:solidFill>
                <a:latin typeface="Verdana"/>
              </a:rPr>
              <a:t>że nie udzielamy ulg i zwolnień z podatków od nieruchomości i innych dlatego, że mamy tak duże zaległości w zakresie infrastruktury, że gmina tak naprawdę podcinałaby gałąź </a:t>
            </a:r>
            <a:br>
              <a:rPr sz="1400"/>
            </a:br>
            <a:r>
              <a:rPr b="0" i="1" lang="pl-PL" sz="1400" spc="-1" strike="noStrike">
                <a:solidFill>
                  <a:srgbClr val="254061"/>
                </a:solidFill>
                <a:latin typeface="Verdana"/>
              </a:rPr>
              <a:t>na której sama siedzi. (…) Odcinałaby się od potencjalnych wpływów z podatków, które ze względu na koniunkturę, na kryzys są i tak dużo mniejsze. (…) Przedsiębiorcy wydaje się, że zrozumieli, że to jest ważniejsze dla nich i to może im przynieść dużo większe korzyści jeżeli będą mieli dobrą drogę, dobre media, niż to, że (…) dostaną jakąś ulgę w podatku (…). Na dzień dzisiejszy takie mechanizmy świadomie nie są wprowadzane ze względu na bardzo wysokie koszty, które ponosimy. Ponad czterdzieści procent budżetu przeznaczamy na inwestycje. [Przedstawiciel IOB działającej przy urzędzie gminy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2245-2702-49C4-B8B4-A9896288CF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załka w prawo 4"/>
          <p:cNvSpPr/>
          <p:nvPr/>
        </p:nvSpPr>
        <p:spPr>
          <a:xfrm>
            <a:off x="250920" y="1557360"/>
            <a:ext cx="4392360" cy="1150920"/>
          </a:xfrm>
          <a:prstGeom prst="rightArrow">
            <a:avLst>
              <a:gd name="adj1" fmla="val 50000"/>
              <a:gd name="adj2" fmla="val 50002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Calibri"/>
              </a:rPr>
              <a:t>Dochodowe instrumenty wspierania MŚ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załka w lewo 6"/>
          <p:cNvSpPr/>
          <p:nvPr/>
        </p:nvSpPr>
        <p:spPr>
          <a:xfrm>
            <a:off x="4716360" y="1557360"/>
            <a:ext cx="4176720" cy="1150920"/>
          </a:xfrm>
          <a:prstGeom prst="lef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Calibri"/>
              </a:rPr>
              <a:t>Prowadzenie inwesty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ole tekstowe 7"/>
          <p:cNvSpPr/>
          <p:nvPr/>
        </p:nvSpPr>
        <p:spPr>
          <a:xfrm>
            <a:off x="250920" y="1341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54061"/>
                </a:solidFill>
                <a:latin typeface="Verdana"/>
              </a:rPr>
              <a:t>Konkurencyjne postul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ole tekstowe 8"/>
          <p:cNvSpPr/>
          <p:nvPr/>
        </p:nvSpPr>
        <p:spPr>
          <a:xfrm>
            <a:off x="360360" y="3716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54061"/>
                </a:solidFill>
                <a:latin typeface="Verdana"/>
              </a:rPr>
              <a:t>Możliwość uzgodni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ole tekstowe 11"/>
          <p:cNvSpPr/>
          <p:nvPr/>
        </p:nvSpPr>
        <p:spPr>
          <a:xfrm>
            <a:off x="324000" y="278136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54061"/>
                </a:solidFill>
                <a:latin typeface="Verdana"/>
              </a:rPr>
              <a:t>Opinia publiczna: </a:t>
            </a:r>
            <a:br>
              <a:rPr sz="1800"/>
            </a:br>
            <a:r>
              <a:rPr b="1" lang="pl-PL" sz="1800" spc="-1" strike="noStrike">
                <a:solidFill>
                  <a:srgbClr val="254061"/>
                </a:solidFill>
                <a:latin typeface="Verdana"/>
              </a:rPr>
              <a:t>agregat opinii jednostkowych vs. wynik racjonalnej dyskus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Zagadnien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9280" y="141264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Kondycja oraz poziom innowacyjności MŚ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Warunki powstawania i funkcjonowania MŚ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Artykulacja interesów MŚ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System wspar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Rekomendac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9C16-D8D8-4238-B5EC-60D06697B9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rostokąt 4"/>
          <p:cNvSpPr/>
          <p:nvPr/>
        </p:nvSpPr>
        <p:spPr>
          <a:xfrm>
            <a:off x="179280" y="4437000"/>
            <a:ext cx="8209080" cy="5763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Relacje pomiędzy instytucjami 1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7B4D-6DDF-41C5-A37A-A105E9F814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ole tekstowe 5"/>
          <p:cNvSpPr/>
          <p:nvPr/>
        </p:nvSpPr>
        <p:spPr>
          <a:xfrm>
            <a:off x="179280" y="133200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„</a:t>
            </a: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Stała współpraca” w 2009 ro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raz 187" descr="P18_1_corr"/>
          <p:cNvPicPr/>
          <p:nvPr/>
        </p:nvPicPr>
        <p:blipFill>
          <a:blip r:embed="rId1"/>
          <a:stretch/>
        </p:blipFill>
        <p:spPr>
          <a:xfrm>
            <a:off x="1020600" y="1666800"/>
            <a:ext cx="7367760" cy="4549680"/>
          </a:xfrm>
          <a:prstGeom prst="rect">
            <a:avLst/>
          </a:prstGeom>
          <a:ln w="0">
            <a:noFill/>
          </a:ln>
        </p:spPr>
      </p:pic>
      <p:sp>
        <p:nvSpPr>
          <p:cNvPr id="244" name="pole tekstowe 11"/>
          <p:cNvSpPr/>
          <p:nvPr/>
        </p:nvSpPr>
        <p:spPr>
          <a:xfrm>
            <a:off x="4140360" y="638172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Źródło: Badanie ankietowe IOB oraz B+R, maj 2010 ro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Relacje pomiędzy instytucjami 2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1919-FCFC-467F-9B72-7768870D83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ole tekstowe 5"/>
          <p:cNvSpPr/>
          <p:nvPr/>
        </p:nvSpPr>
        <p:spPr>
          <a:xfrm>
            <a:off x="179280" y="1332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„</a:t>
            </a:r>
            <a:r>
              <a:rPr b="0" lang="pl-PL" sz="1800" spc="-1" strike="noStrike">
                <a:solidFill>
                  <a:srgbClr val="254061"/>
                </a:solidFill>
                <a:latin typeface="Verdana"/>
              </a:rPr>
              <a:t>Pośredniczenie w kontaktach z klientami” w 2009 rok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ole tekstowe 11"/>
          <p:cNvSpPr/>
          <p:nvPr/>
        </p:nvSpPr>
        <p:spPr>
          <a:xfrm>
            <a:off x="4140360" y="6381720"/>
            <a:ext cx="48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Źródło: Badanie ankietowe IOB oraz B+R, maj 2010 ro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az 188" descr="P18_10_11_corr"/>
          <p:cNvPicPr/>
          <p:nvPr/>
        </p:nvPicPr>
        <p:blipFill>
          <a:blip r:embed="rId1"/>
          <a:stretch/>
        </p:blipFill>
        <p:spPr>
          <a:xfrm>
            <a:off x="798480" y="1844640"/>
            <a:ext cx="72295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Kumulatywnoś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79280" y="1628280"/>
            <a:ext cx="878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54061"/>
                </a:solidFill>
                <a:latin typeface="Verdana"/>
              </a:rPr>
              <a:t>	</a:t>
            </a: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Zerwanie ciągłości</a:t>
            </a:r>
            <a:r>
              <a:rPr b="0" lang="pl-PL" sz="2400" spc="-1" strike="noStrike">
                <a:solidFill>
                  <a:srgbClr val="254061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54061"/>
                </a:solidFill>
                <a:latin typeface="Verdana"/>
              </a:rPr>
              <a:t>nieuchwalenie projektu RSI przygotowanego </a:t>
            </a:r>
            <a:br>
              <a:rPr sz="2400"/>
            </a:br>
            <a:r>
              <a:rPr b="0" lang="pl-PL" sz="2400" spc="-1" strike="noStrike">
                <a:solidFill>
                  <a:srgbClr val="254061"/>
                </a:solidFill>
                <a:latin typeface="Verdana"/>
              </a:rPr>
              <a:t>w ramach KUJPOMR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54061"/>
                </a:solidFill>
                <a:latin typeface="Verdana"/>
              </a:rPr>
              <a:t>zaprzestanie funkcjonowania Kujawsko-Pomorskiej Rady Przedsiębiorczoś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54061"/>
                </a:solidFill>
                <a:latin typeface="Verdana"/>
              </a:rPr>
              <a:t>zanik kontaktów pomiędzy władzami samorządowymi województwa a sejmikiem gospodarczy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A146-651B-41B2-84F8-058C4FCFF5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Zagadnien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79280" y="141264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Kondycja oraz poziom innowacyjności MŚ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Warunki powstawania i funkcjonowania MŚ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Artykulacja interesów MŚ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System wspar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54061"/>
                </a:solidFill>
                <a:latin typeface="Verdana"/>
              </a:rPr>
              <a:t>Rekomendac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72D2-BC40-4F9B-BD74-114FDA4126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rostokąt 4"/>
          <p:cNvSpPr/>
          <p:nvPr/>
        </p:nvSpPr>
        <p:spPr>
          <a:xfrm>
            <a:off x="179280" y="5300640"/>
            <a:ext cx="8209080" cy="5763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Tematy rekomendacji 1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BCF1-F7A5-4210-A0CC-ACBBB11450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ole tekstowe 4"/>
          <p:cNvSpPr/>
          <p:nvPr/>
        </p:nvSpPr>
        <p:spPr>
          <a:xfrm>
            <a:off x="108000" y="1197000"/>
            <a:ext cx="89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Prowadzenie inwestycji infrastrukturalnych (RPO WK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ole tekstowe 5"/>
          <p:cNvSpPr/>
          <p:nvPr/>
        </p:nvSpPr>
        <p:spPr>
          <a:xfrm>
            <a:off x="108000" y="1700280"/>
            <a:ext cx="892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Podatki lokaln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priorytetem inwestycje w infrastruktur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zwolnienia podatkowe dla firm w kryzy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prezentowanie przedsiębiorcom założeń polityki podatkow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ole tekstowe 6"/>
          <p:cNvSpPr/>
          <p:nvPr/>
        </p:nvSpPr>
        <p:spPr>
          <a:xfrm>
            <a:off x="108000" y="30290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Większa aktywność gmin w zakresie planowania przestrzenn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ole tekstowe 7"/>
          <p:cNvSpPr/>
          <p:nvPr/>
        </p:nvSpPr>
        <p:spPr>
          <a:xfrm>
            <a:off x="108000" y="353232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Włączanie przedsiębiorców w planowanie rozwoju lokaln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ole tekstowe 8"/>
          <p:cNvSpPr/>
          <p:nvPr/>
        </p:nvSpPr>
        <p:spPr>
          <a:xfrm>
            <a:off x="108000" y="400536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Przekazywanie przedsiębiorcom informacji nt. wsparcia z UE, monitorowanie i ewaluacja RPO WKP oraz regionalnego PO K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ole tekstowe 9"/>
          <p:cNvSpPr/>
          <p:nvPr/>
        </p:nvSpPr>
        <p:spPr>
          <a:xfrm>
            <a:off x="108000" y="4797360"/>
            <a:ext cx="90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Poszerzenie oferty szkoleń, rozwijanie „audytu” potrzeb szkoleniowo-doradczych, wykorzystanie wyników badania potrzeb szkoleniowych przy dotowaniu szkole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ole tekstowe 11"/>
          <p:cNvSpPr/>
          <p:nvPr/>
        </p:nvSpPr>
        <p:spPr>
          <a:xfrm>
            <a:off x="108000" y="5818320"/>
            <a:ext cx="90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Poszerzenie niekomercyjnej oferty wsparcia finansowego </a:t>
            </a:r>
            <a:br>
              <a:rPr sz="2000"/>
            </a:b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(w tym: kapitał zalążkowy, kapitał podwyższonego ryzyka), promocja źródeł finansow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254061"/>
                </a:solidFill>
                <a:latin typeface="Verdana"/>
              </a:rPr>
              <a:t>Wielkość sektora MŚP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EE4F-EDA8-43E0-A95E-3A1D2D85A7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17" descr=""/>
          <p:cNvPicPr/>
          <p:nvPr/>
        </p:nvPicPr>
        <p:blipFill>
          <a:blip r:embed="rId1"/>
          <a:srcRect l="1414" t="9594" r="2114" b="4797"/>
          <a:stretch/>
        </p:blipFill>
        <p:spPr>
          <a:xfrm>
            <a:off x="119160" y="2060640"/>
            <a:ext cx="8197920" cy="3184560"/>
          </a:xfrm>
          <a:prstGeom prst="rect">
            <a:avLst/>
          </a:prstGeom>
          <a:ln w="0">
            <a:noFill/>
          </a:ln>
        </p:spPr>
      </p:pic>
      <p:sp>
        <p:nvSpPr>
          <p:cNvPr id="87" name="pole tekstowe 11"/>
          <p:cNvSpPr/>
          <p:nvPr/>
        </p:nvSpPr>
        <p:spPr>
          <a:xfrm>
            <a:off x="4859280" y="571356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Źródło: Obliczenia na podstawie danych G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Nawias klamrowy zamykający 9"/>
          <p:cNvSpPr/>
          <p:nvPr/>
        </p:nvSpPr>
        <p:spPr>
          <a:xfrm>
            <a:off x="8280360" y="2421000"/>
            <a:ext cx="179280" cy="520560"/>
          </a:xfrm>
          <a:custGeom>
            <a:avLst/>
            <a:gdLst>
              <a:gd name="textAreaLeft" fmla="*/ 0 w 179280"/>
              <a:gd name="textAreaRight" fmla="*/ 64800 w 179280"/>
              <a:gd name="textAreaTop" fmla="*/ 4320 h 520560"/>
              <a:gd name="textAreaBottom" fmla="*/ 51624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0"/>
                  <a:pt x="10800" y="620"/>
                </a:cubicBezTo>
                <a:lnTo>
                  <a:pt x="10800" y="10180"/>
                </a:lnTo>
                <a:cubicBezTo>
                  <a:pt x="10800" y="10490"/>
                  <a:pt x="16200" y="10800"/>
                  <a:pt x="21600" y="10800"/>
                </a:cubicBezTo>
                <a:cubicBezTo>
                  <a:pt x="16200" y="10800"/>
                  <a:pt x="10800" y="11110"/>
                  <a:pt x="10800" y="11420"/>
                </a:cubicBezTo>
                <a:lnTo>
                  <a:pt x="10800" y="20980"/>
                </a:lnTo>
                <a:cubicBezTo>
                  <a:pt x="10800" y="2129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ole tekstowe 6"/>
          <p:cNvSpPr/>
          <p:nvPr/>
        </p:nvSpPr>
        <p:spPr>
          <a:xfrm>
            <a:off x="8496360" y="2482920"/>
            <a:ext cx="64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Arial"/>
              </a:rPr>
              <a:t>2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Nawias klamrowy zamykający 11"/>
          <p:cNvSpPr/>
          <p:nvPr/>
        </p:nvSpPr>
        <p:spPr>
          <a:xfrm>
            <a:off x="8280360" y="2997360"/>
            <a:ext cx="216000" cy="1873080"/>
          </a:xfrm>
          <a:custGeom>
            <a:avLst/>
            <a:gdLst>
              <a:gd name="textAreaLeft" fmla="*/ 0 w 216000"/>
              <a:gd name="textAreaRight" fmla="*/ 78120 w 216000"/>
              <a:gd name="textAreaTop" fmla="*/ 5400 h 1873080"/>
              <a:gd name="textAreaBottom" fmla="*/ 186768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4"/>
                  <a:pt x="10800" y="207"/>
                </a:cubicBezTo>
                <a:lnTo>
                  <a:pt x="10800" y="10593"/>
                </a:lnTo>
                <a:cubicBezTo>
                  <a:pt x="10800" y="10697"/>
                  <a:pt x="16200" y="10800"/>
                  <a:pt x="21600" y="10800"/>
                </a:cubicBezTo>
                <a:cubicBezTo>
                  <a:pt x="16200" y="10800"/>
                  <a:pt x="10800" y="10904"/>
                  <a:pt x="10800" y="11007"/>
                </a:cubicBezTo>
                <a:lnTo>
                  <a:pt x="10800" y="21393"/>
                </a:lnTo>
                <a:cubicBezTo>
                  <a:pt x="10800" y="21497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ole tekstowe 8"/>
          <p:cNvSpPr/>
          <p:nvPr/>
        </p:nvSpPr>
        <p:spPr>
          <a:xfrm>
            <a:off x="8496360" y="3780000"/>
            <a:ext cx="64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33cc"/>
                </a:solidFill>
                <a:latin typeface="Arial"/>
              </a:rPr>
              <a:t>7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Tematy rekomendacji 2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BD22-1CCE-4B20-B246-9A61A5ABEB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ole tekstowe 4"/>
          <p:cNvSpPr/>
          <p:nvPr/>
        </p:nvSpPr>
        <p:spPr>
          <a:xfrm>
            <a:off x="108000" y="1292400"/>
            <a:ext cx="89280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Promowanie współpracy pomiędzy MŚP a B+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uświadamianie przedstawicielom MŚP potrzeby prowadzenia działalności innowacyjnej oraz korzyści ze współpracy z B+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stworzenie portalu prezentującego ofertę B+R z regionu oraz zgłaszanego przez MŚP zapotrzebowania na prace B+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organizowanie forów umożliwiających kontakt MŚP z B+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wykorzystywanie instrumentów wsparcia finansowego, zarówno skierowanych do MŚP (kapitał wysokiego ryzyka), jak i B+R (np. fundusz badań wdrożeniowy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organizowanie staży pracowników naukowych i doktorantów w przedsiębiorstw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zwiększenie roli IOB w kontaktowaniu przedsiębiorców </a:t>
            </a:r>
            <a:br>
              <a:rPr sz="2000"/>
            </a:b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z instytucjami B+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Tematy rekomendacji 3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49EB-BBB0-47BB-81F6-30EA973499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ole tekstowe 4"/>
          <p:cNvSpPr/>
          <p:nvPr/>
        </p:nvSpPr>
        <p:spPr>
          <a:xfrm>
            <a:off x="108000" y="1914480"/>
            <a:ext cx="892800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Promowanie powoływania firm akademick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stworzenie systemu poradnictwa dla uczelni oraz ich pracowników w zakresie tworzenia firm </a:t>
            </a:r>
            <a:r>
              <a:rPr b="0" i="1" lang="pl-PL" sz="2000" spc="-1" strike="noStrike">
                <a:solidFill>
                  <a:srgbClr val="254061"/>
                </a:solidFill>
                <a:latin typeface="Verdana"/>
              </a:rPr>
              <a:t>spin-off</a:t>
            </a: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 i </a:t>
            </a:r>
            <a:r>
              <a:rPr b="0" i="1" lang="pl-PL" sz="2000" spc="-1" strike="noStrike">
                <a:solidFill>
                  <a:srgbClr val="254061"/>
                </a:solidFill>
                <a:latin typeface="Verdana"/>
              </a:rPr>
              <a:t>spin-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stworzenie systemu wsparcia firm akademickich </a:t>
            </a:r>
            <a:br>
              <a:rPr sz="2000"/>
            </a:b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na kolejnych etapach ich rozwo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realizacja pilotażowych projektów tworzenia firm </a:t>
            </a:r>
            <a:r>
              <a:rPr b="0" i="1" lang="pl-PL" sz="2000" spc="-1" strike="noStrike">
                <a:solidFill>
                  <a:srgbClr val="254061"/>
                </a:solidFill>
                <a:latin typeface="Verdana"/>
              </a:rPr>
              <a:t>spin-off</a:t>
            </a: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i </a:t>
            </a:r>
            <a:r>
              <a:rPr b="0" i="1" lang="pl-PL" sz="2000" spc="-1" strike="noStrike">
                <a:solidFill>
                  <a:srgbClr val="254061"/>
                </a:solidFill>
                <a:latin typeface="Verdana"/>
              </a:rPr>
              <a:t>spin-out </a:t>
            </a: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oraz prezentacja dobrych prakty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Tematy rekomendacji 4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4085-022A-4D46-9993-8544B28CFAB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ole tekstowe 4"/>
          <p:cNvSpPr/>
          <p:nvPr/>
        </p:nvSpPr>
        <p:spPr>
          <a:xfrm>
            <a:off x="6480" y="1181160"/>
            <a:ext cx="89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Wspieranie powstawania ośrodków wspierania innow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ole tekstowe 5"/>
          <p:cNvSpPr/>
          <p:nvPr/>
        </p:nvSpPr>
        <p:spPr>
          <a:xfrm>
            <a:off x="0" y="1700280"/>
            <a:ext cx="914400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 „</a:t>
            </a: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Systematyzacja” funkcjonowania IOB w regio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zapewnienie finansowania IOB w dłuższej perspektyw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promowanie specjalizacji I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współpraca pomiędzy IOB oraz z władzami samorządowy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udostępnianie informacji nt. oferty IOB (katalo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12"/>
          <p:cNvSpPr/>
          <p:nvPr/>
        </p:nvSpPr>
        <p:spPr>
          <a:xfrm>
            <a:off x="108000" y="3917880"/>
            <a:ext cx="914400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Aktualizacja R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udział wszystkich zainteresowanych środow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wykorzystanie dorobku KUJPOM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powołanie jednostki odpowiedzialnej za zarządzanie R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szczegółowe określenie planu działań nowej jednostki, </a:t>
            </a:r>
            <a:br>
              <a:rPr sz="2000"/>
            </a:b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z uwzględnieniem działań KUJPOMRIS, RORIiSI, CZR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Tematy rekomendacji 5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502F-41F2-47ED-A7D5-0647BA98F7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ole tekstowe 4"/>
          <p:cNvSpPr/>
          <p:nvPr/>
        </p:nvSpPr>
        <p:spPr>
          <a:xfrm>
            <a:off x="108000" y="1298520"/>
            <a:ext cx="89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Zapewnienie funkcjonowania stałego forum dyskusji pomiędzy władzami samorządowymi regionu a przedstawicielami przedsiębiorców oraz nau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ole tekstowe 6"/>
          <p:cNvSpPr/>
          <p:nvPr/>
        </p:nvSpPr>
        <p:spPr>
          <a:xfrm>
            <a:off x="108000" y="2306520"/>
            <a:ext cx="90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Wzmocnienie reprezentacyjnej funkcji organizacji zrzeszających przedsiębiorców: docieranie do nowych członków, zwiększenie przepływu informa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ole tekstowe 7"/>
          <p:cNvSpPr/>
          <p:nvPr/>
        </p:nvSpPr>
        <p:spPr>
          <a:xfrm>
            <a:off x="108000" y="3386160"/>
            <a:ext cx="9036000" cy="34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Rozwijanie kształcenia w kierunkach odpowiadających potrzebom gospodarki, w szkołach wyższych i średni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działania promocyj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doposażanie uczelni / szkó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wsparcie finansowe dla studen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Dostosowywanie kwalifikacji osób bezrobotnych do rynku pra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Szkolenie dla przedsiębiorców z zakresu doboru pracowni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54061"/>
                </a:solidFill>
                <a:latin typeface="Verdana"/>
              </a:rPr>
              <a:t>Tematy rekomendacji 6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1425-F8CD-48DD-B84E-DB871BD448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ole tekstowe 4"/>
          <p:cNvSpPr/>
          <p:nvPr/>
        </p:nvSpPr>
        <p:spPr>
          <a:xfrm>
            <a:off x="108000" y="170028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Utworzenie studiów przygotowujących kadry instytucji wspierających MŚP oraz ich współpracę z B+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ole tekstowe 6"/>
          <p:cNvSpPr/>
          <p:nvPr/>
        </p:nvSpPr>
        <p:spPr>
          <a:xfrm>
            <a:off x="108000" y="2565360"/>
            <a:ext cx="90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Wzmocnienie w Urzędzie Marszałkowskim funkcji wspierania samorządu lokalnego w tworzeniu warunków sprzyjających rozwojowi przedsiębiorczości (analogicznie do wsparcia </a:t>
            </a:r>
            <a:br>
              <a:rPr sz="2000"/>
            </a:b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w zakresie przygotowywania terenów inwestycyjny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ole tekstowe 7"/>
          <p:cNvSpPr/>
          <p:nvPr/>
        </p:nvSpPr>
        <p:spPr>
          <a:xfrm>
            <a:off x="108000" y="4037040"/>
            <a:ext cx="90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54061"/>
              </a:buClr>
              <a:buFont typeface="Verdana"/>
              <a:buAutoNum type="arabicParenR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54061"/>
                </a:solidFill>
                <a:latin typeface="Verdana"/>
              </a:rPr>
              <a:t>Powołanie w Urzędzie Marszałkowskim międzywydziałowego zespołu ds. wspierania przedsiębiorczości, w celu zapewnienia kompleksowej realizacji strategii w tym zakre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5840" y="2565000"/>
            <a:ext cx="8929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254061"/>
                </a:solidFill>
                <a:latin typeface="Verdana"/>
              </a:rPr>
              <a:t>Dziękujem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60E8-843B-4421-ADAC-D87CE9F90C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187280" y="458100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54061"/>
                </a:solidFill>
                <a:latin typeface="Verdana"/>
              </a:rPr>
              <a:t>www.dyspersja.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rostokąt 5"/>
          <p:cNvSpPr/>
          <p:nvPr/>
        </p:nvSpPr>
        <p:spPr>
          <a:xfrm>
            <a:off x="214200" y="6215040"/>
            <a:ext cx="8786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 współfinansowany ze środków Unii Europejskiej w ramach Europejskiego Funduszu Społeczne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9028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254061"/>
                </a:solidFill>
                <a:latin typeface="Verdana"/>
              </a:rPr>
              <a:t>Innowacyjność WK-P według RII *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54880" cy="4478400"/>
          </a:xfrm>
          <a:prstGeom prst="rect">
            <a:avLst/>
          </a:prstGeom>
          <a:ln w="0">
            <a:noFill/>
          </a:ln>
        </p:spPr>
      </p:pic>
      <p:sp>
        <p:nvSpPr>
          <p:cNvPr id="94" name="pole tekstowe 3"/>
          <p:cNvSpPr/>
          <p:nvPr/>
        </p:nvSpPr>
        <p:spPr>
          <a:xfrm>
            <a:off x="395280" y="5950080"/>
            <a:ext cx="85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* Regionalny Indeks Innowacji jest syntetycznym wskaźnikiem stosowanym w badaniach prowadzonych przez PRO INNO Europe,  obliczanym na podstawie wskaźników cząstkowych bazujących na statystyce publicznej. Przyjmuje wartości od 0 do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ole tekstowe 4"/>
          <p:cNvSpPr/>
          <p:nvPr/>
        </p:nvSpPr>
        <p:spPr>
          <a:xfrm>
            <a:off x="971640" y="5589720"/>
            <a:ext cx="748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Źródło: Obliczenia na podstawie Regional Innovation Scoreboard  2009, dane za rok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ole tekstowe 5"/>
          <p:cNvSpPr/>
          <p:nvPr/>
        </p:nvSpPr>
        <p:spPr>
          <a:xfrm>
            <a:off x="395280" y="494172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Deficyty WK-P: szkolnictwo wyższe, </a:t>
            </a:r>
            <a:br>
              <a:rPr sz="1800"/>
            </a:br>
            <a:r>
              <a:rPr b="0" lang="pl-PL" sz="1800" spc="-1" strike="noStrike">
                <a:solidFill>
                  <a:srgbClr val="254061"/>
                </a:solidFill>
                <a:latin typeface="Arial"/>
              </a:rPr>
              <a:t>wydatki publiczne na B+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" y="739800"/>
            <a:ext cx="9131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254061"/>
                </a:solidFill>
                <a:latin typeface="Verdana"/>
              </a:rPr>
              <a:t>Wprowadzanie innowacji przez małe przedsiębiorstwa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2771640" y="614520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Źródło: Obliczenia na podstawie danych GUS, dane za rok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698508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" y="739800"/>
            <a:ext cx="9131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254061"/>
                </a:solidFill>
                <a:latin typeface="Verdana"/>
              </a:rPr>
              <a:t>Wprowadzanie innowacji przez średnie przedsiębiorstwa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ole tekstowe 4"/>
          <p:cNvSpPr/>
          <p:nvPr/>
        </p:nvSpPr>
        <p:spPr>
          <a:xfrm>
            <a:off x="2627280" y="6145200"/>
            <a:ext cx="561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Źródło: Obliczenia na podstawie danych GUS, dane za rok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10424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254061"/>
                </a:solidFill>
                <a:latin typeface="Verdana"/>
              </a:rPr>
              <a:t>Samoocena kondycji MŚP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BBAD-ED8F-4018-8676-8F648335FD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rcRect l="780" t="2386" r="2726" b="35741"/>
          <a:stretch/>
        </p:blipFill>
        <p:spPr>
          <a:xfrm>
            <a:off x="179280" y="2017800"/>
            <a:ext cx="8785440" cy="368604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11"/>
          <p:cNvSpPr/>
          <p:nvPr/>
        </p:nvSpPr>
        <p:spPr>
          <a:xfrm>
            <a:off x="4643280" y="537372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Źródło: Badanie ankietowe MŚP, maj 2010 ro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254061"/>
                </a:solidFill>
                <a:latin typeface="Verdana"/>
              </a:rPr>
              <a:t>Zmiana wielkości obrotu MŚP 2009/2008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39B1-C3CA-4502-A79A-4D640DAC5F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rcRect l="390" t="1193" r="1560" b="32764"/>
          <a:stretch/>
        </p:blipFill>
        <p:spPr>
          <a:xfrm>
            <a:off x="179280" y="1925640"/>
            <a:ext cx="8785440" cy="3870360"/>
          </a:xfrm>
          <a:prstGeom prst="rect">
            <a:avLst/>
          </a:prstGeom>
          <a:ln w="0">
            <a:noFill/>
          </a:ln>
        </p:spPr>
      </p:pic>
      <p:sp>
        <p:nvSpPr>
          <p:cNvPr id="110" name="pole tekstowe 11"/>
          <p:cNvSpPr/>
          <p:nvPr/>
        </p:nvSpPr>
        <p:spPr>
          <a:xfrm>
            <a:off x="4284720" y="5805360"/>
            <a:ext cx="43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254061"/>
                </a:solidFill>
                <a:latin typeface="Arial"/>
              </a:rPr>
              <a:t>Źródło: Badanie ankietowe MŚP, maj 2010 ro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07:46:41Z</dcterms:created>
  <dc:creator>Dyspersja</dc:creator>
  <dc:description/>
  <dc:language>en-US</dc:language>
  <cp:lastModifiedBy>Magdalena Bolewska</cp:lastModifiedBy>
  <dcterms:modified xsi:type="dcterms:W3CDTF">2010-12-10T11:55:18Z</dcterms:modified>
  <cp:revision>282</cp:revision>
  <dc:subject/>
  <dc:title>MŚP w WKP</dc:title>
</cp:coreProperties>
</file>