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  <p:sldId id="320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slide" Target="slides/slide65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5F36-F32F-459C-918C-71161536730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4B40-F5BA-461E-96D2-6E7E825BD82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7B91-A088-4E7A-A8B4-FEBB8419AC4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E570-CDBC-4A5F-8D8E-36639E8BFDF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C97C-4771-4277-8734-3276A24D904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CE19-9F1A-4708-9AFD-2C6AB056AF9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A6C7-73DB-46DD-9FBC-95953C89F9F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D8EA-3A5E-4289-A9C9-6190D1E89AE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40F4-256A-48F1-AF8A-175018EC5B1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6DCE-160A-483E-8597-CF4072172DB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7391-C554-49CD-A1D5-5EDFF940ACC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BF7D-E46A-4CC6-B4B3-2DF62E1FE2C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CD91-FF0D-4FFC-B53A-038801F854F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D14A-2BC2-486D-BD74-8C8A9766044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D0DD-BBBF-4F36-8F5F-E47174D8242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E91F-3894-4B6A-AFD6-D663381C2D2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B3EB-6BD7-4836-9D49-B8FCDFA0DAA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64EB-2307-4B83-858E-D31376B2ED5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5C46-E3E8-413D-8145-25675CFB308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AD45-1C4D-4CE8-8A48-C775856DE3C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2DDD-F1EE-479B-8E54-D532936C01E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2D3B-FC45-490F-A94D-974AE591F2F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E91F-5090-47CA-854A-BD907996D53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62F6-EA10-42CE-817F-6706797E485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8E44-81C4-4532-BAE9-6B7496127D8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2B3F-4EDA-4E4D-A6DF-9670DBD3EE3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8E7C-0D28-42B6-992B-EBEAA53D7AA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6B10-494D-4CA5-B97C-C1E1AA2DB03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55A2-F685-417B-BF67-B588321518D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5B07-0C75-411A-AC76-7CD5BE18E3F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A711-64D4-4EF6-94CF-27F42126615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F255-A240-4EA2-A62F-2501BB81216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EEDF-8DF9-4358-9931-FE5F2D48F55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9722-BAB0-49B4-9D91-2CE5671819E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D4EF-12E9-4C4E-A79F-CAC43ED1EE5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FE76-02A1-4ABF-937D-70220CD5F6D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3974-70D4-4C63-9B18-3544066F7D4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E8C4-3E93-4184-922C-4765D967E2E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AC06-D421-49FF-BD5A-8591CF07EAD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FF33-9801-4528-8C85-6CD22F72609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3410-1461-4927-9A6F-E70BD930C73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9C88-DA31-41B4-9394-F51D785942E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F07B-FAC4-4242-B652-9E70932484B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8113-351F-4DBE-8A90-977AFDB0DFB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BA23-9CE9-459B-8EDE-16B32B15087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AE3F-3A4F-4490-8AF9-5C5BB37F3BB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6E68-4D88-47FC-B043-2810C18D80E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050D-A5E5-4C4C-B4F5-01E336FD77D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B126-48C2-420B-AF29-EC2DB152B3F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C9CF-FC6B-4102-84C8-59611DBF8A7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C132-67F5-487C-A1EA-D2BCB2D95EA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3352-A137-47D7-B507-F11B812D056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058F-86D1-439B-B7FB-7F30A55348C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D358-462D-4255-9C8B-673F78F12B4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BAC1-C762-47DD-B9EA-6F0610B5B82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813B-762D-4F49-9081-30A1C1BB1A9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6AD4-FFDF-4BBD-A7F6-D71CD5A8CB9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3C74-9C85-42E2-9A31-78FBC5BEE2B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A19A-E222-45EF-ADD6-03D0D0EDD0D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8608-F90F-4608-B473-077A5415505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5378-2B85-41D3-BBD4-B4B6F7FFB03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2BC9-5F51-4890-A364-10D699BC2ED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7EF2-C258-4645-90F5-7E12C735714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18A2-C11E-43E5-8FC7-EA16667465D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546D-DD99-49BA-85AB-2B7FF3D5BD0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7427-79BA-42AA-AB34-CE720136CD9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EBE2-19C4-4C7D-91E4-AC904E790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9C79-13F8-486F-90DB-6C76F25B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4D4F8B-DACD-4901-9D89-B28E04D4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3B4ACC-3BF9-4C01-9875-171368A5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3AA0A1-FA75-417B-8224-B992347F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497535-8B32-488B-B70F-705B2BAB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03F571-13BA-40F4-A1BF-19F1FAD2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A9BA5-E767-4B8E-905C-EF7371AD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81BA84-114C-4DC1-8E74-8B8EE684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7F929A-26A4-4358-B404-21C9D072A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E47A5-5B1A-4931-B110-ED662C24A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2EB456-9863-4BA0-A8F6-2458FE8FA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FA12-B667-427E-92A3-304E6E26D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6588FA-5FC7-42DB-9034-EF52CE62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81DADC-4488-44C5-9DB5-0B45EC77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6F391D-C874-463F-9875-F71B5D0F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48790D-F828-470F-B95D-F8FF0476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414AFA-2D47-44AB-B0F5-3BA8C416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789F4A-5244-41D2-9434-5EDC278B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03D36B-063E-449E-A26F-2487B8C8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C6C380-5F88-47CA-861C-2D2DBB31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1C47A7-530B-4654-9639-726B1DE6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0F5CFB-7D21-458E-9A7A-64FFFAD04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27FD-FD46-4009-A8A9-75B831FF8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0CCBB6-1AEE-4776-A9E2-E63A5520F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7A911-B1E7-4A8D-9DC6-0230947E0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85BD62-4D3A-4211-9423-5A19452A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C7DBB-A860-4D71-B948-13F3780B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C88B9-2EAB-4516-BF5F-A1715793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D2343-8AF2-489A-BDB5-26FFA8ED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4AEEBB-284A-463B-A31F-9AB85790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F5AC61-B49E-455D-93FE-1007CDE0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175CC-389B-4309-A62C-38971DBB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16EA1-FD5C-482B-9124-93650196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C32D-E094-41AA-813B-C815FBD32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A6ED0-5745-441B-A9ED-11EBEDBE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A93AE4-B54F-461F-B8AC-C0B12D148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97B70-A1B6-4D2E-8DED-FD81B275E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B60B9E-4287-4C31-A9EB-AF738DE46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50BAE0-CF64-4066-9E0F-8DBE94E2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CBEFBE-2B61-4278-8665-5E8955C4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8BB0E3-B5C6-4AFB-B946-2947F304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1841AD-D85C-4693-8019-3068D087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5197A4-F103-415D-A81C-50C9D923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EDE0CD-C100-4826-A955-00058539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E26B-AF8B-4164-B863-DFEAD170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6DCF5E-C381-439F-964B-5F2DCF6D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28A065-C435-4948-A9E0-4B57FE8A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E3B2EE-E637-4D6B-91C7-1D9ADFE9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2303B6-51D7-4A88-8942-B46EBD0F3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BB4CA0-8C95-4A1D-AB5B-611521BA8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69AF-009F-4BC3-B654-BAE62F0F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B2416-D72B-465E-BB2A-6B88236B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70C4-48D3-47C9-92B3-EB5AB8B8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872BC-EC61-483C-B101-892BA520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11E8-56BB-4051-8056-81ADFB15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2317-F9BA-43CF-97D3-3A45B696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AEB3-1FF2-43A2-A56B-1B9C675D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310BB-A310-4F65-AF5B-4D117F6F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F38F6-6541-4778-8809-E8768DEC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FFBF-1EB0-4DFE-8030-F234410F1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99919-E8A2-4CF8-9100-CDC402B73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26D2B-889E-4785-8875-3A5FD1D62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6EA67-6049-473B-A0EB-54996635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F41A6-8496-4190-BC6B-2D216F3E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75844-F730-4702-A2AE-12A83C0C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06625-BD05-4B4C-A4D8-3466DA05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62F0-56D3-41A3-8557-ABA757EC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23FE8-0BE9-4F05-96B7-5D4CE4F4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1E232-5C95-4AA6-B5E3-1A536D37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538A5-9FF8-48D1-A21A-6AF174F1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AF454-43CA-4D47-A267-0268E7B9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07123-0F6F-4737-824E-89E73547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E268D-DCC8-4FA3-B77E-4534CD85C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90D62-75D3-4959-A994-92956A8E3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1D481-8DCC-463B-94C8-F58112476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01C89-D0AC-41DA-BAB5-B8D3AFB4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75C5F-2A87-4F9E-BB34-DDA9CDDC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E88B-5E51-41B0-9195-C16D701F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D35BC-3C76-4685-AC1C-8AFDDD2D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5355A-C2AF-4BF3-AAC6-338840F1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D3C5E-32B3-4979-818F-6CEB1E64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68365-59BF-4946-BDEE-CC658C5C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EA10E-E971-4CBE-B06F-12C13695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44310-1EB1-4FF3-B55D-3DE78A46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6940A-852A-4583-A78B-83D2609D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E61BD-261C-41B8-A310-0A6287259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E1695-ECC3-41F6-88F8-DAB35DE7F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BF31E-A9CE-4D93-9331-81B381047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FF88-2208-48D5-94CD-6331A38E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311C9-F89E-4A09-A960-6594BFC7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5E79C-603F-4703-B44A-20C01C1B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E09AE-C1B3-4374-B586-0C2332EC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9C64B-BC8C-4BAA-902C-15A5419C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8547A-E328-4EF0-91E1-D9A602B1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1D6A4-8900-45E9-9FA3-F348F469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AE881-491D-4B94-8325-3B564D7F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68037-18E2-4646-B3EC-031996C1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F71B2-507F-42DE-8D8A-7AEDA35B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0F750-24DD-4D2A-8B10-88E855461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7126-56A7-432F-B1BC-3B9CF5D3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5EA74-F8F6-4180-9E4F-053C57E71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9393C-C067-4862-83CA-4E2BA9D89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F4F40-3DF9-43FA-A05E-41185237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54C11-4FF2-4D0D-9038-0AFECC91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F76AB-53DB-4B35-B27C-3994E1DD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6F033-D6A4-4009-9440-91EF50D7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1F525-0DA1-4319-AA44-CD951793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8B4B2-DA06-45E0-9F1F-FFB1807D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18289-A2A5-438F-8F5A-077C99A5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647DB-5E38-4E20-8443-8F4D1213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1F6B-6B54-428B-8F49-EFD2BD05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21067-6618-4A13-83BC-0B81C20E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FCCC7-C71F-43C1-9FD1-4953EC5EB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5379E-D3B5-4A60-8C22-CB6EBC129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45EAA-D844-4432-94A9-787E83E92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8DD46-C2EC-4BDF-AEFD-DF385493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36E3C-CFAD-402F-9594-80E10282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12977-F421-4E4E-84F2-14EC68F2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ED8D8-A275-4FBF-8E5E-575F4324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A3E2C-3205-4BFF-83CB-A553D94B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AC787-F2FD-46C9-A42D-49205139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DE53-75DC-4431-923A-74BB9ECF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A1714-74CE-4F70-870C-79639859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DB636-489B-47C1-AA4D-682BEA8B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593DB-17DA-4692-94F9-3505EBD8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20DB9-7465-42CA-8697-9442B69A8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1F10A-B219-4599-A776-83E74A515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25D92-5B4A-45C2-BEBC-2FFB3196E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8A626-910C-42F4-AB0B-AEC56C9C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3DA1B-E779-4920-85B3-49CBE610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F8428-086A-4C0F-AF8D-E9174CDF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8FFAD-1142-4823-AA1A-54674E8C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D75D-BEC2-4657-9789-0AB6C056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D5714-0AC2-4B36-89F3-02B62BCE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80D6C-3207-45C9-A8D5-52911530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30C9A-9397-4173-899F-9D64734B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A6EF0-F549-4E6C-8413-DF6825B5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355B7-F7AE-439B-8279-CE4B3C78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3E717-87CC-4899-9B8A-F4E3B06D3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50D2E-B7EF-4EF2-AB8A-E938B2594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FF493C-79A9-4B23-8177-00496AD0E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EFE53-251F-4715-B773-5DDBC88A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DFFF53-54A0-4164-A461-11471299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4F37-C0AA-4F60-B05E-86300AF69909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ED98-8DF2-4FA4-AF65-B807AC98F9AC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FC59-CF1C-4685-AECD-6F6DF1EC0616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D705-DD84-4736-ADBC-70726DF6FC1A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C805-23F0-4A9C-83A0-D46057CD729C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02F1-2AE8-48C6-8E8B-EE310156898E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F7A1-9507-4E62-9714-080EE665AA05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07BD-F4D6-4F95-B5A2-556188F6E5A8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45A7-F5B6-4E37-83BD-0C3B18483C9A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2073-8021-4ADA-8CE2-6165C7FD997E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E01C-52F4-41CF-9478-A83867B4824C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07F7-8411-4464-9E81-8E9981A0D6A8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68360" y="1356840"/>
            <a:ext cx="8424720" cy="22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0000"/>
                </a:solidFill>
                <a:latin typeface="Arial"/>
              </a:rPr>
              <a:t>Tworzenie programów nauczania w szkole zawodowej w obliczu wprowadzanych zmian </a:t>
            </a:r>
            <a:br>
              <a:rPr sz="4000"/>
            </a:br>
            <a:r>
              <a:rPr b="1" lang="pl-PL" sz="4000" spc="-1" strike="noStrike">
                <a:solidFill>
                  <a:srgbClr val="ff0000"/>
                </a:solidFill>
                <a:latin typeface="Arial"/>
              </a:rPr>
              <a:t>w kształceniu zawodowy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1258920" y="4000680"/>
            <a:ext cx="64008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zesław Stawikowsk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99"/>
                </a:solidFill>
                <a:latin typeface="Arial"/>
              </a:rPr>
              <a:t>Gdynia, 2 sierpnia 2011 ro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pl-PL" sz="2000" spc="-1" strike="noStrike">
                <a:solidFill>
                  <a:srgbClr val="000000"/>
                </a:solidFill>
                <a:latin typeface="Arial"/>
              </a:rPr>
              <a:t>Międzyregionalna sieć współpracy na rzecz rynku pracy i edukacji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”  - spotka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Obraz 2" descr="nowe logo"/>
          <p:cNvPicPr/>
          <p:nvPr/>
        </p:nvPicPr>
        <p:blipFill>
          <a:blip r:embed="rId1"/>
          <a:stretch/>
        </p:blipFill>
        <p:spPr>
          <a:xfrm>
            <a:off x="1643040" y="142920"/>
            <a:ext cx="5721480" cy="741240"/>
          </a:xfrm>
          <a:prstGeom prst="rect">
            <a:avLst/>
          </a:prstGeom>
          <a:ln w="0">
            <a:noFill/>
          </a:ln>
        </p:spPr>
      </p:pic>
      <p:sp>
        <p:nvSpPr>
          <p:cNvPr id="502" name="pole tekstowe 4"/>
          <p:cNvSpPr/>
          <p:nvPr/>
        </p:nvSpPr>
        <p:spPr>
          <a:xfrm>
            <a:off x="714240" y="6143760"/>
            <a:ext cx="764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300" spc="-1" strike="noStrike">
                <a:solidFill>
                  <a:srgbClr val="000000"/>
                </a:solidFill>
                <a:latin typeface="Arial"/>
              </a:rPr>
              <a:t>Spotkanie współfinansowane ze środków Unii Europejskiej w ramach </a:t>
            </a:r>
            <a:br>
              <a:rPr sz="1300"/>
            </a:br>
            <a:r>
              <a:rPr b="1" lang="pl-PL" sz="13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ole tekstowe 1"/>
          <p:cNvSpPr/>
          <p:nvPr/>
        </p:nvSpPr>
        <p:spPr>
          <a:xfrm>
            <a:off x="468360" y="549360"/>
            <a:ext cx="8207280" cy="60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Ustawa z dnia 28 lipca 2011 roku o zmianie ustawy o systemie oświaty i innych ust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70c0"/>
                </a:solidFill>
                <a:latin typeface="Arial"/>
              </a:rPr>
              <a:t>Najważniejsze zmiany w szkolnictwie zawodow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Konieczność zasięgania opinii wojewódzkiej rady zatrudnienia przy uruchamianiu kształcenia w nowym zawodz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10. Możliwość tworzenia zespołów szkół prowadzących kształcenie zawodowe i szkół dla dorosłych (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centrum kształcenia zawodowego i ustawicznego)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.  Zobligowanie tych centrów do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współpracy z pracodawcami i organizacjami pracodawc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11. Możliwość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kształcenia na odległość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 szkołach i na kursach zawodow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12. Zwiększenie uprawnień  szkół niepublicznych i osób prowadzących działalność oświatową na zasadzie działalności gospodarczej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(możliwość prowadzenia kursów zawodowych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ole tekstowe 1"/>
          <p:cNvSpPr/>
          <p:nvPr/>
        </p:nvSpPr>
        <p:spPr>
          <a:xfrm>
            <a:off x="468360" y="549360"/>
            <a:ext cx="820728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Ustawa z dnia 28 lipca 2011 roku o zmianie ustawy o systemie oświaty i innych ust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70c0"/>
                </a:solidFill>
                <a:latin typeface="Arial"/>
              </a:rPr>
              <a:t>Najważniejsze zmiany w szkolnictwie zawodow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13. Wprowadzenie zasad finansowania kursów zawodowych w szkołach publicznych i ich dotowania w szkołach niepubliczn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14. Zmiany zasad dofinansowania pracodawców kształcących młodocian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15. Zmiany zasad prowadzenia praktycznej nauki zawodu dorosł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ole tekstowe 1"/>
          <p:cNvSpPr/>
          <p:nvPr/>
        </p:nvSpPr>
        <p:spPr>
          <a:xfrm>
            <a:off x="468360" y="549360"/>
            <a:ext cx="820728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Ustawa z dnia 28 lipca 2011 roku o zmianie ustawy o systemie oświaty i innych ust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70c0"/>
                </a:solidFill>
                <a:latin typeface="Arial"/>
              </a:rPr>
              <a:t>Konsekwenc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Nowe podstawy programowe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od 1 września 2012 roku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i nowe programy !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Nowa klasyfikacja zawod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Likwidacja lub przekształcenia szkół przez organy prowadzą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Konieczność wydania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nowych rozporządzeń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zez MEN (m. in. dotyczącego organizacji kursów zawodowych,  statutów szkó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oceniania, klasyfikowania i promowania, placówek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ksztalcenia ustawicznego, kształcenia na odległość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ole tekstowe 1"/>
          <p:cNvSpPr/>
          <p:nvPr/>
        </p:nvSpPr>
        <p:spPr>
          <a:xfrm>
            <a:off x="179280" y="189000"/>
            <a:ext cx="8785440" cy="64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Art. 22a ustawy o systemie oświa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w wersji sprzed 22.04.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czyciel </a:t>
            </a:r>
            <a:r>
              <a:rPr b="1" lang="pl-PL" sz="2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wybiera</a:t>
            </a:r>
            <a:r>
              <a:rPr b="1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 program nauczania oraz podręcznik spośród programów i podręczników  dopuszczonych do użytku szkolneg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pl-PL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auczyciel </a:t>
            </a:r>
            <a:r>
              <a:rPr b="1" lang="pl-PL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a prawo opracowania własnego programu </a:t>
            </a:r>
            <a:r>
              <a:rPr b="1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ychowani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zedszkolnego lub programu nauczan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a. Wybrany program wychowania przedszkolnego, program  nauczania … nauczyciel </a:t>
            </a:r>
            <a:r>
              <a:rPr b="1" lang="pl-PL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zedstawia radzie pedagogicznej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b. </a:t>
            </a:r>
            <a:r>
              <a:rPr b="1" lang="pl-PL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ada pedagogiczna… ustala</a:t>
            </a:r>
            <a:r>
              <a:rPr b="1" lang="pl-PL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r>
              <a:rPr b="1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drodze uchwały…  </a:t>
            </a:r>
            <a:r>
              <a:rPr b="1" lang="pl-PL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zkolny zestaw programów nauczania</a:t>
            </a:r>
            <a:r>
              <a:rPr b="1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lang="pl-PL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 wersji obecnie obowiązujące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Nauczyciel </a:t>
            </a:r>
            <a:r>
              <a:rPr b="1" lang="pl-PL" sz="2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ma prawo wyboru </a:t>
            </a:r>
            <a:r>
              <a:rPr b="1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ręcznika spośród  podręczników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puszczonych do użytku szkolneg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Nauczyciel </a:t>
            </a:r>
            <a:r>
              <a:rPr b="1" lang="pl-PL" sz="2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przedstawia dyrektorowi </a:t>
            </a:r>
            <a:r>
              <a:rPr b="1" lang="pl-PL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zkoły program nauczania. </a:t>
            </a:r>
            <a:r>
              <a:rPr b="1" lang="pl-PL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yrektor szkoły</a:t>
            </a:r>
            <a:r>
              <a:rPr b="1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o zasięgnięciu opinii rady pedagogicznej, </a:t>
            </a:r>
            <a:r>
              <a:rPr b="1" lang="pl-PL" sz="2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dopuszcza do użytku w danej szkole</a:t>
            </a:r>
            <a:r>
              <a:rPr b="1" lang="pl-PL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proponowany przez nauczyciela… program nauczan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b. </a:t>
            </a:r>
            <a:r>
              <a:rPr b="1" lang="pl-PL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opuszczone</a:t>
            </a:r>
            <a:r>
              <a:rPr b="1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 użytku w danej szkole programy nauczania </a:t>
            </a:r>
            <a:r>
              <a:rPr b="1" lang="pl-PL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anowią</a:t>
            </a:r>
            <a:r>
              <a:rPr b="1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1" lang="pl-PL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zkolny zestaw programów nauczania</a:t>
            </a:r>
            <a:r>
              <a:rPr b="1" lang="pl-P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..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rostokąt 1"/>
          <p:cNvSpPr/>
          <p:nvPr/>
        </p:nvSpPr>
        <p:spPr>
          <a:xfrm>
            <a:off x="330120" y="189000"/>
            <a:ext cx="842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pl-PL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Ustawa o systemie oświaty (obecny stan praw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b. Dopuszczone do użytku w danej szkole… programy nauczania stanowią… szkolny zestaw programów nauczania.  </a:t>
            </a:r>
            <a:r>
              <a:rPr b="1" lang="pl-PL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Dyrektor szkoły jest odpowiedzialny za uwzględnienie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… szkolnym zestawie programów nauczania </a:t>
            </a:r>
            <a:r>
              <a:rPr b="1" lang="pl-PL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całości …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stawy programowej kształcenia ogólnego ustalonej dla danego etapu edukacyjnego , a w przypadku szkoły prowadzącej  kształcenie w zawodach…– także </a:t>
            </a:r>
            <a:r>
              <a:rPr b="1" lang="pl-PL" sz="2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całości podstawy programowej kształcenia w zawodzi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6" name=""/>
          <p:cNvGraphicFramePr/>
          <p:nvPr/>
        </p:nvGraphicFramePr>
        <p:xfrm>
          <a:off x="250920" y="549360"/>
          <a:ext cx="8713800" cy="4846680"/>
        </p:xfrm>
        <a:graphic>
          <a:graphicData uri="http://schemas.openxmlformats.org/drawingml/2006/table">
            <a:tbl>
              <a:tblPr/>
              <a:tblGrid>
                <a:gridCol w="4357440"/>
                <a:gridCol w="435636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ROZPORZĄDZENIE 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1" lang="pl-PL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z dnia 5 lutego 2004 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ROZPORZĄDZENIE 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1" lang="pl-PL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z dnia 8 czerwca 2009 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32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Program nauczania dla zawodu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owi </a:t>
                      </a:r>
                      <a:r>
                        <a:rPr b="1" lang="pl-PL" sz="18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zbiór usystematyzowanych, celowych układów umiejętności i treści nauczania, ujętych w podstawie programowej kształcenia w zawodzie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, określonych w </a:t>
                      </a:r>
                      <a:r>
                        <a:rPr b="1" i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rębnych przepisach</a:t>
                      </a: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az ze wskazówkami dotyczącymi realizacji procesu kształcenia i oceniania osiągnięć edukacyjnych uczn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§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1. </a:t>
                      </a:r>
                      <a:r>
                        <a:rPr b="1" lang="pl-PL" sz="1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Program nauczania dla zawodu 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..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 stanowi </a:t>
                      </a:r>
                      <a:r>
                        <a:rPr b="1" lang="pl-PL" sz="18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zbiór usystematyzowanych, celowych układów umiejętności i treści nauczania, ujętych w podstawie programowej kształcenia w zawodzie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, określonych </a:t>
                      </a:r>
                      <a:r>
                        <a:rPr b="1" i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powiednio w przepisach w sprawie </a:t>
                      </a:r>
                      <a:r>
                        <a:rPr b="1" lang="pl-PL" sz="1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podstaw programowych kształcenia w zawodach</a:t>
                      </a:r>
                      <a:r>
                        <a:rPr b="1" i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wraz ze wskazówkami dotyczącymi realizacji procesu kształcenia i oceniania osiągnięć edukacyjnych ucznia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7" name=""/>
          <p:cNvGraphicFramePr/>
          <p:nvPr/>
        </p:nvGraphicFramePr>
        <p:xfrm>
          <a:off x="179280" y="189000"/>
          <a:ext cx="8929800" cy="6492960"/>
        </p:xfrm>
        <a:graphic>
          <a:graphicData uri="http://schemas.openxmlformats.org/drawingml/2006/table">
            <a:tbl>
              <a:tblPr/>
              <a:tblGrid>
                <a:gridCol w="4465800"/>
                <a:gridCol w="446400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ROZPORZĄDZENIE 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1" lang="pl-PL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z dnia 5 lutego 2004 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ROZPORZĄDZENIE 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1" lang="pl-PL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z dnia 8 czerwca 2009 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578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nauczania dla zawodu … zawie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</a:t>
                      </a: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y </a:t>
                      </a: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uczania dla zawodu 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 opracowane na podstawie ramowych planów nauczania, określonych </a:t>
                      </a:r>
                      <a:r>
                        <a:rPr b="1" i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 odrębnych przepisach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y nauczania 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zczególnych</a:t>
                      </a: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rzedmiotów zawodowych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bloków tematycznych, </a:t>
                      </a: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łów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ub innych układów treści, obejmując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</a:t>
                      </a: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czegółowe cele kształcenia 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reślające </a:t>
                      </a:r>
                      <a:r>
                        <a:rPr b="1" lang="pl-PL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iedzę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 umiejętności, które powinny być opanowane przez ucznia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</a:t>
                      </a:r>
                      <a:r>
                        <a:rPr b="1" lang="pl-PL" sz="18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materiał nauczania</a:t>
                      </a:r>
                      <a:r>
                        <a:rPr b="1" lang="pl-PL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 formie haseł programowych, </a:t>
                      </a:r>
                      <a:r>
                        <a:rPr b="1" i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wiązany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ze szczegółowymi celami kształcenia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nauczania dla zawodu … zawier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   </a:t>
                      </a:r>
                      <a:r>
                        <a:rPr b="1" lang="pl-PL" sz="1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propozycje</a:t>
                      </a: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lanu lub planów nauczania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la zawodu … opracowane na podstawie ramowych planów nauczania, określonych </a:t>
                      </a:r>
                      <a:r>
                        <a:rPr b="1" i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 przepisach w sprawie ramowych planów nauczania w szkołach publicznych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</a:t>
                      </a: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y nauczania 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zczególnych</a:t>
                      </a: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rzedmiotów zawodowych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bloków tematycznych, </a:t>
                      </a: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łów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ub innych układów treści, obejmując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  </a:t>
                      </a: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czegółowe cele kształcenia 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reślające </a:t>
                      </a:r>
                      <a:r>
                        <a:rPr b="1" lang="pl-PL" sz="18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wiadomości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 umiejętności, które powinny być opanowane przez ucznia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  </a:t>
                      </a:r>
                      <a:r>
                        <a:rPr b="1" lang="pl-PL" sz="1800" spc="-1" strike="noStrike" u="sng">
                          <a:solidFill>
                            <a:srgbClr val="00b0f0"/>
                          </a:solidFill>
                          <a:uFillTx/>
                          <a:latin typeface="Arial"/>
                        </a:rPr>
                        <a:t>treści kształcenia</a:t>
                      </a:r>
                      <a:r>
                        <a:rPr b="0" lang="pl-PL" sz="1800" spc="-1" strike="noStrike" u="sng">
                          <a:solidFill>
                            <a:srgbClr val="00b0f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 formie haseł programowych, </a:t>
                      </a:r>
                      <a:r>
                        <a:rPr b="1" i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iązane</a:t>
                      </a:r>
                      <a:r>
                        <a:rPr b="0" i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 szczegółowymi celami kształcenia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8" name=""/>
          <p:cNvGraphicFramePr/>
          <p:nvPr/>
        </p:nvGraphicFramePr>
        <p:xfrm>
          <a:off x="108000" y="333360"/>
          <a:ext cx="8928000" cy="6218280"/>
        </p:xfrm>
        <a:graphic>
          <a:graphicData uri="http://schemas.openxmlformats.org/drawingml/2006/table">
            <a:tbl>
              <a:tblPr/>
              <a:tblGrid>
                <a:gridCol w="4464000"/>
                <a:gridCol w="446400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ROZPORZĄDZENIE 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1" lang="pl-PL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z dnia 5 lutego 2004 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ROZPORZĄDZENIE 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1" lang="pl-PL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z dnia 8 czerwca 2009 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03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unkiem dopuszczenia do użytku szkolnego programu nauczania dla zawodu… j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zyskanie dwóch pozytywnych opinii, </a:t>
                      </a:r>
                      <a:r>
                        <a:rPr b="1" lang="pl-PL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porządzonych przez rzeczoznawców</a:t>
                      </a: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 , zawierający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zczegółową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cenę </a:t>
                      </a: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godności materiału nauczania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z zakresem treści nauczania wskazanych w podstawie programowej kształcenia w zawodzie … oraz spełnienia przez program warunków określonych odpowiednio w par.2 ust.5-8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 Przed dopuszczeniem programu nauczania dla zawodu … do użytku w danej szkole, dyrektor szkoły  </a:t>
                      </a:r>
                      <a:r>
                        <a:rPr b="1" lang="pl-PL" sz="1800" spc="-1" strike="noStrike" u="sng">
                          <a:solidFill>
                            <a:srgbClr val="008000"/>
                          </a:solidFill>
                          <a:uFillTx/>
                          <a:latin typeface="Arial"/>
                        </a:rPr>
                        <a:t>może</a:t>
                      </a: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zasięgnąć opinii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   </a:t>
                      </a:r>
                      <a:r>
                        <a:rPr b="1" lang="pl-PL" sz="18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zespołu nauczycieli przedmiotów zawodowych 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łaściwych dla danego zawodu … lu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   </a:t>
                      </a:r>
                      <a:r>
                        <a:rPr b="1" lang="pl-PL" sz="18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konsultanta lub doradcy metodycznego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lu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  </a:t>
                      </a:r>
                      <a:r>
                        <a:rPr b="1" lang="pl-PL" sz="18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 specjalistów z zakresu danego zawodu…, w szczególności pracodaw-ców, przedstawicieli stowarzyszeń zawodowych i pracowników naukowych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 Opinia, … zawiera </a:t>
                      </a:r>
                      <a:r>
                        <a:rPr b="1" lang="pl-PL" sz="1800" spc="-1" strike="noStrike" u="sng">
                          <a:solidFill>
                            <a:srgbClr val="00b050"/>
                          </a:solidFill>
                          <a:uFillTx/>
                          <a:latin typeface="Arial"/>
                        </a:rPr>
                        <a:t>w szczególności 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nę </a:t>
                      </a: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godności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rogramu nauczania dla zawodu… z podstawą programową kształcenia w zawodzie …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ole tekstowe 1"/>
          <p:cNvSpPr/>
          <p:nvPr/>
        </p:nvSpPr>
        <p:spPr>
          <a:xfrm>
            <a:off x="539640" y="333360"/>
            <a:ext cx="8280360" cy="62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Jakie są obecnie programy nauczania w szkoła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ogramy dopuszcza dyrektor szkoł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Stare programy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opuszczone do użytku szkolnego przed 2009 roki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zęść programów była pisana do nieaktualnych podstaw programowyc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zęść programów nauczania nie jest zgodna z podstawami programowym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Stare programy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opuszczone do użytku szkolnego przed 2009 rokiem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zmodyfikowowane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przez nauczycieli także po konsultacjach z pracodawcami (na ogół nieznacznie,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Programy przykładowe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zygotowane przez KOWEZiU (programy modułow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Programy własne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zygotowane przez nauczycieli (w tym po konsultacji z pracodawcami, niekiedy w ramach innowacji lub eksperymentu)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(bardzo rzadko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ole tekstowe 1"/>
          <p:cNvSpPr/>
          <p:nvPr/>
        </p:nvSpPr>
        <p:spPr>
          <a:xfrm>
            <a:off x="468360" y="836640"/>
            <a:ext cx="8351640" cy="50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70c0"/>
                </a:solidFill>
                <a:latin typeface="Arial"/>
              </a:rPr>
              <a:t>Aktualna definicja programu nauczania  dla zawo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70c0"/>
                </a:solidFill>
                <a:latin typeface="Arial"/>
              </a:rPr>
              <a:t>lub dla profilu kształcenia ogólnozawodow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§ 5. 1. 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Program nauczania dla zawodu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oraz program nauczania dla profilu może być dopuszczony do użytku w danej szkole, jeżel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1)   stanowi </a:t>
            </a:r>
            <a:r>
              <a:rPr b="1" lang="pl-PL" sz="2000" spc="-1" strike="noStrike">
                <a:solidFill>
                  <a:srgbClr val="0070c0"/>
                </a:solidFill>
                <a:latin typeface="Arial"/>
              </a:rPr>
              <a:t>zbiór usystematyzowanych, celowych układów umiejętności i treści nauczania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, ujętych w podstawie programowej kształcenia w zawodzie albo w podstawie programowej kształcenia w profilu kształcenia ogólnozawodowego, określonych odpowiednio w przepisach w sprawie podstaw programowych kształcenia w zawodach oraz w przepisach w sprawie podstawy programowej kształcenia w profilach kształcenia ogólnozawodowego, wraz ze wskazówkami dotyczącymi realizacji procesu kształcenia i oceniania osiągnięć edukacyjnych uczni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ole tekstowe 1"/>
          <p:cNvSpPr/>
          <p:nvPr/>
        </p:nvSpPr>
        <p:spPr>
          <a:xfrm>
            <a:off x="379440" y="692280"/>
            <a:ext cx="84963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Jakie są obecnie programy nauczania w szkołach zawodowy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W jaki sposób powstają programy kształcenia  zawodzie  w szkołach zawodowy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Jakie warunki musi spełniać program kształcenia w zawodzi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Jaki jest związek pomiędzy podstawą programową i programem nauczani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Jakie najważniejsze zmiany czekają nas w szkolnictwie zawodowy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Jaki zapewnić skuteczną realizację programu nauczania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Co wspólnego może mieć program nauczania z programem rozwoju szkoł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ole tekstowe 1"/>
          <p:cNvSpPr/>
          <p:nvPr/>
        </p:nvSpPr>
        <p:spPr>
          <a:xfrm>
            <a:off x="108000" y="260280"/>
            <a:ext cx="888192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§ 5. 1. Program nauczania dla zawodu oraz program nauczania dla profilu może być dopuszczony do użytku w danej szkole, jeżel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2)   zawie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a)  </a:t>
            </a:r>
            <a:r>
              <a:rPr b="1" lang="pl-PL" sz="2000" spc="-1" strike="noStrike">
                <a:solidFill>
                  <a:srgbClr val="cc00cc"/>
                </a:solidFill>
                <a:latin typeface="Arial"/>
              </a:rPr>
              <a:t>programy nauczania poszczególnych przedmiotów zawodowych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, bloków tematycznych, modułów lub innych układów treści, obejmują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–  </a:t>
            </a:r>
            <a:r>
              <a:rPr b="1" lang="pl-PL" sz="2000" spc="-1" strike="noStrike">
                <a:solidFill>
                  <a:srgbClr val="cc00cc"/>
                </a:solidFill>
                <a:latin typeface="Arial"/>
              </a:rPr>
              <a:t>szczegółowe cele kształcenia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określające wiadomości i umiejętności, które powinny być opanowane przez uczn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–  </a:t>
            </a:r>
            <a:r>
              <a:rPr b="1" lang="pl-PL" sz="2000" spc="-1" strike="noStrike">
                <a:solidFill>
                  <a:srgbClr val="cc00cc"/>
                </a:solidFill>
                <a:latin typeface="Arial"/>
              </a:rPr>
              <a:t>treści kształcenia w formie haseł programowych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, powiązane ze szczegółowymi celami kształcen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–  </a:t>
            </a:r>
            <a:r>
              <a:rPr b="1" lang="pl-PL" sz="2000" spc="-1" strike="noStrike">
                <a:solidFill>
                  <a:srgbClr val="cc00cc"/>
                </a:solidFill>
                <a:latin typeface="Arial"/>
              </a:rPr>
              <a:t>wskazówki metodyczne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otyczące realizacji program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–  </a:t>
            </a:r>
            <a:r>
              <a:rPr b="1" lang="pl-PL" sz="2000" spc="-1" strike="noStrike">
                <a:solidFill>
                  <a:srgbClr val="cc00cc"/>
                </a:solidFill>
                <a:latin typeface="Arial"/>
              </a:rPr>
              <a:t>propozycje kryteriów oceny i metod sprawdzania osiągnięć ucznia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b)  </a:t>
            </a:r>
            <a:r>
              <a:rPr b="1" lang="pl-PL" sz="2000" spc="-1" strike="noStrike">
                <a:solidFill>
                  <a:srgbClr val="cc00cc"/>
                </a:solidFill>
                <a:latin typeface="Arial"/>
              </a:rPr>
              <a:t>propozycje planu lub planów nauczania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la zawodu albo profilu kształcenia ogólnozawodowego opracowane na podstawie ramowych planów nauczania, określonych w przepisach w sprawie ramowych planów nauczania w szkołach publicznyc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3)   jest </a:t>
            </a:r>
            <a:r>
              <a:rPr b="1" lang="pl-PL" sz="2000" spc="-1" strike="noStrike">
                <a:solidFill>
                  <a:srgbClr val="cc00cc"/>
                </a:solidFill>
                <a:latin typeface="Arial"/>
              </a:rPr>
              <a:t>poprawny pod względem merytorycznym i dydaktyczny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2. Program nauczania dla zawodu może uwzględniać umiejętności i treści </a:t>
            </a:r>
            <a:r>
              <a:rPr b="1" lang="pl-PL" sz="2000" spc="-1" strike="noStrike">
                <a:solidFill>
                  <a:srgbClr val="cc00cc"/>
                </a:solidFill>
                <a:latin typeface="Arial"/>
              </a:rPr>
              <a:t>specjalizacji w zawodzie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, jeżeli podstawa programowa kształcenia w zawodzie przewiduje możliwość wprowadzenia specjalizac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ole tekstowe 3"/>
          <p:cNvSpPr/>
          <p:nvPr/>
        </p:nvSpPr>
        <p:spPr>
          <a:xfrm>
            <a:off x="303840" y="428760"/>
            <a:ext cx="8622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Rozporządzenia MEN z dnia 8 czerwca 2009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.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gram nauczania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a zajęć edukacyjnych z zakresu kształce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gólnego, program  nauczania dla zawodu oraz program naucz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a profilu kształcenia ogólnozawodowego, 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puszcza do użytk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 danej szkole dyrektor  szkoły, na wniosek  nauczyciela lub nauczycieli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uczyciel może zaproponować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, program nauczania ogólnego, 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gr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uczania dla zawodu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bo program nauczania dla profilu 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racow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modzielnie lub we współpracy z innymi nauczycielami.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uczyciel moż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ównież zaproponować program opracowany  przez innego autora (autorów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b program opracowany przez innego autora (autorów) wraz z dokonanym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mianam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4"/>
          <p:cNvSpPr/>
          <p:nvPr/>
        </p:nvSpPr>
        <p:spPr>
          <a:xfrm>
            <a:off x="374760" y="714240"/>
            <a:ext cx="85309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Rozporządzenia MEN z dnia 8 czerwca 2009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.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Przed dopuszczeniem programu nauczania dla zawodu albo program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czania dla profilu do użytku w danej szkole, dyrektor szkoły </a:t>
            </a:r>
            <a:r>
              <a:rPr b="1" lang="pl-PL" sz="20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może</a:t>
            </a:r>
            <a:r>
              <a:rPr b="1" lang="pl-PL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zasięgnąć opinii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espołu nauczycieli przedmiotów zawodowych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łaściwych dla daneg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wodu lub profilu kształcenia ogólnozawodowego l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konsultanta lub doradcy metodycznego, l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ecjalistów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 zakresu danego zawodu lub profilu kształce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gólnozawodowego, </a:t>
            </a:r>
            <a:r>
              <a:rPr b="1" lang="pl-PL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w szczególności pracodawców, przedstawiciel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stowarzyszeń zawodowych i pracowników naukowych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Opinia, o której mowa w ust.3, zawiera </a:t>
            </a:r>
            <a:r>
              <a:rPr b="1" lang="pl-PL" sz="20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w szczególności 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cenę zgodnośc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gramu nauczania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a zawodu albo programu nauczania dla profil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 podstawą programową kształcenia w zawodzie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bo podstawą programow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ształcenia w profilu kształcenia ogólnozawodowe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ole tekstowe 1"/>
          <p:cNvSpPr/>
          <p:nvPr/>
        </p:nvSpPr>
        <p:spPr>
          <a:xfrm>
            <a:off x="303120" y="260280"/>
            <a:ext cx="8353440" cy="55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Skąd się biorą podstawy programow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Ustawa o systemie oświa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Art. 2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2. Minister właściwy do spraw oświaty i wychowania określi ponadto, w drodze rozporządzen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pl-PL" sz="2000" spc="-1" strike="noStrike">
                <a:solidFill>
                  <a:srgbClr val="0070c0"/>
                </a:solidFill>
                <a:latin typeface="Arial"/>
              </a:rPr>
              <a:t>podstawy programow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a) wychowania przedszkolneg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b) kształcenia ogólnego w poszczególnych typach szkó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) kształcenia w poszczególnych profilach kształcenia ogólnozawodoweg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1" lang="pl-PL" sz="2000" spc="-1" strike="noStrike">
                <a:solidFill>
                  <a:srgbClr val="0070c0"/>
                </a:solidFill>
                <a:latin typeface="Arial"/>
              </a:rPr>
              <a:t>kształcenia w poszczególnych zawodac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uwzględniając w szczególności zestawy celów i treści nauczania, umiejętności uczniów, a także zadania wychowawcze szkoły, odpowiednio do poszczególnych etapów kształcenia i typów szkół oraz zawodów i profili kształcenia ogólnozawodoweg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ole tekstowe 1"/>
          <p:cNvSpPr/>
          <p:nvPr/>
        </p:nvSpPr>
        <p:spPr>
          <a:xfrm>
            <a:off x="631800" y="476280"/>
            <a:ext cx="79218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70c0"/>
                </a:solidFill>
                <a:latin typeface="Arial"/>
              </a:rPr>
              <a:t>Aktualna definicja podstawy programowej kształcenia w zawodz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70c0"/>
                </a:solidFill>
                <a:latin typeface="Arial"/>
              </a:rPr>
              <a:t>lub w profilu kształcenia ogólnozawodow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Art.3. Ilekroć w dalszych przepisach jest mowa bez bliższego określenia 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13a) podstawie programowej kształcenia w profilach kształcenia ogólnozawodowego lub 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podstawie programowej kształcenia w zawodzie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- należy przez to rozumieć obowiązkowe, na danym etapie kształcenia, 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zestawy celów i treści nauczania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w tym umiejętności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, a także zadania wychowawcze szkoły, które są uwzględniane w programach nauczania oraz 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umożliwiają ustalenie kryteriów ocen szkolnych i wymagań egzaminacyjnych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ole tekstowe 1"/>
          <p:cNvSpPr/>
          <p:nvPr/>
        </p:nvSpPr>
        <p:spPr>
          <a:xfrm>
            <a:off x="324000" y="189000"/>
            <a:ext cx="856908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70c0"/>
                </a:solidFill>
                <a:latin typeface="Arial"/>
              </a:rPr>
              <a:t>Definicja podstawy programowej kształcenia w zawodzie w ustawie z dnia 28 lipca 2011 roku (stan na dzień 2 sierpnia 2011 rok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Art.3. Ilekroć w dalszych przepisach jest mowa bez bliższego określenia 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13a) </a:t>
            </a:r>
            <a:r>
              <a:rPr b="1" lang="pl-PL" sz="2200" spc="-1" strike="noStrike">
                <a:solidFill>
                  <a:srgbClr val="ff0000"/>
                </a:solidFill>
                <a:latin typeface="Arial"/>
              </a:rPr>
              <a:t>podstawie programowej kształcenia w zawodach </a:t>
            </a: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– należy przez to rozumieć </a:t>
            </a: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obowiązkow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zestawy celów kształcenia: treści nauczania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pisanych w formie oczekiwanych</a:t>
            </a: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 efektów kształcenia: </a:t>
            </a:r>
            <a:r>
              <a:rPr b="1" lang="pl-PL" sz="2200" spc="-1" strike="noStrike">
                <a:solidFill>
                  <a:srgbClr val="0070c0"/>
                </a:solidFill>
                <a:latin typeface="Arial"/>
              </a:rPr>
              <a:t>wiedzy,</a:t>
            </a: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 umiejętności </a:t>
            </a:r>
            <a:r>
              <a:rPr b="1" lang="pl-PL" sz="2200" spc="-1" strike="noStrike">
                <a:solidFill>
                  <a:srgbClr val="0070c0"/>
                </a:solidFill>
                <a:latin typeface="Arial"/>
              </a:rPr>
              <a:t>zawodowych</a:t>
            </a: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 oraz </a:t>
            </a:r>
            <a:r>
              <a:rPr b="1" lang="pl-PL" sz="2200" spc="-1" strike="noStrike">
                <a:solidFill>
                  <a:srgbClr val="0070c0"/>
                </a:solidFill>
                <a:latin typeface="Arial"/>
              </a:rPr>
              <a:t>kompetencji personalnych i społecznych niezbędnych dla zawodów lub kwalifikacji wyodrębnionych w zawodach </a:t>
            </a: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uwzględniane w programach nauczania </a:t>
            </a: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umożliwiające ustalenie kryteriów ocen szkolnych i wymagań egzaminacyjnych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raz</a:t>
            </a: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 warunki realizacji kształcenia w zawodach, w tym zalecane wyposażenie w pomoce dydaktyczne i sprzęt oraz </a:t>
            </a:r>
            <a:r>
              <a:rPr b="1" lang="pl-PL" sz="2200" spc="-1" strike="noStrike">
                <a:solidFill>
                  <a:srgbClr val="0070c0"/>
                </a:solidFill>
                <a:latin typeface="Arial"/>
              </a:rPr>
              <a:t>minimalna liczba godzin kształcenia zawodoweg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ole tekstowe 1"/>
          <p:cNvSpPr/>
          <p:nvPr/>
        </p:nvSpPr>
        <p:spPr>
          <a:xfrm>
            <a:off x="108000" y="260280"/>
            <a:ext cx="8928000" cy="64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70c0"/>
                </a:solidFill>
                <a:latin typeface="Arial"/>
              </a:rPr>
              <a:t>       </a:t>
            </a:r>
            <a:r>
              <a:rPr b="1" lang="pl-PL" sz="2400" spc="-1" strike="noStrike">
                <a:solidFill>
                  <a:srgbClr val="0070c0"/>
                </a:solidFill>
                <a:latin typeface="Arial"/>
              </a:rPr>
              <a:t>Struktura podstawy programowej do 2005 rok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I. ZAŁOŻENIA PROGRAMOWO-ORGANIZACYJNE KSZTAŁCE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W ZAWODZ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pl-PL" sz="1800" spc="-1" strike="noStrike">
                <a:solidFill>
                  <a:srgbClr val="0070c0"/>
                </a:solidFill>
                <a:latin typeface="Arial"/>
              </a:rPr>
              <a:t>Opis kwalifikacji absolwenta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(„W wyniku kształcenia absolwent powinien umieć:... 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B. Specyficzne wymagania dla zawo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1. Wymagania psychofizyczne dla zawo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. Podstawowy cel kształcenia w zawodz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3. Pracownie i ich wyposażenie (warunki technicz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4. Bloki przedmiot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5. Inne warunki (np.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współpraca z przedsiębiorstwami, warunki kadrowe,  powiązanie kształcenia zawodowego z kształceniem ogólnym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II. PODZIAŁ GODZIN  NA BLOKI PRZEDMIOTO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(podział procentowy według typów szkół w których można kształcić w zawodzie, w tym od 5 do 20% na dostosowanie kształcenia do potrzeb rynku pracy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III. PODSTAWY PROGRAMOWE KSZTAŁCENIA W BLOKACH PROGRAMOW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pl-PL" sz="1800" spc="-1" strike="noStrike">
                <a:solidFill>
                  <a:srgbClr val="0070c0"/>
                </a:solidFill>
                <a:latin typeface="Arial"/>
              </a:rPr>
              <a:t>.</a:t>
            </a:r>
            <a:r>
              <a:rPr b="0" lang="pl-PL" sz="1800" spc="-1" strike="noStrike">
                <a:solidFill>
                  <a:srgbClr val="0070c0"/>
                </a:solidFill>
                <a:latin typeface="Arial"/>
              </a:rPr>
              <a:t> </a:t>
            </a:r>
            <a:r>
              <a:rPr b="1" lang="pl-PL" sz="1800" spc="-1" strike="noStrike">
                <a:solidFill>
                  <a:srgbClr val="0070c0"/>
                </a:solidFill>
                <a:latin typeface="Arial"/>
              </a:rPr>
              <a:t>Cele kształc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70c0"/>
                </a:solidFill>
                <a:latin typeface="Arial"/>
              </a:rPr>
              <a:t>2.</a:t>
            </a:r>
            <a:r>
              <a:rPr b="0" lang="pl-PL" sz="1800" spc="-1" strike="noStrike">
                <a:solidFill>
                  <a:srgbClr val="0070c0"/>
                </a:solidFill>
                <a:latin typeface="Arial"/>
              </a:rPr>
              <a:t> </a:t>
            </a:r>
            <a:r>
              <a:rPr b="1" lang="pl-PL" sz="1800" spc="-1" strike="noStrike">
                <a:solidFill>
                  <a:srgbClr val="0070c0"/>
                </a:solidFill>
                <a:latin typeface="Arial"/>
              </a:rPr>
              <a:t>Treści kształcenia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(według działów programowy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Zalecenia dotyczące oceniania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ole tekstowe 1"/>
          <p:cNvSpPr/>
          <p:nvPr/>
        </p:nvSpPr>
        <p:spPr>
          <a:xfrm>
            <a:off x="108000" y="260280"/>
            <a:ext cx="8928000" cy="64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70c0"/>
                </a:solidFill>
                <a:latin typeface="Arial"/>
              </a:rPr>
              <a:t>Struktura podstawy programowej po 2005 rok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I. OPIS ZAWO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 wyniku kształcenia absolwent powinien umieć: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Kształtowanie postaw przedsiębiorczych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. Absolwent szkoły … powinien być przygotowany do wykonywani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następujących zadań zawodowy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II. BLOKI PROGRAMO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yliczenie blok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BLO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1800" spc="-1" strike="noStrike">
                <a:solidFill>
                  <a:srgbClr val="0070c0"/>
                </a:solidFill>
                <a:latin typeface="Arial"/>
              </a:rPr>
              <a:t>1.</a:t>
            </a:r>
            <a:r>
              <a:rPr b="0" lang="pl-PL" sz="1800" spc="-1" strike="noStrike">
                <a:solidFill>
                  <a:srgbClr val="0070c0"/>
                </a:solidFill>
                <a:latin typeface="Arial"/>
              </a:rPr>
              <a:t> </a:t>
            </a:r>
            <a:r>
              <a:rPr b="1" lang="pl-PL" sz="1800" spc="-1" strike="noStrike">
                <a:solidFill>
                  <a:srgbClr val="0070c0"/>
                </a:solidFill>
                <a:latin typeface="Arial"/>
              </a:rPr>
              <a:t>Cele kształc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70c0"/>
                </a:solidFill>
                <a:latin typeface="Arial"/>
              </a:rPr>
              <a:t>     </a:t>
            </a:r>
            <a:r>
              <a:rPr b="1" lang="pl-PL" sz="1800" spc="-1" strike="noStrike">
                <a:solidFill>
                  <a:srgbClr val="0070c0"/>
                </a:solidFill>
                <a:latin typeface="Arial"/>
              </a:rPr>
              <a:t>2.</a:t>
            </a:r>
            <a:r>
              <a:rPr b="0" lang="pl-PL" sz="1800" spc="-1" strike="noStrike">
                <a:solidFill>
                  <a:srgbClr val="0070c0"/>
                </a:solidFill>
                <a:latin typeface="Arial"/>
              </a:rPr>
              <a:t> </a:t>
            </a:r>
            <a:r>
              <a:rPr b="1" lang="pl-PL" sz="1800" spc="-1" strike="noStrike">
                <a:solidFill>
                  <a:srgbClr val="0070c0"/>
                </a:solidFill>
                <a:latin typeface="Arial"/>
              </a:rPr>
              <a:t>Treści kształc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III. PODZIAŁ GODZIN  NA BLOKI PRZEDMIOTO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(podział procentowy według typów szkół w których można kształcić w    zawodzie, w tym od 5 do 20% na dostosowanie kształcenia do potrzeb rynku pracy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IV. ZALECANE WARUNKI REALIZACJI TREŚCI KSZTAŁCENIA W ZAWODZ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mieszczenia dydaktyczne (pracownie i ew. warsztaty) i ich wyposaż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ole tekstowe 1"/>
          <p:cNvSpPr/>
          <p:nvPr/>
        </p:nvSpPr>
        <p:spPr>
          <a:xfrm>
            <a:off x="138240" y="34920"/>
            <a:ext cx="8928000" cy="66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70c0"/>
                </a:solidFill>
                <a:latin typeface="Arial"/>
              </a:rPr>
              <a:t>Struktura podstawy programowej  (projekt 15.07. 2011 rok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I. CELE KSZTAŁCENIA W ZAWODZ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ygotowanie absolwenta do wykonywania zadań zawodowy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II EFEKTY KSZTAŁC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70c0"/>
                </a:solidFill>
                <a:latin typeface="Arial"/>
              </a:rPr>
              <a:t>II.A Efekty kształcenia wspólne dla wszystkich zawodó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ezpieczne wykonywanie prac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dejmowanie i prowadzenie działalności gospodarcz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sługiwanie się językiem obcym zawodowy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70c0"/>
                </a:solidFill>
                <a:latin typeface="Arial"/>
              </a:rPr>
              <a:t>II.B Efekty kształcenia wspólne dla zawodów w ramach obsza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70c0"/>
                </a:solidFill>
                <a:latin typeface="Arial"/>
              </a:rPr>
              <a:t>II C. Efekty kształcenia właściwe dla zawodu (np. technik elektronik) opisane w wyodrębnionych kwalifikacjach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:  n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WYKONYWANIE INSTALACJI URZĄDZEŃ ELEKTRONICZ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EKSPLOATACJA URZĄDZEŃ ELEKTRONICZNYCH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III. WARUNKI REALIZACJI KSZTAŁCENIA W ZAWODZ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70c0"/>
                </a:solidFill>
                <a:latin typeface="Arial"/>
              </a:rPr>
              <a:t>1. Pomieszczenia dydaktyczne (pracownie  i ich wyposażen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iejsca w których można odbywać kształcenie praktycz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skazówki do realizacji praktyki zawodowej (w tym liczba minimalna godz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70c0"/>
                </a:solidFill>
                <a:latin typeface="Arial"/>
              </a:rPr>
              <a:t>2. Minimalna liczba godzin kształcenia zawodow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IV. MOŻLIWOŚCI UZYSKANIA DODATKOWYCH KWALFIKACJI W ZAWODACH W RAMACH OBSZARU ZAWODÓW OKREŚLONEGO W KLASYFIKACJI ZAWODÓW SZKOLNICTWA ZAWODOW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ożliwość uzyskania innego dyplomu po potwierdzeniu uzyskania  kwalifikacj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i ew. uzyskania wykształcenia średnieg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ole tekstowe 1"/>
          <p:cNvSpPr/>
          <p:nvPr/>
        </p:nvSpPr>
        <p:spPr>
          <a:xfrm>
            <a:off x="395280" y="189000"/>
            <a:ext cx="8640720" cy="63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o celów kształcenia </a:t>
            </a:r>
            <a:r>
              <a:rPr b="1" lang="pl-PL" sz="2000" spc="-1" strike="noStrike">
                <a:solidFill>
                  <a:srgbClr val="0070c0"/>
                </a:solidFill>
                <a:latin typeface="Arial"/>
              </a:rPr>
              <a:t>zawody pogrupowano, pod względem wspól-nych lub zbliżonych kwalifikacji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zawodowych wymaganych do realizacji zadań zawodowych, w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8 obszarach kształcenia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70c0"/>
                </a:solidFill>
                <a:latin typeface="Arial"/>
              </a:rPr>
              <a:t>ADMINISTRACYJNO-USŁUGOW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70c0"/>
                </a:solidFill>
                <a:latin typeface="Arial"/>
              </a:rPr>
              <a:t>BUDOWL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70c0"/>
                </a:solidFill>
                <a:latin typeface="Arial"/>
              </a:rPr>
              <a:t>ELEKTRYCZNO-ELKTRONICZ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70c0"/>
                </a:solidFill>
                <a:latin typeface="Arial"/>
              </a:rPr>
              <a:t>MECHANICZNY I GÓRNICZO-HUTNIC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70c0"/>
                </a:solidFill>
                <a:latin typeface="Arial"/>
              </a:rPr>
              <a:t>ROLNICZO-LEŚNY Z OCHRONĄ ŚRODOWI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70c0"/>
                </a:solidFill>
                <a:latin typeface="Arial"/>
              </a:rPr>
              <a:t>TURYSTYCZNO-GASTRONOMICZ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70c0"/>
                </a:solidFill>
                <a:latin typeface="Arial"/>
              </a:rPr>
              <a:t>MEDYCZNO-SPOŁECZ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70c0"/>
                </a:solidFill>
                <a:latin typeface="Arial"/>
              </a:rPr>
              <a:t>ARTYSTYCZ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ole tekstowe 1"/>
          <p:cNvSpPr/>
          <p:nvPr/>
        </p:nvSpPr>
        <p:spPr>
          <a:xfrm>
            <a:off x="324000" y="189000"/>
            <a:ext cx="842472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70c0"/>
                </a:solidFill>
                <a:latin typeface="Arial"/>
              </a:rPr>
              <a:t>Krótka historia najnowsza zmian przepisów  dotyczących programów nauczania (od 2004 rok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70c0"/>
                </a:solidFill>
                <a:latin typeface="Arial"/>
              </a:rPr>
              <a:t>2004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– nowy zapis w ustawie o systemie oświa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- nowe rozporządzenie w sprawie programów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naucz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70c0"/>
                </a:solidFill>
                <a:latin typeface="Arial"/>
              </a:rPr>
              <a:t>2007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– zmiana ustawy w części dotyczącej dopuszczania programów nauczania do użytku szkoln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</a:rPr>
              <a:t>Burzliwy rok 2009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Arial"/>
              </a:rPr>
              <a:t>Styczeń 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- nowe rozporządzenie w sprawie programów naucz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Arial"/>
              </a:rPr>
              <a:t>Kwiecień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– zmiana ustawy o systemie oświaty w części dotyczącej programów naucz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Arial"/>
              </a:rPr>
              <a:t>Czerwiec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- nowe rozporządzenie w sprawie programów naucz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Wrzesień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– klasy pierwsze rozpoczynają kształcenie w zawodach bez obowiązujących centralnie programów naucz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2" descr=""/>
          <p:cNvPicPr/>
          <p:nvPr/>
        </p:nvPicPr>
        <p:blipFill>
          <a:blip r:embed="rId1"/>
          <a:stretch/>
        </p:blipFill>
        <p:spPr>
          <a:xfrm>
            <a:off x="233280" y="692280"/>
            <a:ext cx="8677440" cy="60498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3" descr=""/>
          <p:cNvPicPr/>
          <p:nvPr/>
        </p:nvPicPr>
        <p:blipFill>
          <a:blip r:embed="rId2"/>
          <a:stretch/>
        </p:blipFill>
        <p:spPr>
          <a:xfrm>
            <a:off x="233280" y="111240"/>
            <a:ext cx="867744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"/>
          <p:cNvPicPr/>
          <p:nvPr/>
        </p:nvPicPr>
        <p:blipFill>
          <a:blip r:embed="rId1"/>
          <a:stretch/>
        </p:blipFill>
        <p:spPr>
          <a:xfrm>
            <a:off x="163440" y="476280"/>
            <a:ext cx="8964720" cy="25812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3" descr=""/>
          <p:cNvPicPr/>
          <p:nvPr/>
        </p:nvPicPr>
        <p:blipFill>
          <a:blip r:embed="rId2"/>
          <a:stretch/>
        </p:blipFill>
        <p:spPr>
          <a:xfrm>
            <a:off x="900000" y="2924280"/>
            <a:ext cx="806472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2" descr=""/>
          <p:cNvPicPr/>
          <p:nvPr/>
        </p:nvPicPr>
        <p:blipFill>
          <a:blip r:embed="rId1"/>
          <a:stretch/>
        </p:blipFill>
        <p:spPr>
          <a:xfrm>
            <a:off x="76320" y="1085760"/>
            <a:ext cx="89913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63360" y="404640"/>
            <a:ext cx="8982360" cy="285768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3" descr=""/>
          <p:cNvPicPr/>
          <p:nvPr/>
        </p:nvPicPr>
        <p:blipFill>
          <a:blip r:embed="rId2"/>
          <a:stretch/>
        </p:blipFill>
        <p:spPr>
          <a:xfrm>
            <a:off x="50760" y="3645000"/>
            <a:ext cx="90201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ole tekstowe 1"/>
          <p:cNvSpPr/>
          <p:nvPr/>
        </p:nvSpPr>
        <p:spPr>
          <a:xfrm>
            <a:off x="611280" y="450720"/>
            <a:ext cx="76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</a:rPr>
              <a:t>Czy program nauczania dla zawodu tworzyć od zer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</a:rPr>
              <a:t>Czy modernizować program stosowany obecnie w szko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</a:rPr>
              <a:t>Jak modernizowa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pl-PL" sz="3600" spc="-1" strike="noStrike">
                <a:solidFill>
                  <a:srgbClr val="ff0000"/>
                </a:solidFill>
                <a:latin typeface="Arial"/>
              </a:rPr>
              <a:t>lub tworzy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pl-PL" sz="3600" spc="-1" strike="noStrike">
                <a:solidFill>
                  <a:srgbClr val="ff0000"/>
                </a:solidFill>
                <a:latin typeface="Arial"/>
              </a:rPr>
              <a:t>program nauczania dla zawod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ole tekstowe 1"/>
          <p:cNvSpPr/>
          <p:nvPr/>
        </p:nvSpPr>
        <p:spPr>
          <a:xfrm>
            <a:off x="696960" y="136440"/>
            <a:ext cx="7993080" cy="64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</a:rPr>
              <a:t>Problemy związane z tworzeniem nowych programów nauczania dla zawodó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Arial"/>
              </a:rPr>
              <a:t>* Inna struktura podstawy programow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Arial"/>
              </a:rPr>
              <a:t>* Nieznajomość struktury podstawy przez pracodawcó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Arial"/>
              </a:rPr>
              <a:t>* Mniej zapisów niż w poprzedniej podstawie programow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Arial"/>
              </a:rPr>
              <a:t>* Większa liczba godzin kształcenia praktyczn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Arial"/>
              </a:rPr>
              <a:t>* Brak osób doświadczonych w tworzeniu programów nauczania w zawodz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pl-PL" sz="2400" spc="-1" strike="noStrike">
                <a:solidFill>
                  <a:srgbClr val="002060"/>
                </a:solidFill>
                <a:latin typeface="Arial"/>
              </a:rPr>
              <a:t>( w  tym pracodawców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Arial"/>
              </a:rPr>
              <a:t>………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0000"/>
                </a:solidFill>
                <a:latin typeface="Arial"/>
              </a:rPr>
              <a:t>Aktualne podstawy programowe </a:t>
            </a:r>
            <a:br>
              <a:rPr sz="4000"/>
            </a:br>
            <a:r>
              <a:rPr b="1" lang="pl-PL" sz="4000" spc="-1" strike="noStrike">
                <a:solidFill>
                  <a:srgbClr val="ff0000"/>
                </a:solidFill>
                <a:latin typeface="Arial"/>
              </a:rPr>
              <a:t>a dotychczasowe programy naucza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Arial"/>
              </a:rPr>
              <a:t>Propozycja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Arial"/>
              </a:rPr>
              <a:t>Zespół nauczycieli kształcących w danym zawodzie powinien dokonać analizy nowych podstaw programowych i sprawdzić, które treści są realizowane przez przyjęty w szkole program nauczania i dokonać korekty programów. Być może programy nauczania należy poszerzyć o dodatkowe treści wynikające z nowych podstaw programowych. Takiego poszerzenia można dokonać albo poprzez włączenie nowych treści do realizowanych w szkole przedmiotów, modułów czy bloków programowych albo przez dodanie modułu, który będzie poświęcony tylko różnicom programowym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2" name=""/>
          <p:cNvGraphicFramePr/>
          <p:nvPr/>
        </p:nvGraphicFramePr>
        <p:xfrm>
          <a:off x="250920" y="620640"/>
          <a:ext cx="8640720" cy="5035680"/>
        </p:xfrm>
        <a:graphic>
          <a:graphicData uri="http://schemas.openxmlformats.org/drawingml/2006/table">
            <a:tbl>
              <a:tblPr/>
              <a:tblGrid>
                <a:gridCol w="2160360"/>
                <a:gridCol w="2160720"/>
                <a:gridCol w="2158920"/>
                <a:gridCol w="2160720"/>
              </a:tblGrid>
              <a:tr h="4399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Minimalna liczba godzin w cyklu kształcenia w %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811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Nazwa bloku programowe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budowa programowa: szkoła podstawow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budowa programowa: szkoła zasadnicza; zawody: murarz, betoniarz-zbrojarz, malarz-tapeciarz, posadzkarz, dekarz, technolog robót wykończeniowych w budownictwie, monter konstrukcji budowlany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budowa programowa: liceum ogólnokształcą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348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Podstawy budownictw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351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Proces budowla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094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okumentacja technicz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000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Eksploatacja obiektów budowlanych oraz podstawy działalności gospodarcze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351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Raz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543" name="Rectangle 1"/>
          <p:cNvSpPr/>
          <p:nvPr/>
        </p:nvSpPr>
        <p:spPr>
          <a:xfrm>
            <a:off x="202320" y="5860440"/>
            <a:ext cx="894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**   Pozostałe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20% godzin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est przeznaczone do rozdysponowania przez autor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ów nauczania na dostosowanie kształcenia do potrzeb rynku pra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rostokąt 4"/>
          <p:cNvSpPr/>
          <p:nvPr/>
        </p:nvSpPr>
        <p:spPr>
          <a:xfrm>
            <a:off x="1042920" y="18432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I. PODZIAŁ GODZIN NA BLOKI PROGRAM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ole tekstowe 1"/>
          <p:cNvSpPr/>
          <p:nvPr/>
        </p:nvSpPr>
        <p:spPr>
          <a:xfrm>
            <a:off x="684360" y="549360"/>
            <a:ext cx="75596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Program można modernizowa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„</a:t>
            </a: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dopisując” cele i treści w podstawie programowej (w ramach 20%) i zamieniać w programie te jednostki, których skreślenie nie pozbawia programu zgodności z podstawą programow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dopisując jednostki w programie nauczania z jednoczesnym ewentualnym zamienianiem jednostek których skreślenie nie pozbawia programu zgodności z podstawą programow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zmieniając  liczbę godzin w przedmiocie, nazwę przedmiotu jeżeli nie skreślamy jednostek programu, które pozbawiłyby  programu zgodności z podstawą programową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ole tekstowe 1"/>
          <p:cNvSpPr/>
          <p:nvPr/>
        </p:nvSpPr>
        <p:spPr>
          <a:xfrm>
            <a:off x="826920" y="1052640"/>
            <a:ext cx="7561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Program można budować od z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pamiętając, że jednostki programu muszą wyczerpywać podstawę programową w co najmniej 80% godzin– w ramach 20 % możemy dodawać inne jednostki program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Zarówno modernizacje jak i tworzenie od nowa programu warto (należy!) realizować we współpracy z pracodawcam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ole tekstowe 1"/>
          <p:cNvSpPr/>
          <p:nvPr/>
        </p:nvSpPr>
        <p:spPr>
          <a:xfrm>
            <a:off x="324000" y="260280"/>
            <a:ext cx="8496000" cy="63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70c0"/>
                </a:solidFill>
                <a:latin typeface="Arial"/>
              </a:rPr>
              <a:t>Podstawy programowe kształcenia w zawodach w ustawie o systemie oświa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1996 – </a:t>
            </a:r>
            <a:r>
              <a:rPr b="1" lang="pl-PL" sz="2000" spc="-1" strike="noStrike">
                <a:solidFill>
                  <a:srgbClr val="cc0000"/>
                </a:solidFill>
                <a:latin typeface="Arial"/>
              </a:rPr>
              <a:t>definicja podstawy programowej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(ogólnie) -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leży przez to rozumieć obowiązkowe, na danym etapie kształcenia, zestawy treści nauczania oraz umiejętności, które są uwzględniane w programach nauczania i umożliwiają ustalenie kryteriów ocen szkolnych i wymagań egzaminacyjn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2000 – </a:t>
            </a:r>
            <a:r>
              <a:rPr b="1" lang="pl-PL" sz="2000" spc="-1" strike="noStrike">
                <a:solidFill>
                  <a:srgbClr val="cc0000"/>
                </a:solidFill>
                <a:latin typeface="Arial"/>
              </a:rPr>
              <a:t>zmiana definicji podstawy programowej w ustawie </a:t>
            </a:r>
            <a:r>
              <a:rPr b="0" lang="pl-PL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 należy przez to rozumieć obowiązkowe, na danym etapie kształcenia, zestawy treści celów i treści nauczania oraz umiejętności, </a:t>
            </a:r>
            <a:r>
              <a:rPr b="1" lang="pl-PL" sz="2000" spc="-1" strike="noStrike">
                <a:solidFill>
                  <a:srgbClr val="0070c0"/>
                </a:solidFill>
                <a:latin typeface="Arial"/>
              </a:rPr>
              <a:t>a także zadania wychowawcze szkoły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, które są uwzględniane odpowiednio w progra-mach wychowania przedszkolnego i programach nauczania oraz umoż-liwiają ustalenie kryteriów ocen szkolnych i wymagań egzaminacyjnyc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2009 –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wyodrębniona podstawa programowa kształcenia w zawodzi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 należy przez to rozumieć obowiązkowe, na danym etapie kształcenia, zestawy celów i treści nauczania, w tym umiejętności, a także zadania wychowawcze szkoły, które są uwzględniane w programach nauczania oraz umożliwiają ustalenie kryteriów ocen szkolnych i wymagań egzaminacyjnyc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ole tekstowe 1"/>
          <p:cNvSpPr/>
          <p:nvPr/>
        </p:nvSpPr>
        <p:spPr>
          <a:xfrm>
            <a:off x="622440" y="836640"/>
            <a:ext cx="748800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Arial"/>
              </a:rPr>
              <a:t>Program przedmiotow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pl-PL" sz="3200" spc="-1" strike="noStrike">
                <a:solidFill>
                  <a:srgbClr val="ff0000"/>
                </a:solidFill>
                <a:latin typeface="Arial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Arial"/>
              </a:rPr>
              <a:t>program modułow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70c0"/>
                </a:solidFill>
                <a:latin typeface="Arial"/>
              </a:rPr>
              <a:t>* Poziom trudności tworzenia progr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70c0"/>
                </a:solidFill>
                <a:latin typeface="Arial"/>
              </a:rPr>
              <a:t>* Udział kształcenia na stanowisku p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70c0"/>
                </a:solidFill>
                <a:latin typeface="Arial"/>
              </a:rPr>
              <a:t>* Przygotowanie  nauczycie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70c0"/>
                </a:solidFill>
                <a:latin typeface="Arial"/>
              </a:rPr>
              <a:t>* Koszty wdrażanie progra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4208400" cy="331164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3" descr=""/>
          <p:cNvPicPr/>
          <p:nvPr/>
        </p:nvPicPr>
        <p:blipFill>
          <a:blip r:embed="rId2"/>
          <a:stretch/>
        </p:blipFill>
        <p:spPr>
          <a:xfrm>
            <a:off x="4765680" y="863640"/>
            <a:ext cx="4343400" cy="321300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4" descr=""/>
          <p:cNvPicPr/>
          <p:nvPr/>
        </p:nvPicPr>
        <p:blipFill>
          <a:blip r:embed="rId3"/>
          <a:stretch/>
        </p:blipFill>
        <p:spPr>
          <a:xfrm>
            <a:off x="1116000" y="4221000"/>
            <a:ext cx="6480360" cy="86364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5" descr=""/>
          <p:cNvPicPr/>
          <p:nvPr/>
        </p:nvPicPr>
        <p:blipFill>
          <a:blip r:embed="rId4"/>
          <a:stretch/>
        </p:blipFill>
        <p:spPr>
          <a:xfrm>
            <a:off x="755640" y="5786280"/>
            <a:ext cx="748332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561080" cy="60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4"/>
          <p:cNvSpPr/>
          <p:nvPr/>
        </p:nvSpPr>
        <p:spPr>
          <a:xfrm>
            <a:off x="915120" y="1000080"/>
            <a:ext cx="7255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zy zmiana przepisów pomoże uzyskać dob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gramy  nauczani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zy jeden nauczyciel powinien mieć pra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pl-P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zedstawić program dla zawod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zy należy korzystać ze zmarginalizowan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ktorów funkcjonujących na rynku prac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Wydaje się, że nie powinniśmy ulegać zbytn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okusie uwierzenia w to, że w procesie pisan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rogramów wystarczy nauczyciel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ole tekstowe 1"/>
          <p:cNvSpPr/>
          <p:nvPr/>
        </p:nvSpPr>
        <p:spPr>
          <a:xfrm>
            <a:off x="217800" y="907920"/>
            <a:ext cx="8917920" cy="43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Arial"/>
              </a:rPr>
              <a:t>W jaki sposób powstaje program kształcen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Arial"/>
              </a:rPr>
              <a:t>zawodowego w szkole prowadzącej kształ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Arial"/>
              </a:rPr>
              <a:t>cenie  zawodowe w Finlandi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Arial"/>
              </a:rPr>
              <a:t>Jaki jest wpływ pracodawców na kształ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Arial"/>
              </a:rPr>
              <a:t>programu zawodowego w szkoł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Arial"/>
              </a:rPr>
              <a:t>w Finlandi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ole tekstowe 1"/>
          <p:cNvSpPr/>
          <p:nvPr/>
        </p:nvSpPr>
        <p:spPr>
          <a:xfrm>
            <a:off x="294480" y="189000"/>
            <a:ext cx="88293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System programów nauczania w kształceni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wodowym w Finlandii składa się z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</a:rPr>
              <a:t>* narodowych podstaw programowy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</a:rPr>
              <a:t>* programów nauczania przygotowywanych 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pl-PL" sz="2800" spc="-1" strike="noStrike">
                <a:solidFill>
                  <a:srgbClr val="ff0000"/>
                </a:solidFill>
                <a:latin typeface="Arial"/>
              </a:rPr>
              <a:t>poziomie organów prowadząc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</a:rPr>
              <a:t>indywidualnych planów nauki przygotowywany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pl-PL" sz="2800" spc="-1" strike="noStrike">
                <a:solidFill>
                  <a:srgbClr val="ff0000"/>
                </a:solidFill>
                <a:latin typeface="Arial"/>
              </a:rPr>
              <a:t>w szkoł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Fińska Narodowa  Rada Edukacji  (Finnish 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oard of Education)  zatwierdza właściwe d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wodu (kwalifikacji) podstawy programow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i wymagania każdej, opartej na kompetencj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kwalifikacji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ole tekstowe 2"/>
          <p:cNvSpPr/>
          <p:nvPr/>
        </p:nvSpPr>
        <p:spPr>
          <a:xfrm>
            <a:off x="863640" y="907920"/>
            <a:ext cx="802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70c0"/>
                </a:solidFill>
                <a:latin typeface="Arial"/>
              </a:rPr>
              <a:t>Fińska Narodowa Rada Edukacji decyduje w podstawach programowych o celach i podstawowych treściach w nauczaniu każdej z kwalifikacj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70c0"/>
                </a:solidFill>
                <a:latin typeface="Arial"/>
              </a:rPr>
              <a:t>Podstawy programowe określają kryteria oceniania efektów kształcen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70c0"/>
                </a:solidFill>
                <a:latin typeface="Arial"/>
              </a:rPr>
              <a:t>Każda narodowa podstawa programowa zawiera wyszczególnienie umiejętności zawodowych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70c0"/>
                </a:solidFill>
                <a:latin typeface="Arial"/>
              </a:rPr>
              <a:t>Podstawy programowe nie zawierają szczegółowych treści i metod nauczan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ole tekstowe 1"/>
          <p:cNvSpPr/>
          <p:nvPr/>
        </p:nvSpPr>
        <p:spPr>
          <a:xfrm>
            <a:off x="611280" y="836640"/>
            <a:ext cx="8137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Organy prowadzące sporządzają programy nauczania na bazie narodowych podstaw programow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zkoły same organizują realizację programu nauczania i mogą brać pod uwagę lokalne, zmieniające się potrzeby rynku p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Organ prowadzący konstruuje program nauczania razem z lokalnymi instytucjami w tym pracodawca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Uczniowie wyposażani są w indywidualny plan nauki tzn. indywidualny pl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zego się będą uczyć? jak? w jakiej kolejności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ole tekstowe 1"/>
          <p:cNvSpPr/>
          <p:nvPr/>
        </p:nvSpPr>
        <p:spPr>
          <a:xfrm>
            <a:off x="611280" y="836640"/>
            <a:ext cx="8137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Organ prowadzący konstruuje program nauczania razem z lokalnymi instytucjami w tym pracodawca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Konsorcjum Keuda posiada radę w skład której wchodzą m. in. przedstawiciele pracodawców. Są to pracodawcy z każdej branży posiadający na lokalnym rynku pracy największe znaczen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acodawcy mają wpływ na przyjmowane programy nauczania przez radę konsorcj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Osoby konstruujące programy nauczania konsultują programy z pracodawcami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ole tekstowe 1"/>
          <p:cNvSpPr/>
          <p:nvPr/>
        </p:nvSpPr>
        <p:spPr>
          <a:xfrm>
            <a:off x="549360" y="333360"/>
            <a:ext cx="799308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0000"/>
                </a:solidFill>
                <a:latin typeface="Arial"/>
              </a:rPr>
              <a:t>                                       </a:t>
            </a:r>
            <a:r>
              <a:rPr b="1" lang="pl-PL" sz="2200" spc="-1" strike="noStrike">
                <a:solidFill>
                  <a:srgbClr val="002060"/>
                </a:solidFill>
                <a:latin typeface="Arial"/>
              </a:rPr>
              <a:t>Ważne kwest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0000"/>
                </a:solidFill>
                <a:latin typeface="Arial"/>
              </a:rPr>
              <a:t>Program nauczania a proces kształcen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0000"/>
                </a:solidFill>
                <a:latin typeface="Arial"/>
              </a:rPr>
              <a:t>Egzaminy zewnętrzne sterują programem nauczan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0000"/>
                </a:solidFill>
                <a:latin typeface="Arial"/>
              </a:rPr>
              <a:t>Czy egzaminy zewnętrzne zapewnią sprawdzanie wszystkich umiejętności potrzebnych na rynku prac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0000"/>
                </a:solidFill>
                <a:latin typeface="Arial"/>
              </a:rPr>
              <a:t>Motywacja może być skutkiem dobrze zorganizowanego procesu kształcenia (Csikszentmihalyi, Willi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0000"/>
                </a:solidFill>
                <a:latin typeface="Arial"/>
              </a:rPr>
              <a:t>Czy programy nauczania mają koncentrować się na efektach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0000"/>
                </a:solidFill>
                <a:latin typeface="Arial"/>
              </a:rPr>
              <a:t>Czy da się sprawdzić na wyjściu ze szkoły wszystkie efekty?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ole tekstowe 1"/>
          <p:cNvSpPr/>
          <p:nvPr/>
        </p:nvSpPr>
        <p:spPr>
          <a:xfrm>
            <a:off x="339840" y="237960"/>
            <a:ext cx="8496360" cy="65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70c0"/>
                </a:solidFill>
                <a:latin typeface="Arial"/>
              </a:rPr>
              <a:t>Podstawy programowe kształcenia w zawod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Problematyczna legalność części podstaw programowych  w zawodach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 latach 2001- 2011 (część podstaw nie była ustalona w drodze rozporządzenia),  projekty podstaw programowych traktowane jako podstawy programow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zed rokiem 2005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inna konstrukcja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dstaw programowych kształcenia w zawodzie  niż od 2005 ro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Lata  2010 i 2011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– liczne rozporządzenia MEN ustalające podstawy programowe, dla zawodów, dla których podstawy programowe nie były wprowadzane w drodze rozporządze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ace nad nowymi podstawami programowymi dla zreformo-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anych od roku szkolnego 2012 szkołami zawodowym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70c0"/>
                </a:solidFill>
                <a:latin typeface="Arial"/>
              </a:rPr>
              <a:t>Lipiec 2011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– sejm uchwala zmianę ustawy o systemie oświaty  (trwa proces legislacyjny) zmieniająca strukturę kształcenia zawodowego – konieczność wprowadzenia nowych podstaw programowych do 1 września 2012 rok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ojekt nowych podstaw programowych w zawodach.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ole tekstowe 1"/>
          <p:cNvSpPr/>
          <p:nvPr/>
        </p:nvSpPr>
        <p:spPr>
          <a:xfrm>
            <a:off x="395280" y="765000"/>
            <a:ext cx="7561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Jak zapewnić stworzenie programu kształcenia w zawodzie dobrze powiązanego z wymogami rynku prac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Jak zapewnić udział w tworzeniu programów pracodawców i instytucji rynku prac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Jak zapewnić skuteczną realizację programu, w tym w części związanej kształceniem praktycznym na stanowisku prac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4"/>
          <p:cNvSpPr/>
          <p:nvPr/>
        </p:nvSpPr>
        <p:spPr>
          <a:xfrm>
            <a:off x="975240" y="714240"/>
            <a:ext cx="786636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</a:rPr>
              <a:t>Program rozwoju szkoł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ył zapisany w rozporządzeniu w spraw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nadzoru pedagogicznego w latach 1999-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Arial"/>
              </a:rPr>
              <a:t>Dlaczego znikną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Arial"/>
              </a:rPr>
              <a:t>Po  co nam program rozwoju szkoł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1629720" y="1639800"/>
            <a:ext cx="588492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8600" rIns="90000" tIns="46800" bIns="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99"/>
                </a:solidFill>
                <a:latin typeface="Arial"/>
              </a:rPr>
              <a:t>FUNKCJE ZARZADZ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00"/>
                </a:solidFill>
                <a:latin typeface="Arial"/>
              </a:rPr>
              <a:t>* planowa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00"/>
                </a:solidFill>
                <a:latin typeface="Arial"/>
              </a:rPr>
              <a:t>* organizowa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00"/>
                </a:solidFill>
                <a:latin typeface="Arial"/>
              </a:rPr>
              <a:t>* motywowa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00"/>
                </a:solidFill>
                <a:latin typeface="Arial"/>
              </a:rPr>
              <a:t>* kontrolowa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1409400" y="239760"/>
            <a:ext cx="6899760" cy="64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00"/>
                </a:solidFill>
                <a:latin typeface="Arial"/>
              </a:rPr>
              <a:t>           </a:t>
            </a:r>
            <a:r>
              <a:rPr b="1" lang="pl-PL" sz="3600" spc="-1" strike="noStrike">
                <a:solidFill>
                  <a:srgbClr val="cc0000"/>
                </a:solidFill>
                <a:latin typeface="Arial"/>
              </a:rPr>
              <a:t>Poziomy planow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…………………………………………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Arial"/>
              </a:rPr>
              <a:t>Strategia rozwoju województw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Strategia rozwoju edukacji w województw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Regionalna strategia innowacyjn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3399"/>
                </a:solidFill>
                <a:latin typeface="Arial"/>
              </a:rPr>
              <a:t>………………</a:t>
            </a:r>
            <a:r>
              <a:rPr b="1" lang="pl-PL" sz="16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Arial"/>
              </a:rPr>
              <a:t>Strategia rozwoju powia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Strategia rozwoju edukacji w powie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3399"/>
                </a:solidFill>
                <a:latin typeface="Arial"/>
              </a:rPr>
              <a:t>………………………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Arial"/>
              </a:rPr>
              <a:t>Strategia rozwoju gm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3399"/>
                </a:solidFill>
                <a:latin typeface="Arial"/>
              </a:rPr>
              <a:t>………………………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cc00cc"/>
                </a:solidFill>
                <a:uFillTx/>
                <a:latin typeface="Arial"/>
              </a:rPr>
              <a:t>Program rozwoju szkoł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3399"/>
                </a:solidFill>
                <a:latin typeface="Arial"/>
              </a:rPr>
              <a:t>Plan rozwoju zawodowego nauczyci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9999"/>
                </a:solidFill>
                <a:latin typeface="Arial"/>
              </a:rPr>
              <a:t>Plan rozwoju ucz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2"/>
          <p:cNvSpPr/>
          <p:nvPr/>
        </p:nvSpPr>
        <p:spPr>
          <a:xfrm>
            <a:off x="173160" y="692280"/>
            <a:ext cx="87850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99"/>
                </a:solidFill>
                <a:latin typeface="Arial"/>
              </a:rPr>
              <a:t>9.2 PODNIESIENIE ATRAKCYJNOŚCI I JAKOŚCI SZKOLNICTWA ZAWODOWEGO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pl-PL" sz="2400" spc="-1" strike="noStrike">
                <a:solidFill>
                  <a:srgbClr val="009999"/>
                </a:solidFill>
                <a:latin typeface="Arial"/>
              </a:rPr>
              <a:t>p</a:t>
            </a:r>
            <a:r>
              <a:rPr b="1" i="1" lang="pl-PL" sz="2200" spc="-1" strike="noStrike">
                <a:solidFill>
                  <a:srgbClr val="009999"/>
                </a:solidFill>
                <a:latin typeface="Arial"/>
              </a:rPr>
              <a:t>rojekty konkursow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cc0000"/>
                </a:solidFill>
                <a:latin typeface="Arial"/>
              </a:rPr>
              <a:t>Typ realizowanych operacji (projektów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pl-PL" sz="2200" spc="-1" strike="noStrike">
                <a:solidFill>
                  <a:srgbClr val="ff0000"/>
                </a:solidFill>
                <a:latin typeface="Arial"/>
              </a:rPr>
              <a:t>programy rozwojowe szkół i placówek oświatowych prowadzą-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pl-PL" sz="2200" spc="-1" strike="noStrike">
                <a:solidFill>
                  <a:srgbClr val="ff0000"/>
                </a:solidFill>
                <a:latin typeface="Arial"/>
              </a:rPr>
              <a:t>cych kształcenie zawodowe </a:t>
            </a:r>
            <a:r>
              <a:rPr b="1" lang="pl-PL" sz="2200" spc="-1" strike="noStrike">
                <a:solidFill>
                  <a:srgbClr val="333399"/>
                </a:solidFill>
                <a:latin typeface="Arial"/>
              </a:rPr>
              <a:t>ukierunkowane na zmniejszanie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pl-PL" sz="2200" spc="-1" strike="noStrike">
                <a:solidFill>
                  <a:srgbClr val="333399"/>
                </a:solidFill>
                <a:latin typeface="Arial"/>
              </a:rPr>
              <a:t>wyrównywaniu dysproporcji w osiągnięciach uczniów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pl-PL" sz="2200" spc="-1" strike="noStrike">
                <a:solidFill>
                  <a:srgbClr val="333399"/>
                </a:solidFill>
                <a:latin typeface="Arial"/>
              </a:rPr>
              <a:t>w trakcie procesu kształcenia oraz podnoszenie jakośc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pl-PL" sz="2200" spc="-1" strike="noStrike">
                <a:solidFill>
                  <a:srgbClr val="333399"/>
                </a:solidFill>
                <a:latin typeface="Arial"/>
              </a:rPr>
              <a:t>procesu kształcenia </a:t>
            </a:r>
            <a:r>
              <a:rPr b="1" lang="pl-PL" sz="2200" spc="-1" strike="noStrike">
                <a:solidFill>
                  <a:srgbClr val="ff0000"/>
                </a:solidFill>
                <a:latin typeface="Arial"/>
              </a:rPr>
              <a:t>w szczególności obejmujące</a:t>
            </a:r>
            <a:r>
              <a:rPr b="1" lang="pl-PL" sz="22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e tekstowe 1"/>
          <p:cNvSpPr/>
          <p:nvPr/>
        </p:nvSpPr>
        <p:spPr>
          <a:xfrm>
            <a:off x="539640" y="692280"/>
            <a:ext cx="784872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PHARE 2001 Spójność Społeczna i Gospodarcza</a:t>
            </a:r>
            <a:r>
              <a:rPr b="0" lang="pl-PL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Rozwój Zasobów Ludzkich</a:t>
            </a:r>
            <a:r>
              <a:rPr b="0" lang="pl-PL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Cele PHARE 2001 SSG RZL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(tożsame z celami stawianymi przed Europejskim Funduszem Społeczny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70c0"/>
                </a:solidFill>
                <a:latin typeface="Arial"/>
              </a:rPr>
              <a:t>- wzrost możliwości zatrudnieni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70c0"/>
                </a:solidFill>
                <a:latin typeface="Arial"/>
              </a:rPr>
              <a:t>- rozwój przedsiębiorczośc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70c0"/>
                </a:solidFill>
                <a:latin typeface="Arial"/>
              </a:rPr>
              <a:t>- umiejętność dostosowan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70c0"/>
                </a:solidFill>
                <a:latin typeface="Arial"/>
              </a:rPr>
              <a:t>-równość szans kobiet i mężczyzn na rynku pra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ole tekstowe 1"/>
          <p:cNvSpPr/>
          <p:nvPr/>
        </p:nvSpPr>
        <p:spPr>
          <a:xfrm>
            <a:off x="324000" y="198360"/>
            <a:ext cx="8640720" cy="63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PHARE 2001 Spójność Społeczna i Gospodarcza</a:t>
            </a:r>
            <a:r>
              <a:rPr b="0" lang="pl-PL" sz="2400" spc="-1" strike="noStrike">
                <a:solidFill>
                  <a:srgbClr val="ff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Rozwoju Zasobów Ludzk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200" spc="-1" strike="noStrike">
                <a:solidFill>
                  <a:srgbClr val="ff0000"/>
                </a:solidFill>
                <a:latin typeface="Arial"/>
              </a:rPr>
              <a:t>podprojekt 4.</a:t>
            </a:r>
            <a:r>
              <a:rPr b="0" i="1" lang="pl-PL" sz="2200" spc="-1" strike="noStrike">
                <a:solidFill>
                  <a:srgbClr val="ff0000"/>
                </a:solidFill>
                <a:latin typeface="Arial"/>
              </a:rPr>
              <a:t> (działanie 4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200" spc="-1" strike="noStrike">
                <a:solidFill>
                  <a:srgbClr val="ff0000"/>
                </a:solidFill>
                <a:latin typeface="Arial"/>
              </a:rPr>
              <a:t>wsparcie rozwoju lokalnych porozumień na rzecz zatrudnienia</a:t>
            </a:r>
            <a:r>
              <a:rPr b="0" i="1" lang="pl-PL" sz="2200" spc="-1" strike="noStrike">
                <a:solidFill>
                  <a:srgbClr val="ff0000"/>
                </a:solidFill>
                <a:latin typeface="Arial"/>
              </a:rPr>
              <a:t>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działanie to ma na celu zapewnienie wsparcia władzom lokalnym, partnerom społecznym   i innym lokalnym podmiotom w zakresie opracowywania realizacji działań na rzecz promocji zatrudnienia i przedsiębiorczości oraz </a:t>
            </a:r>
            <a:r>
              <a:rPr b="1" i="1" lang="pl-PL" sz="2000" spc="-1" strike="noStrike">
                <a:solidFill>
                  <a:srgbClr val="0070c0"/>
                </a:solidFill>
                <a:latin typeface="Arial"/>
              </a:rPr>
              <a:t>tworzenia lokalnych strategii rozwoju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w większości powiatów </a:t>
            </a:r>
            <a:r>
              <a:rPr b="1" i="1" lang="pl-PL" sz="2000" spc="-1" strike="noStrike">
                <a:solidFill>
                  <a:srgbClr val="0070c0"/>
                </a:solidFill>
                <a:latin typeface="Arial"/>
              </a:rPr>
              <a:t>wsparcie będzie skoncentrowane na strategiach mających na celu modernizację oferty szkoleniowej szkół zawodowych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najbardziej udane i zaawansowane lokalne plany zostaną nagrodzone grantami w postaci sprzętu IT na wyposażenie pracowni komputerowych; </a:t>
            </a:r>
            <a:r>
              <a:rPr b="1" i="1" lang="pl-PL" sz="2000" spc="-1" strike="noStrike">
                <a:solidFill>
                  <a:srgbClr val="0070c0"/>
                </a:solidFill>
                <a:latin typeface="Arial"/>
              </a:rPr>
              <a:t>szkoleniem ukierunkowanym na przekazanie wiedzy w zakresie inicjowania i wdrażania lokalnych planów promocji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zatrudnienia obejmujących różne sfery (życie gospodarcze, działalność społeczną, kulturę) objętych zostanie  </a:t>
            </a:r>
            <a:r>
              <a:rPr b="1" i="1" lang="pl-PL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 nauczycieli i doradców z jednostek kształcenia zawodowego  i poradni psychologiczno-pedagogiczn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912080" cy="28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00"/>
                </a:solidFill>
                <a:latin typeface="Arial"/>
              </a:rPr>
              <a:t>PHARE 2001 Podprojekt IV</a:t>
            </a:r>
            <a:br>
              <a:rPr sz="2800"/>
            </a:br>
            <a:r>
              <a:rPr b="1" lang="pl-PL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pl-PL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Rozwiązywanie</a:t>
            </a:r>
            <a:r>
              <a:rPr b="1" lang="pl-PL" sz="3000" spc="-1" strike="noStrike">
                <a:solidFill>
                  <a:srgbClr val="333399"/>
                </a:solidFill>
                <a:latin typeface="Arial"/>
                <a:ea typeface="Times New Roman"/>
              </a:rPr>
              <a:t> problemów regionalnego rynku pracy poprzez</a:t>
            </a:r>
            <a:r>
              <a:rPr b="1" lang="pl-PL" sz="3000" spc="-1" strike="noStrike">
                <a:solidFill>
                  <a:srgbClr val="333399"/>
                </a:solidFill>
                <a:latin typeface="Arial"/>
              </a:rPr>
              <a:t> m. in.</a:t>
            </a:r>
            <a:r>
              <a:rPr b="1" lang="pl-PL" sz="3000" spc="-1" strike="noStrike">
                <a:solidFill>
                  <a:srgbClr val="333399"/>
                </a:solidFill>
                <a:latin typeface="Arial"/>
                <a:ea typeface="Times New Roman"/>
              </a:rPr>
              <a:t>: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68360" y="335736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*  wsparcie przedsiębiorczośc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*  inicjowanie </a:t>
            </a:r>
            <a:r>
              <a:rPr b="1" lang="pl-PL" sz="2800" spc="-1" strike="noStrike" u="sng">
                <a:solidFill>
                  <a:srgbClr val="008000"/>
                </a:solidFill>
                <a:uFillTx/>
                <a:latin typeface="Arial"/>
                <a:ea typeface="Times New Roman"/>
              </a:rPr>
              <a:t>lokalnych porozumień</a:t>
            </a:r>
            <a:r>
              <a:rPr b="1" lang="pl-PL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 pomiędzy administracją samorządową, szkołami, środowiskami przedsiębiorców na rzecz poprawy jakości kształcenia zawodowego</a:t>
            </a:r>
            <a:r>
              <a:rPr b="1" lang="pl-PL" sz="2800" spc="-1" strike="noStrike">
                <a:solidFill>
                  <a:srgbClr val="008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HARE 2001</a:t>
            </a:r>
            <a:br>
              <a:rPr sz="3200"/>
            </a:br>
            <a:r>
              <a:rPr b="1" lang="pl-PL" sz="3200" spc="-1" strike="noStrike">
                <a:solidFill>
                  <a:srgbClr val="cc0000"/>
                </a:solidFill>
                <a:latin typeface="Arial"/>
              </a:rPr>
              <a:t>Wybrane zadania z programów rozwoju szkó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8000"/>
                </a:solidFill>
                <a:latin typeface="Arial"/>
              </a:rPr>
              <a:t>Działania zaplanowane do wspólnej realizacji z partnerami w środowi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8000"/>
                </a:solidFill>
                <a:latin typeface="Arial"/>
              </a:rPr>
              <a:t>Działania zaplanowane do realizacji po konsultacji ze środowisk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8000"/>
                </a:solidFill>
                <a:latin typeface="Arial"/>
              </a:rPr>
              <a:t>Inne cenne (niekiedy innowacyjne) dział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HARE 2001:</a:t>
            </a:r>
            <a:r>
              <a:rPr b="1" lang="pl-PL" sz="2800" spc="-1" strike="noStrike">
                <a:solidFill>
                  <a:srgbClr val="333399"/>
                </a:solidFill>
                <a:latin typeface="Arial"/>
              </a:rPr>
              <a:t> Zadania wspierania edukacji przedsiębiorczości uczniów do wykonania wspólnie z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280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8000"/>
                </a:solidFill>
                <a:latin typeface="Arial"/>
              </a:rPr>
              <a:t>Ośrodkami (Centrami) Wspierania Przedsiębiorczośc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8000"/>
                </a:solidFill>
                <a:latin typeface="Arial"/>
              </a:rPr>
              <a:t>Inkubatorami przedsiębiorczośc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8000"/>
                </a:solidFill>
                <a:latin typeface="Arial"/>
              </a:rPr>
              <a:t>Funduszem Poręczeń Kredytowy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8000"/>
                </a:solidFill>
                <a:latin typeface="Arial"/>
              </a:rPr>
              <a:t>Parkiem Przemysłowym (w Solcu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8000"/>
                </a:solidFill>
                <a:latin typeface="Arial"/>
              </a:rPr>
              <a:t>Lokalnymi przedsiębiorcami (m. in. Dzień Przedsiębiorczości, lekcje prowadzone przez przedsiębiorców, praktyki zawodow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8000"/>
                </a:solidFill>
                <a:latin typeface="Arial"/>
              </a:rPr>
              <a:t>Lokalnymi Stowarzyszeniami Rozwoju – nauczyciele i uczniowie członkam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ole tekstowe 1"/>
          <p:cNvSpPr/>
          <p:nvPr/>
        </p:nvSpPr>
        <p:spPr>
          <a:xfrm>
            <a:off x="755640" y="333360"/>
            <a:ext cx="81374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Brak stabilności przepisów dotyczących podstaw programowych  i programów nauczania powodu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Arial"/>
              </a:rPr>
              <a:t>* Słabą znajomość programów nauczania i podstaw programowych przez nauczycieli i pracodawc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Arial"/>
              </a:rPr>
              <a:t>* Niechęć do pracy nad własnymi programami lub ich modernizacj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Arial"/>
              </a:rPr>
              <a:t>* Niechęć pracodawców do pracy nad programami szkolny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Arial"/>
              </a:rPr>
              <a:t>* Koncentrację prac programowych nad spełnianiem warunków formalnych określanych przez zmieniające się przepi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Oval 50"/>
          <p:cNvSpPr/>
          <p:nvPr/>
        </p:nvSpPr>
        <p:spPr>
          <a:xfrm>
            <a:off x="2286000" y="1295280"/>
            <a:ext cx="2209680" cy="9907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  <a:effectLst>
            <a:outerShdw dist="71785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Oval 50"/>
          <p:cNvSpPr/>
          <p:nvPr/>
        </p:nvSpPr>
        <p:spPr>
          <a:xfrm>
            <a:off x="4572000" y="1295280"/>
            <a:ext cx="220968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71785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50"/>
          <p:cNvSpPr/>
          <p:nvPr/>
        </p:nvSpPr>
        <p:spPr>
          <a:xfrm>
            <a:off x="6858000" y="1295280"/>
            <a:ext cx="22096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73964" dir="1806356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50"/>
          <p:cNvSpPr/>
          <p:nvPr/>
        </p:nvSpPr>
        <p:spPr>
          <a:xfrm>
            <a:off x="0" y="1295280"/>
            <a:ext cx="2209680" cy="99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71785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48"/>
          <p:cNvSpPr/>
          <p:nvPr/>
        </p:nvSpPr>
        <p:spPr>
          <a:xfrm>
            <a:off x="1676520" y="380880"/>
            <a:ext cx="5943600" cy="61164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OLWENT PRZYGOTOWANY DO DALSZEJ EDUKACJI   I SKUTECZNEGO FUNKCJONOWANIA NA RYNKU PRAC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50"/>
          <p:cNvSpPr/>
          <p:nvPr/>
        </p:nvSpPr>
        <p:spPr>
          <a:xfrm>
            <a:off x="0" y="1463760"/>
            <a:ext cx="220968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AWNY SYSTEM WSPIERANIA ROZWOJU PRZEDSIĘBIORCZOŚCI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51"/>
          <p:cNvSpPr/>
          <p:nvPr/>
        </p:nvSpPr>
        <p:spPr>
          <a:xfrm>
            <a:off x="2133720" y="1494000"/>
            <a:ext cx="2514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CZEŃ ZNACZNIE WZBOGACONY  O WIEDZĘ        I   UMIEJETNOŚC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2"/>
          <p:cNvSpPr/>
          <p:nvPr/>
        </p:nvSpPr>
        <p:spPr>
          <a:xfrm>
            <a:off x="4572000" y="1463760"/>
            <a:ext cx="220968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LNA POZYCJA SZKO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Ł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 W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ŚRODOWISKU LOKALNYM  I REGIONIE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53"/>
          <p:cNvSpPr/>
          <p:nvPr/>
        </p:nvSpPr>
        <p:spPr>
          <a:xfrm rot="16200000">
            <a:off x="785520" y="2181240"/>
            <a:ext cx="637200" cy="159840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BRZE DZIAŁAJĄCY SYSTEM DORADZTWA ZAWODOWEGO</a:t>
            </a: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54"/>
          <p:cNvSpPr/>
          <p:nvPr/>
        </p:nvSpPr>
        <p:spPr>
          <a:xfrm rot="16200000">
            <a:off x="634680" y="3204720"/>
            <a:ext cx="941760" cy="160164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ZKOŁA AKTYWNYM PARTNEREM                  W ŚRODOWISKU LOKALNYM                       I REGIONALNY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55"/>
          <p:cNvSpPr/>
          <p:nvPr/>
        </p:nvSpPr>
        <p:spPr>
          <a:xfrm rot="16200000">
            <a:off x="520560" y="4513680"/>
            <a:ext cx="1094040" cy="152532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RAKCYJNA OFERTA USŁUG POZAEDUKACYJ-       NYCH ŚWIADCZONYCH PRZEZ SZKOŁĘ</a:t>
            </a: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57"/>
          <p:cNvSpPr/>
          <p:nvPr/>
        </p:nvSpPr>
        <p:spPr>
          <a:xfrm rot="16200000">
            <a:off x="3149280" y="1805040"/>
            <a:ext cx="637200" cy="2363760"/>
          </a:xfrm>
          <a:prstGeom prst="rect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ERTA PROGRAMOWA DOSTOSOWANA DO MOŻLIWOŚCI UCZNIÓW I NOWYCH  WYZWA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58"/>
          <p:cNvSpPr/>
          <p:nvPr/>
        </p:nvSpPr>
        <p:spPr>
          <a:xfrm rot="16200000">
            <a:off x="3301560" y="2484720"/>
            <a:ext cx="332640" cy="2363760"/>
          </a:xfrm>
          <a:prstGeom prst="rect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BRA   BAZA   SZKOŁ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59"/>
          <p:cNvSpPr/>
          <p:nvPr/>
        </p:nvSpPr>
        <p:spPr>
          <a:xfrm rot="16200000">
            <a:off x="3223800" y="3133800"/>
            <a:ext cx="484920" cy="2360520"/>
          </a:xfrm>
          <a:prstGeom prst="rect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GATA OFERTA ZAJĘĆ DODATKOW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60"/>
          <p:cNvSpPr/>
          <p:nvPr/>
        </p:nvSpPr>
        <p:spPr>
          <a:xfrm rot="16200000">
            <a:off x="3224520" y="3775680"/>
            <a:ext cx="484920" cy="2362320"/>
          </a:xfrm>
          <a:prstGeom prst="rect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DZICE WSPÓŁPARTNEREM EDUKACJI MŁODZIEŻ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61"/>
          <p:cNvSpPr/>
          <p:nvPr/>
        </p:nvSpPr>
        <p:spPr>
          <a:xfrm rot="16200000">
            <a:off x="3209400" y="4433760"/>
            <a:ext cx="515160" cy="2362320"/>
          </a:xfrm>
          <a:prstGeom prst="rect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AWNIE DZIAŁAJĄCY SYSTEM STYPENDIALNY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62"/>
          <p:cNvSpPr/>
          <p:nvPr/>
        </p:nvSpPr>
        <p:spPr>
          <a:xfrm rot="16200000">
            <a:off x="3224520" y="5132880"/>
            <a:ext cx="484920" cy="2362320"/>
          </a:xfrm>
          <a:prstGeom prst="rect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ATYCZNE DOSKONALENIE NAUCZYCIELI</a:t>
            </a: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63"/>
          <p:cNvSpPr/>
          <p:nvPr/>
        </p:nvSpPr>
        <p:spPr>
          <a:xfrm rot="16200000">
            <a:off x="5739120" y="1953360"/>
            <a:ext cx="484920" cy="19051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ZA SZKOŁY SŁUŻY ŚRODOWISKU LOKALNEM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64"/>
          <p:cNvSpPr/>
          <p:nvPr/>
        </p:nvSpPr>
        <p:spPr>
          <a:xfrm rot="16200000">
            <a:off x="5586840" y="2801160"/>
            <a:ext cx="789480" cy="19051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YTUCJE                            W   ŚRODOWISKU WSPÓŁPRACUJĄCYMI</a:t>
            </a:r>
            <a:r>
              <a:rPr b="1" lang="pl-P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TNERAM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65"/>
          <p:cNvSpPr/>
          <p:nvPr/>
        </p:nvSpPr>
        <p:spPr>
          <a:xfrm rot="16200000">
            <a:off x="5815440" y="3555360"/>
            <a:ext cx="332640" cy="19051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MIANA NAZWY SZKOŁ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66"/>
          <p:cNvSpPr/>
          <p:nvPr/>
        </p:nvSpPr>
        <p:spPr>
          <a:xfrm rot="16200000">
            <a:off x="5663160" y="4197960"/>
            <a:ext cx="637200" cy="19051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ZIAŁ SZKOŁY                    W   PROGRAMACH POMOCOW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50"/>
          <p:cNvSpPr/>
          <p:nvPr/>
        </p:nvSpPr>
        <p:spPr>
          <a:xfrm>
            <a:off x="4800600" y="28954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51"/>
          <p:cNvSpPr/>
          <p:nvPr/>
        </p:nvSpPr>
        <p:spPr>
          <a:xfrm>
            <a:off x="4800600" y="3809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52"/>
          <p:cNvSpPr/>
          <p:nvPr/>
        </p:nvSpPr>
        <p:spPr>
          <a:xfrm>
            <a:off x="4800600" y="44956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53"/>
          <p:cNvSpPr/>
          <p:nvPr/>
        </p:nvSpPr>
        <p:spPr>
          <a:xfrm>
            <a:off x="4800600" y="51814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56"/>
          <p:cNvSpPr/>
          <p:nvPr/>
        </p:nvSpPr>
        <p:spPr>
          <a:xfrm>
            <a:off x="2057400" y="2590920"/>
            <a:ext cx="0" cy="373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57"/>
          <p:cNvSpPr/>
          <p:nvPr/>
        </p:nvSpPr>
        <p:spPr>
          <a:xfrm>
            <a:off x="2057400" y="29718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58"/>
          <p:cNvSpPr/>
          <p:nvPr/>
        </p:nvSpPr>
        <p:spPr>
          <a:xfrm>
            <a:off x="2057400" y="36432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59"/>
          <p:cNvSpPr/>
          <p:nvPr/>
        </p:nvSpPr>
        <p:spPr>
          <a:xfrm>
            <a:off x="2057400" y="43578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60"/>
          <p:cNvSpPr/>
          <p:nvPr/>
        </p:nvSpPr>
        <p:spPr>
          <a:xfrm>
            <a:off x="2057400" y="49291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61"/>
          <p:cNvSpPr/>
          <p:nvPr/>
        </p:nvSpPr>
        <p:spPr>
          <a:xfrm>
            <a:off x="2057400" y="62866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64"/>
          <p:cNvSpPr/>
          <p:nvPr/>
        </p:nvSpPr>
        <p:spPr>
          <a:xfrm>
            <a:off x="76320" y="30481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65"/>
          <p:cNvSpPr/>
          <p:nvPr/>
        </p:nvSpPr>
        <p:spPr>
          <a:xfrm>
            <a:off x="76320" y="3962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68"/>
          <p:cNvSpPr/>
          <p:nvPr/>
        </p:nvSpPr>
        <p:spPr>
          <a:xfrm>
            <a:off x="76320" y="53341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70"/>
          <p:cNvSpPr/>
          <p:nvPr/>
        </p:nvSpPr>
        <p:spPr>
          <a:xfrm>
            <a:off x="76320" y="2590920"/>
            <a:ext cx="0" cy="2743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71"/>
          <p:cNvSpPr/>
          <p:nvPr/>
        </p:nvSpPr>
        <p:spPr>
          <a:xfrm>
            <a:off x="2057400" y="56437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74"/>
          <p:cNvSpPr/>
          <p:nvPr/>
        </p:nvSpPr>
        <p:spPr>
          <a:xfrm>
            <a:off x="76320" y="2590920"/>
            <a:ext cx="99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76"/>
          <p:cNvSpPr/>
          <p:nvPr/>
        </p:nvSpPr>
        <p:spPr>
          <a:xfrm>
            <a:off x="1066680" y="22860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77"/>
          <p:cNvSpPr/>
          <p:nvPr/>
        </p:nvSpPr>
        <p:spPr>
          <a:xfrm>
            <a:off x="2057400" y="259092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78"/>
          <p:cNvSpPr/>
          <p:nvPr/>
        </p:nvSpPr>
        <p:spPr>
          <a:xfrm flipH="1" flipV="1">
            <a:off x="3428640" y="2285640"/>
            <a:ext cx="324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79"/>
          <p:cNvSpPr/>
          <p:nvPr/>
        </p:nvSpPr>
        <p:spPr>
          <a:xfrm>
            <a:off x="4800600" y="25909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54"/>
          <p:cNvSpPr/>
          <p:nvPr/>
        </p:nvSpPr>
        <p:spPr>
          <a:xfrm>
            <a:off x="3429000" y="9907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55"/>
          <p:cNvSpPr/>
          <p:nvPr/>
        </p:nvSpPr>
        <p:spPr>
          <a:xfrm>
            <a:off x="7620120" y="6858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56"/>
          <p:cNvSpPr/>
          <p:nvPr/>
        </p:nvSpPr>
        <p:spPr>
          <a:xfrm>
            <a:off x="8001000" y="6858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57"/>
          <p:cNvSpPr/>
          <p:nvPr/>
        </p:nvSpPr>
        <p:spPr>
          <a:xfrm flipH="1">
            <a:off x="1143000" y="68580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58"/>
          <p:cNvSpPr/>
          <p:nvPr/>
        </p:nvSpPr>
        <p:spPr>
          <a:xfrm>
            <a:off x="1143000" y="6858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52"/>
          <p:cNvSpPr/>
          <p:nvPr/>
        </p:nvSpPr>
        <p:spPr>
          <a:xfrm flipV="1">
            <a:off x="5715000" y="228564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53"/>
          <p:cNvSpPr/>
          <p:nvPr/>
        </p:nvSpPr>
        <p:spPr>
          <a:xfrm>
            <a:off x="7315200" y="1494000"/>
            <a:ext cx="1349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BEZPIECZ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I PRZYJAZ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SZKOŁ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63"/>
          <p:cNvSpPr/>
          <p:nvPr/>
        </p:nvSpPr>
        <p:spPr>
          <a:xfrm rot="16200000">
            <a:off x="7833240" y="2072520"/>
            <a:ext cx="637200" cy="18316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Times New Roman"/>
              </a:rPr>
              <a:t>SZKOŁA WSPÓŁUCZESTNICZY        W   WYCHOWANI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63"/>
          <p:cNvSpPr/>
          <p:nvPr/>
        </p:nvSpPr>
        <p:spPr>
          <a:xfrm rot="16200000">
            <a:off x="7835400" y="2779200"/>
            <a:ext cx="637200" cy="18306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Times New Roman"/>
              </a:rPr>
              <a:t>SZKOŁA PROWADZI SKUTECZNY SYSTEM PROFILAKTY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49"/>
          <p:cNvSpPr/>
          <p:nvPr/>
        </p:nvSpPr>
        <p:spPr>
          <a:xfrm>
            <a:off x="7010280" y="2590920"/>
            <a:ext cx="0" cy="10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50"/>
          <p:cNvSpPr/>
          <p:nvPr/>
        </p:nvSpPr>
        <p:spPr>
          <a:xfrm>
            <a:off x="7010280" y="28954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51"/>
          <p:cNvSpPr/>
          <p:nvPr/>
        </p:nvSpPr>
        <p:spPr>
          <a:xfrm>
            <a:off x="7010280" y="36576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79"/>
          <p:cNvSpPr/>
          <p:nvPr/>
        </p:nvSpPr>
        <p:spPr>
          <a:xfrm>
            <a:off x="7010280" y="25909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83"/>
          <p:cNvSpPr/>
          <p:nvPr/>
        </p:nvSpPr>
        <p:spPr>
          <a:xfrm flipV="1">
            <a:off x="7924680" y="228564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54"/>
          <p:cNvSpPr/>
          <p:nvPr/>
        </p:nvSpPr>
        <p:spPr>
          <a:xfrm>
            <a:off x="5715000" y="9907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Łącznik prosty 61"/>
          <p:cNvSpPr/>
          <p:nvPr/>
        </p:nvSpPr>
        <p:spPr>
          <a:xfrm flipH="1">
            <a:off x="4799160" y="2592360"/>
            <a:ext cx="2880" cy="2590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Łącznik prosty 63"/>
          <p:cNvSpPr/>
          <p:nvPr/>
        </p:nvSpPr>
        <p:spPr>
          <a:xfrm flipV="1">
            <a:off x="4785480" y="3285720"/>
            <a:ext cx="1800" cy="1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rostokąt 3"/>
          <p:cNvSpPr/>
          <p:nvPr/>
        </p:nvSpPr>
        <p:spPr>
          <a:xfrm>
            <a:off x="214200" y="285840"/>
            <a:ext cx="857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Przegląd planowania strategii – mierniki</a:t>
            </a:r>
            <a:br>
              <a:rPr sz="1200"/>
            </a:br>
            <a:br>
              <a:rPr sz="1200"/>
            </a:br>
            <a:r>
              <a:rPr b="1" i="1" lang="pl-PL" sz="1200" spc="-1" strike="noStrike">
                <a:solidFill>
                  <a:srgbClr val="262673"/>
                </a:solidFill>
                <a:latin typeface="Arial"/>
                <a:ea typeface="Arial"/>
              </a:rPr>
              <a:t>ABSOLWENT PRZYGOTOWANY DO DALSZEJ EDUKACJI I SKUTECZNEGO FUNKCJONOWANIA NA RYNKU PRAC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214200" y="1063800"/>
          <a:ext cx="8715600" cy="5611680"/>
        </p:xfrm>
        <a:graphic>
          <a:graphicData uri="http://schemas.openxmlformats.org/drawingml/2006/table">
            <a:tbl>
              <a:tblPr/>
              <a:tblGrid>
                <a:gridCol w="2125800"/>
                <a:gridCol w="3471840"/>
                <a:gridCol w="31179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ERNI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ORMACJA O MIERNI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97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632523"/>
                          </a:solidFill>
                          <a:latin typeface="Arial"/>
                          <a:ea typeface="Arial"/>
                        </a:rPr>
                        <a:t>UCZEŃ ZNACZNIE WZBOGACON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632523"/>
                          </a:solidFill>
                          <a:latin typeface="Arial"/>
                          <a:ea typeface="Arial"/>
                        </a:rPr>
                        <a:t>O WIEDZĘ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632523"/>
                          </a:solidFill>
                          <a:latin typeface="Arial"/>
                          <a:ea typeface="Arial"/>
                        </a:rPr>
                        <a:t>I UMIEJĘTNOŚ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95400" indent="-95400">
                        <a:buClr>
                          <a:srgbClr val="63252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632523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pl-PL" sz="1600" spc="-1" strike="noStrike">
                          <a:solidFill>
                            <a:srgbClr val="632523"/>
                          </a:solidFill>
                          <a:latin typeface="Arial"/>
                          <a:ea typeface="Arial"/>
                        </a:rPr>
                        <a:t>minimum 70% nauczycieli rocznie  kończy różne formy doskonalenia (co najmniej 6. godzin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 indent="-95400">
                        <a:buClr>
                          <a:srgbClr val="63252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 indent="-95400">
                        <a:buClr>
                          <a:srgbClr val="63252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632523"/>
                          </a:solidFill>
                          <a:latin typeface="Arial"/>
                          <a:ea typeface="Arial"/>
                        </a:rPr>
                        <a:t>minimum 30% uczniów korzysta z oferty zajęć dodatkowy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 indent="-95400">
                        <a:buClr>
                          <a:srgbClr val="63252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 indent="-95400">
                        <a:buClr>
                          <a:srgbClr val="63252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632523"/>
                          </a:solidFill>
                          <a:latin typeface="Arial"/>
                          <a:ea typeface="Arial"/>
                        </a:rPr>
                        <a:t>15 uczniów przypada na 1 komputer według standardów 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 indent="-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 indent="-95400">
                        <a:buClr>
                          <a:srgbClr val="63252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632523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pl-PL" sz="1600" spc="-1" strike="noStrike">
                          <a:solidFill>
                            <a:srgbClr val="632523"/>
                          </a:solidFill>
                          <a:latin typeface="Arial"/>
                          <a:ea typeface="Arial"/>
                        </a:rPr>
                        <a:t>90% uczniów na egzaminie maturalnym (j. polski, matematyka) mieści się w tym samym lub wyższym staninie jak na egzaminie gimnazjaln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5400" indent="-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buClr>
                          <a:srgbClr val="63252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632523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pl-PL" sz="1600" spc="-1" strike="noStrike">
                          <a:solidFill>
                            <a:srgbClr val="632523"/>
                          </a:solidFill>
                          <a:latin typeface="Arial"/>
                          <a:ea typeface="Arial"/>
                        </a:rPr>
                        <a:t>73% nauczycie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63252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632523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pl-PL" sz="1600" spc="-1" strike="noStrike">
                          <a:solidFill>
                            <a:srgbClr val="632523"/>
                          </a:solidFill>
                          <a:latin typeface="Arial"/>
                          <a:ea typeface="Arial"/>
                        </a:rPr>
                        <a:t>33,6% ucznió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63252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63252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632523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pl-PL" sz="1600" spc="-1" strike="noStrike">
                          <a:solidFill>
                            <a:srgbClr val="632523"/>
                          </a:solidFill>
                          <a:latin typeface="Arial"/>
                          <a:ea typeface="Arial"/>
                        </a:rPr>
                        <a:t>11,4% uczniów/ 1 kompu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63252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632523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3" name=""/>
          <p:cNvGraphicFramePr/>
          <p:nvPr/>
        </p:nvGraphicFramePr>
        <p:xfrm>
          <a:off x="324000" y="1197000"/>
          <a:ext cx="8640720" cy="5116320"/>
        </p:xfrm>
        <a:graphic>
          <a:graphicData uri="http://schemas.openxmlformats.org/drawingml/2006/table">
            <a:tbl>
              <a:tblPr/>
              <a:tblGrid>
                <a:gridCol w="2376360"/>
                <a:gridCol w="6264360"/>
              </a:tblGrid>
              <a:tr h="75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1.2 Szkoła aktywnym partnerem w środowisku lokalny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cc3300"/>
                          </a:solidFill>
                          <a:latin typeface="Arial"/>
                          <a:ea typeface="Times New Roman"/>
                        </a:rPr>
                        <a:t>i regionalnym (tab. ½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planowanie i zrealizowa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5f497a"/>
                          </a:solidFill>
                          <a:latin typeface="Arial"/>
                          <a:ea typeface="Times New Roman"/>
                        </a:rPr>
                        <a:t>Współpraca z przedsiębiorca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buClr>
                          <a:srgbClr val="5f497a"/>
                        </a:buClr>
                        <a:buFont typeface="Arial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5f497a"/>
                          </a:solidFill>
                          <a:latin typeface="Arial"/>
                          <a:ea typeface="Times New Roman"/>
                        </a:rPr>
                        <a:t>Praktyki zawodowe: Kl. II i III TAK w firmach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5f497a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1" lang="pl-PL" sz="1800" spc="-1" strike="noStrike">
                          <a:solidFill>
                            <a:srgbClr val="5f497a"/>
                          </a:solidFill>
                          <a:latin typeface="Arial"/>
                          <a:ea typeface="Times New Roman"/>
                        </a:rPr>
                        <a:t>zajmujących się  terenami zielonymi i architektur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5f497a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1" lang="pl-PL" sz="1800" spc="-1" strike="noStrike">
                          <a:solidFill>
                            <a:srgbClr val="5f497a"/>
                          </a:solidFill>
                          <a:latin typeface="Arial"/>
                          <a:ea typeface="Times New Roman"/>
                        </a:rPr>
                        <a:t>otoczenia, kl. II i III TR w gospodarstwach rolnych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5f497a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pl-PL" sz="1800" spc="-1" strike="noStrike">
                          <a:solidFill>
                            <a:srgbClr val="5f497a"/>
                          </a:solidFill>
                          <a:latin typeface="Arial"/>
                          <a:ea typeface="Times New Roman"/>
                        </a:rPr>
                        <a:t>II i </a:t>
                      </a:r>
                      <a:r>
                        <a:rPr b="1" lang="pl-PL" sz="1800" spc="-1" strike="noStrike">
                          <a:solidFill>
                            <a:srgbClr val="5f497a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pl-PL" sz="1800" spc="-1" strike="noStrike">
                          <a:solidFill>
                            <a:srgbClr val="5f497a"/>
                          </a:solidFill>
                          <a:latin typeface="Arial"/>
                          <a:ea typeface="Times New Roman"/>
                        </a:rPr>
                        <a:t>III TA w firmach zajmujących się przetwórstwem </a:t>
                      </a:r>
                      <a:r>
                        <a:rPr b="1" lang="pl-PL" sz="1800" spc="-1" strike="noStrike">
                          <a:solidFill>
                            <a:srgbClr val="5f497a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pl-PL" sz="1800" spc="-1" strike="noStrike">
                          <a:solidFill>
                            <a:srgbClr val="5f497a"/>
                          </a:solidFill>
                          <a:latin typeface="Arial"/>
                          <a:ea typeface="Times New Roman"/>
                        </a:rPr>
                        <a:t>rolno </a:t>
                      </a:r>
                      <a:r>
                        <a:rPr b="1" lang="pl-PL" sz="1800" spc="-1" strike="noStrike">
                          <a:solidFill>
                            <a:srgbClr val="5f497a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pl-PL" sz="1800" spc="-1" strike="noStrike">
                          <a:solidFill>
                            <a:srgbClr val="5f497a"/>
                          </a:solidFill>
                          <a:latin typeface="Arial"/>
                          <a:ea typeface="Times New Roman"/>
                        </a:rPr>
                        <a:t>– spożywczy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5f497a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pl-PL" sz="1800" spc="-1" strike="noStrike">
                          <a:solidFill>
                            <a:srgbClr val="5f497a"/>
                          </a:solidFill>
                          <a:latin typeface="Arial"/>
                          <a:ea typeface="Times New Roman"/>
                        </a:rPr>
                        <a:t>i w instytucjach pracujących na </a:t>
                      </a:r>
                      <a:r>
                        <a:rPr b="1" lang="pl-PL" sz="1800" spc="-1" strike="noStrike">
                          <a:solidFill>
                            <a:srgbClr val="5f497a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pl-PL" sz="1800" spc="-1" strike="noStrike">
                          <a:solidFill>
                            <a:srgbClr val="5f497a"/>
                          </a:solidFill>
                          <a:latin typeface="Arial"/>
                          <a:ea typeface="Times New Roman"/>
                        </a:rPr>
                        <a:t>rzecz rolnictwa (ARiMR, WIORiN, ODR, BGŻ, KRUS, </a:t>
                      </a:r>
                      <a:r>
                        <a:rPr b="1" lang="pl-PL" sz="1800" spc="-1" strike="noStrike">
                          <a:solidFill>
                            <a:srgbClr val="5f497a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pl-PL" sz="1800" spc="-1" strike="noStrike">
                          <a:solidFill>
                            <a:srgbClr val="5f497a"/>
                          </a:solidFill>
                          <a:latin typeface="Arial"/>
                          <a:ea typeface="Times New Roman"/>
                        </a:rPr>
                        <a:t>…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buClr>
                          <a:srgbClr val="5f497a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5f497a"/>
                          </a:solidFill>
                          <a:latin typeface="Arial"/>
                          <a:ea typeface="Times New Roman"/>
                        </a:rPr>
                        <a:t>„</a:t>
                      </a:r>
                      <a:r>
                        <a:rPr b="1" lang="pl-PL" sz="1800" spc="-1" strike="noStrike">
                          <a:solidFill>
                            <a:srgbClr val="5f497a"/>
                          </a:solidFill>
                          <a:latin typeface="Arial"/>
                          <a:ea typeface="Times New Roman"/>
                        </a:rPr>
                        <a:t>Dzień Przedsiębiorczości”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buClr>
                          <a:srgbClr val="5f497a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5f497a"/>
                          </a:solidFill>
                          <a:latin typeface="Arial"/>
                          <a:ea typeface="Times New Roman"/>
                        </a:rPr>
                        <a:t>Wycieczki do firm pracujących na rzecz rolnictwa: ARiMR, BGŻ, ODR, Urząd Skarbowy, KRUS, PIORiN, inne banki – np. PKO S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buClr>
                          <a:srgbClr val="5f497a"/>
                        </a:buClr>
                        <a:buFont typeface="Arial"/>
                        <a:buChar char="•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5f497a"/>
                          </a:solidFill>
                          <a:latin typeface="Arial"/>
                          <a:ea typeface="Times New Roman"/>
                        </a:rPr>
                        <a:t>Wycieczki na pokazy i wystawy – „Polagra” i „Agroshow”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Text Box 2"/>
          <p:cNvSpPr/>
          <p:nvPr/>
        </p:nvSpPr>
        <p:spPr>
          <a:xfrm>
            <a:off x="434160" y="304920"/>
            <a:ext cx="8550360" cy="62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99"/>
                </a:solidFill>
                <a:latin typeface="Arial"/>
              </a:rPr>
              <a:t>                               </a:t>
            </a:r>
            <a:r>
              <a:rPr b="1" lang="pl-PL" sz="3200" spc="-1" strike="noStrike">
                <a:solidFill>
                  <a:srgbClr val="333399"/>
                </a:solidFill>
                <a:latin typeface="Arial"/>
              </a:rPr>
              <a:t>Wnios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0000"/>
                </a:solidFill>
                <a:latin typeface="Arial"/>
              </a:rPr>
              <a:t>* Tworzenie i wspólna realizacja programów rozwoj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0000"/>
                </a:solidFill>
                <a:latin typeface="Arial"/>
              </a:rPr>
              <a:t>może służyć zawiązywaniu i rozwijaniu lokalny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0000"/>
                </a:solidFill>
                <a:latin typeface="Arial"/>
              </a:rPr>
              <a:t>porozumień – program rozwoju  może być wspól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0000"/>
                </a:solidFill>
                <a:latin typeface="Arial"/>
              </a:rPr>
              <a:t>tworzony na podstawie porozumienia lub dob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cc0000"/>
                </a:solidFill>
                <a:latin typeface="Arial"/>
              </a:rPr>
              <a:t>współpraca przy tworzeniu programu rozwoju może by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0000"/>
                </a:solidFill>
                <a:latin typeface="Arial"/>
              </a:rPr>
              <a:t>podstawą porozumien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0000"/>
                </a:solidFill>
                <a:latin typeface="Arial"/>
              </a:rPr>
              <a:t>* Lokalne partnerstwa lub porozumienia na rzecz edukac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cc0000"/>
                </a:solidFill>
                <a:latin typeface="Arial"/>
              </a:rPr>
              <a:t>sprzyjają  otwarciu szkolnej edukacji na środowisk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0000"/>
                </a:solidFill>
                <a:latin typeface="Arial"/>
              </a:rPr>
              <a:t>odejściu od „szkołocentryczności” oraz podzieleni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0000"/>
                </a:solidFill>
                <a:latin typeface="Arial"/>
              </a:rPr>
              <a:t>się odpowiedzialnością za wyniki edukacj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0000"/>
                </a:solidFill>
                <a:latin typeface="Arial"/>
              </a:rPr>
              <a:t>z lokalnymi partnera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ole tekstowe 1"/>
          <p:cNvSpPr/>
          <p:nvPr/>
        </p:nvSpPr>
        <p:spPr>
          <a:xfrm>
            <a:off x="611280" y="765000"/>
            <a:ext cx="8137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b050"/>
                </a:solidFill>
                <a:latin typeface="Arial"/>
              </a:rPr>
              <a:t>Twórzmy programy rozwoju szkó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pl-PL" sz="3600" spc="-1" strike="noStrike">
                <a:solidFill>
                  <a:srgbClr val="00b050"/>
                </a:solidFill>
                <a:latin typeface="Arial"/>
              </a:rPr>
              <a:t>razem z pracodawca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b050"/>
                </a:solidFill>
                <a:latin typeface="Arial"/>
              </a:rPr>
              <a:t>i innymi partnerami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b050"/>
                </a:solidFill>
                <a:latin typeface="Arial"/>
              </a:rPr>
              <a:t>nie tylk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b050"/>
                </a:solidFill>
                <a:latin typeface="Arial"/>
              </a:rPr>
              <a:t>dla lepszych programów nauczan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ole tekstowe 1"/>
          <p:cNvSpPr/>
          <p:nvPr/>
        </p:nvSpPr>
        <p:spPr>
          <a:xfrm>
            <a:off x="755640" y="234936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70c0"/>
                </a:solidFill>
                <a:latin typeface="Arial"/>
              </a:rPr>
              <a:t>Dziękuję za uwagę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ole tekstowe 2"/>
          <p:cNvSpPr/>
          <p:nvPr/>
        </p:nvSpPr>
        <p:spPr>
          <a:xfrm>
            <a:off x="395280" y="476280"/>
            <a:ext cx="8424720" cy="59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Arial"/>
              </a:rPr>
              <a:t>Ustawa z dnia 28 lipca 2011 roku o zmianie ustawy o systemie oświaty oraz o zmianie niektórych innych usta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(trwa proces legislacyj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Arial"/>
              </a:rPr>
              <a:t>* Konsekwencja wcześniejszych zmian w systemie oświa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Arial"/>
              </a:rPr>
              <a:t>* Zmiana ustawy była konieczna tak aby wprowadzić zmiany przed 1 września 2011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Arial"/>
              </a:rPr>
              <a:t>* Zakres zmian nie był ściśle zdeterminowany przez wcześniejsze zapisy ustawow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ole tekstowe 1"/>
          <p:cNvSpPr/>
          <p:nvPr/>
        </p:nvSpPr>
        <p:spPr>
          <a:xfrm>
            <a:off x="468360" y="333360"/>
            <a:ext cx="8207280" cy="63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Ustawa z dnia 28 lipca 2011 roku o zmianie ustaw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o systemie oświaty i innych ust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70c0"/>
                </a:solidFill>
                <a:latin typeface="Arial"/>
              </a:rPr>
              <a:t>Najważniejsze zmiany w szkolnictwie zawodow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Likwidacja typów szkó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- liceów profilowanych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-  uzupełniających liceów ogólnokształcącyc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-  techników uzupełniającyc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2. Likwidacja rodzajów szkó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-   techników dla dorosłyc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-  zasadniczych szkół zawodowych dla dorosł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3. Ujednolicenie czasu trwania nauki w zasadniczych szkołach zawodowych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do 3 lat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(likwidacja kształcenia w czasie 2 la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4. Absolwent zasadniczej szkoły zawodowej może kontynuować naukę w drugiej klasie liceum ogólnokształcącego dla dorosły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i na kursach zawodow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ole tekstowe 1"/>
          <p:cNvSpPr/>
          <p:nvPr/>
        </p:nvSpPr>
        <p:spPr>
          <a:xfrm>
            <a:off x="468360" y="549360"/>
            <a:ext cx="8207280" cy="60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Ustawa z dnia 28 lipca 2011 roku o zmianie ustawy o systemie oświaty i innych ust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70c0"/>
                </a:solidFill>
                <a:latin typeface="Arial"/>
              </a:rPr>
              <a:t>Najważniejsze zmiany w szkolnictwie zawodow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4. Wprowadzenie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kwalifikacji  w zawodzie 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kładających się na zawó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5. Kwalifikacje w zawodzie można zdobywać na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kursach zawodowych i w szkole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, można zdawać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egzaminy potwierdzające poszczególne kwalifikacje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 zawodz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6. Zestaw kwalifikacji w zawodzie pozwala na zdobywanie nowych zawodów poprzez zdobycie dodatkowych kwalifikacji w zawodz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7. Zapewnienie warunków prowadzenia kwalifikacyjnych kursów zawodowych jest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zadaniem własnym powiatu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8. Na kursach zawodowych można realizować obowiązek nauk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3T22:08:24Z</dcterms:created>
  <dc:creator>Barbara Janas-Stawikowska</dc:creator>
  <dc:description/>
  <dc:language>en-US</dc:language>
  <cp:lastModifiedBy>Hanna Zielińska</cp:lastModifiedBy>
  <cp:lastPrinted>2009-02-19T07:12:48Z</cp:lastPrinted>
  <dcterms:modified xsi:type="dcterms:W3CDTF">2011-08-05T08:39:34Z</dcterms:modified>
  <cp:revision>187</cp:revision>
  <dc:subject/>
  <dc:title>Zmiany ustawy i rozporządzeń w tym wpływające na  statut</dc:title>
</cp:coreProperties>
</file>