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4450-BF5D-41AD-81A4-6CDDD789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E0E-9863-4E5A-AA6C-E3375C73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E24-1E47-4065-AE26-FE83BECF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519-BF8A-4BC5-806A-7DDCD822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EF0-0AFE-47AA-894B-0A2E664E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1F2-2084-4B44-8D27-F0635A37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E1B-FBB1-4B97-BFCC-C3FE1B94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364C-2D69-4722-B1E3-A5994EFC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A25-5306-4A12-ADE0-DB531C80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3AC-A192-4D05-836F-B5B34FAA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55F-1684-416B-B367-613C94A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78F-A76A-4783-AF54-28C22D87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10-9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D0E0FB-90A7-46BE-A9CF-304AD2B60034}" type="slidenum">
              <a:rPr b="0" lang="pl-PL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fld id="{ABCAFC71-48A3-4849-991E-5A46467BA507}" type="slidenum">
              <a:rPr b="0" lang="pl-PL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45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2"/>
          <p:cNvSpPr/>
          <p:nvPr/>
        </p:nvSpPr>
        <p:spPr>
          <a:xfrm>
            <a:off x="900000" y="6500880"/>
            <a:ext cx="82440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85840" y="2565360"/>
            <a:ext cx="88581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 Black"/>
              </a:rPr>
              <a:t>Elastyczność vs bezpieczeństwo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 Black"/>
              </a:rPr>
              <a:t>Upowszechnianie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 Black"/>
              </a:rPr>
              <a:t>na poziomie lokalnym i regionalnym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 Black"/>
              </a:rPr>
              <a:t>ide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 Black"/>
              </a:rPr>
              <a:t>Flexicurit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 Black"/>
              </a:rPr>
              <a:t>jako odpowiedz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 Black"/>
              </a:rPr>
              <a:t>na  wyzwania Rynku Pracy  XXI wie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403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5394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0280" y="5589720"/>
            <a:ext cx="88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Bartłomiej Piotrows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Toruń Listopad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nimated_globe"/>
          <p:cNvPicPr/>
          <p:nvPr/>
        </p:nvPicPr>
        <p:blipFill>
          <a:blip r:embed="rId2"/>
          <a:stretch/>
        </p:blipFill>
        <p:spPr>
          <a:xfrm>
            <a:off x="4284720" y="3933720"/>
            <a:ext cx="14335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146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75564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słanki Rozwoju Elastycznych Form Zatrudni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ymbol zastępczy zawartości 3"/>
          <p:cNvSpPr/>
          <p:nvPr/>
        </p:nvSpPr>
        <p:spPr>
          <a:xfrm>
            <a:off x="611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CESY EKONOMICZN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balizacja gospodarki, wiążąca się z silną konkurencją między firmami, ze wzmożonym napływem informacji i szybkim tempem rozwoju techniki, powoduje m.in., że zmieniają się warunki wykonywania pracy i wymagania stawiane pracowniko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nie konkurencj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rzeba ograniczać koszty, w tym koszty pracy, płynnie zmieniać wielkość produkcji i zatrudnienia – stosownie do potrzeb ryn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nowe logo"/>
          <p:cNvPicPr/>
          <p:nvPr/>
        </p:nvPicPr>
        <p:blipFill>
          <a:blip r:embed="rId1"/>
          <a:stretch/>
        </p:blipFill>
        <p:spPr>
          <a:xfrm>
            <a:off x="1692360" y="836640"/>
            <a:ext cx="5721120" cy="741240"/>
          </a:xfrm>
          <a:prstGeom prst="rect">
            <a:avLst/>
          </a:prstGeom>
          <a:ln w="0">
            <a:noFill/>
          </a:ln>
        </p:spPr>
      </p:pic>
      <p:sp>
        <p:nvSpPr>
          <p:cNvPr id="154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32400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Times New Roman"/>
              </a:rPr>
              <a:t>WYZWANIA DEMOGRAFICZNE</a:t>
            </a:r>
            <a:r>
              <a:rPr b="0" i="1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79280" y="2349360"/>
            <a:ext cx="820908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świat – procesy starzenia się (szczególnie Euro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lska – dwa wyże, ale groźba nierównowagi demograficznej              (niski wskaźnik dzietnoś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agrożenia dla: rynku pracy, systemu socjalnego, systemów emerytal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2005"/>
          <p:cNvPicPr/>
          <p:nvPr/>
        </p:nvPicPr>
        <p:blipFill>
          <a:blip r:embed="rId2"/>
          <a:stretch/>
        </p:blipFill>
        <p:spPr>
          <a:xfrm>
            <a:off x="7020000" y="4437000"/>
            <a:ext cx="19368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163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3"/>
          <p:cNvSpPr/>
          <p:nvPr/>
        </p:nvSpPr>
        <p:spPr>
          <a:xfrm>
            <a:off x="457200" y="61740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2495520" y="150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1900080" y="1076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6" descr=""/>
          <p:cNvPicPr/>
          <p:nvPr/>
        </p:nvPicPr>
        <p:blipFill>
          <a:blip r:embed="rId2"/>
          <a:stretch/>
        </p:blipFill>
        <p:spPr>
          <a:xfrm>
            <a:off x="457200" y="1268280"/>
            <a:ext cx="8686800" cy="4578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7"/>
          <p:cNvSpPr/>
          <p:nvPr/>
        </p:nvSpPr>
        <p:spPr>
          <a:xfrm>
            <a:off x="1089000" y="5877000"/>
            <a:ext cx="592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1692360" y="5734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Ludność według płci i wieku w 2002 r. </a:t>
            </a:r>
            <a:br>
              <a:rPr sz="1800"/>
            </a:b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i 2030 r. (prognoz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) dane 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175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457200" y="260280"/>
            <a:ext cx="8534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4"/>
          <p:cNvSpPr/>
          <p:nvPr/>
        </p:nvSpPr>
        <p:spPr>
          <a:xfrm>
            <a:off x="2495520" y="119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1089000" y="5519880"/>
            <a:ext cx="592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341360"/>
            <a:ext cx="8964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ROCESY SPOŁECZNE</a:t>
            </a:r>
            <a:br>
              <a:rPr sz="2400"/>
            </a:b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iany w systemie uznawanych za najważniejsze celów życiowych,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iany postaw wobec ról, jakie mają do spełnienia kobiety i mężczyźni, nie pozostaj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ez wpływu na sytuację na rynku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my coraz szerszy dostęp do informacji. Dzięki temu m.in. przyglądamy się uważnie innym społeczeństwom i coraz częściej przyjmujemy ich styl życia, zachowania, system wart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badań socjologicznych wynika, że przez wiele lat najważniejszą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cią życiową Polaków była rodzina. Badania prowadzone po roku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2004 wskazują jednak, że pierwsze miejsce w tym systemie wartości rodzina „odstępuje” pracy zawodowej. Zwłaszcza młodzi i dobrze wykształceni ludzie, wśród których coraz częściej są kobiety, wyżej cenią sobie karierę zawodową niż życie rodzin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185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95280" y="90792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SOBY PRACY A PRACODAW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ptymalizacja wielkości zatrudni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walifikacje pracow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petencje pracow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ajność a pł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ruktura wynagrodze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szty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lastyczność zatrudni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acja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193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6836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pl-PL" sz="2800" spc="-1" strike="noStrike">
                <a:solidFill>
                  <a:srgbClr val="000000"/>
                </a:solidFill>
                <a:latin typeface="Times New Roman"/>
              </a:rPr>
              <a:t>EFEKTYWNOŚĆ ELASTYCZ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50920" y="184464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bszar form zatrudnieni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 na czas określony, part time-job, praca tymczasowa – agencyjna, job rotation, umowa stażowa, kontraktowanie samozatrudnienia        koszty pracy, koszty zwolnień, koszty uprawnień, odpowiedzialność, adaptacja poziomu zatrudnienia do potrz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bszar organizacji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 telepraca (domowa, mobilna, telecentra), job sharing, praca przerywana, praca nakładcza (chałupnicza), praca zespołowa o charakterze zadaniowym        efektywna organizacja, koszty, związki z czasem pracy – miękka elastycz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bszar czasu prac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: praca zadaniowa, praca na zastępstwo, nadgodziny – a rozliczanie czasu pracy (okres, możliwość opt/out), indywidualne konta czasu pracy, system skróconego tygodnia, praca weekendowa        koszty, efektywność, dopasowanie czasu do potrzeb, sezonowość – szczyty aktyw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TRZEBA OBOPÓLNEJ ADAPTACYJN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45720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5029200" y="373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2209680" y="5486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204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1557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ORMY ZATRUDNIE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 BEZPIECZEŃS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755640" y="2708280"/>
            <a:ext cx="7772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ermin flexicurity to połączenie dwóch słów: flexibility (elastyczność) oraz security (bezpieczeństwo). Głównym założeniem takiego modelu rynku pracy jest łączenie elastyczności zatrudnienia z bezpieczeństwem zatrudnienia. To bezpieczeństwo to pewność, że szybko znajdziemy pracę na każdym etapie życia zawodowego i szanse na rozwój w dynamicznie zmieniającej się gospodarc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198520" y="2781360"/>
            <a:ext cx="45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owe pojęcie :</a:t>
            </a:r>
            <a:r>
              <a:rPr b="1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EXI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213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611280" y="1125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FORMY ZATRUDNIE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A BEZPIECZEŃS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84360" y="2708280"/>
            <a:ext cx="7772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modelu felxicurity dochodzi do płynnych przejść w trakcie życia zawodowego pomiędzy miejscami pracy, stanowiskami w hierarchii oraz do optymalnego rozwoju indywidualnych zdolności ludzi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flexicurity jest także elastyczne organizowanie pracy, pozwalające na szybkie i skuteczne zaspokajanie potrzeb, opanowywania nowych umiejętności i godzenie pracy z życiem prywatny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03840" y="226368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LEXI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222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557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rganizacja Współpracy Gospodarczej i Rozwoju (OECD) podaje następujące cechy charakterystyczne dla modelu flexibility: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miarkowana ochrona zatrudnienia,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wysoki poziom uczestnictwa w programach uczenia się przez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całe życie,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wysoki poziom wydatków na politykę Rynku P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zarówno pasywną, jak i aktywną ),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ystemy świadczeń dla bezrobotnych, zapewniające wysokie 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świadczenia, ale przy zrównoważenia praw i obowiązków, </a:t>
            </a:r>
            <a:br>
              <a:rPr sz="1800"/>
            </a:b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zeroki zakres zabezpieczeń społecznych,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229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684360" y="5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Co Daje FLEXI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84360" y="1628640"/>
            <a:ext cx="777240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Dla pracownika: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&gt; łatwiej szybko znaleźć pracę na każdym etapie życia zawodowego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&gt; udostępnia większe możliwości rozwoju zawodowego w warunkach szybko zmieniającej się gospodarki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&gt; ułatwia płynne przejścia z bierności zawodowej lub bezrobocia do zatrudnienia oraz ułatwia zmiany pracy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&gt; pozwala na dostosowanie formy i czasu pracy do indywidualnych potrzeb pracownika, również na przestrzeni całego życia zawodowego,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&gt; daje możliwość godzenia pracy zawodowej z obowiązkami pozazawodowymi i życiem prywatnym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&gt; daje szansę na odpowiednie zabezpieczenie materi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55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371600" y="4670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5394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50920" y="1197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00"/>
                </a:solidFill>
                <a:latin typeface="Times New Roman"/>
              </a:rPr>
              <a:t>Globalny Rynek P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286000" y="34066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wiatowe zasoby pracy liczą około 3 mld. osó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tego ok. 40 % przypada na Chiny i Indi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The World Factbook Banner"/>
          <p:cNvPicPr/>
          <p:nvPr/>
        </p:nvPicPr>
        <p:blipFill>
          <a:blip r:embed="rId2"/>
          <a:stretch/>
        </p:blipFill>
        <p:spPr>
          <a:xfrm>
            <a:off x="971640" y="2494080"/>
            <a:ext cx="67816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237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Co Daje FLEXI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84360" y="2060640"/>
            <a:ext cx="7772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Calibri"/>
              </a:rPr>
              <a:t>Dla pracodawcy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&gt; możliwość dostosowania stanu zatrudnienia do aktualnych potrzeb przedsiębiorstw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&gt; dostosowywanie organizacji pracy do potrzeb przedsiębiorstwa (nietypowe godziny pracy, nietypowe formy zatrudnienia czy systemy rozliczania czasu pracy)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&gt; lepsza adaptacja do zmian i dostosowania zadań do popytu lub stanu zatrudnienia osiągana jest poprzez szkolenia, prace wielozadaniowe, rotację na stanowiskach pracy, w oparciu o zdolności pracowników do wykonywania różnych zadań i czynności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&gt; możliwość motywowania pracowników do zwiększania wydajności pracy oraz dopasowywania kosztów pracy do bieżącej sytuacji finansowej poprzez wynagradzanie w zależności od wyników danej osoby</a:t>
            </a:r>
            <a:br>
              <a:rPr sz="20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245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ytuł 3"/>
          <p:cNvSpPr/>
          <p:nvPr/>
        </p:nvSpPr>
        <p:spPr>
          <a:xfrm>
            <a:off x="684360" y="1052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933"/>
                </a:solidFill>
                <a:latin typeface="Arial"/>
              </a:rPr>
              <a:t>Flexicurity – Przykładowe Działania Wspierające Zatrudni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ymbol zastępczy zawartości 4"/>
          <p:cNvSpPr/>
          <p:nvPr/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ktywne Polityki Rynku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ajny i dostępny system Permanentnej Eduk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pieka przedszko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ystem informacji o możliwościach elastycznego zatrudni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budowa sieci interneto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fektywny system zabezpieczenia społecz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253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ytuł 3"/>
          <p:cNvSpPr/>
          <p:nvPr/>
        </p:nvSpPr>
        <p:spPr>
          <a:xfrm>
            <a:off x="755640" y="98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933"/>
                </a:solidFill>
                <a:latin typeface="Arial"/>
              </a:rPr>
              <a:t>Flexicurity  w Polsce Rekomendacje z Badań MP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ymbol zastępczy zawartości 4"/>
          <p:cNvSpPr/>
          <p:nvPr/>
        </p:nvSpPr>
        <p:spPr>
          <a:xfrm>
            <a:off x="89856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budowa i Usprawnienie Aktywnych Polityk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udowa (w kierunku aktywizacji) Systemu Zasiłkow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powszechnienie wiedzy o elastycznych formach zatrudnienia (w ramach istniejących rozwiazań prawny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65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268280"/>
            <a:ext cx="8462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odłącznymi elementami zjawiska globalizacji są równie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offsho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jawisko 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offshoringu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lega na przenoszeniu miejsc pracy oraz produkcji lub zamówień z kraju, w którym umiejscowiona jest siedziba firmy, za granicę – zazwyczaj do krajów charakteryzujących się niższymi kosztami zatrudnienia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2008 roku około 160 mln. miejsc pracy w usługach, czyli 11% z globalnego zatrudnienia w usługach  była wykonywana w oddaleniu od usługobior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72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590840" y="43815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5394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9800" y="90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00"/>
                </a:solidFill>
                <a:latin typeface="Times New Roman"/>
              </a:rPr>
              <a:t>Bezrobocie w XXI wie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logos"/>
          <p:cNvPicPr/>
          <p:nvPr/>
        </p:nvPicPr>
        <p:blipFill>
          <a:blip r:embed="rId2"/>
          <a:stretch/>
        </p:blipFill>
        <p:spPr>
          <a:xfrm>
            <a:off x="542880" y="2492280"/>
            <a:ext cx="3705120" cy="299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4574880" y="2708280"/>
            <a:ext cx="406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190  - 200 ml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ludzi bez prac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6440" y="5661000"/>
            <a:ext cx="891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jach rozwiniętych bezrobocie oscyluje w granicach  +/-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jach zacofanych w granicach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83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5394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53964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600" spc="-1" strike="noStrike">
                <a:solidFill>
                  <a:srgbClr val="000000"/>
                </a:solidFill>
                <a:latin typeface="Times New Roman"/>
              </a:rPr>
              <a:t>MODELE P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360" y="1773360"/>
            <a:ext cx="40384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LIFE LONG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bilność zatrudni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biorowa ochrona praw pracownicz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warancje płacy minimalnej i wzrostu pł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riera wertykalna, automatyzm wzrostu pł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chrona okresów przerw w zatrudnieniu (m.in. urlopy macierzyńskie i wychowawcze) – wsparcie dochod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wencje MOP, dyrektywy UE, ust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ELFARE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572000" y="170028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LIFE LONG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ienność i niepewność zatrudni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niejsza skala ochrony praw zbiorowych (prawa indywidual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łaca zależna od rozwoju kari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riera a wzrost wymagań kwalifikacyjno-kompetencyj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kresy przerw w zatrudnieniu (co się traci?) – wsparcie powrotu na rynek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inimalne normy i standardy, umowy i porozumienia (przedsiębiorstw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ORKING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90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5394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1851120" y="1103400"/>
            <a:ext cx="5029200" cy="41148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 rot="10786200">
            <a:off x="1774080" y="1636560"/>
            <a:ext cx="5257800" cy="41911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3298680" y="2322360"/>
            <a:ext cx="213372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3300"/>
                </a:solidFill>
                <a:latin typeface="Times New Roman"/>
              </a:rPr>
              <a:t>Kluczo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3300"/>
                </a:solidFill>
                <a:latin typeface="Times New Roman"/>
              </a:rPr>
              <a:t>Pracown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3300"/>
                </a:solidFill>
                <a:latin typeface="Times New Roman"/>
              </a:rPr>
              <a:t>Zatrudnienie Sta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3300"/>
                </a:solidFill>
                <a:latin typeface="Times New Roman"/>
              </a:rPr>
              <a:t>Elastyczność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3300"/>
                </a:solidFill>
                <a:latin typeface="Times New Roman"/>
              </a:rPr>
              <a:t>Funkcjonal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222720" y="14842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Grupa Peryferyj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661000" y="22464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661000" y="2246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586480" y="1941480"/>
            <a:ext cx="10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Ela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Lic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Zatrudn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142000" y="2104920"/>
            <a:ext cx="735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zw.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yne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451680" y="476100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I Grupa Peryferyj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003760" y="3922560"/>
            <a:ext cx="99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ontr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Krótk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ermin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2519640" y="4772160"/>
            <a:ext cx="11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Niepeł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Zatrudni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5735880" y="3922560"/>
            <a:ext cx="127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Zatrudni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ubsydiow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5661000" y="4532400"/>
            <a:ext cx="7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Sh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250920" y="620640"/>
            <a:ext cx="8402400" cy="6045120"/>
          </a:xfrm>
          <a:prstGeom prst="pie">
            <a:avLst/>
          </a:pr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832920" y="59799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26880" y="255096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gencje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zas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3451680" y="49356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amozatrudni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7593120" y="2932200"/>
            <a:ext cx="12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k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118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733920" y="1295280"/>
            <a:ext cx="2057400" cy="327672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dzeń Zało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trudnienie stał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ełnoetat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5410080" y="2895480"/>
            <a:ext cx="2057400" cy="327672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soby zewnętr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utsou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ooper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6200000">
            <a:off x="2133360" y="2895120"/>
            <a:ext cx="2057400" cy="3276720"/>
          </a:xfrm>
          <a:prstGeom prst="pi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lastycznie zatrudnie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n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348000" y="5373720"/>
            <a:ext cx="31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hamrok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t Koniczy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52360" y="213372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Charles H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129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OLSKIE WYZW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ski wskaźnik zatrudni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oka stopa bezrobo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iągle niskie kwalifik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mobil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y strukturalne w gospoda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abe podstawy gospodarki wied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szary wiejs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trudnienie kobiet a polityka rodzi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blem starzenia się społeczeńs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ualizacja rynku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C:\Moje dokumenty\Moje obrazy\flaga.jpg"/>
          <p:cNvPicPr/>
          <p:nvPr/>
        </p:nvPicPr>
        <p:blipFill>
          <a:blip r:embed="rId2"/>
          <a:stretch/>
        </p:blipFill>
        <p:spPr>
          <a:xfrm>
            <a:off x="6300720" y="2205000"/>
            <a:ext cx="15750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6"/>
          <p:cNvSpPr/>
          <p:nvPr/>
        </p:nvSpPr>
        <p:spPr>
          <a:xfrm>
            <a:off x="5891760" y="6488280"/>
            <a:ext cx="3100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–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Łącznik prosty 9"/>
          <p:cNvSpPr/>
          <p:nvPr/>
        </p:nvSpPr>
        <p:spPr>
          <a:xfrm>
            <a:off x="285840" y="1214280"/>
            <a:ext cx="8572320" cy="1800"/>
          </a:xfrm>
          <a:prstGeom prst="line">
            <a:avLst/>
          </a:prstGeom>
          <a:ln w="9360">
            <a:solidFill>
              <a:srgbClr val="e6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nowe logo"/>
          <p:cNvPicPr/>
          <p:nvPr/>
        </p:nvPicPr>
        <p:blipFill>
          <a:blip r:embed="rId1"/>
          <a:stretch/>
        </p:blipFill>
        <p:spPr>
          <a:xfrm>
            <a:off x="1714680" y="214200"/>
            <a:ext cx="5721120" cy="74160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11"/>
          <p:cNvSpPr/>
          <p:nvPr/>
        </p:nvSpPr>
        <p:spPr>
          <a:xfrm>
            <a:off x="0" y="6500880"/>
            <a:ext cx="928800" cy="357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12"/>
          <p:cNvSpPr/>
          <p:nvPr/>
        </p:nvSpPr>
        <p:spPr>
          <a:xfrm>
            <a:off x="928800" y="6500880"/>
            <a:ext cx="8215200" cy="357120"/>
          </a:xfrm>
          <a:prstGeom prst="rect">
            <a:avLst/>
          </a:prstGeom>
          <a:solidFill>
            <a:srgbClr val="e64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</a:rPr>
              <a:t>Człowiek najlepsza inwesty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755640" y="119232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esłanki Rozwoju Elastycznych Form Zatrudni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Symbol zastępczy zawartości 5" descr="Obraz1.png"/>
          <p:cNvPicPr/>
          <p:nvPr/>
        </p:nvPicPr>
        <p:blipFill>
          <a:blip r:embed="rId2"/>
          <a:stretch/>
        </p:blipFill>
        <p:spPr>
          <a:xfrm>
            <a:off x="755640" y="2994120"/>
            <a:ext cx="77724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Piotrow</cp:lastModifiedBy>
  <dcterms:modified xsi:type="dcterms:W3CDTF">2010-11-15T13:25:06Z</dcterms:modified>
  <cp:revision>32</cp:revision>
  <dc:subject/>
  <dc:title>Koncepcja funkcjonowania Regionalnej Sieci Tematycznej w województwie  Kujawsko-Pomorskim </dc:title>
</cp:coreProperties>
</file>