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8973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96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624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2600" y="744120"/>
            <a:ext cx="49640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096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128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6240" y="943128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3C25-6DE7-4F33-8EC9-39B1B6BCC78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09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ymbol zastępczy numeru slajdu 3"/>
          <p:cNvSpPr/>
          <p:nvPr/>
        </p:nvSpPr>
        <p:spPr>
          <a:xfrm>
            <a:off x="3846600" y="9431280"/>
            <a:ext cx="2941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DE7A-C3C2-44C8-9912-127204E5ADF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09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ymbol zastępczy numeru slajdu 3"/>
          <p:cNvSpPr/>
          <p:nvPr/>
        </p:nvSpPr>
        <p:spPr>
          <a:xfrm>
            <a:off x="3846600" y="9431280"/>
            <a:ext cx="2941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F0A6-1F09-40FD-AA05-32BFC40BBA0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09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ymbol zastępczy numeru slajdu 3"/>
          <p:cNvSpPr/>
          <p:nvPr/>
        </p:nvSpPr>
        <p:spPr>
          <a:xfrm>
            <a:off x="3846600" y="9431280"/>
            <a:ext cx="2941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8ECD-2369-44E6-BFE0-EA6A670042B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09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ymbol zastępczy numeru slajdu 3"/>
          <p:cNvSpPr/>
          <p:nvPr/>
        </p:nvSpPr>
        <p:spPr>
          <a:xfrm>
            <a:off x="3846600" y="9431280"/>
            <a:ext cx="2941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FCA8-C99C-4197-86D7-A7C8A0CB569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09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ymbol zastępczy numeru slajdu 3"/>
          <p:cNvSpPr/>
          <p:nvPr/>
        </p:nvSpPr>
        <p:spPr>
          <a:xfrm>
            <a:off x="3846600" y="9431280"/>
            <a:ext cx="2941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DEDD-12D8-4C92-9BBF-32B56E1C8E2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09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ymbol zastępczy numeru slajdu 3"/>
          <p:cNvSpPr/>
          <p:nvPr/>
        </p:nvSpPr>
        <p:spPr>
          <a:xfrm>
            <a:off x="3846600" y="9431280"/>
            <a:ext cx="2941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8792-8F86-4344-8285-67391934D13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09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ymbol zastępczy numeru slajdu 3"/>
          <p:cNvSpPr/>
          <p:nvPr/>
        </p:nvSpPr>
        <p:spPr>
          <a:xfrm>
            <a:off x="3846600" y="9431280"/>
            <a:ext cx="2941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689A-0BAD-4E2B-BF13-5EE0B192499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09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ymbol zastępczy numeru slajdu 3"/>
          <p:cNvSpPr/>
          <p:nvPr/>
        </p:nvSpPr>
        <p:spPr>
          <a:xfrm>
            <a:off x="3846600" y="9431280"/>
            <a:ext cx="2941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25DA-D1DD-4FEC-B03D-1D1486F9BD3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09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ymbol zastępczy numeru slajdu 3"/>
          <p:cNvSpPr/>
          <p:nvPr/>
        </p:nvSpPr>
        <p:spPr>
          <a:xfrm>
            <a:off x="3846600" y="9431280"/>
            <a:ext cx="2941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2556-661F-4548-84FA-24478575C34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09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ymbol zastępczy numeru slajdu 3"/>
          <p:cNvSpPr/>
          <p:nvPr/>
        </p:nvSpPr>
        <p:spPr>
          <a:xfrm>
            <a:off x="3846600" y="9431280"/>
            <a:ext cx="2941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2A49-AF1A-45C7-BE5C-28914933843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D0F7-9EDF-4A21-8132-3A28AB7D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1B52-5579-4014-BADF-14813103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8202-C182-4539-A3DB-B09E5E870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F324-F34B-43DC-BA96-DC8231B9C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6549-33A7-47B2-A6C7-A4D008B0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87C7-D152-4526-9D86-DADD2AC7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E937-450A-4EE8-B0B3-A81EA1D9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C646-ACFF-4BED-BEC4-B7D70493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AC8E-62BF-4C3A-92E8-E99F9AC6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F4A1-26C5-45D5-9DEC-11EA40B2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751E-04D3-4BDB-9EF2-83F6BFFB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4580-F523-499A-A279-3B68A26A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B7A5-604F-412E-8DA0-167762648EB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wer\Desktop\KAPITAL_LUDZKI.jpg"/>
          <p:cNvPicPr/>
          <p:nvPr/>
        </p:nvPicPr>
        <p:blipFill>
          <a:blip r:embed="rId1"/>
          <a:srcRect l="10161" t="19677" r="8592" b="16391"/>
          <a:stretch/>
        </p:blipFill>
        <p:spPr>
          <a:xfrm>
            <a:off x="857160" y="2033640"/>
            <a:ext cx="7429680" cy="2786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Users\wer\Desktop\KAPITAŁ LUDZKI\LOGOTYPY\NARODOWA STRATEGIA SPÓJNOŚCI\PO_KL_KOLOR\JPG\KAPITAL_LUDZKI.jpg"/>
          <p:cNvPicPr/>
          <p:nvPr/>
        </p:nvPicPr>
        <p:blipFill>
          <a:blip r:embed="rId2"/>
          <a:srcRect l="7143" t="18483" r="7084" b="15409"/>
          <a:stretch/>
        </p:blipFill>
        <p:spPr>
          <a:xfrm>
            <a:off x="1565280" y="54000"/>
            <a:ext cx="1728720" cy="647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3"/>
          <a:stretch/>
        </p:blipFill>
        <p:spPr>
          <a:xfrm>
            <a:off x="3833640" y="122400"/>
            <a:ext cx="1729080" cy="509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wer\Desktop\flaga UE_nowa\z lewej strony\jpg\UE+EFS_L-kolor.jpg"/>
          <p:cNvPicPr/>
          <p:nvPr/>
        </p:nvPicPr>
        <p:blipFill>
          <a:blip r:embed="rId4"/>
          <a:stretch/>
        </p:blipFill>
        <p:spPr>
          <a:xfrm>
            <a:off x="6102360" y="108000"/>
            <a:ext cx="1476360" cy="544320"/>
          </a:xfrm>
          <a:prstGeom prst="rect">
            <a:avLst/>
          </a:prstGeom>
          <a:ln w="0">
            <a:noFill/>
          </a:ln>
        </p:spPr>
      </p:pic>
      <p:sp>
        <p:nvSpPr>
          <p:cNvPr id="52" name="pole tekstowe 7"/>
          <p:cNvSpPr/>
          <p:nvPr/>
        </p:nvSpPr>
        <p:spPr>
          <a:xfrm>
            <a:off x="252360" y="1656360"/>
            <a:ext cx="86392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gólne zalecenia Instytucji Zarządzającej w zakresie przygotowania Planów Działania na 2011 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wer\Desktop\KAPITAL_LUDZKI.jpg"/>
          <p:cNvPicPr/>
          <p:nvPr/>
        </p:nvPicPr>
        <p:blipFill>
          <a:blip r:embed="rId1"/>
          <a:srcRect l="10161" t="19677" r="8592" b="16391"/>
          <a:stretch/>
        </p:blipFill>
        <p:spPr>
          <a:xfrm>
            <a:off x="857160" y="2033640"/>
            <a:ext cx="7429680" cy="2786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:\Users\wer\Desktop\KAPITAŁ LUDZKI\LOGOTYPY\NARODOWA STRATEGIA SPÓJNOŚCI\PO_KL_KOLOR\JPG\KAPITAL_LUDZKI.jpg"/>
          <p:cNvPicPr/>
          <p:nvPr/>
        </p:nvPicPr>
        <p:blipFill>
          <a:blip r:embed="rId2"/>
          <a:srcRect l="7143" t="18483" r="7084" b="15409"/>
          <a:stretch/>
        </p:blipFill>
        <p:spPr>
          <a:xfrm>
            <a:off x="1565280" y="54000"/>
            <a:ext cx="1728720" cy="647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3"/>
          <a:stretch/>
        </p:blipFill>
        <p:spPr>
          <a:xfrm>
            <a:off x="3833640" y="122400"/>
            <a:ext cx="1729080" cy="509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Users\wer\Desktop\flaga UE_nowa\z lewej strony\jpg\UE+EFS_L-kolor.jpg"/>
          <p:cNvPicPr/>
          <p:nvPr/>
        </p:nvPicPr>
        <p:blipFill>
          <a:blip r:embed="rId4"/>
          <a:stretch/>
        </p:blipFill>
        <p:spPr>
          <a:xfrm>
            <a:off x="6102360" y="108000"/>
            <a:ext cx="1476360" cy="544320"/>
          </a:xfrm>
          <a:prstGeom prst="rect">
            <a:avLst/>
          </a:prstGeom>
          <a:ln w="0">
            <a:noFill/>
          </a:ln>
        </p:spPr>
      </p:pic>
      <p:sp>
        <p:nvSpPr>
          <p:cNvPr id="105" name="pole tekstowe 8"/>
          <p:cNvSpPr/>
          <p:nvPr/>
        </p:nvSpPr>
        <p:spPr>
          <a:xfrm>
            <a:off x="214200" y="171576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76092"/>
                </a:solidFill>
                <a:latin typeface="Arial"/>
                <a:ea typeface="Arial"/>
              </a:rPr>
              <a:t>DZIĘKUJĘ ZA UWAG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5"/>
          <a:stretch/>
        </p:blipFill>
        <p:spPr>
          <a:xfrm>
            <a:off x="2428920" y="3500280"/>
            <a:ext cx="404028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wer\Desktop\KAPITAL_LUDZKI.jpg"/>
          <p:cNvPicPr/>
          <p:nvPr/>
        </p:nvPicPr>
        <p:blipFill>
          <a:blip r:embed="rId1"/>
          <a:srcRect l="10161" t="19677" r="8592" b="16391"/>
          <a:stretch/>
        </p:blipFill>
        <p:spPr>
          <a:xfrm>
            <a:off x="857160" y="2033640"/>
            <a:ext cx="7429680" cy="2786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wer\Desktop\KAPITAŁ LUDZKI\LOGOTYPY\NARODOWA STRATEGIA SPÓJNOŚCI\PO_KL_KOLOR\JPG\KAPITAL_LUDZKI.jpg"/>
          <p:cNvPicPr/>
          <p:nvPr/>
        </p:nvPicPr>
        <p:blipFill>
          <a:blip r:embed="rId2"/>
          <a:srcRect l="7143" t="18483" r="7084" b="15409"/>
          <a:stretch/>
        </p:blipFill>
        <p:spPr>
          <a:xfrm>
            <a:off x="1565280" y="54000"/>
            <a:ext cx="1728720" cy="647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3"/>
          <a:stretch/>
        </p:blipFill>
        <p:spPr>
          <a:xfrm>
            <a:off x="3833640" y="122400"/>
            <a:ext cx="1729080" cy="509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wer\Desktop\flaga UE_nowa\z lewej strony\jpg\UE+EFS_L-kolor.jpg"/>
          <p:cNvPicPr/>
          <p:nvPr/>
        </p:nvPicPr>
        <p:blipFill>
          <a:blip r:embed="rId4"/>
          <a:stretch/>
        </p:blipFill>
        <p:spPr>
          <a:xfrm>
            <a:off x="6102360" y="108000"/>
            <a:ext cx="1476360" cy="544320"/>
          </a:xfrm>
          <a:prstGeom prst="rect">
            <a:avLst/>
          </a:prstGeom>
          <a:ln w="0">
            <a:noFill/>
          </a:ln>
        </p:spPr>
      </p:pic>
      <p:sp>
        <p:nvSpPr>
          <p:cNvPr id="57" name="pole tekstowe 8"/>
          <p:cNvSpPr/>
          <p:nvPr/>
        </p:nvSpPr>
        <p:spPr>
          <a:xfrm>
            <a:off x="214200" y="716400"/>
            <a:ext cx="863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alecenia natury przekrojowej dotyczące wszystkich Priorytetów PO K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ole tekstowe 10"/>
          <p:cNvSpPr/>
          <p:nvPr/>
        </p:nvSpPr>
        <p:spPr>
          <a:xfrm>
            <a:off x="214200" y="1357200"/>
            <a:ext cx="8278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Z PO KL dostrzega konieczność ograniczenia do niezbędnego minimum liczby kryteriów wyboru projektów o charakterze administracyjno – technicznym (np. dotyczącym liczby składanych wniosków przez wnioskodawcę, lokalizacji biura projektu, siedziby wnioskodawcy, okresu realizacji projektu, sytuacji finansowej wnioskodawcy itp.) na rzecz kryteriów o charakterze merytorycznym odnoszących się np. do doboru grupy docelowej, doboru charakteru i formy udzielanego wsparcia, obszaru geograficznego do którego skierowane zostanie wsparcie lub określonej branży gospodarki.  Duża liczba stosowanych dotąd kryteriów administracyjno – technicznych nie przyczynia się do podnoszenia jakości i efektywności realizowanych projektów, a często powoduje trudności o charakterze interpretacyjnym i wdrożeniowy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zakresie kryteriów wyboru projektów o charakterze administracyjno – technicznym, których zastosowanie będzie konieczne, IZ PO KL będzie dążyć do ich ujednolicenia pod względem treści (np. dopuszczalnej liczby wniosków składanych przez projektodawcę w różnych konkursach), brzmienia i interpretacji.  IZ PO KL zaproponuje jednolite podejście do ww. kryteriów po analizie propozycji kryteriów przedstawionych przez Instytucje Pośredniczą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wer\Desktop\KAPITAL_LUDZKI.jpg"/>
          <p:cNvPicPr/>
          <p:nvPr/>
        </p:nvPicPr>
        <p:blipFill>
          <a:blip r:embed="rId1"/>
          <a:srcRect l="10161" t="19677" r="8592" b="16391"/>
          <a:stretch/>
        </p:blipFill>
        <p:spPr>
          <a:xfrm>
            <a:off x="857160" y="2033640"/>
            <a:ext cx="7429680" cy="2786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Users\wer\Desktop\KAPITAŁ LUDZKI\LOGOTYPY\NARODOWA STRATEGIA SPÓJNOŚCI\PO_KL_KOLOR\JPG\KAPITAL_LUDZKI.jpg"/>
          <p:cNvPicPr/>
          <p:nvPr/>
        </p:nvPicPr>
        <p:blipFill>
          <a:blip r:embed="rId2"/>
          <a:srcRect l="7143" t="18483" r="7084" b="15409"/>
          <a:stretch/>
        </p:blipFill>
        <p:spPr>
          <a:xfrm>
            <a:off x="1565280" y="54000"/>
            <a:ext cx="1728720" cy="647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3"/>
          <a:stretch/>
        </p:blipFill>
        <p:spPr>
          <a:xfrm>
            <a:off x="3833640" y="122400"/>
            <a:ext cx="1729080" cy="509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Users\wer\Desktop\flaga UE_nowa\z lewej strony\jpg\UE+EFS_L-kolor.jpg"/>
          <p:cNvPicPr/>
          <p:nvPr/>
        </p:nvPicPr>
        <p:blipFill>
          <a:blip r:embed="rId4"/>
          <a:stretch/>
        </p:blipFill>
        <p:spPr>
          <a:xfrm>
            <a:off x="6102360" y="108000"/>
            <a:ext cx="1476360" cy="544320"/>
          </a:xfrm>
          <a:prstGeom prst="rect">
            <a:avLst/>
          </a:prstGeom>
          <a:ln w="0">
            <a:noFill/>
          </a:ln>
        </p:spPr>
      </p:pic>
      <p:sp>
        <p:nvSpPr>
          <p:cNvPr id="63" name="pole tekstowe 8"/>
          <p:cNvSpPr/>
          <p:nvPr/>
        </p:nvSpPr>
        <p:spPr>
          <a:xfrm>
            <a:off x="214200" y="716400"/>
            <a:ext cx="863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alecenia natury przekrojowej dotyczące wszystkich Priorytetów PO K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ole tekstowe 10"/>
          <p:cNvSpPr/>
          <p:nvPr/>
        </p:nvSpPr>
        <p:spPr>
          <a:xfrm>
            <a:off x="214200" y="1357200"/>
            <a:ext cx="82789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Z PO KL dostrzega konieczność większej koncentracji działań Instytucji Pośredniczących w obszarach objętych wsparciem PO KL, w których dotychczasowy postęp finansowo – rzeczowy nie jest wystarczający.  Przykładem takiej koncentracji mogą być Działania 9.2 i 9.3, których stan realizacji i osiągniętych wskaźników jest znacznie niższy niż w przypadku Poddziałań 9.1.1 i 9.1.2, a mimo to większa koncentracja działań Instytucji Pośredniczących skupiona była dotychczas na realizacji działań w obszarach edukacji przedszkolnej i programów rozwojowych szkół prowadzących kształcenie ogóle.  IZ PO KL weryfikując propozycje Planów działania na 2011 r. przedstawione przez Instytucje Pośredniczące dokona analizy zgłoszonych propozycji pod kątem zapewnienia równomiernego postępu w realizacji wszystkich celów PO K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Users\wer\Desktop\KAPITAL_LUDZKI.jpg"/>
          <p:cNvPicPr/>
          <p:nvPr/>
        </p:nvPicPr>
        <p:blipFill>
          <a:blip r:embed="rId1"/>
          <a:srcRect l="10161" t="19677" r="8592" b="16391"/>
          <a:stretch/>
        </p:blipFill>
        <p:spPr>
          <a:xfrm>
            <a:off x="857160" y="2033640"/>
            <a:ext cx="7429680" cy="2786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wer\Desktop\KAPITAŁ LUDZKI\LOGOTYPY\NARODOWA STRATEGIA SPÓJNOŚCI\PO_KL_KOLOR\JPG\KAPITAL_LUDZKI.jpg"/>
          <p:cNvPicPr/>
          <p:nvPr/>
        </p:nvPicPr>
        <p:blipFill>
          <a:blip r:embed="rId2"/>
          <a:srcRect l="7143" t="18483" r="7084" b="15409"/>
          <a:stretch/>
        </p:blipFill>
        <p:spPr>
          <a:xfrm>
            <a:off x="1565280" y="54000"/>
            <a:ext cx="1728720" cy="647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3"/>
          <a:stretch/>
        </p:blipFill>
        <p:spPr>
          <a:xfrm>
            <a:off x="3833640" y="122400"/>
            <a:ext cx="1729080" cy="509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wer\Desktop\flaga UE_nowa\z lewej strony\jpg\UE+EFS_L-kolor.jpg"/>
          <p:cNvPicPr/>
          <p:nvPr/>
        </p:nvPicPr>
        <p:blipFill>
          <a:blip r:embed="rId4"/>
          <a:stretch/>
        </p:blipFill>
        <p:spPr>
          <a:xfrm>
            <a:off x="6102360" y="108000"/>
            <a:ext cx="1476360" cy="544320"/>
          </a:xfrm>
          <a:prstGeom prst="rect">
            <a:avLst/>
          </a:prstGeom>
          <a:ln w="0">
            <a:noFill/>
          </a:ln>
        </p:spPr>
      </p:pic>
      <p:sp>
        <p:nvSpPr>
          <p:cNvPr id="69" name="pole tekstowe 8"/>
          <p:cNvSpPr/>
          <p:nvPr/>
        </p:nvSpPr>
        <p:spPr>
          <a:xfrm>
            <a:off x="214200" y="714960"/>
            <a:ext cx="863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iorytet VIII -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</a:rPr>
              <a:t> Poddziałanie 8.1.1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ole tekstowe 10"/>
          <p:cNvSpPr/>
          <p:nvPr/>
        </p:nvSpPr>
        <p:spPr>
          <a:xfrm>
            <a:off x="214200" y="1357200"/>
            <a:ext cx="8278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kierunkowanie wsparcia na firmy, które dotychczas nie skorzystały z dofinansowania szkoleń (kryterium dostępu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kierunkowanie wsparcia na pracowników mikro-, małych i średnich przedsiębiorstw (kryterium dostępu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kierunkowanie wsparcia na szkolenia, które kończą się powszechnie uznawanymi certyfikatami  (kryterium dostępu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eferowanie udziału w szkoleniach osób w wieku 45+ (kryterium strategiczne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eferowanie udziału w szkoleniach osób z wykształceniem co najwyżej średnim (kryterium strategiczne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eferowanie udziału w szkoleniach osób niepełnosprawnych i wykorzystania cross-financingu na dostosowanie infrastruktury szkoleniowej dla tych osób (kryterium strategiczne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eferowanie szkoleń z zakresu efektywności energetycznej i efektywności korzystania z zasobów [powiązanie ze strategią "Europa 2020"]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eferowanie doradztwa z zakresu efektywności energetycznej w przedsiębiorstwie (kryterium strategiczne, min. 10 pkt) [powiązanie ze strategią "Europa 2020"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Users\wer\Desktop\KAPITAL_LUDZKI.jpg"/>
          <p:cNvPicPr/>
          <p:nvPr/>
        </p:nvPicPr>
        <p:blipFill>
          <a:blip r:embed="rId1"/>
          <a:srcRect l="10161" t="19677" r="8592" b="16391"/>
          <a:stretch/>
        </p:blipFill>
        <p:spPr>
          <a:xfrm>
            <a:off x="857160" y="2033640"/>
            <a:ext cx="7429680" cy="2786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Users\wer\Desktop\KAPITAŁ LUDZKI\LOGOTYPY\NARODOWA STRATEGIA SPÓJNOŚCI\PO_KL_KOLOR\JPG\KAPITAL_LUDZKI.jpg"/>
          <p:cNvPicPr/>
          <p:nvPr/>
        </p:nvPicPr>
        <p:blipFill>
          <a:blip r:embed="rId2"/>
          <a:srcRect l="7143" t="18483" r="7084" b="15409"/>
          <a:stretch/>
        </p:blipFill>
        <p:spPr>
          <a:xfrm>
            <a:off x="1565280" y="54000"/>
            <a:ext cx="1728720" cy="647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3"/>
          <a:stretch/>
        </p:blipFill>
        <p:spPr>
          <a:xfrm>
            <a:off x="3833640" y="122400"/>
            <a:ext cx="1729080" cy="509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wer\Desktop\flaga UE_nowa\z lewej strony\jpg\UE+EFS_L-kolor.jpg"/>
          <p:cNvPicPr/>
          <p:nvPr/>
        </p:nvPicPr>
        <p:blipFill>
          <a:blip r:embed="rId4"/>
          <a:stretch/>
        </p:blipFill>
        <p:spPr>
          <a:xfrm>
            <a:off x="6102360" y="108000"/>
            <a:ext cx="1476360" cy="544320"/>
          </a:xfrm>
          <a:prstGeom prst="rect">
            <a:avLst/>
          </a:prstGeom>
          <a:ln w="0">
            <a:noFill/>
          </a:ln>
        </p:spPr>
      </p:pic>
      <p:sp>
        <p:nvSpPr>
          <p:cNvPr id="75" name="pole tekstowe 8"/>
          <p:cNvSpPr/>
          <p:nvPr/>
        </p:nvSpPr>
        <p:spPr>
          <a:xfrm>
            <a:off x="214200" y="714960"/>
            <a:ext cx="863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iorytet VIII -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</a:rPr>
              <a:t> Poddziałanie 8.1.2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ole tekstowe 10"/>
          <p:cNvSpPr/>
          <p:nvPr/>
        </p:nvSpPr>
        <p:spPr>
          <a:xfrm>
            <a:off x="214200" y="1357200"/>
            <a:ext cx="827892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eferowanie projektów obejmujących kompleksowe wsparcie w ramach outplacementu (kryterium strategiczne, min. 25 pkt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alizacja form wsparcia zawartych w Pakiecie Antykryzysowym PO KL (dodatki motywacyjne i realokacyjne) na zasadach zawartych w Pakiecie (z zastosowaniem ustalonych w Pakiecie kryteriów wyboru projektów)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*Pod warunkiem uzyskania zgody Komisji Europejskiej na przedłużenie na 2011 r. Pakietu Antykryzysowego przewidzianego początkowo na lata 2009 –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Users\wer\Desktop\KAPITAL_LUDZKI.jpg"/>
          <p:cNvPicPr/>
          <p:nvPr/>
        </p:nvPicPr>
        <p:blipFill>
          <a:blip r:embed="rId1"/>
          <a:srcRect l="10161" t="19677" r="8592" b="16391"/>
          <a:stretch/>
        </p:blipFill>
        <p:spPr>
          <a:xfrm>
            <a:off x="857160" y="2033640"/>
            <a:ext cx="7429680" cy="2786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Users\wer\Desktop\KAPITAŁ LUDZKI\LOGOTYPY\NARODOWA STRATEGIA SPÓJNOŚCI\PO_KL_KOLOR\JPG\KAPITAL_LUDZKI.jpg"/>
          <p:cNvPicPr/>
          <p:nvPr/>
        </p:nvPicPr>
        <p:blipFill>
          <a:blip r:embed="rId2"/>
          <a:srcRect l="7143" t="18483" r="7084" b="15409"/>
          <a:stretch/>
        </p:blipFill>
        <p:spPr>
          <a:xfrm>
            <a:off x="1565280" y="54000"/>
            <a:ext cx="1728720" cy="647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3"/>
          <a:stretch/>
        </p:blipFill>
        <p:spPr>
          <a:xfrm>
            <a:off x="3833640" y="122400"/>
            <a:ext cx="1729080" cy="509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wer\Desktop\flaga UE_nowa\z lewej strony\jpg\UE+EFS_L-kolor.jpg"/>
          <p:cNvPicPr/>
          <p:nvPr/>
        </p:nvPicPr>
        <p:blipFill>
          <a:blip r:embed="rId4"/>
          <a:stretch/>
        </p:blipFill>
        <p:spPr>
          <a:xfrm>
            <a:off x="6102360" y="108000"/>
            <a:ext cx="1476360" cy="544320"/>
          </a:xfrm>
          <a:prstGeom prst="rect">
            <a:avLst/>
          </a:prstGeom>
          <a:ln w="0">
            <a:noFill/>
          </a:ln>
        </p:spPr>
      </p:pic>
      <p:sp>
        <p:nvSpPr>
          <p:cNvPr id="81" name="pole tekstowe 8"/>
          <p:cNvSpPr/>
          <p:nvPr/>
        </p:nvSpPr>
        <p:spPr>
          <a:xfrm>
            <a:off x="214200" y="714960"/>
            <a:ext cx="863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iorytet VIII -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</a:rPr>
              <a:t> Poddziałanie 8.2.1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ole tekstowe 10"/>
          <p:cNvSpPr/>
          <p:nvPr/>
        </p:nvSpPr>
        <p:spPr>
          <a:xfrm>
            <a:off x="214200" y="1357200"/>
            <a:ext cx="8278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naczne zwiększenie alokacji na konkursy w tym Poddziałani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eferowanie komplementarności z Działaniem 3.1 PO IG (wsparcie inwestycyjne w spółki spin-off i spin-out) poprzez nawiązanie współpracy beneficjentów PO KL z beneficjentami PO IG (kryterium strategiczne, min. 10 pkt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eferowanie projektów obejmujących współpracę B+R i biznesu (staże i szkolenia praktyczne; tymczasowe zatrudnienie w MŚP wysoko wykwalifikowanego personelu) (kryterium strategiczne, min. 20 pkt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eferowanie poszukiwania (dzięki współpracy B+R i biznesu) rozwiązań z zakresu efektywności energetycznej w przedsiębiorstwie (kryterium strategiczne, min. 10 pkt) [powiązanie ze strategią "Europa 2020"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wer\Desktop\KAPITAL_LUDZKI.jpg"/>
          <p:cNvPicPr/>
          <p:nvPr/>
        </p:nvPicPr>
        <p:blipFill>
          <a:blip r:embed="rId1"/>
          <a:srcRect l="10161" t="19677" r="8592" b="16391"/>
          <a:stretch/>
        </p:blipFill>
        <p:spPr>
          <a:xfrm>
            <a:off x="857160" y="2033640"/>
            <a:ext cx="7429680" cy="2786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:\Users\wer\Desktop\KAPITAŁ LUDZKI\LOGOTYPY\NARODOWA STRATEGIA SPÓJNOŚCI\PO_KL_KOLOR\JPG\KAPITAL_LUDZKI.jpg"/>
          <p:cNvPicPr/>
          <p:nvPr/>
        </p:nvPicPr>
        <p:blipFill>
          <a:blip r:embed="rId2"/>
          <a:srcRect l="7143" t="18483" r="7084" b="15409"/>
          <a:stretch/>
        </p:blipFill>
        <p:spPr>
          <a:xfrm>
            <a:off x="1565280" y="54000"/>
            <a:ext cx="1728720" cy="647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3"/>
          <a:stretch/>
        </p:blipFill>
        <p:spPr>
          <a:xfrm>
            <a:off x="3833640" y="122400"/>
            <a:ext cx="1729080" cy="509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wer\Desktop\flaga UE_nowa\z lewej strony\jpg\UE+EFS_L-kolor.jpg"/>
          <p:cNvPicPr/>
          <p:nvPr/>
        </p:nvPicPr>
        <p:blipFill>
          <a:blip r:embed="rId4"/>
          <a:stretch/>
        </p:blipFill>
        <p:spPr>
          <a:xfrm>
            <a:off x="6102360" y="108000"/>
            <a:ext cx="1476360" cy="544320"/>
          </a:xfrm>
          <a:prstGeom prst="rect">
            <a:avLst/>
          </a:prstGeom>
          <a:ln w="0">
            <a:noFill/>
          </a:ln>
        </p:spPr>
      </p:pic>
      <p:sp>
        <p:nvSpPr>
          <p:cNvPr id="87" name="pole tekstowe 8"/>
          <p:cNvSpPr/>
          <p:nvPr/>
        </p:nvSpPr>
        <p:spPr>
          <a:xfrm>
            <a:off x="214200" y="714960"/>
            <a:ext cx="863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iorytet I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ole tekstowe 10"/>
          <p:cNvSpPr/>
          <p:nvPr/>
        </p:nvSpPr>
        <p:spPr>
          <a:xfrm>
            <a:off x="214200" y="1357200"/>
            <a:ext cx="82789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Rozpoczęcie (w województwach, które nie rozpoczęły tego przedsięwzięcia w 2010 r.) lub kontynuacja projektów indywidualizacji nauczania w klasach I-III szkół podstawowych (9.1.2)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Zapewnienie komplementarności projektów w Priorytecie IX z inwestycjami współfinansowanymi z innych niż EFS środków wspólnotowych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Zapewnienie wykorzystania sprzętu techno-dydaktycznego oraz ICT zakupionego ze środków EFS w latach 2004-2006 w projektach realizowanych w obecnej perspektywie finansowej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Zapewnienie wykorzystania w projektach zwalidowanych rezultatów PIW EQUAL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Rozpoczęcie w 2011 r. działań związanych z realizacją celów określonych w strategii Europa 2020, dotyczących m.in. kształcenia w zawodach związanych z zieloną gospodarką (w szczególności 9.2 i 9.3)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Zapewnienie odpowiedniego wsparcia szkołom, do których uczęszczają uczniowie ze specjalnymi potrzebami edukacyjnymi (w szczególności 9.2)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Zwiększenie udziału uczniów (9.1.3 i 9.2) oraz osób dorosłych (9.3. i 9.4)  niepełnosprawnych w realizowanych projektach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wer\Desktop\KAPITAL_LUDZKI.jpg"/>
          <p:cNvPicPr/>
          <p:nvPr/>
        </p:nvPicPr>
        <p:blipFill>
          <a:blip r:embed="rId1"/>
          <a:srcRect l="10161" t="19677" r="8592" b="16391"/>
          <a:stretch/>
        </p:blipFill>
        <p:spPr>
          <a:xfrm>
            <a:off x="857160" y="2033640"/>
            <a:ext cx="7429680" cy="2786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Users\wer\Desktop\KAPITAŁ LUDZKI\LOGOTYPY\NARODOWA STRATEGIA SPÓJNOŚCI\PO_KL_KOLOR\JPG\KAPITAL_LUDZKI.jpg"/>
          <p:cNvPicPr/>
          <p:nvPr/>
        </p:nvPicPr>
        <p:blipFill>
          <a:blip r:embed="rId2"/>
          <a:srcRect l="7143" t="18483" r="7084" b="15409"/>
          <a:stretch/>
        </p:blipFill>
        <p:spPr>
          <a:xfrm>
            <a:off x="1565280" y="54000"/>
            <a:ext cx="1728720" cy="647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3"/>
          <a:stretch/>
        </p:blipFill>
        <p:spPr>
          <a:xfrm>
            <a:off x="3833640" y="122400"/>
            <a:ext cx="1729080" cy="509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wer\Desktop\flaga UE_nowa\z lewej strony\jpg\UE+EFS_L-kolor.jpg"/>
          <p:cNvPicPr/>
          <p:nvPr/>
        </p:nvPicPr>
        <p:blipFill>
          <a:blip r:embed="rId4"/>
          <a:stretch/>
        </p:blipFill>
        <p:spPr>
          <a:xfrm>
            <a:off x="6102360" y="108000"/>
            <a:ext cx="1476360" cy="544320"/>
          </a:xfrm>
          <a:prstGeom prst="rect">
            <a:avLst/>
          </a:prstGeom>
          <a:ln w="0">
            <a:noFill/>
          </a:ln>
        </p:spPr>
      </p:pic>
      <p:sp>
        <p:nvSpPr>
          <p:cNvPr id="93" name="pole tekstowe 8"/>
          <p:cNvSpPr/>
          <p:nvPr/>
        </p:nvSpPr>
        <p:spPr>
          <a:xfrm>
            <a:off x="214200" y="714960"/>
            <a:ext cx="863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ojekty innowacyjne i współpracy ponadnarodow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ole tekstowe 10"/>
          <p:cNvSpPr/>
          <p:nvPr/>
        </p:nvSpPr>
        <p:spPr>
          <a:xfrm>
            <a:off x="214200" y="1357200"/>
            <a:ext cx="827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P podejmując decyzję o uwzględnieniu projektów innowacyjnych i współpracy ponadnarodowej w 2011 r., powinny wziąć pod uwagę skalę i zakres projektów innowacyjnych i współpracy ponadnarodowej wybranych do dofinansowania w ramach Planów działania 2009 oraz 2010. W związku z tym, iż w większości przypadków współpraca ponadnarodowa była uwzględniana jako kryterium szczegółowe w projektach innowacyjnych, a nie przewidywano ogłoszenia konkursów na projekty ponadnarodowe w ramach Działań/Poddziałań określonych w SzOP lub też łączono te konkursy z konkursami na projekty ponadnarodowe, czego konsekwencją był brak wyboru tego typu projektów wyłonionych do dofinansowania lub ich realizacja w ograniczonym zakresie, szczególną uwagę należy zwrócić na dotychczasowe działania ponadnarodowe i zapewnić ich realizację w 2011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Users\wer\Desktop\KAPITAL_LUDZKI.jpg"/>
          <p:cNvPicPr/>
          <p:nvPr/>
        </p:nvPicPr>
        <p:blipFill>
          <a:blip r:embed="rId1"/>
          <a:srcRect l="10161" t="19677" r="8592" b="16391"/>
          <a:stretch/>
        </p:blipFill>
        <p:spPr>
          <a:xfrm>
            <a:off x="857160" y="2033640"/>
            <a:ext cx="7429680" cy="2786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C:\Users\wer\Desktop\KAPITAŁ LUDZKI\LOGOTYPY\NARODOWA STRATEGIA SPÓJNOŚCI\PO_KL_KOLOR\JPG\KAPITAL_LUDZKI.jpg"/>
          <p:cNvPicPr/>
          <p:nvPr/>
        </p:nvPicPr>
        <p:blipFill>
          <a:blip r:embed="rId2"/>
          <a:srcRect l="7143" t="18483" r="7084" b="15409"/>
          <a:stretch/>
        </p:blipFill>
        <p:spPr>
          <a:xfrm>
            <a:off x="1565280" y="54000"/>
            <a:ext cx="1728720" cy="647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3"/>
          <a:stretch/>
        </p:blipFill>
        <p:spPr>
          <a:xfrm>
            <a:off x="3833640" y="122400"/>
            <a:ext cx="1729080" cy="509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wer\Desktop\flaga UE_nowa\z lewej strony\jpg\UE+EFS_L-kolor.jpg"/>
          <p:cNvPicPr/>
          <p:nvPr/>
        </p:nvPicPr>
        <p:blipFill>
          <a:blip r:embed="rId4"/>
          <a:stretch/>
        </p:blipFill>
        <p:spPr>
          <a:xfrm>
            <a:off x="6102360" y="108000"/>
            <a:ext cx="1476360" cy="544320"/>
          </a:xfrm>
          <a:prstGeom prst="rect">
            <a:avLst/>
          </a:prstGeom>
          <a:ln w="0">
            <a:noFill/>
          </a:ln>
        </p:spPr>
      </p:pic>
      <p:sp>
        <p:nvSpPr>
          <p:cNvPr id="99" name="pole tekstowe 8"/>
          <p:cNvSpPr/>
          <p:nvPr/>
        </p:nvSpPr>
        <p:spPr>
          <a:xfrm>
            <a:off x="214200" y="714960"/>
            <a:ext cx="863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ojekty innowacyjne i współpracy ponadnarodow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ole tekstowe 10"/>
          <p:cNvSpPr/>
          <p:nvPr/>
        </p:nvSpPr>
        <p:spPr>
          <a:xfrm>
            <a:off x="214200" y="1357200"/>
            <a:ext cx="8278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godnie z rekomendacją Grupy roboczej ds. kwestii horyzontalnych, wynikającą z dłuższej realizacji projektów innowacyjnych, rok 2011 powinien być, co do zasady, ostatnim rokiem na rozpoczynanie nowych działań w tym zakresi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la Planów działania na 2010 r. zalecano minimum alokacji na poziomie 1% w przypadku Priorytetów, w których realizacji działań innowacyjnych i ponadnarodowych nie przewidziano w 2009 r., oraz 2% w przypadku Priorytetów, w których realizacja tych działań została przewidziana w 2009 i 2010 r. W 2011 r. poziom alokacji powinien osiągnąć minimum 4% alokacji (łącznie od początku realizacji PO KL) na cały okres programowania dla danego Priorytetu, biorąc pod uwagę faktyczną kontraktację w ramach działań przewidzianych Planami działania 2009 oraz planowaną lub faktyczną kontraktację według Planów działania 2010 oraz zapewniając realizację tak podejścia innowacyjnego, jak i ponadnarodow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5T19:12:53Z</dcterms:created>
  <dc:creator>Piotr Trędewicz</dc:creator>
  <dc:description/>
  <dc:language>en-US</dc:language>
  <cp:lastModifiedBy>Arkadiusz Dabrowski</cp:lastModifiedBy>
  <dcterms:modified xsi:type="dcterms:W3CDTF">2010-06-28T06:48:06Z</dcterms:modified>
  <cp:revision>567</cp:revision>
  <dc:subject/>
  <dc:title>Slajd 1</dc:title>
</cp:coreProperties>
</file>