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D9D-CCF4-4B41-93F7-CDFD078D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2B2-6D60-4DE2-BF68-E5578E7D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C7D-22AC-4401-A6C6-20B65443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07E-9AF7-436D-971B-8DBF78D8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35D6-FBFB-496B-A540-95BF7C69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F59E-D513-4893-B0B3-874E3100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6B1F-9B68-4083-854A-E0366180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99AC-FB55-4CD4-BFE4-ABCEF1AF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CA7D-5728-41F7-9291-55CB895A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324A-674E-400C-9532-0EE4EFC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FF45-0EB3-4E87-8B91-15C027BA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0859-13E4-49CA-86E7-5A2AE6A9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4674-93A5-46E4-9503-55E4CFDB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AC13-C5DA-4242-B2AD-7D137254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D045-3986-4D5A-A408-C2DFF0CF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1C76-DB4A-45CD-B92D-854CC973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CA64-322A-4A7F-9DB5-7740B929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052-9AEA-4468-BD7E-B1EB7D9C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FF4-ADA3-4AE6-8E75-EE8091B9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9E5-D365-42D7-BB31-6BEC4B8B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BDF2-6D00-4290-810D-069ED014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1B8-69DC-41C2-AA06-577C960F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54A1-C3B7-4232-9D34-E489ADF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623B-D4E0-499F-B54D-573EC5D7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FA9A-D72E-4771-A086-958EAB8519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81D7-760C-4938-BF1F-5483CDF0CBC3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inisterstwo Rozwoju Regionalneg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187-9529-4F80-A9F6-EB7936C8F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raz 4" descr="prezentacja_tyt.jpg"/>
          <p:cNvPicPr/>
          <p:nvPr/>
        </p:nvPicPr>
        <p:blipFill>
          <a:blip r:embed="rId1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ole tekstowe 2"/>
          <p:cNvSpPr/>
          <p:nvPr/>
        </p:nvSpPr>
        <p:spPr>
          <a:xfrm>
            <a:off x="571680" y="3000240"/>
            <a:ext cx="77151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Zmiany w zasadach finansowania PO KL oraz w wytycznych dot. kwalifikowalności wydatkó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Joanna K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szty pośrednie rozliczane ryczał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precyzowano katalog kosztów pośrednich (katalog zamknięt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ono stałe ryczałty procentowe i jednocześnie zrezygnowano z konieczności sporządzania metodolog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wuetapowy sposób wyliczania ryczałtu: I) ustalenie całkowitej wartości projektu; II) ustalenie właściwego % kosztów pośrednich rozliczanych ryczał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ytuacji zlecania przez Beneficjenta realizacji zadań merytorycznych na zewnątrz, podstawa wyliczenia limitu kosztów pośrednich rozliczanych ryczałtem ulega pomniejszeniu o wartość ww. zadań zleco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szty pośrednie rozliczane ryczał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3860280"/>
            <a:ext cx="7848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Koszty bezpośrednie, będące podstawą wyliczenia kosztów pośrednich, nie są pomniejszane o wydatki w ramach cross-financing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7800" indent="-577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W przypadku zlecania realizacji zadań merytorycznych na zewnątrz podstawa wyliczenia limitu kosztów pośrednich ulega pomniejszeniu (poprzez pomniejszenie wartości kosztów bezpośrednich) o wartość ww. zadań zleco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71640" y="1125360"/>
          <a:ext cx="7200720" cy="2530800"/>
        </p:xfrm>
        <a:graphic>
          <a:graphicData uri="http://schemas.openxmlformats.org/drawingml/2006/table">
            <a:tbl>
              <a:tblPr/>
              <a:tblGrid>
                <a:gridCol w="3168720"/>
                <a:gridCol w="40320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yczałt procentowy kosztów pośredn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artość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kosztów bezpośredn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 500 tys. włącz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ztów bezpośredn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wyżej 500 tys. do 1 mln zł włącz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ztów bezpośredn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wyżej 1 mln i do 2 mln zł włącz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% kosztów bezpośredn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wyżej 2 mln i do 5 mln zł włącz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%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sztów bezpośredn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wyżej 5 mln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efinicja zadania merytorycz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danie merytoryczne należy rozumieć jako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ereg powiązanych ze sob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działań zmierzających bezpośrednio do realizacji celu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dania merytorycznego nie stanowią pojedyncze wydatki, np. usługa cateringowa, hotelowa i treners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Rozliczanie wydatków  w kontekście nowych Wytyczne w zakresie kwalifikowania wydatków w ramach PO K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ZMIANY W ZASADACH FINANSOWANIA  PO KL ORAZ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 WYTYCZNYCH DOTYCZĄCYCH KWALIFIKOWALNOŚCI WYDATKÓ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Przejrzystość i konkurencyjność wydatków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jrzystość i konkurencyjność wydat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 realizacji zamówienia w ramach projektu beneficjent stosuj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tawę z dnia 29 stycznia 2004 r. – Prawo zamówień publicznych oraz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Zasady dotyczące prowadzenia postępowań o udzielenie zamówienia publicznego finansowanych ze środków EFS, stanowiące załącznik do Wytyczn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przy czym dotyczy to podmiotów zobowiązanych do stosowania ustawy z dnia 29 stycznia 2004 r. – Prawo zamówień publicznych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sadę konkurencyjności w rozumieniu Wytycznych, przy czym zasada konkurencyjności nie dotyczy podmiotów zobowiązanych do stosowania ustawy z dnia 29 stycznia 2004 r.- Prawo zamówień publi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jrzystość i konkurencyjność wydat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24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eneficjent przygotowuje i przeprowadza postępowanie o udzielenie zamówienia w sposób zapewniający zachowanie uczciwej konkurencji i równe traktowanie wykonawc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naruszenia przez Beneficjenta zasad dotyczących przejrzystości i konkurencyjności wydatków, podmiot będący stroną umowy lub inny uprawniony organ kontrolny ma prawo zastosować taryfikator korekt określony w umowie o dofinansowanie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a konkurencyj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sada konkurencyjności nie dotycz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mówień dotyczących zadań wykonywanych przez personel zarządzający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mówień dotyczących zadań wykonywanych przez personel projektu, z którym Beneficjent w okresie co najmniej jednego roku przed złożeniem wniosku o dofinansowanie projektu współpracował w sposób ciągły lub powtarzal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a konkurencyj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opisu przedmiotu zamówienia stosuje się nazwy i kody określone we Wspólnym Słowniku Zamówień, o którym mowa w rozporządzeniu Komisji WE nr 213/2008 z dnia 28 listopada 2007 r. zmieniającym rozporządzenie (WE) nr 2195/2002 Parlamentu Europejskiego i Rady w sprawie Wspólnego Słownika Zamówień (CPV) oraz dyrektywy 2004/17/WE i 2004/18/WE Parlamentu Europejskiego i Rady dotyczące procedur udzielania zamówień publicznych w zakresie zmiany CPV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sługi, towary i roboty budowlane sumowane są w ramach danego projektu realizowanego przez Beneficj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STRUKTURA BUDŻETU PROJEKT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A KWALIFIKOWALNOŚĆ WYDATKÓW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O 1 STYCZNIA 2011R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424720" cy="11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a konkurencyj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424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 algn="just">
              <a:spcBef>
                <a:spcPts val="35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dan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735120" algn="just">
              <a:spcBef>
                <a:spcPts val="35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rmin na złożenie oferty powinien wynosić nie mniej niż 7 dni od dnia otrzymania zapytania ofert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735120" algn="just">
              <a:spcBef>
                <a:spcPts val="35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rzypadku gdy beneficjent dopuszcza składanie ofert częściowych postępowanie może zakończyć się wyborem kilku wykonawc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a konkurencyj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ono zapisy na temat protokołu, który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okumentem potwierdzającym prawidłowość wyboru wykonawcy zgodnie z zasadą konkurencyjnośc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forma pisemna) oraz uregulowano zawartość protokoł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otokół powinien zawierać co najmniej: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formację, do których trzech potencjalnych wykonawców Beneficjent wysłał zapytanie ofertowe lub informację o tym, że na rynku nie istnieje trzech potencjalnych wykonawców wraz z uzasadnieni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formację o sposobie upublicznienia zapytania ofertowego przez Beneficjen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kaz ofert, które wpłynęły do Beneficjenta w odpowiedzi na zapytanie ofertowe wraz ze wskazaniem daty wpłynięcia oferty do Beneficjenta oraz z podaniem tych danych z ofert, które stanowią odpowiedź na kryteria oceny ofe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skazanie wybranej oferty wraz z uzasadnieniem wy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tę sporządzenia protokołu i podpis Beneficjenta lub osoby upoważnionej przez Beneficjenta do podejmowania czynności w jego imieni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a konkurencyj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prowadzono zapis, ż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opuszcza się wzrost wartości zamówienia realizowanego z zastosowaniem zasady konkurencyjności w trakcie realizacji zamówienia do wysokości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50%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wartości zamówienia określonej w umowie z wykonawc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takim przypadku nie jest konieczne ponowne stosowanie zasady konkurencyjn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Calibri"/>
              </a:rPr>
              <a:t>Zasada </a:t>
            </a:r>
            <a:br>
              <a:rPr sz="2900"/>
            </a:br>
            <a:r>
              <a:rPr b="1" lang="pl-PL" sz="2900" spc="-1" strike="noStrike">
                <a:solidFill>
                  <a:srgbClr val="000000"/>
                </a:solidFill>
                <a:latin typeface="Calibri"/>
              </a:rPr>
              <a:t>efektywnego zarządzania finansami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eneficjent dokonuje wszystkich wydatków w ramach projektu zgodnie   z zasadą efektywnego zarządzania finansami, tj. w sposób racjonalny i efektyw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kup usługi lub towaru o wartości powyżej 20 tys. zł netto jest poprzedzony udokumentowanym rozeznaniem rynku w celu potwierdzenia jego ceny rynkow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wota 20 tys. zł dotyczy pojedynczego zakupu w ramach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eznanie rynku nie dotyczy zakupu towaru lub usługi dokonanego zgodnie z ustawą z dnia 29 stycznia 2004 r. – Prawo zamówień publicznych lub Zasadą konkurencyjności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fektywnego zarządzania finans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eznanie rynku oznacz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równanie cen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danego towaru / usługi u co najmniej trzech potencjalnych dostawców towarów lub usługodawców, o ile na rynku istnieje trzech potencjalnych dostawców/usługodawców dla danego towaru / usług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towarów lub usług, dla których porównanie cen nie jest możliwe, Beneficjent dokonuje wyboru wykonawcy zgodnie     z procedurą obowiązującą dla zasady konkurencyjnoś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eneficjent dokonuje opisu towaru lub usługi z najwyższą starannością uwzględniając wszystkie kryteria mogące mieć wpływ na cenę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sada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fektywnego zarządzania finans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pl-PL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eneficjent może stosować inne obowiązujące u niego zasady rozeznania rynku, jeżeli zapewniają one dokonywanie zakupów, w szczególności tych o wartości powyżej 20 tys. zł netto, w sposób racjonalny                   i efektywn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eguła proporcjonal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rowadzono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egułę proporcjonalnoś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     zgodnie z któr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liczenie projektu pod względem finansowym następuje w zależności od stopnia osiągnięcia założeń merytorycznych określonych we wniosku o dofinansowanie projektu, tj.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ryterium dostęp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ryterium strategicznego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elu projektu wyrażonego wskaźnikami produktu lub rezultatu wskazanymi w zatwierdzonym wniosku o dofinansowanie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eguła proporcjonal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niespełnienia kryterium dostępu w ramach projektu – podmiot będący stroną umowy uznaje wszystkie wydatki dotychczas rozliczone w ramach projektu za niekwalifikowal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niespełnienia kryterium strategicznego w ramach projektu lub nieosiągnięcia celu projektu – wysokość wydatków w dotychczas zatwierdzonych wnioskach o płatność może zostać proporcjonalnie zmniejszona, co jednocześnie oznacza odpowiednie obniżenie kwoty dofinansowania określonej w umowie o dofinansowanie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eguła proporcjonal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72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stosowanie reguły proporcjonalnośc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 warunkiem, że niespełnienie kryterium lub nieosiągnięcie celu projektu wynika z przyczyn leżących po stronie Beneficjenta (w szczególności nie ma zastosowania gdy jest ono wynikiem opóźnień w podpisaniu umowy o dofinansowanie czy przekazywaniu środków na finansowanie projektu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ma zastosowania w przypadku wystąpienia siły wyższe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cena stopnia osiągnięcia przyjętych przez Beneficjenta założeń wniosku o dofinansowanie dokonywana jest przez podmiot będący stroną umowy według stanu na zakończenie realizacji projektu na etapie weryfikacji końcowego wniosku o płatność.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eguła proporcjonal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niespełnienia kryterium strategicznego lub w przypadku nieosiągnięcia celu projektu wysokość zmniejszenia dofinansowania odpowiada procentowi, w jakim dane kryterium lub wskaźnik nie zostały zrealizowan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niejszenie dofinansowania dotyczy kosztów zarządzania projektem, kosztów pośrednich i wydatków związanych z tym zadaniem merytorycznym (zadaniami merytorycznymi), którego założenia nie zostały osiągnię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cent nieosiągnięcia założeń projektu określany jest przez podmiot będący stroną umowy o dofinansowanie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Koszty bezpośredni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eguła proporcjonal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czas ustalania procentu nieosiągnięcia założeń projektu podmiot będący stroną umowy o dofinansowanie projektu powinien brać pod uwagę m.in.: stopień winy lub niedochowania należytej staranności przez Beneficjenta skutkujące nieosiągnięciem ww. założeń, okoliczności zewnętrzne mające na to wpływ, w szczególności opóźnienia ze strony podmiotu będącego stroną umowy o dofinansowanie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miot będący stroną umowy o dofinansowanie projektu może odstąpić od zastosowania reguły proporcjonalności lub obniżyć wysokość środków podlegających regule proporcjonalności, jeśli Beneficjent o to wnioskuje i należycie uzasadni przyczyny nieosiągnięcia założeń, w szczególności wykaże swoje starania zmierzające do osiągnięcia założeń projekt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ady ogó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kwalifikowalne jest wynagrodzenie personelu  projektu zatrudnionego jednocześnie w instytucji uczestniczącej w realizacji PO KL,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chyba że nie zachodzi konflikt interesów lub podwójne finansowa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 potrzeby powyższego przepisu jako instytucję uczestniczącą w realizacji PO KL rozumie się Instytucję Zarządzającą, Instytucję Pośredniczącą, Instytucję Wdrażającą (Instytucję Pośredniczącą     II stopnia), Regionalny Ośrodek EFS, Krajowy Ośrodek EFS oraz Krajową Instytucję Wspomagając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ady ogó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ydatki związane z zatrudnieniem osoby zaangażowanej w realizację zadań w więcej niż jednym projekcie są kwalifikowalne, o ile obciążenie z tego wynikające nie wyklucza możliwości prawidłowej i efektywnej realizacji wszystkich zadań powierzonych danej osobie oraz osoba t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 ewidencję godzin i zadań realizowanych w ramach wszystkich projektów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dostępnia Beneficjentowi ww. ewidencję w odniesieniu do okresu realizacji projektu Beneficjen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unek p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916280"/>
            <a:ext cx="822960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Umowa o pracę z osobą stanowiącą personel projektu obejmuje wszystkie zadania wykonywane przez tą osobę w ramach projektu lub projektów realizowanych przez Beneficjenta, co jest odpowiednio udokumentowane postanowieniami umowy o pracę lub zakresem czynności służbowych pracownika lub opisem stanowiska pra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rzez odpowiednie udokumentowanie należy rozumieć m.in. wskazanie w ww. dokumentach wszystkich zadań, które dana osoba będzie wykonywała w ramach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Wysokość wynagrodzenia odpowiada stawkom stosowanym            u Beneficjen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tosunek p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gdy osoba będąca personelem projektu jest pracownikiem Beneficjenta, którego umowa o pracę tylko w części obejmuje zadania w ramach projektu (np. na ½ etatu, ¼ etatu w ramach projektu), wydatki związane z wynagrodzeniem w ramach projektu są kwalifikowalne, o i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dania związane z realizacją projektu zostaną wyraźn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odrębnione w umowie o pracę lub zakresie czynno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łużbowych pracownika lub opisie stanowiska prac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unek pr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kres zadań związanych z realizacją projektu stanowi podstawę do określenia proporcji faktycznego zaangażowania pracownika w realizację projektu w stosunku do czasu pracy wynikającego z umowy o pracę tego pracownik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datek związany z wynagrodzeniem personelu projektu odpowiada proporcji, o której mowa wyż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idłowość wyliczenia proporcji faktycznego zaangażowania pracownika w realizację projektu może podlegać kontro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unek cywilnopraw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988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walifikowanie wydatków poniesionych na wynagrodzenie osoby zaangażowanej do projektu na podstawie umowy cywilnoprawnej, która jest jednocześnie pracownikiem Beneficjenta zatrudnionym na podstawie stosunku pracy, jest możliwe wyłącznie w uzasadnionych przypadkach, w szczególności gdy charakter zadań wyklucza możliwość ich realizacji w ramach stosunku pracy, o ile spełnione są łącznie cztery wskazane w Wytycznych warun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unek cywilnopraw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arunki, o których mowa wyżej,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godność z przepisami krajowymi, tj. praca wykonywana w ramach umowy cywilnoprawnej jest rodzajowo różna od pracy wykonywanej na podstawie stosunku prac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ecyzyjne określenie zakresu zadań w ramach umowy cywilnoprawne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angażowanie w ramach stosunku pracy musi pozwalać na efektywne wykonywanie zadań w ramach umowy cywilnoprawnej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ana osoba prowadzi ewidencję godzin pracy zaangażowanych w realizację zadań w ramach umowy cywilnoprawn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unek cywilnopraw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padku zaangażowania osoby stanowiącej personel projektu na podstawie więcej niż jednej umowy cywilnoprawnej w ramach projektu, wydatki związane z wynagrodzeniem personelu są kwalifikowalne, jeżel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ciążenie wynikające z wykonywania wszystkich umów nie wyklucza możliwości prawidłowej i efektywnej realizacji zadań w ramach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oba ta prowadzi ewidencję godzin zaangażowanych we wszystkie zadania w ramach tego projektu, która może podlegać kontrol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udż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udżet dzieli się na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koszty bezpośred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zadania merytorycz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- koszty zarządzania (ograniczone procentow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koszty pośredni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 rozliczane na podstawie kosztów rzeczywiści ponoszonych albo ryczałtem (ograniczone procentow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tosunek cywilnopraw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liczenie umowy cywilnoprawnej następuje na podstawie protokołu odbioru wskazującego szczegółowy zakres wykonanych czynności oraz liczbę godzin dotyczących realizacji danej umow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kazanie liczby godzin w rozliczeniu umowy cywilnoprawnej nie dotyczy umów, w wyniku których następuje wykonanie oznaczonego dzieła, np. raportu z badania lub ekspertyz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by samozatrudn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walifikowalne jest wynagrodzenie osoby fizycznej prowadzącej działalność gospodarczą wykonującej osobiście zadania w ramach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ość wynagrodzenia takiej osoby wynika ze szczegółowego budżetu projekt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niesienie wydatku na wynagrodzenie, o którym mowa wyżej, jest dokumentowane dokumentem księgowym, np. notą obciążeniow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by samozatrudn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773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oba samozatrudniona zaangażowana w realizację więcej niż jednego zadania lub funkcji w ramach projektu prowadzi ewidencję godzin oraz wykonanych czynności w ramach tych zadań lub funk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pisy mają zastosowanie do osób współpracujących w rozumieniu ustawy o systemie ubezpieczeń społe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pisy nie mają zastosowania do osób fizycznych prowadzących działalność gospodarczą i wykonujących zadania w ramach projektu na podstawie stosunku cywilnoprawn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85808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700" spc="-1" strike="noStrike">
                <a:solidFill>
                  <a:srgbClr val="000000"/>
                </a:solidFill>
                <a:latin typeface="Calibri"/>
              </a:rPr>
              <a:t>Podsumowanie</a:t>
            </a:r>
            <a:r>
              <a:rPr b="1" lang="pl-PL" sz="4400" spc="-1" strike="noStrike">
                <a:solidFill>
                  <a:srgbClr val="11488b"/>
                </a:solidFill>
                <a:latin typeface="Calibri"/>
              </a:rPr>
              <a:t>	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0080" y="2565360"/>
            <a:ext cx="785808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C:\Users\Asia\AppData\Local\Microsoft\Windows\Temporary Internet Files\Content.IE5\XIFTBFTM\MCj02982830000[1].wmf"/>
          <p:cNvPicPr/>
          <p:nvPr/>
        </p:nvPicPr>
        <p:blipFill>
          <a:blip r:embed="rId1"/>
          <a:stretch/>
        </p:blipFill>
        <p:spPr>
          <a:xfrm>
            <a:off x="3071880" y="714240"/>
            <a:ext cx="2714400" cy="4214880"/>
          </a:xfrm>
          <a:prstGeom prst="rect">
            <a:avLst/>
          </a:prstGeom>
          <a:ln w="0">
            <a:noFill/>
          </a:ln>
        </p:spPr>
      </p:pic>
      <p:sp>
        <p:nvSpPr>
          <p:cNvPr id="165" name="pole tekstowe 3"/>
          <p:cNvSpPr/>
          <p:nvPr/>
        </p:nvSpPr>
        <p:spPr>
          <a:xfrm>
            <a:off x="2357280" y="55720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YTANIA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858080" cy="37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7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br>
              <a:rPr sz="6700"/>
            </a:br>
            <a:r>
              <a:rPr b="1" lang="pl-PL" sz="4400" spc="-1" strike="noStrike">
                <a:solidFill>
                  <a:srgbClr val="11488b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11488b"/>
                </a:solidFill>
                <a:latin typeface="Calibri"/>
              </a:rPr>
              <a:t>	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ady ogó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eniono zapis, że koszty związane z wyposażeniem stanowiska pracy personelu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ą kwalifikowalne w pełnej wysokośc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tylko i wyłącznie w przypadku wyposażenia stanowiska pracy personelu zatrudnionego na podstawie stosunku pracy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 wymiarze co najmniej ½ eta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 kwalifikowaniu takich wydatków powinno uwzględniać się projekty realizowane wcześniej przez danego Beneficj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900" spc="-1" strike="noStrike">
                <a:solidFill>
                  <a:srgbClr val="000000"/>
                </a:solidFill>
                <a:latin typeface="Calibri"/>
              </a:rPr>
              <a:t>Zatrudnianie personelu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ne zmi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rowadzono zapis, że beneficjent wskazuje we wniosku o dofinansowanie projektu szacunkowy wymiar czasu pracy personelu projektu (etat / liczba godzin) niezbędnej do realizacji zadania/zadań, co stanowi podstawę do oceny kwalifikowalności wydatków personelu projektu na etapie wyboru projek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szty zarządzania projek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16000" y="1341360"/>
          <a:ext cx="7058160" cy="2530440"/>
        </p:xfrm>
        <a:graphic>
          <a:graphicData uri="http://schemas.openxmlformats.org/drawingml/2006/table">
            <a:tbl>
              <a:tblPr/>
              <a:tblGrid>
                <a:gridCol w="2741760"/>
                <a:gridCol w="431640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imit kosztów zarządzania projek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artość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% wartości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o 500 tys. włączni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% wartości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wyżej 500 tys. do 1 mln zł włącz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% wartości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wyżej 1 mln i do 2 mln zł włącz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% wartości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wyżej 2 mln i do 5 mln zł włącz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% wartości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wyżej 5 mln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55640" y="4325760"/>
          <a:ext cx="7442280" cy="1262160"/>
        </p:xfrm>
        <a:graphic>
          <a:graphicData uri="http://schemas.openxmlformats.org/drawingml/2006/table">
            <a:tbl>
              <a:tblPr/>
              <a:tblGrid>
                <a:gridCol w="7268760"/>
                <a:gridCol w="17352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*) Limit kosztów zarządzania projektem o wartości nieprzekraczającej 500 tys. zł może ulec zwiększeniu wyłącznie w przypadku wykazania przez Beneficjenta wysokiej efektywności kosztowej projektu. Wniosek ten podlega negocjacjom na etapie wyboru projekt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oszty zarządzania projek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rzypadku projektów realizowanych w partnerstwie ww. limity mogą ulec zwiększeniu o 2 pkt procentowe dla każdego partnera, jednak nie więcej niż łącznie o 10 pkt procentowych w ramach projektu, przy czym przy ustalaniu wysokości zwiększenia limitu podmiot będący stroną umowy uwzględnia zakres zadań przewidzianych do realizacji przez partn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Koszty pośrednie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6:21:36Z</dcterms:created>
  <dc:creator>Kamil Barański</dc:creator>
  <dc:description/>
  <dc:language>en-US</dc:language>
  <cp:lastModifiedBy>Kamil Barański</cp:lastModifiedBy>
  <dcterms:modified xsi:type="dcterms:W3CDTF">2011-05-12T05:23:21Z</dcterms:modified>
  <cp:revision>4</cp:revision>
  <dc:subject/>
  <dc:title>Slajd 1</dc:title>
</cp:coreProperties>
</file>