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F4EF-D581-4B56-B750-CC8F274B74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C9A1-8F93-4716-9B99-E15EB14D0F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2689-C3E5-4FEB-A12E-1080F3A3C2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359C-D7C0-46C6-97D1-89C26C83D1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EDBB-880D-40E1-9FCE-BB5FAAD6CE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03F9-5FA4-4922-8303-0C5CB11A16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DBF4-23DC-4215-8C6E-87B4AA11DE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90C4-DA7D-4C66-A4B4-7FBCD8B0C6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83C5-8AF8-4415-894C-AA70FDF55F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EBEF-9BE7-4805-BFA6-DED863985A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9198-7E0A-4E63-B6BC-DA98B607BD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9C29-4BCB-443B-A68F-93743A1A7D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C6CE-C189-4638-8B9F-CA455167CF5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6A22-3B1E-4DFF-BA4A-F98BCFAFC8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ykład wskazuje na to, ż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szczególne etapy mogą się „nakładać”, mogą być realizowane równole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powszechnianie musi rozpocząć się jeszcze w pierwszym etapie realizacji proj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leży zaplanować okresy przestoju, zamrożenia projektu, na ocenę strategii i walidacj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FB71-3893-48B7-A9F0-71AE57949D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9FBA-2A7F-4323-BB8B-DC6A5CCAFB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B310-3080-4AFD-99FE-44E1B49E630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698B-5CFF-4331-928A-4E8A4F84DB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99B0-DEA2-46E4-957A-F0461ECF44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D9B2-9E0A-412E-A246-1C2E2605AAB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4678-6A85-4403-865D-6044BFFD16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56E0-7F4C-471A-B596-6D5276E9C54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2B9E-B9E9-4A8B-B528-3216004A5D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FE09-0FBA-486E-B072-A597132B585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0EC8-CD68-4B57-B881-B8907E7119E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9B9E-5F08-4567-AB09-726D71A32D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187C-7021-4F65-8099-C9042FF03F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A644-EEEF-4730-BA4A-59C6519E86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53D6-8492-462B-BFE7-43E810B80E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831D-190C-4488-AE0E-00544E02797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933B-3F89-4374-824F-F146337EC2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20FB-319C-451A-9E12-9ED79A6933F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564D-B59B-40D6-8654-2D97044932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E263-BE1C-42DC-8DBC-40191DBF9E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0813-ABDC-4468-97E1-AC3237E4BD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5E07-5B8A-4A79-A3DA-FD38264537C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E8CD-B54B-4B15-8A76-7D53090B05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E4A2-8C0A-456B-91DF-9DF5FD8BA8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C18F-BF86-4B1A-AC30-291CB36AAF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CF36-D161-4505-81A1-22DA40DF394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5F74-9AD8-481D-B6F2-A8CBE0EE56A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CFD-4684-4734-8E88-CCDC5B6C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E0C-0543-4222-97B9-496B4726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D9B-550A-4C91-A05A-F3034FB6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141-4CAE-44C2-81A9-DAB50077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C4D-0827-40C6-BADF-A4B8949E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079-BBD0-4679-850F-B5B7B572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3D5C-166A-4D8A-A721-38E2CAF5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04A-47F6-4155-B98F-BAC2E85E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4A1-F486-46F2-826E-3FA76BEF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27B6-5F05-4F4A-AD9F-A58900C4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6EA-B0FD-4929-82F3-5AD139D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D71A-6052-443C-8526-DB0745A5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A1FF-A84F-4383-94BC-C291E9D37A3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transnational-toolkit.eu/" TargetMode="External"/><Relationship Id="rId2" Type="http://schemas.openxmlformats.org/officeDocument/2006/relationships/hyperlink" Target="http://www.leonardo.org.uk/page.asp?section=000100010021&amp;sectionTitle=Find+Partners" TargetMode="External"/><Relationship Id="rId3" Type="http://schemas.openxmlformats.org/officeDocument/2006/relationships/hyperlink" Target="http://www.adam-europe.eu/adam/homepageView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cpe.gov.pl/" TargetMode="External"/><Relationship Id="rId2" Type="http://schemas.openxmlformats.org/officeDocument/2006/relationships/hyperlink" Target="http://www.kiw-pokl.org.pl/" TargetMode="External"/><Relationship Id="rId3" Type="http://schemas.openxmlformats.org/officeDocument/2006/relationships/hyperlink" Target="http://www.equal.org.pl/" TargetMode="External"/><Relationship Id="rId4" Type="http://schemas.openxmlformats.org/officeDocument/2006/relationships/hyperlink" Target="http://www.frse.org.pl/" TargetMode="External"/><Relationship Id="rId5" Type="http://schemas.openxmlformats.org/officeDocument/2006/relationships/hyperlink" Target="http://www.leonardo.org.pl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mailto:kiw@cpe.gov.pl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600200"/>
            <a:ext cx="740592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libri"/>
              </a:rPr>
              <a:t>Specyf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6600"/>
                </a:solidFill>
                <a:latin typeface="Calibri"/>
              </a:rPr>
              <a:t>projektów innowacyjnych PO K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Ksenia Kempa-Pietra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Bydgoszcz, 13 maja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C55-6C2F-42E1-A678-F62355C4F7E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az 4" descr="prezentacja_tyt.jpg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5"/>
          <p:cNvSpPr/>
          <p:nvPr/>
        </p:nvSpPr>
        <p:spPr>
          <a:xfrm>
            <a:off x="357120" y="3143160"/>
            <a:ext cx="8429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Specyfika projektów innowacyjnych PO KL</a:t>
            </a:r>
            <a:br>
              <a:rPr sz="2800"/>
            </a:b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senia Kempa - Pietr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8560" y="928800"/>
            <a:ext cx="6985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ematy dla projektów innowacyjnych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oj. kujawsko-pomorskie</a:t>
            </a:r>
            <a:r>
              <a:rPr b="0" lang="pl-PL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42600" y="1785960"/>
            <a:ext cx="8077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Priorytet 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szukiwanie nowych, skutecznych metod aktywizacji zawodowej i społecznej grup docelowych wymagających szczególnego wspar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Priorytet V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szukiwanie skutecznych metod zapewniania trwałości funkcjonowania instytucji ekonomii społeczn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Priorytet V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Dostosowanie przedsiębiorstw i ich pracowników do funkcjonowania w warunkach gospodarki niskoemisyjnej i oszczędzającej zaso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A4DB-5B4A-43CE-8EE2-197E8E658FC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698508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ematy dla projektów innowacyjnych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oj. kujawsko-pomorskie</a:t>
            </a:r>
            <a:r>
              <a:rPr b="0" lang="pl-PL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42600" y="1785960"/>
            <a:ext cx="8077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Priorytet I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Nowe modele doradztwa edukacyjnego / zawodowego ukierunkowanego na rozwijanie kompetencji ogólnych (kluczowych) i zawod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Działania służące zwiększeniu zainteresowania uczniów szkół gimnazjalnych i ponadgimnazjalnych kontynuacją kształcenia na kierunkach o kluczowym znaczeniu dla gospodarki opartej na wiedz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Nowe modele kształcenia przez całe życie, w tym integrowanie funkcjonujących modeli kształcenia ustawicz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4AD5-190A-442A-A247-DE84FDAA3EBA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928800"/>
            <a:ext cx="6985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Wymiary innowacyjnoś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9120" y="2060280"/>
            <a:ext cx="807732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ymiar</a:t>
            </a: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grupy docelowej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– nastawienie na wspieranie nowych, nietypowych grup, nie korzystających wcześniej z pomo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ymiar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problemu</a:t>
            </a:r>
            <a:r>
              <a:rPr b="0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– rozwiązanie problemu, który do tej pory nie był w wystarczającym stopniu uwzględniony w polityce państ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ymiar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formy wsparci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– wykorzystanie nowych instrumentów w rozwiązywaniu dotychczasowych problemów, możliwość adaptowania rozwiązań sprawdzonych w innych krajach, regionach czy też w innych kontekstach </a:t>
            </a:r>
            <a:br>
              <a:rPr sz="2000"/>
            </a:b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712A-943D-4199-98DC-1C6276D3F89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785880"/>
            <a:ext cx="69850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Produkt final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11280" y="1413000"/>
            <a:ext cx="80769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rodukt, w przypadku projektów innowacyjnych jest rozumiany jako model/narzędzie/instrument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rodukt to nowe rozwiązanie problemów, nowe podejście do rozwiązania problemów, nowe metody postępowania, nowe formy i treści działania/nauczania 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ypracowany produkt projektu może być innowacyjny w skali europejskiej, krajowej, regionalnej lub lokalnej, choć ta jest najmniej pożądana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rodukty: pośrednie lub/i kilka równoległych produktów finalnych w ramach jednego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stępna wersja produktu finalnego to pełny produkt finalny, gotowy do testowania, a więc przed ostatecznymi poprawkami, jednak w pełni opracowan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E770-4388-4DF5-ACE8-1EBDD11A403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77932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Określenie produktu finalneg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4360" y="1700280"/>
            <a:ext cx="80769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Na opis produktu pt. nowe podejście do rozwiązania problemu X mo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ż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e skład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ć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 s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ę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, przyk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ł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adowo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informacj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j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ak wygl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da nowe podej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ś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cie (co będzie tre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ś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c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 dział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ń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, kto powinien je wykonyw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ć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, jakie warunki wst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ę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pne musz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 by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ć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 spe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ł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nion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w jakiej postaci zostanie dostarczone u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ż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ytkownik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w jaki sposób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ostanie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przekazane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(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program szkolenia wymaganego do wdro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ż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eni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E0B1-2A1B-434A-90AA-50865009D84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79328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Grupy docelow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38080" y="2285640"/>
            <a:ext cx="79106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Grupa docelowa</a:t>
            </a: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 –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soby, grupy , środowiska, które wymagają wypracowania nowych rozwiązań czy podejść dzieli się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Użytkownicy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– to ci, którzy otrzymują do rąk nowe metody działania, nowe technologie, nowe narzędz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Odbiorcy</a:t>
            </a: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 –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to ci, których problemy będą mogły być skutecznie rozwiązane dzięki nowej metodz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Uwaga: Tabela 3.2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27E4-C46F-4A4B-8792-410C72639B6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28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ymiary przedstawienia grupy użytkowników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856880"/>
            <a:ext cx="8088480" cy="39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Wymiar docelowy</a:t>
            </a:r>
            <a:br>
              <a:rPr sz="2000"/>
            </a:b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szyscy członkowie grupy docelowej, którzy ostatecznie powinni otrzymać do stosowania nowe narzędz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Wymiar upowszechniania i włączani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liczba i charakterystyka przedstawicieli grupy docelowej, którym nowe narzędzie zostanie przekazane w ramach działań upowszechniających i włączających do polityki zastosowanych w projekc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Wymiar testowani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liczba i charakterystyka przedstawicieli grupy docelowej, którzy uczestniczyć będą w testowaniu i ocenie produktu w ramach projektu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9822-A810-4C5A-9D3C-A8DAA328554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57160" y="857160"/>
            <a:ext cx="74059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Wymiary przedstawienia grupy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odbiorc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1680" y="1642680"/>
            <a:ext cx="7627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Wymiar docelowy</a:t>
            </a:r>
            <a:br>
              <a:rPr sz="2000"/>
            </a:b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szyscy ci , którzy potencjalnie będą mogli skorzystać ze wsparcia z zastosowaniem nowego narzędzia już po jego włączeniu do polity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Wymiar upowszechniania i włączani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–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nowość od 1.01.2011</a:t>
            </a:r>
            <a:br>
              <a:rPr sz="2000"/>
            </a:b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liczba i charakterystyka przedstawicieli grupy docelowej, którzy będą aktywizowani z wykorzystaniem wypracowanego narzędzia w ramach upowszechniania i włąc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Wymiar testowania </a:t>
            </a:r>
            <a:br>
              <a:rPr sz="2000"/>
            </a:b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liczba i charakterystyka przedstawicieli grupy docelowej, którzy uczestniczyć będą w testowaniu i ocenie produktu w ramach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5520" y="856800"/>
            <a:ext cx="756756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łączanie grup docelow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1628280"/>
            <a:ext cx="80503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  <a:ea typeface="Arial"/>
              </a:rPr>
              <a:t>Włączać grupy docelowe można w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  <a:ea typeface="Arial"/>
              </a:rPr>
              <a:t>zarządzanie (udział w pracach ciał doradczych, sterujących, grupach roboczych itp.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  <a:ea typeface="Arial"/>
              </a:rPr>
              <a:t>pogłębioną diagnozę (udział w  grupach focusowych, jako odbiorcy działań diagnostycznych, konsultacje wniosków, ocena raportów, recenzja opracowań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  <a:ea typeface="Arial"/>
              </a:rPr>
              <a:t>opracowanie produktu finalnego (konsultacje, recenzj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  <a:ea typeface="Arial"/>
              </a:rPr>
              <a:t>opracowanie strategii wdrażania (opiniowanie, udział w spotkaniach roboczych, dyskusjac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  <a:ea typeface="Arial"/>
              </a:rPr>
              <a:t>testowani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  <a:ea typeface="Arial"/>
              </a:rPr>
              <a:t>walidację (udział w pracach ST, opiniowanie produktu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  <a:ea typeface="Arial"/>
              </a:rPr>
              <a:t>upowszechnianie i włączanie do polityki (udział w konferencjach, spotkaniach, informowanie, prezentowanie, udział w działaniach promocyjnych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D377-DD99-449C-BD63-2D337B5CAED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C156-BEDA-41B0-86F9-0176B393BC5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85560" y="1125360"/>
            <a:ext cx="70722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powszechnianie i włączanie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78105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Upowszechnianie to przekazywanie do zdefiniowanych adresatów merytorycznych informacji na temat wypracowywanych w projekcie dobrych praktyk, rezultatów oraz przede wszystkim produkt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A872-A631-4A39-A59C-88F632CAC4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C529-E9E4-43C5-B9DC-3F12ABB9405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Diagram 5" descr=""/>
          <p:cNvPicPr/>
          <p:nvPr/>
        </p:nvPicPr>
        <p:blipFill>
          <a:blip r:embed="rId1"/>
          <a:stretch/>
        </p:blipFill>
        <p:spPr>
          <a:xfrm>
            <a:off x="603360" y="1951200"/>
            <a:ext cx="7785000" cy="296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982B-9F1D-4F13-B501-E45807992FC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0080" y="928800"/>
            <a:ext cx="750096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powszechnianie i włączanie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33440" y="1642680"/>
            <a:ext cx="78105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instreaming</a:t>
            </a:r>
            <a:r>
              <a:rPr b="1" lang="pl-PL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cc"/>
                </a:solidFill>
                <a:latin typeface="Calibri"/>
              </a:rPr>
              <a:t>-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łączanie produktów projektów innowacyjnych do głównego nurtu polityki lub praktyki, mainstreaming dzielimy n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instreaming horyzontal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–  skoncentrowany na działaniach praktycznych, najczęściej bywa ograniczony do poziomu lokalnego i regionalnego, na którym wygenerowano dobre rozwiązanie, praktykę. Dokonujące się w jego ramach powielanie w całości lub w części przez inny podmiot produktów finalnych to inaczej mainstreaming prakty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ainstreaming wertykalny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– angażujący otoczenie polityczne i decydentów różnych szczebli w celu przekonania ich do włączenia produktów projektu do systemu wpływającego lub współtworzącego główny nurt polityki. Dokonujący się w jego ramach wpływ doświadczeń i rozwiązań wypracowanych w projekcie na główny nurt polityk i decyzji politycznych to inaczej mainstreaming polity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283E-C9C6-4B4A-8DC3-5B07062A16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C827-7015-466F-8DFA-BF1F29B2856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071720"/>
            <a:ext cx="77868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tapy realizacji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221436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I ETAP Przygotowania (3–8 miesięc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diagnoza i analiza proble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tworzenie (rozszerzanie) partnerst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opracowanie wstępnej wersji produktów pośrednich i produktu final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Realizacja wszystkich wyżej opisanych faz, za wyjątkiem budowania (rozszerzania) partnerstwa, jest obowiązk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Opracowanie strategii wdrażania projektu innowacyj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BE52-E715-4E60-826B-0EF49A067D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1597-82A6-4FBD-829C-8F06F81E1C6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71760" y="928440"/>
            <a:ext cx="7572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tapy realizacji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3840" y="1928880"/>
            <a:ext cx="804564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II ETAP Wdroże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testowanie opracowanego produktu na wybranej oraz szczegółowo określonej i scharakteryzowanej grupie docelowej użytkowników i odbior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ewaluacja zewnętrzna produktu final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analiza informacji z testowania i ewaluacji – ocena efektów test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opracowanie produktu final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Przygotowanie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opis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u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produktu finalnego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 i poddanie produktu walid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upowszechnienie i włączenie do głównego nurtu polity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Realizacja wszystkich wyżej wskazanych faz jest obowiązk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E523-39BC-4690-A045-D6E3B2F500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C725-9D40-43B5-AB39-BB1FE19FBA94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9920" y="928440"/>
            <a:ext cx="74437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ykład harmonogramu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7840" y="1714680"/>
            <a:ext cx="8335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danie 1 Pogłębiona diagn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danie 2 Opracowanie wstępnej wersji produ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danie 3 Testow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danie 4 Analiza wyników testowania i opracowanie finalnych wersji produ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danie 5 Upowszechnianie i włącz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danie 6 Zarządzanie (koordynacja, promocja, monitoring, ewaluacja, zarządzanie ryzykiem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E37F-E851-447D-8EFA-FFD98D639D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AD05-3A35-4841-8075-DD3005CDB9A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3920" y="999720"/>
            <a:ext cx="7929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ykład harmonogramu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7840" y="2142720"/>
            <a:ext cx="8335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danie 1 Pogłębiona diagno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tap 1 Weryfikacja i aktualizacja danych, zbieranie i analiza nowych danych zasta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tap 2 Wybór metody i opracowanie narzędzi badawcz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tap 3 Realizacja bad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tap 4 Opracowanie wniosków z badania i wniosków z analizy danych zasta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tap 5 Konsultacje wniosków z interesariuszami, propozycje zmian do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tap 6 Przygotowanie opracowań badawczych i publik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75F5-F0C4-4146-85FF-775990529C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1CF6-1ACB-49F5-8D1F-7AA34DCE2F8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907560"/>
            <a:ext cx="7786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odzaje działań / wydatków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58400" y="1628640"/>
            <a:ext cx="808524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Realizacja pogłębionej diagnozy może wiązać się z realizacją takich działań, jak (z poniesieniem takich wydatków, jak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trudnienie ekspertów/badaczy/ankieterów, w zależności od przyjętej metody, wynagrodzenie za opracowanie metody, narzędz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rganizacja badań np. grup fokusowych, pokrycie kosztów prowadzenia fokus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rganizacja i zakup danych, informacji, publik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rganizacja podróży w celu zdobycia danych, delegacje i poby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rganizacja spotkań konsultacyjnych i innych form angażowania grup docel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Konieczność prowadzenia badań musi być uzasadniona diagnozą, a same badania nie mogą prowadzić do uzyskiwania danych już dostępnych z innych źróde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1DD1-6789-44A1-A17F-4D3019E672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5087-22BD-4866-AD06-F08E4DDA167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071720"/>
            <a:ext cx="7715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ykład harmonogramu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7840" y="2071800"/>
            <a:ext cx="8335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danie 3 Testow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tap 1 Przygotowanie do testowania, rekrutacja, dobór uczestników testowania, konsultac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tap 2 Wdrożenie produktu w instytucjach użytkownik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tap 3 Zastosowanie produktu przez użytkowników wobec odbior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tap 4 Zebranie danych i wniosków z fazy test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6B0B-EE18-4C6B-AF66-F6614A7873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4F85-32D4-4219-A14C-9912A050C87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10000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Testowa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58400" y="1714680"/>
            <a:ext cx="80852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Charakter testowania, rodzaje zaplanowanych działań i ponoszonych wydatków, będą zależały od (katalog otwarty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cech charakterystycznych i specyfiki produktu final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liczby i rodzaju produktów pośredni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sytuacji/realiów funkcjonowania użytkowników/odbiorc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typu podmiotów występujących jako użytkownicy i/lub odbior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cech osób występujących jako użytkownicy i/lub odbior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Testowanie produktu, jakim jest innowacyjny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program szkoleni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wraz z materiałami będzie polegało na przeprowadzeniu szkolenia, testowanie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produktu edukacyjnego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, na jego wykorzystaniu w cyklu edukacyjnym, a produktu pt.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model współpracy instytucji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kreślonego typu, na praktycznej realizacji tej współpracy zgodnie z zasadami i z wykorzystaniem narzędzi wypracowanych w ramach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0471-4AAC-4103-95F6-E885AE1850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18C6-F8ED-448F-BA22-75E5F349158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3920" y="1071720"/>
            <a:ext cx="79297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datkowe narzędzia oce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999800"/>
            <a:ext cx="8001000" cy="35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Strategia wdrażania projektu innowacyj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alidacja produktu projektu innowacyjnego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Umożliwiają wypracowanie produktu, który będzie odpowiadał na rzeczywiste potrzeby grup docelowych poprzez uwzględnienie opinii różnych zainteresowanych środowisk i ekspertów w dziedzinie odpowiadającej zakresowi projektu</a:t>
            </a:r>
            <a:br>
              <a:rPr sz="20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2C1E-8914-4F50-AC26-12EC2D379D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398-D470-40BC-BE39-C7A567F2120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trategia wdrażania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500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Jest dokumentem w gruncie rzeczy operacyj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Stanowi dodatkowe narzędzie oceny projektu innowacyjnego testująceg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Jest przygotowywana i przekazywana do akceptacji na zakończenie realizacji Etapu I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Doprecyzowuje i uszczegóławia zapisy wniosk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Może różnić się od wniosku, jeśli jest to uzasadnione wynikiem prac podejmowanych w I etapie projektu - </a:t>
            </a:r>
            <a:r>
              <a:rPr b="0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nie może się różnić w zakresie celu, a jedynie w zakresie sposobu dojścia do tych ce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 wyniku zatwierdzenia strategii może, choć nie musi zostać zmodyfikowany wniosek- wyłącznie w zakresie wynikającym z zatwierdzonej strateg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Nie złożenie strategii: rozwiązanie umowy ze skutkiem natychmiastowym i zwrot całości lub części dotychczas otrzymanych środk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4A17-B10F-48FA-84DA-18F12419AE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928440"/>
            <a:ext cx="7177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finicj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120" y="1828440"/>
            <a:ext cx="80773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dejście innowacyjne w PO KL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nastawienie na wsparcie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  <a:ea typeface="Arial"/>
              </a:rPr>
              <a:t>nowych, nietypowych grup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 na rynku pracy oraz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  <a:ea typeface="Arial"/>
              </a:rPr>
              <a:t>rozwiązanie problemu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, który do tej pory nie był przedmiotem polityki państ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wykorzystanie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  <a:ea typeface="Arial"/>
              </a:rPr>
              <a:t>nowych instrumentów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 w rozwiązywaniu dotychczasowych problemów na rynku pracy, w tym adaptacja rozwiązań sprawdzonych w innych krajach, regionach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,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 kontekstach (np. w stosunku do innej grupy docelowej)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,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 rozwój, modyfikacja dotychczas stosowanych instrumentów w celu zwiększenia ich adekwatności, skuteczności i efektywnoś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0D61-6929-4B48-ADEF-7038872EFBE7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71DE-F818-4E5B-8B65-98112F21795A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9997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trategia wdrażania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714680"/>
            <a:ext cx="830592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pracowywana według wzoru zgodnie z zapisami 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</a:rPr>
              <a:t>Zasad dokonywania wyboru projektów w ramach PO KL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(wzór strategii - Załącznik 12, lista sprawdzająca – Załącznik 13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</a:rPr>
              <a:t>),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zór dotyczy minimalnego zakresu strategii, który może być, pod pewnymi warunkami (termin, informacja) rozszerzony przez IOK (IW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piniowana przez Sieć Tematyczną na podstawie opinii ekspe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pinia ST musi zawierać uzasadnienie, nie jest jednak wiążąca dla IOK (IW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Akceptowana / akceptowana warunkowo / odrzucana przez IOK (IW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Decyzja IOK (IWPS) musi zawierać uzasadnie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Konsekwencje odrzucenia strategii – rozwiązanie umowy o dofinansow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prawiona strategia (akceptacja warunkowa) nie wraca już do 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BD87-A513-4A4C-98AD-C8A3F36900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928440"/>
            <a:ext cx="6985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alidacja produktu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11280" y="1699920"/>
            <a:ext cx="80769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Jest procesem polegającym na ocenie projektu pod kątem innowacyjności, trafności i użyteczności produktu final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Dodatkowe narzędzie oceny projektu innowacyjnego testując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Następuje po analizie wyników testowania, ewaluacji zewnętrznej i opracowaniu produktu final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dstawą dla oceny jest opis produktu finalnego opracowany przez beneficjenta i złożony(wraz z produktem) w sekretariacie 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zór opisu produktu określony jest w 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</a:rPr>
              <a:t>Zasadach dokonywania wyboru projektów w ramach PO KL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(wzór opisu - Załącznik 14, arkusz oceny – Załącznik 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8CCA-C00D-4A33-B883-529C0A257DE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8800" y="856800"/>
            <a:ext cx="69847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alidacja produktu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11280" y="1699920"/>
            <a:ext cx="80769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zór dotyczy minimalnego zakresu opisu produktu, który może być, pod pewnymi warunkami (termin, informacja) rozszerzony przez IOK (IW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piniowana przez ST na podstawie opinii eksper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Sieć Tematyczna waliduje produkt lub go nie waliduje (brak opcji warunkowej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Konsekwencja walidacji przez ST – decyzja IOK (IWPS) o realizacji ostatniej fazy bez zmian lub w zmienionym zakres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Konsekwencje braku walidacji/nie złożenia produktu do walidacji – rozwiązanie umowy o dofinansowanie lub zmniejszenie kwoty dofinansowania lub realizacja ostatniej fazy bez zmian lub jej realizacja w zmienionym zakres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C08B-7034-483A-BFD5-980A2E323C3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40FA-ED2D-408D-972F-265A62BBB90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3520" y="928800"/>
            <a:ext cx="7710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ykład harmonogra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7856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Zadanie 1 Dia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i="1" lang="pl-PL" sz="1800" spc="-1" strike="noStrike">
                <a:solidFill>
                  <a:srgbClr val="000099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Zadanie 2 Opr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               </a:t>
            </a:r>
            <a:r>
              <a:rPr b="1" i="1" lang="pl-PL" sz="1800" spc="-1" strike="noStrike">
                <a:solidFill>
                  <a:srgbClr val="000099"/>
                </a:solidFill>
                <a:latin typeface="Calibri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Zadanie 3 Test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Zadanie 4 Opr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Zadanie 5 Upow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        </a:t>
            </a:r>
            <a:r>
              <a:rPr b="1" i="1" lang="pl-PL" sz="1800" spc="-1" strike="noStrike">
                <a:solidFill>
                  <a:srgbClr val="000099"/>
                </a:solidFill>
                <a:latin typeface="Calibri"/>
              </a:rPr>
              <a:t>X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XXXXXXXXX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Zadanie 6 Zarz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i="1" lang="pl-PL" sz="1800" spc="-1" strike="noStrike">
                <a:solidFill>
                  <a:srgbClr val="000099"/>
                </a:solidFill>
                <a:latin typeface="Calibri"/>
              </a:rPr>
              <a:t>XXXXXXXXXXXXX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Calibri"/>
              </a:rPr>
              <a:t>XXXXXXXXXXXXXXXXXXXXXXXXXXXXXXXX</a:t>
            </a: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C7A9-A565-4144-9E8D-F5530F604F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55A7-5BA5-4069-BFD1-6F00F8C939F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72532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waluacja (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2640" y="1785600"/>
            <a:ext cx="8001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Ustalanie wartości i ceny czegoś, ocenianie, szacow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Część procesu podejmowania decyzji.  Obejmuje wydawanie opinii o wartości działania poprzez systematyczne, jawne zbieranie i analizowanie o nim informacji w odniesieniu do znanych celów, kryteriów i wartoś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cena wartości interwencji publicznej dokonany przy uwzględnieniu odpowiednich kryteriów (skuteczności, efektywności, użyteczności, adekwatności, trwałości) i standard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cena dotyczy potrzeb, jakie mają być zaspokojone w wyniku interwencji oraz osiągniętych efekt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waluacja oparta jest na specjalnie w tym celu zebranych i zinterpretowanych, za pomocą odpowiedniej metodologii, informacj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CFF2-F9E2-431E-940B-76026361A6C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waluacja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93680" y="1642680"/>
            <a:ext cx="80503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Przedmiotem ewaluacji może by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polity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perso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pro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  <a:ea typeface="Arial"/>
              </a:rPr>
              <a:t>proje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  <a:ea typeface="Arial"/>
              </a:rPr>
              <a:t>produk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Z punktu widzenia specyfiki i zasad realizacji projektów innowacyjnych, największe znaczenie ma ewaluacja projektu i produ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7380-FF98-4B74-A095-AC2925B9E56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000080"/>
            <a:ext cx="798336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waluacja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856880"/>
            <a:ext cx="799308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Ewaluacja może by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zewnętrz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wewnętrz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x a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mid t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końcow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x p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Z punktu widzenia specyfiki i zasad realizacji projektów innowacyjnych, największe znaczenie ma obowiązkowa ewaluacja projektu (dowolnie: wewnętrzna lub zewnętrzna, mid-term lub końcowa) oraz obowiązkowa dla PI testujących ewaluacja zewnętrzna produktu przeprowadzona po zakończeniu testow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32DF-4947-4E17-8EE9-17ABF23C270B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92844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waluacja proje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50560" y="1571400"/>
            <a:ext cx="79930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obowiązkowa w każdym PI od 1.01.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bliska monitoringowi projek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prowadzona wewnętrznie przez zespół projektowy / zespół ds. monitoringu i ewaluacji przy ewentualnym wsparciu innych osób (np. ankieterów czy ekspertów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zaplanowana, na ile to możliwe (temat, pytania kluczowe, kryteria, źródła, metody, narzędzia, procedury realizacji, opracowania i wykorzystania wyników, harmonogram, zasoby) przed złożeniem wniosku o dofinansowanie – niektóre szczegóły wpływające na kształt procesu znane będą dopiero w trakcie realizacji więc bardzo szczegółowe zaplanowanie ewaluacji nie jest możliwe na tym etap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dopracowana w szczegółach w trakcie realizacji projek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dane zbierane na bieżąco, w trakcie realizacji projektu, zgodnie z harmonogram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efekt ewaluacji – raporty, analizy , notatki służbowe, propozycje procedur, dokumentów it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wynik ewaluacji projektu wpływa na sposób realizacji projek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58BA-0883-4C7E-B381-1E4F5BCB4C2A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5600" y="857160"/>
            <a:ext cx="73580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Ewaluacja produ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0560" y="1413000"/>
            <a:ext cx="799308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obowiązkowa w każdym 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zlecona podmiotowi zewnętrznemu w stosunku do podmiotu beneficjenta / projektodawcy / partnerów występujących w projek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jedynie nadzorowana przez zespół projektowy (w zakresie zgodności realizacji zadań zleconych z podpisaną umową na ewaluację, dostarczania potrzebnych danych i informacji, odbioru i weryfikacji zgodności dzieła z umow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warunki ewaluacji, szczegóły procesu, w miarę możliwości zaplanowane przed złożeniem wniosku o dofinansowanie 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dopracowywane w szczegółach (nie wszystkich, np. zaproponowanie metody i narzędzi można zostawić potencjalnemu wykonawcy) w trakcie realizacji projektu, najpóźniej na etapie testowania, z uwagi na czas potrzebny na wyłonienie wykonawcy zad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dane zbierane zgodnie z harmonogramem wykonaw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efekt ewaluacji – ra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Calibri"/>
              </a:rPr>
              <a:t>wynik ewaluacji produktu wpływa na ostateczne cechy produktu finalnego projektu i jego kształ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B7F8-F92D-4CCD-8769-7C7237CEBEA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Diagram 5" descr=""/>
          <p:cNvPicPr/>
          <p:nvPr/>
        </p:nvPicPr>
        <p:blipFill>
          <a:blip r:embed="rId1"/>
          <a:stretch/>
        </p:blipFill>
        <p:spPr>
          <a:xfrm>
            <a:off x="603360" y="1951200"/>
            <a:ext cx="7785000" cy="2968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1071360"/>
            <a:ext cx="6985080" cy="76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finicj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980720"/>
            <a:ext cx="77724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Celem projektu innowacyjnego jest poszukiwa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nowych, lepszych, efektywniejszy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sposobów rozwiązywani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roblemów mieszczących si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 obszarach wsparcia E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5230-27F0-4B55-804B-8394957E58D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B88E-A9AF-4EB9-87CA-A361A478E70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6985080" cy="8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libri"/>
              </a:rPr>
              <a:t>Projekt innowacyjny z komponentem ponadnarodowy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785960"/>
            <a:ext cx="83818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rojektem innowacyjnym z komponentem ponadnarodowym jest projekt, któr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ts val="1899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za działaniami o zasięgu krajowym przewiduje współpracę ponadnarodową (co najmniej 1 cel sz. powinien być związany z W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ts val="1899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kłada realizację komponentu ponadnarodowego od początku realizacji </a:t>
            </a:r>
            <a:r>
              <a:rPr b="0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albo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wprowadza komponent współpracy ponadnarodowej do już realizowanego projektu (zwiększenie budżetu do 3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ts val="499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ts val="1899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kłada realizację wyraźnie wyodrębnionych w opisie wniosku zadań związanych ze współpracą ponadnarodową w zadaniu „współpraca ponadnarodow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kłada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wspólną partnerską realizację działań</a:t>
            </a:r>
            <a:r>
              <a:rPr b="0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kwalifikowanych przewidzianych w załączniku nr 8 do Wytycznych Ministra Rozwoju Regionaln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mierza do osiągnięcia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rzeczywistej wartości dodanej,</a:t>
            </a:r>
            <a:r>
              <a:rPr b="0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ynikającej ze współprac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071360"/>
            <a:ext cx="81151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ojekt innowacyjny z komponentem ponadnarodowy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8360" y="2491920"/>
            <a:ext cx="822960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spółpraca ponadnarodowa powinna koncentrować się na realizacji tych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celów szczegółowych Priorytetów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, w przypadku których możliwość wymiany doświadczeń i wzajemnego uczenia się na poziomie ponadnarodowym wniesie rzeczywistą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wartość dodan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1071360"/>
            <a:ext cx="7283160" cy="106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Projekt innowacyjny z komponentem ponadnarodowy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87280" y="2708280"/>
            <a:ext cx="6769440" cy="27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Wartość dodana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 projektach współpracy ponadnarodowej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to </a:t>
            </a: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kluczowy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element projek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winna być wyrażona poprzez konkretne </a:t>
            </a: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cele 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produkty niemożliwe do osiągnięci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w projekcie realizowanym bez współpracy ponadnarodow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AAD2-D047-4889-8EEB-6657E81771A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58560" y="999720"/>
            <a:ext cx="6985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ormy wspó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ł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cy ponadnarodowej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2214360"/>
            <a:ext cx="7772400" cy="27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Z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ł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cznik 8 do 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Wytycznych Ministra Rozwoju Regionalnego w zakresie wdra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</a:rPr>
              <a:t>ż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ania projektów innowacyjnych i wspó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</a:rPr>
              <a:t>ł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pracy ponadnarodowej w ramach PO K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Dokumentacja konkursowa precyzuje zakres zastosowania w danym konkursie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A5FA-3BD0-4360-9051-DB4ED72DA0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F358-D1A6-429A-9DB6-2BED18AB4D1B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58560" y="999720"/>
            <a:ext cx="69850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ormy wspó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ł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cy ponadnarodowej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2214360"/>
            <a:ext cx="777240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99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Organizowanie konferencji, seminar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ó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w, warsztat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ó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w i spotk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ń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(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nie samodziel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499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Prowadzenie bad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ń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i anali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499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Przygotowanie, t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ł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umaczenia i wydawanie publikacji, opracow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ń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, raport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ó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w 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(nie samodzielnie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499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Adaptowanie rozw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z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ń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wypracowanych w innym kra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499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Doradztwo, wymiana pracownik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ó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w, st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ż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e, wizyty studyjne 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(samodzielnie je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</a:rPr>
              <a:t>ś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li konkretny efek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499"/>
              </a:spcBef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Wypracowywanie nowych rozw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z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50D3-A7B3-42CF-8F29-186CCACA9E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DE23-FB0C-440D-9410-9424D7E6539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58560" y="928440"/>
            <a:ext cx="6985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odel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sp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ół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cy ponadnarodowej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192888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Model 1: Wymiana informacji i do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ś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wiadcze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Model 2: Równoleg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ł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e wypracowywanie rozw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z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ń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Model 3: Import, eksport i adaptacja nowych rozw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z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ń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do swojej sytuacj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Model 4: Wspólne tworzenie produktu lub system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Model 5: Wymiana kluczowych osób realizuj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cych projekt lub uczestniczących w projekcie (równolegle z innym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modelam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1C55-C747-4201-B567-AFBC4AC56E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2186-D820-4359-B051-84A0021588E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58560" y="999720"/>
            <a:ext cx="6985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ormy wsp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ół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acy ponadnarodowej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2214360"/>
            <a:ext cx="777240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Dokumentacja konkursowa precyzuje zakres zastosowania w danym konkurs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wsp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ół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praca pom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ę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dzy projektami realizowanymi w r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óż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nych krajach, tak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ż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e przez podmioty, kt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ó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rych projekty / dzi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ł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ania nie s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 wsp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ół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finansowane z E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wsp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ół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praca pom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ę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dzy sieciami instytucji działaj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cymi w zbl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ż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onych obszar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wsp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ół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praca twinningowa pom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ę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dzy instytucjami dzi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ł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j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ą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Times New Roman"/>
              </a:rPr>
              <a:t>cymi w tym samym obszarze (tylko instytucje sektora publicznego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8739-12F3-4B5F-BE53-CE6019A472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6BCE-5790-4D0C-8D19-EC352A7D1D0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6880" y="1000080"/>
            <a:ext cx="81867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Konkurs na partnera zagranicz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20718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Art. 28a ust. 4 ustawy o zasadach prowadzenia polityki rozwoj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 przypadku projektów partnerskich realizowanych na podstawie umowy partnerskiej podmiot, o którym mowa w art. 3 ust. 1 ustawy z dnia 29 stycznia 2004 r. – Prawo zamówień publicznych, ubiegający się o dofinansowanie, dokonuje wyboru partnerów spoza sektora finansów publicznych z zachowaniem zasady przejrzystości i równego traktowania podmiotów ... 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wyższy wymóg nie stoi w sprzeczności z możliwością poszukiwania partnerów zagranicznych z wykorzystaniem baz internetow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Konieczność wypełnienia obowiązku ustawow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1640" y="928440"/>
            <a:ext cx="72835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Poszukiwanie partnerów ponadnarodow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4000" y="1915920"/>
            <a:ext cx="72723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Sposoby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poszukiwania partnerów poprzez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kontakty włas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moc Krajowej Instytucji Wspomagającej (foru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tzw. 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</a:rPr>
              <a:t>toolkit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ransnational-toolkit.e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bazę partnerów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leonardo.org.uk/page.asp?section=000100010021&amp;sectionTitle=Find+Part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bazę produktów i rezultatów Programu Leonardo da Vin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dam-europe.eu/adam/homepageView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9D1C-DB85-45C9-BCB3-F9BD07941A87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50720" y="1142640"/>
            <a:ext cx="779292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Calibri"/>
              </a:rPr>
              <a:t>Przydatne adresy www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55520" y="2142720"/>
            <a:ext cx="808848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cpe.gov.pl</a:t>
            </a: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,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kiw-pokl.org.pl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- Centrum Projektów Europejskich, Krajowa Instytucja Wspomagają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qual.org.pl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– baza rezultatów PIW EQ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frse.org.pl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- strona Fundacji  Rozwoju Systemu Edukacji wdrażającej program LLP (Life Long Learning Programme, w tym Leonardo da Vinci, projekty pilotażowe i projekty transferu innowacji, z dziedziny kształcenia i szkolenia zawodoweg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leonardo.org.pl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- kompendia projektów Leonardo da Vin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E188-EC8F-41CE-AC84-78B938A4AF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finicje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76520"/>
            <a:ext cx="825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rojekt innowacyj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szukuje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nowych sposobów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rozwiązywania problem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jest nastawiony na badanie i rozwój oraz (lub) upowszechnianie i włączanie do praktyki konkretnych produktów, służących rozwiązaniu problemów grup docelowych, a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nie wprost na rozwiązanie tych problem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nie służy rozwiązywaniu problemów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grup docelowych, co rozwiązywaniu problemów wynikających z braku właściwych instrumentów wspierania grup docel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to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  <a:ea typeface="Arial"/>
              </a:rPr>
              <a:t>projekt przygotowany i z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ł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  <a:ea typeface="Arial"/>
              </a:rPr>
              <a:t>o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żo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  <a:ea typeface="Arial"/>
              </a:rPr>
              <a:t>ny w odpowiedzi na odr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ę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  <a:ea typeface="Arial"/>
              </a:rPr>
              <a:t>bny konkurs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 zgodnie z zapisam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sekcji D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Plan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u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 Dzia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ł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  <a:ea typeface="Arial"/>
              </a:rPr>
              <a:t>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3496-B2DF-45C9-8BF1-DCCCB9390C48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99972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Kontakt do KIW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8568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Krajowa Instytucja Wspomagająca – Centrum Projektów Europejsk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Ul. Domaniewska 39a, 02-672 Warszaw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-mail: </a:t>
            </a: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iw@cpe.gov.pl</a:t>
            </a:r>
            <a:r>
              <a:rPr b="1" lang="pl-PL" sz="20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Faks: 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(22) 201 97 2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espół ds. projektów współpracy ponadnarodowej PO K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Tel.: (22) 378 31 5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espół ds. projektów innowacyjnych PO K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Tel.: (22) 378 31 6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espół ds. wsparcia realizacji projektó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Tel.: (22) 378 31 6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E36A-4B38-4A1D-BC40-1C1CE30F3F4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0D07-E7BE-4AF0-80F3-6C9287ABEF0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Diagram 5" descr=""/>
          <p:cNvPicPr/>
          <p:nvPr/>
        </p:nvPicPr>
        <p:blipFill>
          <a:blip r:embed="rId1"/>
          <a:stretch/>
        </p:blipFill>
        <p:spPr>
          <a:xfrm>
            <a:off x="603360" y="1957320"/>
            <a:ext cx="7785000" cy="3237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836640"/>
            <a:ext cx="763452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3.1 Uzasadnieni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1DCB-6517-4FFB-9718-820EAD09D075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Diagram 3" descr=""/>
          <p:cNvPicPr/>
          <p:nvPr/>
        </p:nvPicPr>
        <p:blipFill>
          <a:blip r:embed="rId1"/>
          <a:stretch/>
        </p:blipFill>
        <p:spPr>
          <a:xfrm>
            <a:off x="317520" y="1682640"/>
            <a:ext cx="8508960" cy="443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3CE4-5EF1-4189-A258-E4804C2E6702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58560" y="100008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jekt innowacyjny z komponentem ponadnarodow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1760" y="2071800"/>
            <a:ext cx="838188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Uzasadnien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Treść uzasadnienia powinna nawiązywać wprost do potrzeby nawiązania i realizacji współpracy ponadnarodowej i tę potrzebę argumentowa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 przypadku projektów ponadnarodowych konieczność realizacji komponentu ponadnarodowego powinna wynikać z celów projektu, których osiągnięcie bez tego komponentu nie byłoby możliwe. Przynajmniej jeden z celów szczegółowych powinien wskazywać na możliwość jego osiągnięcia wyłącznie w wyniku nawiązania współpracy ponadnarodow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Należy także wskazać te doświadczenia partnera zagranicznego, które będą przydatne z punktu widzenia współpracy ponadnarodow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560" y="856800"/>
            <a:ext cx="76345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3.2 Innowacyjnoś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6774-4067-4676-977E-6F3766F7C299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iagram 3" descr=""/>
          <p:cNvPicPr/>
          <p:nvPr/>
        </p:nvPicPr>
        <p:blipFill>
          <a:blip r:embed="rId1"/>
          <a:stretch/>
        </p:blipFill>
        <p:spPr>
          <a:xfrm>
            <a:off x="317520" y="1542960"/>
            <a:ext cx="8508960" cy="4430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99BA-3D54-4F66-9926-C289B97226FB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2600" y="1071720"/>
            <a:ext cx="70722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jekt innowacyjny z komponentem ponadnarodow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8760" y="2357280"/>
            <a:ext cx="695304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Innowacyjnoś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pis produktu finalnego powinien odnosić się do tych jego elementów, które zostały wypracowane na skutek realizacji współpracy ponadnarodow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99640" y="928800"/>
            <a:ext cx="763452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3.3 Zad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F5D2-6983-46C1-B7DF-26A8A1980D9A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iagram 3" descr=""/>
          <p:cNvPicPr/>
          <p:nvPr/>
        </p:nvPicPr>
        <p:blipFill>
          <a:blip r:embed="rId1"/>
          <a:stretch/>
        </p:blipFill>
        <p:spPr>
          <a:xfrm>
            <a:off x="317520" y="1828800"/>
            <a:ext cx="8508960" cy="414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06D9-E0F7-4F69-90ED-EDF4C4A209F6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58560" y="1071720"/>
            <a:ext cx="69850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jekt innowacyjny z komponentem ponadnarodow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96400" y="2071440"/>
            <a:ext cx="82472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dan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 projektach z komponentem ponadnarodowym należy wykazać również produkty, które nie byłyby możliwe do osiągnięcia bez nawiązania współpracy ponadnarodowej. Konieczne wskazanie form działań kwalifikowa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pis zadań powinien uwzględniać informację o ich realizacji (w całości lub odpowiedniej części) przez partnerów w ramach partnerstwa ponadnarodowego. Informacje te mają być spójne z opisem roli partnerów z punktu 3.7 Zarządzanie projektem. Wskazanie zadań finansowanych z budżetu projektu oraz ze źródeł własnych partner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99640" y="1000080"/>
            <a:ext cx="7634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3.5 Oddziaływanie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62BD-E8F4-4807-B001-6AF9A7395FF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iagram 3" descr=""/>
          <p:cNvPicPr/>
          <p:nvPr/>
        </p:nvPicPr>
        <p:blipFill>
          <a:blip r:embed="rId1"/>
          <a:stretch/>
        </p:blipFill>
        <p:spPr>
          <a:xfrm>
            <a:off x="317520" y="1828800"/>
            <a:ext cx="8508960" cy="414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99640" y="1000080"/>
            <a:ext cx="7634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3.4, 3.6, 3.7 Ryzyk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8564-7329-408F-B423-C352F01109F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Diagram 3" descr=""/>
          <p:cNvPicPr/>
          <p:nvPr/>
        </p:nvPicPr>
        <p:blipFill>
          <a:blip r:embed="rId1"/>
          <a:stretch/>
        </p:blipFill>
        <p:spPr>
          <a:xfrm>
            <a:off x="317520" y="1828800"/>
            <a:ext cx="8508960" cy="414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8868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Rodzaje projektów innowacyjnych</a:t>
            </a:r>
            <a:r>
              <a:rPr b="0" lang="pl-PL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 u="sng">
                <a:solidFill>
                  <a:srgbClr val="000000"/>
                </a:solidFill>
                <a:uFillTx/>
                <a:latin typeface="Calibri"/>
              </a:rPr>
              <a:t>Projekty innowacyjne testują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</a:rPr>
              <a:t>mają na celu wypracowanie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</a:rPr>
              <a:t>upowszechnienie i włączenie do głównego nurtu polityki nowych rozwiązań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 u="sng">
                <a:solidFill>
                  <a:srgbClr val="000000"/>
                </a:solidFill>
                <a:uFillTx/>
                <a:latin typeface="Calibri"/>
              </a:rPr>
              <a:t>Projekty innowacyjne upowszechniają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</a:rPr>
              <a:t>mają na celu nie wypracowanie nowego produktu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</a:rPr>
              <a:t>lecz upowszechnienie i włączenie do głównego nurtu polityki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</a:rPr>
              <a:t>dobrych praktyk/rozwiązań wypracowanych w ramach inny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</a:rPr>
              <a:t>programów czy projektów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C266-5057-4781-ABB0-8D97520541B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9720" y="1071720"/>
            <a:ext cx="6985080" cy="10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Projekt innowacyjny z komponentem ponadnarodowy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250020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</a:rPr>
              <a:t>Ryzyko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99"/>
                </a:solidFill>
                <a:latin typeface="Calibri"/>
              </a:rPr>
              <a:t>Zidentyfikowane ryzyka powinny dotyczyć także sfery współpracy ponadnarodowej, np. ryzyko związane z utrudnioną technicznie komunikacją (odległość, możliwości techniczne), związane z różnicami kulturowymi, z nieodpowiednią znajomością języka po stronie wnioskodawcy/partnera, z różnic systemowych w krajach partnerskich czy różnic w definiowaniu kluczowych pojęć merytorycznych w projekcie, trudności z prowadzeniem rozliczeń z partnerem zagranicznym itp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3716-A51C-41A5-AE22-07A2ACFC4BB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9640" y="1000080"/>
            <a:ext cx="7634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3.4, 3.6, 3.7 Potencjał i doświadcze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C12B-EE15-4392-9FF3-5BD3A7037521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Diagram 3" descr=""/>
          <p:cNvPicPr/>
          <p:nvPr/>
        </p:nvPicPr>
        <p:blipFill>
          <a:blip r:embed="rId1"/>
          <a:stretch/>
        </p:blipFill>
        <p:spPr>
          <a:xfrm>
            <a:off x="317520" y="1828800"/>
            <a:ext cx="8508960" cy="428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9320" y="928800"/>
            <a:ext cx="6984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Projekt innowacyjny z komponentem ponadnarodowy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480" y="2356920"/>
            <a:ext cx="7772400" cy="32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tencjał i doświadczenie partnerów ponadnarodow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rodzaj wcześniej realizowanych projektów/przedsięwzię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ich zak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dobieństwa do projektu innowacyjnego (pod względem obszaru, grupy docelowej, zadań itp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asię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skuteczność realiz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A334-0EAA-40DC-A3D9-E46491700BF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99640" y="1000080"/>
            <a:ext cx="7634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3.4, 3.6, 3.7 Zarządz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9EDE-CF11-462F-ABDB-DF6A43648E5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Diagram 3" descr=""/>
          <p:cNvPicPr/>
          <p:nvPr/>
        </p:nvPicPr>
        <p:blipFill>
          <a:blip r:embed="rId1"/>
          <a:stretch/>
        </p:blipFill>
        <p:spPr>
          <a:xfrm>
            <a:off x="317520" y="1828800"/>
            <a:ext cx="8508960" cy="4280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928800"/>
            <a:ext cx="6984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Projekt innowacyjny z komponentem ponadnarodowy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480" y="228600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Uzasadnienie wyboru partnera ponadnarodow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pis roli partnera ponadnarodowe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dział obowiązków, uprawnień i odpowiedzialności między partnerami i podwykonawcami (spójne z opisem w 3.3, harmonogramem i budżete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odział zadań między partnerami, zasady zarządzania, harmon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opis realizowanych form współpracy ponadnarodowej (Załącznik 8 do </a:t>
            </a:r>
            <a:r>
              <a:rPr b="0" i="1" lang="pl-PL" sz="2000" spc="-1" strike="noStrike">
                <a:solidFill>
                  <a:srgbClr val="000099"/>
                </a:solidFill>
                <a:latin typeface="Calibri"/>
              </a:rPr>
              <a:t>Wytycznych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2843-F8EC-481A-AB9F-16219524B06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99640" y="1000080"/>
            <a:ext cx="76345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V. Wydatki proje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ymbol zastępczy numeru slajd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6935-EBCF-4352-8F2A-B90AA91DAADA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Diagram 3" descr=""/>
          <p:cNvPicPr/>
          <p:nvPr/>
        </p:nvPicPr>
        <p:blipFill>
          <a:blip r:embed="rId1"/>
          <a:stretch/>
        </p:blipFill>
        <p:spPr>
          <a:xfrm>
            <a:off x="317520" y="1828800"/>
            <a:ext cx="8508960" cy="4151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09120" y="1676520"/>
            <a:ext cx="7696440" cy="18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6600"/>
                </a:solidFill>
                <a:latin typeface="Calibri"/>
              </a:rPr>
              <a:t>Dziękuję za uwagę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DB64-F295-4496-BBA7-37F91273D32E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235C-000A-4218-BA38-1DE4EB0C1CA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857160"/>
            <a:ext cx="731520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pecyfika projektów innow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785960"/>
            <a:ext cx="7848720" cy="40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wiązana z projekte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Innowacyjnoś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Produkt final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Grupy docelowe i ich angażow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Upowszechnianie i włączanie do polityki/prakty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Etapowość realiz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Specyficzny rodzaj projektu – projekt innowacyjny z komponen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wiązana z zasadami aplikowania i oceny projektó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niosek o dofinansow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Karta oce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Kryteria oceny (horyzontalne, szczegółowe dostępu i strategiczne, ogólne merytorycz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DE4A-D47F-4FBC-B991-8A53CE655B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928800"/>
            <a:ext cx="69850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Innowacyjnoś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9120" y="2060640"/>
            <a:ext cx="807732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Związana z konkretnym obszarem, miejscem i czasem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, stąd niemożliwe jest podanie jej uniwersalnej definicji, zwłaszcza dla tak szerokiego obszaru jak obszar wsparcia E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Z tego powodu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nie można mówić o przejrzystej i jednoznacznej definicji innowacyjności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w oderwaniu od kontekstu konkretnego problemu, obszaru, także geograficznego, konkretnych grup docelowych, konkretnego cza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3812-44C1-43DC-8A2A-B93AFCA810E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999720"/>
            <a:ext cx="698508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Innowacyjnoś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120" y="2060640"/>
            <a:ext cx="807732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Innowacyjność w danym projekc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wynika z charakteru i ze specyfiki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Tematu</a:t>
            </a: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 dla projektów innowacyj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99"/>
                </a:solidFill>
                <a:latin typeface="Calibri"/>
              </a:rPr>
              <a:t>może wystąpić w jednym z </a:t>
            </a:r>
            <a:r>
              <a:rPr b="1" lang="pl-PL" sz="2000" spc="-1" strike="noStrike" u="sng">
                <a:solidFill>
                  <a:srgbClr val="000099"/>
                </a:solidFill>
                <a:uFillTx/>
                <a:latin typeface="Calibri"/>
              </a:rPr>
              <a:t>3 wymiar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ymbol zastępczy numeru slajd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32FE-2AAC-4E0A-8482-3EAF15804B8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6:35:18Z</dcterms:created>
  <dc:creator>Właściciel</dc:creator>
  <dc:description/>
  <dc:language>en-US</dc:language>
  <cp:lastModifiedBy>Kamil Barański</cp:lastModifiedBy>
  <dcterms:modified xsi:type="dcterms:W3CDTF">2011-05-11T11:29:16Z</dcterms:modified>
  <cp:revision>431</cp:revision>
  <dc:subject/>
  <dc:title>Prezentacja programu PowerPoint</dc:title>
</cp:coreProperties>
</file>