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10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1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FB0C-65D0-4AF8-8D69-C0C2371712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246A-AA8B-4BC5-BC6D-DCB6EC154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 dot. osób zatrudnionych zostanie podwyższona o wartości wynikające z KR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 dot. środków na rozpoczęcie działalności gospodarczej zostanie podwyższona w związku z nowym typem wsparcia MIKROPOŻYCZKI oraz KR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 dot. klientów pomocy społ. Którzy zakończyli udział w projektach zostanie obniżona, a w przypadku kontraktów socjalnych planowana jest zmiana metodologii wyliczania wskaźnikó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556B-E1AF-4F07-B282-86150CDF0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ujawsko-pomorskie blisko 300 (297), co stanowi 358%W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D dla przedszkoli zostanie podwyższona, planowana jest koncentracja wsparcia w na obszarach o najniższym wskaźniku upowszechnienia edukacji przedszkolnej (w przypadku województwa kujawsko-pomorskiego to głównie wschodnie powiat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9342-DA4A-4C33-AB19-AED0C4104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CFC7F-6405-4E4B-BBB5-6A97C74D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7CACC-D489-41E5-87F4-520F9DF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A4F70-E8EC-4A14-92F9-8E9E0771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82833-771F-4431-98D3-636A0792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06AD4-073A-4545-957B-B0B988C2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AD143-CF81-4D91-ACB4-F35BD6D9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8368D-789F-44EC-A4CD-455F4E4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D48A-92B9-4F2B-B9D4-B9BE5C6B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6B397-5FEE-40CE-BCCA-4DB828F6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E34AF-48B3-4382-A2F3-530D24C0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32852-ACF7-4ACA-AA49-E23AED28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09729-1C66-4F0E-9CA4-429A2227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2162E-3B7F-4728-BF10-49EAF228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5E17B-F501-405A-8289-D34A7CCD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A7AA6-1636-4947-BE94-42DB2CDD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728E5E-B01A-47B8-8A1E-F8DE7216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F9E001-9B9E-40BA-8192-8736DC5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C02BB-0A3A-45BF-A101-2C2AD55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F9157D-8592-4E12-BF38-DC057AA4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2A808-DD6F-4936-AFE4-8D1B478C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17A1E6-CDAE-49D0-A33E-0A8A4426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FD2FA-9593-45AC-A622-94EDB08D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229EE-1C8B-44C0-A9A2-006D25F3E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4BD67-E268-4DE0-AC42-AA4AD4BC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8000" y="6433920"/>
            <a:ext cx="1268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1843-87B4-4279-8E11-46F0D77BB1DE}" type="datetime">
              <a:rPr b="0" lang="pl-PL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95280" y="6433920"/>
            <a:ext cx="309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sterstwo Rozwoju Regionalnego -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" name="Picture 9" descr="tła3"/>
          <p:cNvPicPr/>
          <p:nvPr/>
        </p:nvPicPr>
        <p:blipFill>
          <a:blip r:embed="rId3"/>
          <a:stretch/>
        </p:blipFill>
        <p:spPr>
          <a:xfrm>
            <a:off x="0" y="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3"/>
          </p:nvPr>
        </p:nvSpPr>
        <p:spPr>
          <a:xfrm>
            <a:off x="5148000" y="6433920"/>
            <a:ext cx="1268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D76D-F104-4319-9DD8-E3A77298A88B}" type="datetime">
              <a:rPr b="0" lang="pl-PL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4"/>
          </p:nvPr>
        </p:nvSpPr>
        <p:spPr>
          <a:xfrm>
            <a:off x="2195280" y="6433920"/>
            <a:ext cx="309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sterstwo Rozwoju Regionalnego -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5"/>
          </p:nvPr>
        </p:nvSpPr>
        <p:spPr>
          <a:xfrm>
            <a:off x="8101080" y="6433920"/>
            <a:ext cx="549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320-691B-40E7-8EF7-DFD8AA5FB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2" name="Picture 5" descr="tła2"/>
          <p:cNvPicPr/>
          <p:nvPr/>
        </p:nvPicPr>
        <p:blipFill>
          <a:blip r:embed="rId3"/>
          <a:stretch/>
        </p:blipFill>
        <p:spPr>
          <a:xfrm>
            <a:off x="1440" y="0"/>
            <a:ext cx="9141120" cy="6265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tła3"/>
          <p:cNvPicPr/>
          <p:nvPr/>
        </p:nvPicPr>
        <p:blipFill>
          <a:blip r:embed="rId3"/>
          <a:stretch/>
        </p:blipFill>
        <p:spPr>
          <a:xfrm>
            <a:off x="0" y="0"/>
            <a:ext cx="9144000" cy="6264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6"/>
          </p:nvPr>
        </p:nvSpPr>
        <p:spPr>
          <a:xfrm>
            <a:off x="5148000" y="6433920"/>
            <a:ext cx="1268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9288-5AE4-435E-9531-1A48D65816BF}" type="datetime">
              <a:rPr b="0" lang="pl-PL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7"/>
          </p:nvPr>
        </p:nvSpPr>
        <p:spPr>
          <a:xfrm>
            <a:off x="2195280" y="6433920"/>
            <a:ext cx="309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sterstwo Rozwoju Regionalnego -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8"/>
          </p:nvPr>
        </p:nvSpPr>
        <p:spPr>
          <a:xfrm>
            <a:off x="8101080" y="6433920"/>
            <a:ext cx="549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b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EED0-3541-4D79-8B81-7D4378B4F59B}" type="slidenum">
              <a:rPr b="0" lang="en-US" sz="1400" spc="-1" strike="noStrike">
                <a:solidFill>
                  <a:srgbClr val="00b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an wdrażania PO K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dgoszcz, 13 maja 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Calibri"/>
              </a:rPr>
              <a:t>Uczestnicy projektów regionalnych w ramach PO KL stan na koniec 2010 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724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ktura uczestników projektów regionalnych wg wieku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osoby młode w wieku 15-24 lata – 3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osoby starsze w wieku 55-64 lata –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ktura uczestników projektów regionalnych wg wykształceni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17"/>
          <p:cNvGraphicFramePr/>
          <p:nvPr/>
        </p:nvGraphicFramePr>
        <p:xfrm>
          <a:off x="1047600" y="2411280"/>
          <a:ext cx="6572520" cy="402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7600" y="2411280"/>
                    <a:ext cx="657252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44360"/>
            <a:ext cx="9144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ZATRUDNI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00"/>
                </a:solidFill>
                <a:latin typeface="Calibri"/>
              </a:rPr>
              <a:t>Wsparcie osób pozostających bez zatrudnieni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isko 539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tys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sób zakończyło udział w projektach</a:t>
            </a:r>
            <a:r>
              <a:rPr b="1" lang="en-US" sz="2200" spc="-1" strike="noStrike">
                <a:solidFill>
                  <a:srgbClr val="6699ff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7% WD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 ty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wsparcie osób młody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nad 19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ys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sób w wieku 15-24 la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% W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wsparcie osób w niekorzystnej sytuacj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onad 360 tys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sób (90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% W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wsparcie osób starszy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blisko 54 tys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sób w wieku 50-64 la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6% W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4149720"/>
            <a:ext cx="860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2714760"/>
          <a:ext cx="9182160" cy="41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14760"/>
                    <a:ext cx="9182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Oval 10"/>
          <p:cNvSpPr/>
          <p:nvPr/>
        </p:nvSpPr>
        <p:spPr>
          <a:xfrm rot="19049400">
            <a:off x="0" y="5373360"/>
            <a:ext cx="1547640" cy="431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ZATRUDNI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b000"/>
                </a:solidFill>
                <a:latin typeface="Calibri"/>
              </a:rPr>
              <a:t>Promowanie przedsiębiorczości oraz samozatrudni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blisk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97 tys. osób otrzymało środki na podjęcie działalności gospodarcze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97% WD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ty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600" spc="-1" strike="noStrike">
                <a:solidFill>
                  <a:srgbClr val="00b000"/>
                </a:solidFill>
                <a:latin typeface="Calibri"/>
              </a:rPr>
              <a:t>wsparcie osób młod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blisko 14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tys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sób w wieku 15-24 lat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(55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% WD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600" spc="-1" strike="noStrike">
                <a:solidFill>
                  <a:srgbClr val="00b000"/>
                </a:solidFill>
                <a:latin typeface="Calibri"/>
              </a:rPr>
              <a:t>wsparcie osób w niekorzystnej sytuacj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blisko 58 tys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sób (145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% WD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600" spc="-1" strike="noStrike">
                <a:solidFill>
                  <a:srgbClr val="00b000"/>
                </a:solidFill>
                <a:latin typeface="Calibri"/>
              </a:rPr>
              <a:t>wsparcie osób starszych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– ponad 7 tys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sób w wieku 50-64 lat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(70% W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4149720"/>
            <a:ext cx="860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2637000"/>
          <a:ext cx="9144000" cy="3311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37000"/>
                    <a:ext cx="914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Oval 10"/>
          <p:cNvSpPr/>
          <p:nvPr/>
        </p:nvSpPr>
        <p:spPr>
          <a:xfrm rot="19049400">
            <a:off x="0" y="4868640"/>
            <a:ext cx="1547640" cy="431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6600"/>
                </a:solidFill>
                <a:uFillTx/>
                <a:latin typeface="Calibri"/>
              </a:rPr>
              <a:t>INTEGRACJA SPOŁECZN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3860640"/>
            <a:ext cx="914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765000"/>
            <a:ext cx="914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nad 105 tys.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 klientów instytucji pomocy społecznej zakończyło udział w projektach dotyczących aktywnej integracj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17% WD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az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ponad 13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tys. objęto kontraktami socjalnymi w ramach realizowanych projektó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3% WD)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pień realizacji wskaźników w Priorytecie VII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916280"/>
          <a:ext cx="8964720" cy="44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896472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Oval 10"/>
          <p:cNvSpPr/>
          <p:nvPr/>
        </p:nvSpPr>
        <p:spPr>
          <a:xfrm rot="19049400">
            <a:off x="-136080" y="4938480"/>
            <a:ext cx="1800000" cy="503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6600"/>
                </a:solidFill>
                <a:uFillTx/>
                <a:latin typeface="Calibri"/>
              </a:rPr>
              <a:t>INTEGRACJA SPOŁECZNA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860640"/>
            <a:ext cx="91440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1341360"/>
            <a:ext cx="4427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Wzmocnienie sektora ekonomii społecznej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wsparcie otrzymało: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nad 4,5 tys.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podmiotów ekonomii społecznej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800" spc="-1" strike="noStrike">
                <a:solidFill>
                  <a:srgbClr val="00b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96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instytucji wspierające ekonomię społeczną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nad 37 tys.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osób w ramach instytucji ekonomii społecznej</a:t>
            </a:r>
            <a:endParaRPr b="0" lang="en-US" sz="1800" spc="-1" strike="noStrike">
              <a:solidFill>
                <a:srgbClr val="00b000"/>
              </a:solidFill>
              <a:latin typeface="Garamond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517840" y="1413000"/>
            <a:ext cx="6625800" cy="4971960"/>
            <a:chOff x="2517840" y="1413000"/>
            <a:chExt cx="6625800" cy="4971960"/>
          </a:xfrm>
        </p:grpSpPr>
        <p:pic>
          <p:nvPicPr>
            <p:cNvPr id="180" name="" descr=""/>
            <p:cNvPicPr/>
            <p:nvPr/>
          </p:nvPicPr>
          <p:blipFill>
            <a:blip r:embed="rId2"/>
            <a:srcRect l="11905" t="3405" r="17262" b="851"/>
            <a:stretch/>
          </p:blipFill>
          <p:spPr>
            <a:xfrm>
              <a:off x="4648680" y="1413000"/>
              <a:ext cx="4494960" cy="421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3"/>
            <a:srcRect l="3345" t="8000" r="1115" b="2000"/>
            <a:stretch/>
          </p:blipFill>
          <p:spPr>
            <a:xfrm>
              <a:off x="2517840" y="4719240"/>
              <a:ext cx="3196440" cy="166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108000" y="0"/>
            <a:ext cx="9036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Calibri"/>
              </a:rPr>
              <a:t>ADAPTACYJNOŚĆ</a:t>
            </a:r>
            <a:endParaRPr b="0" lang="en-US" sz="2800" spc="-1" strike="noStrike">
              <a:solidFill>
                <a:srgbClr val="00b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b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Wspieranie rozwoju kwalifikacji zawodowych i doradztwo dla przedsiębiorstw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isko 25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ys. pracujących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 WD), w ty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nad 37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ys. osób po 50 r. ż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93% WD)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nad 2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tys. przedsiębiorstw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 WD) objętych wsparciem szkoleniowym</a:t>
            </a:r>
            <a:r>
              <a:rPr b="0" lang="en-US" sz="1400" spc="-1" strike="noStrike">
                <a:solidFill>
                  <a:srgbClr val="00b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50920" y="1844640"/>
          <a:ext cx="8497800" cy="46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44640"/>
                    <a:ext cx="84978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Oval 10"/>
          <p:cNvSpPr/>
          <p:nvPr/>
        </p:nvSpPr>
        <p:spPr>
          <a:xfrm rot="19049400">
            <a:off x="179280" y="4868640"/>
            <a:ext cx="1800360" cy="503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EDUKACJA</a:t>
            </a: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414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Tworzenie nowych oraz wsparcie istniejących przedszkol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.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2,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tys. przedszkol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otrzymało wsparc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130% WD)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onad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70 tys. dzieci w wieku 3-5 lat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 obszarach wiejskich objęto edukacją przedszko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Realizacja programów rozwojowych szkół i placówek oświatowych prow. kształcenie zawodow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2,2 tys. szkół i placówek kształcenia zawodow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drożyło programy rozwojow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(74% W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Podnoszenie kwalifikacji nauczycieli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– ponad 29 tys. nauczycieli uczestniczyło w doskonaleniu zawodowym w krótkich formach (36% W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rcRect l="9664" t="9809" r="12885" b="5231"/>
          <a:stretch/>
        </p:blipFill>
        <p:spPr>
          <a:xfrm>
            <a:off x="3995640" y="260280"/>
            <a:ext cx="5400720" cy="48657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rcRect l="3272" t="13382" r="1636" b="3346"/>
          <a:stretch/>
        </p:blipFill>
        <p:spPr>
          <a:xfrm>
            <a:off x="4211640" y="5084640"/>
            <a:ext cx="316872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600" spc="-1" strike="noStrike">
                <a:solidFill>
                  <a:srgbClr val="000000"/>
                </a:solidFill>
                <a:latin typeface="Calibri"/>
              </a:rPr>
              <a:t>Przegląd śródokresowy Programu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Zakres zmian PO K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7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miany w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ie Operacyjnym Kapitał Ludzk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ynikają z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y zakresu udzielanego wsparcia pod kątem potrzeby jeg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intensyfikacji lub rozszerzeni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dobytych doświadczeń we wdrażaniu Program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zeprowadzonych badań ewaluacyjny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izy obszarów interwencji pod kątem adekwatnośc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alokowanych kwot finansowych i ustalonych wartości wskaźni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KWESTIE HORYZONT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136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kusja nad sposobem wdrażani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któw innowacyjn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PI) 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któw współpracy ponadnarodowej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PW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onsolidacj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ddolnych inicjatyw lokalnych w ramach Priorytetu I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większenie efektywności działań adresowanych d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sób znajdujących się w szczególnie niekorzystnej sytuacj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zwłaszcza 45+/50+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większenie efektywności i dostępności wsparcia na rzecz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sób niepełnospraw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5899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Postęp finansow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alibri"/>
              </a:rPr>
              <a:t>PRIORYTET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zszerzenie katalogu dostępnych form wsparcia o </a:t>
            </a: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instrumenty zwrotn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erowane do osób planujących rozpoczęcie działalności gospodarczej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pilotaż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6600"/>
                </a:solidFill>
                <a:latin typeface="Calibri"/>
              </a:rPr>
              <a:t>PRIORYTET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ostaną wprowadzone </a:t>
            </a: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now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ie realizowane dotąd w ramach Priorytetu VII </a:t>
            </a: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działania z zakresu podnoszenia kwalifikacji kadr I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np. studia I i II stopnia, studia podyplomowe, doktoranckie, kursy zawodowe w tym: I i II stopień specjalizacji w zawodzie pracownik socjalny) - obecnie realizowane w ramach Priorytetu 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czególny </a:t>
            </a: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nacisk zostanie położony na aktywizację społeczno-zawodową osób niepełnospra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b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Dodanie wskaźnika mierzącego wsparcie finansowe na rzecz zakładania spółdzielni socjalnych</a:t>
            </a:r>
            <a:r>
              <a:rPr b="0" lang="en-US" sz="2000" spc="-1" strike="noStrike">
                <a:solidFill>
                  <a:srgbClr val="00b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Propozycja: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iczba podmiotów ekonomii społecznej utworzonych dzięki wsparciu z EF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0"/>
            <a:ext cx="5364000" cy="33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łówne  zmiany w Priorytetach i obszarach wsparcia</a:t>
            </a:r>
            <a:endParaRPr b="0" lang="en-US" sz="16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Priorytet VII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oncentrowanie </a:t>
            </a: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działań objętych pomocą publiczną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szkolenia dla pracowników przedsiębiorstw) </a:t>
            </a: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w Priorytecie VI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 objęcie wsparciem wszystkich form </a:t>
            </a: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kształcenia ustawiczneg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osób podnoszących kwalifikacje z własnej inicjatywy w ramach </a:t>
            </a: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Priorytetu IX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ff6600"/>
                </a:solidFill>
                <a:latin typeface="Calibri"/>
              </a:rPr>
              <a:t>Priorytet 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88"/>
              </a:spcBef>
              <a:buClr>
                <a:srgbClr val="00b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Wzmocnienie edukacji przedszkolnej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(zwiększenie alokacji oraz koncentracja na obszarach o najniższym stopniu upowszechnienia edukacji przedszkolnej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b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Koncentracja wsparcia dotyczącego life-long learning w ramach jednego Priorytet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(wspieranie działań ukierunkowanych na kształcenie osób dorosłych, które z własnej inicjatywy są zainteresowane nabyciem nowych, uzupełnieniem lub podwyższeniem kwalifikacji i umiejętności w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bszarach umiejętności ICT i znajomości języków obc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ilotażowe wdrożenie </a:t>
            </a: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systemu doradztwa dla osób dorosłych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w zakresie diagnozy potrzeb oraz wyboru kierunków i formy podnoszenia swoich kwalifikacji w trybie formalnym i pozaformaln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b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b000"/>
                </a:solidFill>
                <a:latin typeface="Calibri"/>
              </a:rPr>
              <a:t>Wyodrębnienie typu wsparcia polegającego na organizacji staży i praktyk dla uczniów szkół zawodowych obejmujących praktyczną naukę zawo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0"/>
            <a:ext cx="5364000" cy="333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łówne zmiany w Priorytetach i obszarach wsparcia</a:t>
            </a:r>
            <a:endParaRPr b="0" lang="en-US" sz="16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ymbol zastępczy numeru slajdu 7"/>
          <p:cNvSpPr/>
          <p:nvPr/>
        </p:nvSpPr>
        <p:spPr>
          <a:xfrm>
            <a:off x="8101080" y="6434280"/>
            <a:ext cx="549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F2C-C4BB-4180-8455-03114BB8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alibri"/>
              </a:rPr>
              <a:t>Harmonogram PRZEGLĄDU ŚRÓDOKRES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5691240" y="1600200"/>
          <a:ext cx="1950840" cy="218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1240" y="1600200"/>
                    <a:ext cx="1950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4"/>
          <p:cNvSpPr/>
          <p:nvPr/>
        </p:nvSpPr>
        <p:spPr>
          <a:xfrm>
            <a:off x="539640" y="2571840"/>
            <a:ext cx="806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79280" y="1413000"/>
            <a:ext cx="856944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j-czerwiec 201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bocze konsultacje z KE propozycji zmian PO KL wypracowanych w ramach przeglądu śródokresowego</a:t>
            </a:r>
            <a:endParaRPr b="0" lang="en-US" sz="24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16-17 maja 201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spotkania z IP i partnerami społecznymi</a:t>
            </a:r>
            <a:endParaRPr b="0" lang="en-US" sz="24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6-7 czerwca 201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M PO KL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przedstawienie i zatwierdzenie propozycji zmian treści PO KL, w tym zmian wynikających z podziału KRW</a:t>
            </a:r>
            <a:endParaRPr b="0" lang="en-US" sz="24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zerwiec 201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oficjalne przekazanie propozycji zmian w PO KL do KE</a:t>
            </a:r>
            <a:endParaRPr b="0" lang="en-US" sz="2400" spc="-1" strike="noStrike">
              <a:solidFill>
                <a:srgbClr val="00b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niec 2011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decyzja KE ws. zmiany PO KL</a:t>
            </a:r>
            <a:endParaRPr b="0" lang="en-US" sz="2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826920" y="1557360"/>
            <a:ext cx="7772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95640" y="1700280"/>
            <a:ext cx="48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908000" y="2744640"/>
            <a:ext cx="561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ytucja Zarządzająca PO K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nisterstwo Rozwoju Regionalneg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 Zarządzania EF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. Wspólna 2/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l. 22 330 30 01 </a:t>
            </a:r>
            <a:br>
              <a:rPr sz="2800"/>
            </a:br>
            <a:endParaRPr b="0" lang="en-US" sz="28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Postęp wdrażania PO KL wg stanu na 09.05.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3"/>
          <p:cNvGraphicFramePr/>
          <p:nvPr/>
        </p:nvGraphicFramePr>
        <p:xfrm>
          <a:off x="0" y="1201680"/>
          <a:ext cx="9132840" cy="4710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1680"/>
                    <a:ext cx="9132840" cy="47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Postęp wdrażania PO KL wg stanu na 09.05.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19080" y="858960"/>
          <a:ext cx="9220320" cy="445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858960"/>
                    <a:ext cx="9220320" cy="44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Wykorzystanie alokacji 2007-2013 w ramach komponentu regionalnego – kontraktacja i wydatkowanie wg stanu na 09.05.2011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"/>
          <p:cNvSpPr/>
          <p:nvPr/>
        </p:nvSpPr>
        <p:spPr>
          <a:xfrm>
            <a:off x="6156360" y="5157720"/>
            <a:ext cx="720720" cy="287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6588000" y="5229360"/>
            <a:ext cx="1079640" cy="360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76320" y="1268280"/>
          <a:ext cx="8943840" cy="400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268280"/>
                    <a:ext cx="8943840" cy="40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Oval 6"/>
          <p:cNvSpPr/>
          <p:nvPr/>
        </p:nvSpPr>
        <p:spPr>
          <a:xfrm rot="19049400">
            <a:off x="108000" y="3789360"/>
            <a:ext cx="1439640" cy="287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8920" y="2060640"/>
            <a:ext cx="858996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Postęp rzeczowy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Uczestnicy projektów w ramach PO KL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alibri"/>
              </a:rPr>
              <a:t>– na koniec 2010 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dział w projektach </a:t>
            </a: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rozpoczęło ponad 3,1 mln osó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(57% kobi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czestnicy w szczególnie niekorzystnej sytuacji (w % ogółu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osoby niepełnosprawne –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osoby starsze w wieku 55-64 lata –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osoby długotrwale bezrobotne –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osoby z terenów wiejskich – 3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alibri"/>
              </a:rPr>
              <a:t>osoby młode w wieku 15-24 lata –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Uczestnicy projektów w ramach komponentu regionalnego PO KL stan na koniec 2010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dział w projektach w woj. kujawsko-pomorskim </a:t>
            </a:r>
            <a:r>
              <a:rPr b="1" lang="en-US" sz="2000" spc="-1" strike="noStrike">
                <a:solidFill>
                  <a:srgbClr val="00b000"/>
                </a:solidFill>
                <a:latin typeface="Calibri"/>
              </a:rPr>
              <a:t>rozpoczęło ponad 240 tys. osób, w ty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50 858 osób w Priorytecie 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26 556 osoby w Prioryteci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28 164 osób w Priorytecie VII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134 760 osób w Priorytecie 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8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187200" y="2638440"/>
          <a:ext cx="8750520" cy="3429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7200" y="2638440"/>
                    <a:ext cx="875052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Oval 10"/>
          <p:cNvSpPr/>
          <p:nvPr/>
        </p:nvSpPr>
        <p:spPr>
          <a:xfrm rot="19049400">
            <a:off x="179280" y="5084640"/>
            <a:ext cx="144000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b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Calibri"/>
              </a:rPr>
              <a:t>Uczestnicy projektów regionalnych w ramach PO KL – stan na koniec 2010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ktura uczestników projektów regionalnych PO KL wg statusu na rynku prac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bezrobotni – 3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nieaktywni zawodowo – 4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b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00"/>
                </a:solidFill>
                <a:latin typeface="Calibri"/>
              </a:rPr>
              <a:t>zatrudnieni –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4"/>
          <p:cNvGraphicFramePr/>
          <p:nvPr/>
        </p:nvGraphicFramePr>
        <p:xfrm>
          <a:off x="0" y="2638440"/>
          <a:ext cx="9190080" cy="3705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38440"/>
                    <a:ext cx="919008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1:34:25Z</dcterms:created>
  <dc:creator>jadwiga_szymanska</dc:creator>
  <dc:description/>
  <dc:language>en-US</dc:language>
  <cp:lastModifiedBy>Ewelina_Ludwicka</cp:lastModifiedBy>
  <dcterms:modified xsi:type="dcterms:W3CDTF">2011-05-12T12:17:30Z</dcterms:modified>
  <cp:revision>627</cp:revision>
  <dc:subject/>
  <dc:title>Slajd 1</dc:title>
</cp:coreProperties>
</file>