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D81F-B8D4-4BE6-895C-0B722E49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4FC-0349-4BBC-B249-D8BD7571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437-F78F-4786-AE77-DF4942AD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8C6-589F-4781-A803-9526CE7D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90E5-9099-4832-8EB3-173A89DC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7B8-C822-444A-BABC-AB14785D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F23-69F0-47D2-B1AE-0FFFF7A2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EAC-68F4-4E5F-9327-473CAD53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F66-E0CF-4D3F-AEBD-9C288811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5D6-1C2F-457E-96E6-C9144064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60D-8183-4BFD-A17F-6F1CA86C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030-27AE-4203-ACE9-B63635EB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850F-BBA2-42F3-A4AE-6C9D16A095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raz 4" descr="prezentacja_tyt.jpg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Diagram 1" descr=""/>
          <p:cNvPicPr/>
          <p:nvPr/>
        </p:nvPicPr>
        <p:blipFill>
          <a:blip r:embed="rId1"/>
          <a:stretch/>
        </p:blipFill>
        <p:spPr>
          <a:xfrm>
            <a:off x="360360" y="1262160"/>
            <a:ext cx="8339040" cy="2766960"/>
          </a:xfrm>
          <a:prstGeom prst="rect">
            <a:avLst/>
          </a:prstGeom>
          <a:ln w="0">
            <a:noFill/>
          </a:ln>
        </p:spPr>
      </p:pic>
      <p:grpSp>
        <p:nvGrpSpPr>
          <p:cNvPr id="237" name="pole tekstowe 2"/>
          <p:cNvGrpSpPr/>
          <p:nvPr/>
        </p:nvGrpSpPr>
        <p:grpSpPr>
          <a:xfrm>
            <a:off x="426960" y="4206960"/>
            <a:ext cx="2797200" cy="639720"/>
            <a:chOff x="426960" y="4206960"/>
            <a:chExt cx="2797200" cy="639720"/>
          </a:xfrm>
        </p:grpSpPr>
        <p:pic>
          <p:nvPicPr>
            <p:cNvPr id="238" name="pole tekstowe 2" descr=""/>
            <p:cNvPicPr/>
            <p:nvPr/>
          </p:nvPicPr>
          <p:blipFill>
            <a:blip r:embed="rId2"/>
            <a:stretch/>
          </p:blipFill>
          <p:spPr>
            <a:xfrm>
              <a:off x="426960" y="4206960"/>
              <a:ext cx="27972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68360" y="42926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Calibri"/>
                </a:rPr>
                <a:t>branże przyszł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pole tekstowe 3"/>
          <p:cNvGrpSpPr/>
          <p:nvPr/>
        </p:nvGrpSpPr>
        <p:grpSpPr>
          <a:xfrm>
            <a:off x="5102280" y="4206960"/>
            <a:ext cx="3591000" cy="639720"/>
            <a:chOff x="5102280" y="4206960"/>
            <a:chExt cx="3591000" cy="639720"/>
          </a:xfrm>
        </p:grpSpPr>
        <p:pic>
          <p:nvPicPr>
            <p:cNvPr id="241" name="pole tekstowe 3" descr=""/>
            <p:cNvPicPr/>
            <p:nvPr/>
          </p:nvPicPr>
          <p:blipFill>
            <a:blip r:embed="rId3"/>
            <a:stretch/>
          </p:blipFill>
          <p:spPr>
            <a:xfrm>
              <a:off x="5102280" y="4206960"/>
              <a:ext cx="3591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5148360" y="4292640"/>
              <a:ext cx="34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Calibri"/>
                </a:rPr>
                <a:t>trendy rozwojow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Strzałka w prawo 16"/>
          <p:cNvSpPr/>
          <p:nvPr/>
        </p:nvSpPr>
        <p:spPr>
          <a:xfrm>
            <a:off x="3419640" y="4292640"/>
            <a:ext cx="1439640" cy="4618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pole tekstowe 5"/>
          <p:cNvGrpSpPr/>
          <p:nvPr/>
        </p:nvGrpSpPr>
        <p:grpSpPr>
          <a:xfrm>
            <a:off x="420840" y="5114880"/>
            <a:ext cx="2803320" cy="639720"/>
            <a:chOff x="420840" y="5114880"/>
            <a:chExt cx="2803320" cy="639720"/>
          </a:xfrm>
        </p:grpSpPr>
        <p:pic>
          <p:nvPicPr>
            <p:cNvPr id="245" name="pole tekstowe 5" descr=""/>
            <p:cNvPicPr/>
            <p:nvPr/>
          </p:nvPicPr>
          <p:blipFill>
            <a:blip r:embed="rId4"/>
            <a:stretch/>
          </p:blipFill>
          <p:spPr>
            <a:xfrm>
              <a:off x="420840" y="5114880"/>
              <a:ext cx="28033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468360" y="519912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Calibri"/>
                </a:rPr>
                <a:t>zawody przyszł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pole tekstowe 6"/>
          <p:cNvGrpSpPr/>
          <p:nvPr/>
        </p:nvGrpSpPr>
        <p:grpSpPr>
          <a:xfrm>
            <a:off x="5102280" y="5114880"/>
            <a:ext cx="3591000" cy="639720"/>
            <a:chOff x="5102280" y="5114880"/>
            <a:chExt cx="3591000" cy="639720"/>
          </a:xfrm>
        </p:grpSpPr>
        <p:pic>
          <p:nvPicPr>
            <p:cNvPr id="248" name="pole tekstowe 6" descr=""/>
            <p:cNvPicPr/>
            <p:nvPr/>
          </p:nvPicPr>
          <p:blipFill>
            <a:blip r:embed="rId5"/>
            <a:stretch/>
          </p:blipFill>
          <p:spPr>
            <a:xfrm>
              <a:off x="5102280" y="5114880"/>
              <a:ext cx="3591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148360" y="5199120"/>
              <a:ext cx="34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ffffff"/>
                  </a:solidFill>
                  <a:latin typeface="Calibri"/>
                </a:rPr>
                <a:t>kompetencje dla rozwoj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Strzałka w prawo 22"/>
          <p:cNvSpPr/>
          <p:nvPr/>
        </p:nvSpPr>
        <p:spPr>
          <a:xfrm>
            <a:off x="3419640" y="5199120"/>
            <a:ext cx="1439640" cy="4618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990000"/>
          </a:solidFill>
          <a:ln w="93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ole tekstowe 8"/>
          <p:cNvSpPr/>
          <p:nvPr/>
        </p:nvSpPr>
        <p:spPr>
          <a:xfrm>
            <a:off x="395280" y="169920"/>
            <a:ext cx="85694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Zawody i branże przyszłości to przeszłoś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ole tekstowe 7"/>
          <p:cNvSpPr/>
          <p:nvPr/>
        </p:nvSpPr>
        <p:spPr>
          <a:xfrm>
            <a:off x="349200" y="169920"/>
            <a:ext cx="86407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Kierunki rozwoju wybranych bran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rostokąt 8"/>
          <p:cNvSpPr/>
          <p:nvPr/>
        </p:nvSpPr>
        <p:spPr>
          <a:xfrm>
            <a:off x="395280" y="1268280"/>
            <a:ext cx="864072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budownictwo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energooszczędne, ekologiczne, inteligentne domy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handel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internetowy, nowe formy płatności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chemiczna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biotechnologie, nowe materiały, ekologia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ICT (usługi)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digitalizacja życia codziennego, „super-interface"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ICT (przemysł elektroniczny)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high-design, easy-super-high-tech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ośrednictwo finansowe i obsługa firm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globalna sieciowość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BPO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międzykulturowość, standaryzacja globalna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logistyka i transport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digitalizacja, ekologia, multimodalność globalna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turystyka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medyczna, ekstremalna, spa, ekologiczna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mysł rolno-spożywczy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ekologia, zdrowie, energetyka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mysł samochodowy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ekologia, energooszczędność, digitalizacja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mysł stoczniowy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energetyka, offshore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przemysł drzewno-meblowy </a:t>
            </a:r>
            <a:r>
              <a:rPr b="0" lang="pl-PL" sz="2100" spc="-1" strike="noStrike">
                <a:solidFill>
                  <a:srgbClr val="ff0000"/>
                </a:solidFill>
                <a:latin typeface="Calibri"/>
              </a:rPr>
              <a:t>(high-design, ekologia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ole tekstowe 7"/>
          <p:cNvSpPr/>
          <p:nvPr/>
        </p:nvSpPr>
        <p:spPr>
          <a:xfrm>
            <a:off x="179280" y="260280"/>
            <a:ext cx="8353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Naprawdę najwyższy czas na zmian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rostokąt 8"/>
          <p:cNvSpPr/>
          <p:nvPr/>
        </p:nvSpPr>
        <p:spPr>
          <a:xfrm>
            <a:off x="144360" y="1311120"/>
            <a:ext cx="874872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system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to edukacja formalna, pozaformalna i nieformaln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life-long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life-wide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learning – szkoła i nauczyciel jako „integrato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zkoła zabija </a:t>
            </a: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kreatywność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– a powinna ją rozwija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modułowość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jako odpowiedź na wielowymiarow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projektowość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praca zespołowa, odpowiedzialność, rozwój talentów it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różnorodność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„industrialny” model ujednolicenia nie pasuje do XXI 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przenikanie i uzupełnianie: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edukacja-biznes-administracja-nauka-społeczeństwo (podejście foresight’ow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elastyczność form i treści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– wysoka kontekstowoś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oniec </a:t>
            </a: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negatywnej selekcji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i struktur długiego trwan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499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kompetencje </a:t>
            </a:r>
            <a:r>
              <a:rPr b="0" lang="pl-PL" sz="2200" spc="-1" strike="noStrike">
                <a:solidFill>
                  <a:srgbClr val="ff0000"/>
                </a:solidFill>
                <a:latin typeface="Calibri"/>
              </a:rPr>
              <a:t>międzykulturowe i interpersonalne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 – rozwój, bezpieczeństwo, szczęś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ole tekstowe 7"/>
          <p:cNvSpPr/>
          <p:nvPr/>
        </p:nvSpPr>
        <p:spPr>
          <a:xfrm>
            <a:off x="395280" y="169920"/>
            <a:ext cx="84978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Naprawdę najwyższy czas na zmian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- szkolnictwo zawodowe i ustawi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8"/>
          <p:cNvSpPr/>
          <p:nvPr/>
        </p:nvSpPr>
        <p:spPr>
          <a:xfrm>
            <a:off x="144360" y="1916280"/>
            <a:ext cx="87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Calibri"/>
              </a:rPr>
              <a:t>popyt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 decydować o treści, jakości i cenie szkole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przedsiębiorców to za mało – konieczny </a:t>
            </a:r>
            <a:r>
              <a:rPr b="0" lang="pl-PL" sz="2400" spc="-1" strike="noStrike">
                <a:solidFill>
                  <a:srgbClr val="ff0000"/>
                </a:solidFill>
                <a:latin typeface="Calibri"/>
              </a:rPr>
              <a:t>stały </a:t>
            </a:r>
            <a:r>
              <a:rPr b="0" i="1" lang="pl-PL" sz="2400" spc="-1" strike="noStrike">
                <a:solidFill>
                  <a:srgbClr val="ff0000"/>
                </a:solidFill>
                <a:latin typeface="Calibri"/>
              </a:rPr>
              <a:t>foresight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wielowymiarowe badanie trendów społecznych i gospodarcz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Calibri"/>
              </a:rPr>
              <a:t>firma to uniwersytet – </a:t>
            </a:r>
            <a:r>
              <a:rPr b="0" i="1" lang="pl-PL" sz="2400" spc="-1" strike="noStrike">
                <a:solidFill>
                  <a:srgbClr val="ff0000"/>
                </a:solidFill>
                <a:latin typeface="Calibri"/>
              </a:rPr>
              <a:t>life-lo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lastyczna, otwarta, </a:t>
            </a:r>
            <a:r>
              <a:rPr b="0" lang="pl-PL" sz="2400" spc="-1" strike="noStrike">
                <a:solidFill>
                  <a:srgbClr val="ff0000"/>
                </a:solidFill>
                <a:latin typeface="Calibri"/>
              </a:rPr>
              <a:t>funkcjonalna „certyfikacja”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walifikacj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kompete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800"/>
              </a:spcAft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prowadzić uczniów/kursantów ze szkół – </a:t>
            </a:r>
            <a:r>
              <a:rPr b="0" i="1" lang="pl-PL" sz="2400" spc="-1" strike="noStrike">
                <a:solidFill>
                  <a:srgbClr val="ff0000"/>
                </a:solidFill>
                <a:latin typeface="Calibri"/>
              </a:rPr>
              <a:t>life-wide learning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181080" y="14292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Potrzeby rynku prac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395280" y="3789360"/>
            <a:ext cx="388944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MPETENCJE ZAWOD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4"/>
          <p:cNvSpPr/>
          <p:nvPr/>
        </p:nvSpPr>
        <p:spPr>
          <a:xfrm>
            <a:off x="2916360" y="4357800"/>
            <a:ext cx="31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ALIFIKACJE ZAWODOWE (wiedza zawodowa + umiejętnośc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5"/>
          <p:cNvSpPr/>
          <p:nvPr/>
        </p:nvSpPr>
        <p:spPr>
          <a:xfrm>
            <a:off x="6296040" y="4246560"/>
            <a:ext cx="1228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AWODY/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alifikacje moduł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2916360" y="494172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OMPETENCJ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7"/>
          <p:cNvCxnSpPr>
            <a:stCxn id="260" idx="3"/>
            <a:endCxn id="261" idx="1"/>
          </p:cNvCxnSpPr>
          <p:nvPr/>
        </p:nvCxnSpPr>
        <p:spPr>
          <a:xfrm flipV="1">
            <a:off x="6084360" y="4610880"/>
            <a:ext cx="212040" cy="54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64" name="AutoShape 38"/>
          <p:cNvCxnSpPr>
            <a:stCxn id="259" idx="2"/>
            <a:endCxn id="260" idx="1"/>
          </p:cNvCxnSpPr>
          <p:nvPr/>
        </p:nvCxnSpPr>
        <p:spPr>
          <a:xfrm flipH="1" rot="16200000">
            <a:off x="2401920" y="4102560"/>
            <a:ext cx="451440" cy="57708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65" name="AutoShape 39"/>
          <p:cNvCxnSpPr>
            <a:stCxn id="259" idx="2"/>
            <a:endCxn id="262" idx="1"/>
          </p:cNvCxnSpPr>
          <p:nvPr/>
        </p:nvCxnSpPr>
        <p:spPr>
          <a:xfrm flipH="1" rot="16200000">
            <a:off x="2162880" y="4341600"/>
            <a:ext cx="929520" cy="57708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266" name="Text Box 40"/>
          <p:cNvSpPr/>
          <p:nvPr/>
        </p:nvSpPr>
        <p:spPr>
          <a:xfrm>
            <a:off x="3051000" y="5208480"/>
            <a:ext cx="274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349"/>
              </a:spcBef>
              <a:buClr>
                <a:srgbClr val="cc00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sob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buClr>
                <a:srgbClr val="cc00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połeczne (interpersonal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buClr>
                <a:srgbClr val="cc00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rganiz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buClr>
                <a:srgbClr val="cc0000"/>
              </a:buClr>
              <a:buSzPct val="8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menadżersk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1"/>
          <p:cNvSpPr/>
          <p:nvPr/>
        </p:nvSpPr>
        <p:spPr>
          <a:xfrm>
            <a:off x="6093000" y="5373720"/>
            <a:ext cx="151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echy osobowe i kompetencje klucz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AutoShape 42"/>
          <p:cNvCxnSpPr>
            <a:stCxn id="266" idx="3"/>
            <a:endCxn id="267" idx="1"/>
          </p:cNvCxnSpPr>
          <p:nvPr/>
        </p:nvCxnSpPr>
        <p:spPr>
          <a:xfrm flipV="1">
            <a:off x="5795640" y="5738400"/>
            <a:ext cx="297720" cy="72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269" name="Text Box 43"/>
          <p:cNvSpPr/>
          <p:nvPr/>
        </p:nvSpPr>
        <p:spPr>
          <a:xfrm>
            <a:off x="7956720" y="494172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DUK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44"/>
          <p:cNvCxnSpPr>
            <a:stCxn id="261" idx="3"/>
            <a:endCxn id="269" idx="1"/>
          </p:cNvCxnSpPr>
          <p:nvPr/>
        </p:nvCxnSpPr>
        <p:spPr>
          <a:xfrm>
            <a:off x="7524720" y="4611240"/>
            <a:ext cx="432720" cy="4834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71" name="AutoShape 45"/>
          <p:cNvCxnSpPr>
            <a:stCxn id="267" idx="3"/>
            <a:endCxn id="269" idx="1"/>
          </p:cNvCxnSpPr>
          <p:nvPr/>
        </p:nvCxnSpPr>
        <p:spPr>
          <a:xfrm flipV="1">
            <a:off x="7603920" y="5094000"/>
            <a:ext cx="353160" cy="6451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272" name="Text Box 46"/>
          <p:cNvSpPr/>
          <p:nvPr/>
        </p:nvSpPr>
        <p:spPr>
          <a:xfrm>
            <a:off x="3132000" y="102384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RUKTURA GOSPODAR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7"/>
          <p:cNvSpPr/>
          <p:nvPr/>
        </p:nvSpPr>
        <p:spPr>
          <a:xfrm>
            <a:off x="3132000" y="1906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TRENDY GOSPODARCZE I SPOŁE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8"/>
          <p:cNvSpPr/>
          <p:nvPr/>
        </p:nvSpPr>
        <p:spPr>
          <a:xfrm>
            <a:off x="3121200" y="3162240"/>
            <a:ext cx="260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ITYKA SPOŁ.-GOS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9"/>
          <p:cNvSpPr/>
          <p:nvPr/>
        </p:nvSpPr>
        <p:spPr>
          <a:xfrm>
            <a:off x="6211800" y="366840"/>
            <a:ext cx="274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ojekcja struk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luczowe klastry/branż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emografia (+ migracj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zróżnicowania przestrz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0"/>
          <p:cNvSpPr/>
          <p:nvPr/>
        </p:nvSpPr>
        <p:spPr>
          <a:xfrm>
            <a:off x="6219720" y="1735200"/>
            <a:ext cx="2745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ojektowość/sieciow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globalizacja/otwart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igitaliz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zyrost wied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AutoShape 51"/>
          <p:cNvCxnSpPr>
            <a:stCxn id="272" idx="3"/>
            <a:endCxn id="275" idx="1"/>
          </p:cNvCxnSpPr>
          <p:nvPr/>
        </p:nvCxnSpPr>
        <p:spPr>
          <a:xfrm flipV="1">
            <a:off x="5724360" y="902520"/>
            <a:ext cx="488160" cy="27396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78" name="AutoShape 52"/>
          <p:cNvCxnSpPr>
            <a:stCxn id="273" idx="3"/>
            <a:endCxn id="276" idx="1"/>
          </p:cNvCxnSpPr>
          <p:nvPr/>
        </p:nvCxnSpPr>
        <p:spPr>
          <a:xfrm>
            <a:off x="5219640" y="2271240"/>
            <a:ext cx="100080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279" name="Text Box 53"/>
          <p:cNvSpPr/>
          <p:nvPr/>
        </p:nvSpPr>
        <p:spPr>
          <a:xfrm>
            <a:off x="6219720" y="3117960"/>
            <a:ext cx="2745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trategie rozwo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ityki 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lityka edukacyj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54"/>
          <p:cNvCxnSpPr>
            <a:stCxn id="274" idx="3"/>
            <a:endCxn id="279" idx="1"/>
          </p:cNvCxnSpPr>
          <p:nvPr/>
        </p:nvCxnSpPr>
        <p:spPr>
          <a:xfrm>
            <a:off x="5724360" y="3314880"/>
            <a:ext cx="496080" cy="2116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81" name="AutoShape 55"/>
          <p:cNvCxnSpPr>
            <a:stCxn id="272" idx="1"/>
            <a:endCxn id="259" idx="0"/>
          </p:cNvCxnSpPr>
          <p:nvPr/>
        </p:nvCxnSpPr>
        <p:spPr>
          <a:xfrm flipV="1" rot="10800000">
            <a:off x="2339280" y="1176120"/>
            <a:ext cx="792720" cy="261360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82" name="AutoShape 56"/>
          <p:cNvCxnSpPr>
            <a:stCxn id="273" idx="1"/>
            <a:endCxn id="259" idx="0"/>
          </p:cNvCxnSpPr>
          <p:nvPr/>
        </p:nvCxnSpPr>
        <p:spPr>
          <a:xfrm flipV="1" rot="10800000">
            <a:off x="2339280" y="2271240"/>
            <a:ext cx="792720" cy="151848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83" name="AutoShape 57"/>
          <p:cNvCxnSpPr>
            <a:stCxn id="274" idx="1"/>
            <a:endCxn id="259" idx="0"/>
          </p:cNvCxnSpPr>
          <p:nvPr/>
        </p:nvCxnSpPr>
        <p:spPr>
          <a:xfrm flipV="1" rot="10800000">
            <a:off x="2339280" y="3314520"/>
            <a:ext cx="781920" cy="47520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81080" y="14292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Badania” rynku 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1116000" y="119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k j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2673360" y="1700280"/>
            <a:ext cx="4346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ykorzystanie danych statysty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30"/>
          <p:cNvCxnSpPr>
            <a:stCxn id="285" idx="1"/>
            <a:endCxn id="288" idx="1"/>
          </p:cNvCxnSpPr>
          <p:nvPr/>
        </p:nvCxnSpPr>
        <p:spPr>
          <a:xfrm flipH="1" flipV="1" rot="10800000">
            <a:off x="1115640" y="1380600"/>
            <a:ext cx="72000" cy="943920"/>
          </a:xfrm>
          <a:prstGeom prst="bentConnector3">
            <a:avLst>
              <a:gd name="adj1" fmla="val -319597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289" name="Text Box 31"/>
          <p:cNvSpPr/>
          <p:nvPr/>
        </p:nvSpPr>
        <p:spPr>
          <a:xfrm>
            <a:off x="6372360" y="1197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k powinno by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2"/>
          <p:cNvSpPr/>
          <p:nvPr/>
        </p:nvSpPr>
        <p:spPr>
          <a:xfrm>
            <a:off x="1187280" y="21556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rozproszenie, brak wnios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5580000" y="213372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ynteza, wnioskowanie przyczynowo-skutkow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2700360" y="2852640"/>
            <a:ext cx="4346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ym jest „rynek pracy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AutoShape 35"/>
          <p:cNvCxnSpPr>
            <a:stCxn id="289" idx="3"/>
            <a:endCxn id="290" idx="3"/>
          </p:cNvCxnSpPr>
          <p:nvPr/>
        </p:nvCxnSpPr>
        <p:spPr>
          <a:xfrm flipH="1">
            <a:off x="8459280" y="1380960"/>
            <a:ext cx="145440" cy="1043640"/>
          </a:xfrm>
          <a:prstGeom prst="bentConnector3">
            <a:avLst>
              <a:gd name="adj1" fmla="val -158064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293" name="Text Box 36"/>
          <p:cNvSpPr/>
          <p:nvPr/>
        </p:nvSpPr>
        <p:spPr>
          <a:xfrm>
            <a:off x="1187280" y="3429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głównie analizy bezrobo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7"/>
          <p:cNvSpPr/>
          <p:nvPr/>
        </p:nvSpPr>
        <p:spPr>
          <a:xfrm>
            <a:off x="5580000" y="3429000"/>
            <a:ext cx="28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ejście holistycz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AutoShape 38"/>
          <p:cNvCxnSpPr/>
          <p:nvPr/>
        </p:nvCxnSpPr>
        <p:spPr>
          <a:xfrm flipH="1" flipV="1" rot="10800000">
            <a:off x="1173600" y="2323800"/>
            <a:ext cx="2520" cy="1273680"/>
          </a:xfrm>
          <a:prstGeom prst="bentConnector3">
            <a:avLst>
              <a:gd name="adj1" fmla="val -18800000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296" name="AutoShape 39"/>
          <p:cNvCxnSpPr>
            <a:stCxn id="290" idx="3"/>
            <a:endCxn id="294" idx="3"/>
          </p:cNvCxnSpPr>
          <p:nvPr/>
        </p:nvCxnSpPr>
        <p:spPr>
          <a:xfrm>
            <a:off x="8459280" y="2424240"/>
            <a:ext cx="2520" cy="1173600"/>
          </a:xfrm>
          <a:prstGeom prst="bentConnector3">
            <a:avLst>
              <a:gd name="adj1" fmla="val 23600000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297" name="Text Box 40"/>
          <p:cNvSpPr/>
          <p:nvPr/>
        </p:nvSpPr>
        <p:spPr>
          <a:xfrm>
            <a:off x="2673360" y="4070520"/>
            <a:ext cx="4346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gnoz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1"/>
          <p:cNvSpPr/>
          <p:nvPr/>
        </p:nvSpPr>
        <p:spPr>
          <a:xfrm>
            <a:off x="1187280" y="4581360"/>
            <a:ext cx="32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ąstkowe, ograniczone,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głównie modele ekonometry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>
            <a:off x="5003640" y="458136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ieci dialogu, techniki foresight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3"/>
          <p:cNvSpPr/>
          <p:nvPr/>
        </p:nvSpPr>
        <p:spPr>
          <a:xfrm>
            <a:off x="2673360" y="5294160"/>
            <a:ext cx="43466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stępność i dostępność infor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4"/>
          <p:cNvSpPr/>
          <p:nvPr/>
        </p:nvSpPr>
        <p:spPr>
          <a:xfrm>
            <a:off x="1187280" y="58294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dla specjalistów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5"/>
          <p:cNvSpPr/>
          <p:nvPr/>
        </p:nvSpPr>
        <p:spPr>
          <a:xfrm>
            <a:off x="5724360" y="58294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różnicowane formy i zak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AutoShape 46"/>
          <p:cNvCxnSpPr/>
          <p:nvPr/>
        </p:nvCxnSpPr>
        <p:spPr>
          <a:xfrm flipH="1" flipV="1" rot="10800000">
            <a:off x="1110960" y="3596040"/>
            <a:ext cx="2160" cy="1275480"/>
          </a:xfrm>
          <a:prstGeom prst="bentConnector3">
            <a:avLst>
              <a:gd name="adj1" fmla="val -14400000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304" name="AutoShape 47"/>
          <p:cNvCxnSpPr/>
          <p:nvPr/>
        </p:nvCxnSpPr>
        <p:spPr>
          <a:xfrm flipH="1" flipV="1" rot="10800000">
            <a:off x="1110960" y="4870800"/>
            <a:ext cx="2160" cy="1126440"/>
          </a:xfrm>
          <a:prstGeom prst="bentConnector3">
            <a:avLst>
              <a:gd name="adj1" fmla="val -14400000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305" name="AutoShape 48"/>
          <p:cNvCxnSpPr/>
          <p:nvPr/>
        </p:nvCxnSpPr>
        <p:spPr>
          <a:xfrm>
            <a:off x="8529120" y="3597120"/>
            <a:ext cx="73800" cy="1153440"/>
          </a:xfrm>
          <a:prstGeom prst="bentConnector3">
            <a:avLst>
              <a:gd name="adj1" fmla="val 410784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306" name="AutoShape 49"/>
          <p:cNvCxnSpPr/>
          <p:nvPr/>
        </p:nvCxnSpPr>
        <p:spPr>
          <a:xfrm>
            <a:off x="8602200" y="4749840"/>
            <a:ext cx="2520" cy="1248480"/>
          </a:xfrm>
          <a:prstGeom prst="bentConnector3">
            <a:avLst>
              <a:gd name="adj1" fmla="val 14300000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raz 3" descr=""/>
          <p:cNvPicPr/>
          <p:nvPr/>
        </p:nvPicPr>
        <p:blipFill>
          <a:blip r:embed="rId1"/>
          <a:srcRect l="15095" t="0" r="16855" b="0"/>
          <a:stretch/>
        </p:blipFill>
        <p:spPr>
          <a:xfrm>
            <a:off x="324000" y="-12600"/>
            <a:ext cx="2933640" cy="6465960"/>
          </a:xfrm>
          <a:prstGeom prst="rect">
            <a:avLst/>
          </a:prstGeom>
          <a:ln w="0">
            <a:noFill/>
          </a:ln>
        </p:spPr>
      </p:pic>
      <p:pic>
        <p:nvPicPr>
          <p:cNvPr id="119" name="Rectangle 2" descr=""/>
          <p:cNvPicPr/>
          <p:nvPr/>
        </p:nvPicPr>
        <p:blipFill>
          <a:blip r:embed="rId2"/>
          <a:stretch/>
        </p:blipFill>
        <p:spPr>
          <a:xfrm>
            <a:off x="2511360" y="407880"/>
            <a:ext cx="66880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ole tekstowe 1" descr=""/>
          <p:cNvPicPr/>
          <p:nvPr/>
        </p:nvPicPr>
        <p:blipFill>
          <a:blip r:embed="rId1"/>
          <a:stretch/>
        </p:blipFill>
        <p:spPr>
          <a:xfrm>
            <a:off x="3048120" y="2236680"/>
            <a:ext cx="6387840" cy="4273560"/>
          </a:xfrm>
          <a:prstGeom prst="rect">
            <a:avLst/>
          </a:prstGeom>
          <a:ln w="0">
            <a:noFill/>
          </a:ln>
        </p:spPr>
      </p:pic>
      <p:pic>
        <p:nvPicPr>
          <p:cNvPr id="121" name="Obraz 3" descr=""/>
          <p:cNvPicPr/>
          <p:nvPr/>
        </p:nvPicPr>
        <p:blipFill>
          <a:blip r:embed="rId2"/>
          <a:stretch/>
        </p:blipFill>
        <p:spPr>
          <a:xfrm>
            <a:off x="0" y="2700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2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Łącznik prostoliniowy 1"/>
          <p:cNvSpPr/>
          <p:nvPr/>
        </p:nvSpPr>
        <p:spPr>
          <a:xfrm flipV="1">
            <a:off x="2411280" y="2781360"/>
            <a:ext cx="1297080" cy="230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Łącznik prostoliniowy 2"/>
          <p:cNvSpPr/>
          <p:nvPr/>
        </p:nvSpPr>
        <p:spPr>
          <a:xfrm flipH="1">
            <a:off x="2370240" y="2570040"/>
            <a:ext cx="828720" cy="1052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Łącznik prostoliniowy 3"/>
          <p:cNvSpPr/>
          <p:nvPr/>
        </p:nvSpPr>
        <p:spPr>
          <a:xfrm flipV="1">
            <a:off x="4218120" y="2103120"/>
            <a:ext cx="1217520" cy="3197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Łącznik prostoliniowy 4"/>
          <p:cNvSpPr/>
          <p:nvPr/>
        </p:nvSpPr>
        <p:spPr>
          <a:xfrm>
            <a:off x="3132000" y="5805360"/>
            <a:ext cx="2486160" cy="28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Łącznik prostoliniowy 5"/>
          <p:cNvSpPr/>
          <p:nvPr/>
        </p:nvSpPr>
        <p:spPr>
          <a:xfrm flipV="1">
            <a:off x="2921040" y="4514760"/>
            <a:ext cx="1735200" cy="781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Łącznik prostoliniowy 6"/>
          <p:cNvSpPr/>
          <p:nvPr/>
        </p:nvSpPr>
        <p:spPr>
          <a:xfrm flipH="1" flipV="1">
            <a:off x="5944680" y="1892160"/>
            <a:ext cx="1938600" cy="23241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Łącznik prostoliniowy 7"/>
          <p:cNvSpPr/>
          <p:nvPr/>
        </p:nvSpPr>
        <p:spPr>
          <a:xfrm flipH="1" flipV="1">
            <a:off x="1649160" y="4341600"/>
            <a:ext cx="2058840" cy="1174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Łącznik prostoliniowy 8"/>
          <p:cNvSpPr/>
          <p:nvPr/>
        </p:nvSpPr>
        <p:spPr>
          <a:xfrm flipH="1">
            <a:off x="2415960" y="1484280"/>
            <a:ext cx="5180040" cy="6541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Łącznik prostoliniowy 9"/>
          <p:cNvSpPr/>
          <p:nvPr/>
        </p:nvSpPr>
        <p:spPr>
          <a:xfrm flipV="1">
            <a:off x="1649520" y="1891800"/>
            <a:ext cx="3278160" cy="1009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Łącznik prostoliniowy 10"/>
          <p:cNvSpPr/>
          <p:nvPr/>
        </p:nvSpPr>
        <p:spPr>
          <a:xfrm flipV="1">
            <a:off x="2158920" y="4006800"/>
            <a:ext cx="2287800" cy="1238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Łącznik prostoliniowy 11"/>
          <p:cNvSpPr/>
          <p:nvPr/>
        </p:nvSpPr>
        <p:spPr>
          <a:xfrm>
            <a:off x="2416320" y="2138400"/>
            <a:ext cx="4011480" cy="1074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Łącznik prostoliniowy 12"/>
          <p:cNvSpPr/>
          <p:nvPr/>
        </p:nvSpPr>
        <p:spPr>
          <a:xfrm flipV="1">
            <a:off x="6126120" y="1993680"/>
            <a:ext cx="1681200" cy="2609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Łącznik prostoliniowy 13"/>
          <p:cNvSpPr/>
          <p:nvPr/>
        </p:nvSpPr>
        <p:spPr>
          <a:xfrm flipH="1" flipV="1">
            <a:off x="2158560" y="4130280"/>
            <a:ext cx="3459240" cy="6843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Łącznik prostoliniowy 14"/>
          <p:cNvSpPr/>
          <p:nvPr/>
        </p:nvSpPr>
        <p:spPr>
          <a:xfrm>
            <a:off x="3708360" y="2781360"/>
            <a:ext cx="947880" cy="716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Łącznik prostoliniowy 15"/>
          <p:cNvSpPr/>
          <p:nvPr/>
        </p:nvSpPr>
        <p:spPr>
          <a:xfrm flipH="1">
            <a:off x="5675400" y="3213000"/>
            <a:ext cx="752400" cy="2844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Łącznik prostoliniowy 16"/>
          <p:cNvSpPr/>
          <p:nvPr/>
        </p:nvSpPr>
        <p:spPr>
          <a:xfrm flipH="1" flipV="1">
            <a:off x="8316720" y="2205000"/>
            <a:ext cx="75960" cy="2222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Elipsa 17"/>
          <p:cNvGrpSpPr/>
          <p:nvPr/>
        </p:nvGrpSpPr>
        <p:grpSpPr>
          <a:xfrm>
            <a:off x="1127160" y="871560"/>
            <a:ext cx="1555560" cy="1547640"/>
            <a:chOff x="1127160" y="871560"/>
            <a:chExt cx="1555560" cy="1547640"/>
          </a:xfrm>
        </p:grpSpPr>
        <p:pic>
          <p:nvPicPr>
            <p:cNvPr id="139" name="Elipsa 17" descr=""/>
            <p:cNvPicPr/>
            <p:nvPr/>
          </p:nvPicPr>
          <p:blipFill>
            <a:blip r:embed="rId1"/>
            <a:stretch/>
          </p:blipFill>
          <p:spPr>
            <a:xfrm>
              <a:off x="1127160" y="871560"/>
              <a:ext cx="155556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398600" y="1119240"/>
              <a:ext cx="101772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globali-zac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Elipsa 18"/>
          <p:cNvGrpSpPr/>
          <p:nvPr/>
        </p:nvGrpSpPr>
        <p:grpSpPr>
          <a:xfrm>
            <a:off x="865080" y="2865600"/>
            <a:ext cx="1560600" cy="1547640"/>
            <a:chOff x="865080" y="2865600"/>
            <a:chExt cx="1560600" cy="1547640"/>
          </a:xfrm>
        </p:grpSpPr>
        <p:pic>
          <p:nvPicPr>
            <p:cNvPr id="142" name="Elipsa 18" descr=""/>
            <p:cNvPicPr/>
            <p:nvPr/>
          </p:nvPicPr>
          <p:blipFill>
            <a:blip r:embed="rId2"/>
            <a:stretch/>
          </p:blipFill>
          <p:spPr>
            <a:xfrm>
              <a:off x="865080" y="2865600"/>
              <a:ext cx="156060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139760" y="3112920"/>
              <a:ext cx="101916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starzenie si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Elipsa 19"/>
          <p:cNvGrpSpPr/>
          <p:nvPr/>
        </p:nvGrpSpPr>
        <p:grpSpPr>
          <a:xfrm>
            <a:off x="2925720" y="1305000"/>
            <a:ext cx="1554120" cy="1547640"/>
            <a:chOff x="2925720" y="1305000"/>
            <a:chExt cx="1554120" cy="1547640"/>
          </a:xfrm>
        </p:grpSpPr>
        <p:pic>
          <p:nvPicPr>
            <p:cNvPr id="145" name="Elipsa 19" descr=""/>
            <p:cNvPicPr/>
            <p:nvPr/>
          </p:nvPicPr>
          <p:blipFill>
            <a:blip r:embed="rId3"/>
            <a:stretch/>
          </p:blipFill>
          <p:spPr>
            <a:xfrm>
              <a:off x="2925720" y="1305000"/>
              <a:ext cx="155412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198960" y="1552680"/>
              <a:ext cx="10173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wirtuali-zac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Elipsa 20"/>
          <p:cNvGrpSpPr/>
          <p:nvPr/>
        </p:nvGrpSpPr>
        <p:grpSpPr>
          <a:xfrm>
            <a:off x="4383000" y="3249720"/>
            <a:ext cx="1560600" cy="1547640"/>
            <a:chOff x="4383000" y="3249720"/>
            <a:chExt cx="1560600" cy="1547640"/>
          </a:xfrm>
        </p:grpSpPr>
        <p:pic>
          <p:nvPicPr>
            <p:cNvPr id="148" name="Elipsa 20" descr=""/>
            <p:cNvPicPr/>
            <p:nvPr/>
          </p:nvPicPr>
          <p:blipFill>
            <a:blip r:embed="rId4"/>
            <a:stretch/>
          </p:blipFill>
          <p:spPr>
            <a:xfrm>
              <a:off x="4383000" y="3249720"/>
              <a:ext cx="156060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656240" y="3497400"/>
              <a:ext cx="10191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techno-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Elipsa 21"/>
          <p:cNvGrpSpPr/>
          <p:nvPr/>
        </p:nvGrpSpPr>
        <p:grpSpPr>
          <a:xfrm>
            <a:off x="2719440" y="3438360"/>
            <a:ext cx="1554120" cy="1548000"/>
            <a:chOff x="2719440" y="3438360"/>
            <a:chExt cx="1554120" cy="1548000"/>
          </a:xfrm>
        </p:grpSpPr>
        <p:pic>
          <p:nvPicPr>
            <p:cNvPr id="151" name="Elipsa 21" descr=""/>
            <p:cNvPicPr/>
            <p:nvPr/>
          </p:nvPicPr>
          <p:blipFill>
            <a:blip r:embed="rId5"/>
            <a:stretch/>
          </p:blipFill>
          <p:spPr>
            <a:xfrm>
              <a:off x="2719440" y="3438360"/>
              <a:ext cx="15541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989440" y="3683160"/>
              <a:ext cx="10191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Chi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Elipsa 22"/>
          <p:cNvGrpSpPr/>
          <p:nvPr/>
        </p:nvGrpSpPr>
        <p:grpSpPr>
          <a:xfrm>
            <a:off x="1627200" y="5048280"/>
            <a:ext cx="1560600" cy="1547640"/>
            <a:chOff x="1627200" y="5048280"/>
            <a:chExt cx="1560600" cy="1547640"/>
          </a:xfrm>
        </p:grpSpPr>
        <p:pic>
          <p:nvPicPr>
            <p:cNvPr id="154" name="Elipsa 22" descr=""/>
            <p:cNvPicPr/>
            <p:nvPr/>
          </p:nvPicPr>
          <p:blipFill>
            <a:blip r:embed="rId6"/>
            <a:stretch/>
          </p:blipFill>
          <p:spPr>
            <a:xfrm>
              <a:off x="1627200" y="5048280"/>
              <a:ext cx="1560600" cy="15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901880" y="5295960"/>
              <a:ext cx="10191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66"/>
                  </a:solidFill>
                  <a:latin typeface="Calibri"/>
                </a:rPr>
                <a:t>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Elipsa 23"/>
          <p:cNvGrpSpPr/>
          <p:nvPr/>
        </p:nvGrpSpPr>
        <p:grpSpPr>
          <a:xfrm>
            <a:off x="3438360" y="5267160"/>
            <a:ext cx="1554480" cy="1548000"/>
            <a:chOff x="3438360" y="5267160"/>
            <a:chExt cx="1554480" cy="1548000"/>
          </a:xfrm>
        </p:grpSpPr>
        <p:pic>
          <p:nvPicPr>
            <p:cNvPr id="157" name="Elipsa 23" descr=""/>
            <p:cNvPicPr/>
            <p:nvPr/>
          </p:nvPicPr>
          <p:blipFill>
            <a:blip r:embed="rId7"/>
            <a:stretch/>
          </p:blipFill>
          <p:spPr>
            <a:xfrm>
              <a:off x="3438360" y="5267160"/>
              <a:ext cx="15544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3710160" y="551196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wiedza symbo-licz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Elipsa 24"/>
          <p:cNvGrpSpPr/>
          <p:nvPr/>
        </p:nvGrpSpPr>
        <p:grpSpPr>
          <a:xfrm>
            <a:off x="6370560" y="2457360"/>
            <a:ext cx="1554120" cy="1548000"/>
            <a:chOff x="6370560" y="2457360"/>
            <a:chExt cx="1554120" cy="1548000"/>
          </a:xfrm>
        </p:grpSpPr>
        <p:pic>
          <p:nvPicPr>
            <p:cNvPr id="160" name="Elipsa 24" descr=""/>
            <p:cNvPicPr/>
            <p:nvPr/>
          </p:nvPicPr>
          <p:blipFill>
            <a:blip r:embed="rId8"/>
            <a:stretch/>
          </p:blipFill>
          <p:spPr>
            <a:xfrm>
              <a:off x="6370560" y="2457360"/>
              <a:ext cx="15541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638760" y="2703600"/>
              <a:ext cx="101952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siec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Elipsa 25"/>
          <p:cNvGrpSpPr/>
          <p:nvPr/>
        </p:nvGrpSpPr>
        <p:grpSpPr>
          <a:xfrm>
            <a:off x="5346720" y="4565520"/>
            <a:ext cx="1554120" cy="1554120"/>
            <a:chOff x="5346720" y="4565520"/>
            <a:chExt cx="1554120" cy="1554120"/>
          </a:xfrm>
        </p:grpSpPr>
        <p:pic>
          <p:nvPicPr>
            <p:cNvPr id="163" name="Elipsa 25" descr=""/>
            <p:cNvPicPr/>
            <p:nvPr/>
          </p:nvPicPr>
          <p:blipFill>
            <a:blip r:embed="rId9"/>
            <a:stretch/>
          </p:blipFill>
          <p:spPr>
            <a:xfrm>
              <a:off x="5346720" y="4565520"/>
              <a:ext cx="155412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618160" y="4815000"/>
              <a:ext cx="101772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ekolo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Elipsa 26"/>
          <p:cNvGrpSpPr/>
          <p:nvPr/>
        </p:nvGrpSpPr>
        <p:grpSpPr>
          <a:xfrm>
            <a:off x="7534440" y="725400"/>
            <a:ext cx="1554120" cy="1554120"/>
            <a:chOff x="7534440" y="725400"/>
            <a:chExt cx="1554120" cy="1554120"/>
          </a:xfrm>
        </p:grpSpPr>
        <p:pic>
          <p:nvPicPr>
            <p:cNvPr id="166" name="Elipsa 26" descr=""/>
            <p:cNvPicPr/>
            <p:nvPr/>
          </p:nvPicPr>
          <p:blipFill>
            <a:blip r:embed="rId10"/>
            <a:stretch/>
          </p:blipFill>
          <p:spPr>
            <a:xfrm>
              <a:off x="7534440" y="725400"/>
              <a:ext cx="155412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807320" y="976320"/>
              <a:ext cx="1017720" cy="10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społe-czeństwo obywa-telsk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Elipsa 27"/>
          <p:cNvGrpSpPr/>
          <p:nvPr/>
        </p:nvGrpSpPr>
        <p:grpSpPr>
          <a:xfrm>
            <a:off x="4657680" y="628560"/>
            <a:ext cx="1554120" cy="1548000"/>
            <a:chOff x="4657680" y="628560"/>
            <a:chExt cx="1554120" cy="1548000"/>
          </a:xfrm>
        </p:grpSpPr>
        <p:pic>
          <p:nvPicPr>
            <p:cNvPr id="169" name="Elipsa 27" descr=""/>
            <p:cNvPicPr/>
            <p:nvPr/>
          </p:nvPicPr>
          <p:blipFill>
            <a:blip r:embed="rId11"/>
            <a:stretch/>
          </p:blipFill>
          <p:spPr>
            <a:xfrm>
              <a:off x="4657680" y="628560"/>
              <a:ext cx="15541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927680" y="874800"/>
              <a:ext cx="10173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ene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Elipsa 28"/>
          <p:cNvGrpSpPr/>
          <p:nvPr/>
        </p:nvGrpSpPr>
        <p:grpSpPr>
          <a:xfrm>
            <a:off x="7102440" y="4181400"/>
            <a:ext cx="1554120" cy="1549440"/>
            <a:chOff x="7102440" y="4181400"/>
            <a:chExt cx="1554120" cy="1549440"/>
          </a:xfrm>
        </p:grpSpPr>
        <p:pic>
          <p:nvPicPr>
            <p:cNvPr id="172" name="Elipsa 28" descr=""/>
            <p:cNvPicPr/>
            <p:nvPr/>
          </p:nvPicPr>
          <p:blipFill>
            <a:blip r:embed="rId12"/>
            <a:stretch/>
          </p:blipFill>
          <p:spPr>
            <a:xfrm>
              <a:off x="7102440" y="4181400"/>
              <a:ext cx="155412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375680" y="4427640"/>
              <a:ext cx="101736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Calibri"/>
                </a:rPr>
                <a:t>poko-lenie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Łącznik prostoliniowy 29"/>
          <p:cNvSpPr/>
          <p:nvPr/>
        </p:nvSpPr>
        <p:spPr>
          <a:xfrm flipH="1">
            <a:off x="1649520" y="2349360"/>
            <a:ext cx="258480" cy="552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Łącznik prostoliniowy 30"/>
          <p:cNvSpPr/>
          <p:nvPr/>
        </p:nvSpPr>
        <p:spPr>
          <a:xfrm flipH="1">
            <a:off x="2416320" y="874800"/>
            <a:ext cx="2511360" cy="244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Łącznik prostoliniowy 31"/>
          <p:cNvSpPr/>
          <p:nvPr/>
        </p:nvSpPr>
        <p:spPr>
          <a:xfrm flipH="1" flipV="1">
            <a:off x="5944680" y="874800"/>
            <a:ext cx="1862280" cy="101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Łącznik prostoliniowy 32"/>
          <p:cNvSpPr/>
          <p:nvPr/>
        </p:nvSpPr>
        <p:spPr>
          <a:xfrm flipH="1" flipV="1">
            <a:off x="1649160" y="4341960"/>
            <a:ext cx="252360" cy="95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Łącznik prostoliniowy 33"/>
          <p:cNvSpPr/>
          <p:nvPr/>
        </p:nvSpPr>
        <p:spPr>
          <a:xfrm flipV="1">
            <a:off x="4727520" y="5656320"/>
            <a:ext cx="3156120" cy="874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Łącznik prostoliniowy 34"/>
          <p:cNvSpPr/>
          <p:nvPr/>
        </p:nvSpPr>
        <p:spPr>
          <a:xfrm>
            <a:off x="5886360" y="4006800"/>
            <a:ext cx="1489320" cy="4208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Łącznik prostoliniowy 35"/>
          <p:cNvSpPr/>
          <p:nvPr/>
        </p:nvSpPr>
        <p:spPr>
          <a:xfrm>
            <a:off x="6846840" y="5324400"/>
            <a:ext cx="528840" cy="120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Łącznik prostoliniowy 36"/>
          <p:cNvSpPr/>
          <p:nvPr/>
        </p:nvSpPr>
        <p:spPr>
          <a:xfrm>
            <a:off x="1908000" y="2349360"/>
            <a:ext cx="1081440" cy="1333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1680" y="115920"/>
            <a:ext cx="6273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Obyś żył w ciekawych czasa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320" y="115560"/>
            <a:ext cx="3171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Spirala wied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2409840" y="1523880"/>
            <a:ext cx="4856040" cy="4713480"/>
          </a:xfrm>
          <a:prstGeom prst="pi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761080" y="3286080"/>
            <a:ext cx="2340000" cy="2336760"/>
            <a:chOff x="5761080" y="3286080"/>
            <a:chExt cx="2340000" cy="2336760"/>
          </a:xfrm>
        </p:grpSpPr>
        <p:sp>
          <p:nvSpPr>
            <p:cNvPr id="186" name="_s1032"/>
            <p:cNvSpPr/>
            <p:nvPr/>
          </p:nvSpPr>
          <p:spPr>
            <a:xfrm>
              <a:off x="5761080" y="3286080"/>
              <a:ext cx="2340000" cy="2336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032"/>
            <p:cNvSpPr/>
            <p:nvPr/>
          </p:nvSpPr>
          <p:spPr>
            <a:xfrm>
              <a:off x="5940360" y="3467160"/>
              <a:ext cx="1981080" cy="1977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ROSNĄCA </a:t>
              </a:r>
              <a:br>
                <a:rPr sz="1400"/>
              </a:b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ŁOŻONOŚĆ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KONIECZNOŚ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PECJALIZ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9"/>
          <p:cNvGrpSpPr/>
          <p:nvPr/>
        </p:nvGrpSpPr>
        <p:grpSpPr>
          <a:xfrm>
            <a:off x="1685880" y="3300480"/>
            <a:ext cx="2340000" cy="2336760"/>
            <a:chOff x="1685880" y="3300480"/>
            <a:chExt cx="2340000" cy="2336760"/>
          </a:xfrm>
        </p:grpSpPr>
        <p:sp>
          <p:nvSpPr>
            <p:cNvPr id="189" name="_s1032"/>
            <p:cNvSpPr/>
            <p:nvPr/>
          </p:nvSpPr>
          <p:spPr>
            <a:xfrm>
              <a:off x="1685880" y="3300480"/>
              <a:ext cx="2340000" cy="2336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033"/>
            <p:cNvSpPr/>
            <p:nvPr/>
          </p:nvSpPr>
          <p:spPr>
            <a:xfrm>
              <a:off x="1865520" y="3478320"/>
              <a:ext cx="1981080" cy="1971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KONIECZN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SPÓŁPRA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INTERDYSCYP.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OJEKTOWOŚĆ</a:t>
              </a:r>
              <a:br>
                <a:rPr sz="1400"/>
              </a:b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I OTWARTOŚ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(zacieranie granic </a:t>
              </a:r>
              <a:br>
                <a:rPr sz="1000"/>
              </a:br>
              <a:r>
                <a:rPr b="1" lang="pl-PL" sz="1000" spc="-1" strike="noStrike">
                  <a:solidFill>
                    <a:srgbClr val="000000"/>
                  </a:solidFill>
                  <a:latin typeface="Arial"/>
                </a:rPr>
                <a:t>branżowych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2"/>
          <p:cNvGrpSpPr/>
          <p:nvPr/>
        </p:nvGrpSpPr>
        <p:grpSpPr>
          <a:xfrm>
            <a:off x="3665520" y="779400"/>
            <a:ext cx="2339640" cy="2336760"/>
            <a:chOff x="3665520" y="779400"/>
            <a:chExt cx="2339640" cy="2336760"/>
          </a:xfrm>
        </p:grpSpPr>
        <p:sp>
          <p:nvSpPr>
            <p:cNvPr id="192" name="_s1032"/>
            <p:cNvSpPr/>
            <p:nvPr/>
          </p:nvSpPr>
          <p:spPr>
            <a:xfrm>
              <a:off x="3665520" y="779400"/>
              <a:ext cx="2339640" cy="2336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032"/>
            <p:cNvSpPr/>
            <p:nvPr/>
          </p:nvSpPr>
          <p:spPr>
            <a:xfrm>
              <a:off x="3844800" y="960480"/>
              <a:ext cx="1981080" cy="1977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ZYROST WIEDZ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AutoShape 15"/>
          <p:cNvSpPr/>
          <p:nvPr/>
        </p:nvSpPr>
        <p:spPr>
          <a:xfrm rot="1890000">
            <a:off x="3088800" y="5243040"/>
            <a:ext cx="505080" cy="647640"/>
          </a:xfrm>
          <a:prstGeom prst="leftArrow">
            <a:avLst>
              <a:gd name="adj1" fmla="val 47861"/>
              <a:gd name="adj2" fmla="val 6665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 rot="8662800">
            <a:off x="3375720" y="1682280"/>
            <a:ext cx="505080" cy="647640"/>
          </a:xfrm>
          <a:prstGeom prst="leftArrow">
            <a:avLst>
              <a:gd name="adj1" fmla="val 47861"/>
              <a:gd name="adj2" fmla="val 6665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7"/>
          <p:cNvSpPr/>
          <p:nvPr/>
        </p:nvSpPr>
        <p:spPr>
          <a:xfrm rot="15679200">
            <a:off x="6796800" y="2904120"/>
            <a:ext cx="433440" cy="647640"/>
          </a:xfrm>
          <a:prstGeom prst="leftArrow">
            <a:avLst>
              <a:gd name="adj1" fmla="val 47861"/>
              <a:gd name="adj2" fmla="val 6665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8"/>
          <p:cNvSpPr/>
          <p:nvPr/>
        </p:nvSpPr>
        <p:spPr>
          <a:xfrm flipV="1">
            <a:off x="7142040" y="3072960"/>
            <a:ext cx="239760" cy="298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9"/>
          <p:cNvSpPr/>
          <p:nvPr/>
        </p:nvSpPr>
        <p:spPr>
          <a:xfrm flipH="1" flipV="1">
            <a:off x="7102440" y="2949480"/>
            <a:ext cx="63360" cy="177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971640" y="549360"/>
            <a:ext cx="7848360" cy="604836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1"/>
          <p:cNvSpPr/>
          <p:nvPr/>
        </p:nvSpPr>
        <p:spPr>
          <a:xfrm>
            <a:off x="6443640" y="44280"/>
            <a:ext cx="2700360" cy="1008360"/>
          </a:xfrm>
          <a:prstGeom prst="cloudCallout">
            <a:avLst>
              <a:gd name="adj1" fmla="val -30953"/>
              <a:gd name="adj2" fmla="val 909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SNĄCA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PEW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560" y="43920"/>
            <a:ext cx="864108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Piramida wiedzy – gdzie jest nasza edukacj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Diagram 1" descr=""/>
          <p:cNvPicPr/>
          <p:nvPr/>
        </p:nvPicPr>
        <p:blipFill>
          <a:blip r:embed="rId1"/>
          <a:stretch/>
        </p:blipFill>
        <p:spPr>
          <a:xfrm>
            <a:off x="-19080" y="743040"/>
            <a:ext cx="9182160" cy="61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0"/>
          <p:cNvSpPr/>
          <p:nvPr/>
        </p:nvSpPr>
        <p:spPr>
          <a:xfrm>
            <a:off x="1194840" y="968400"/>
            <a:ext cx="14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li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biznesu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(RIS, klastry,</a:t>
            </a:r>
            <a:br>
              <a:rPr sz="1800"/>
            </a:b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ten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1"/>
          <p:cNvSpPr/>
          <p:nvPr/>
        </p:nvSpPr>
        <p:spPr>
          <a:xfrm>
            <a:off x="2693880" y="1062000"/>
            <a:ext cx="0" cy="4721400"/>
          </a:xfrm>
          <a:prstGeom prst="line">
            <a:avLst/>
          </a:prstGeom>
          <a:ln w="19080">
            <a:solidFill>
              <a:srgbClr val="ff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2"/>
          <p:cNvSpPr/>
          <p:nvPr/>
        </p:nvSpPr>
        <p:spPr>
          <a:xfrm flipH="1">
            <a:off x="2693520" y="5783400"/>
            <a:ext cx="514836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33"/>
          <p:cNvCxnSpPr>
            <a:stCxn id="204" idx="0"/>
            <a:endCxn id="205" idx="0"/>
          </p:cNvCxnSpPr>
          <p:nvPr/>
        </p:nvCxnSpPr>
        <p:spPr>
          <a:xfrm>
            <a:off x="2693520" y="1049400"/>
            <a:ext cx="5157000" cy="473436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207" name="Rectangle 34"/>
          <p:cNvSpPr/>
          <p:nvPr/>
        </p:nvSpPr>
        <p:spPr>
          <a:xfrm>
            <a:off x="3427560" y="5392800"/>
            <a:ext cx="551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li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la ludz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(różnorodność, kreatywność, tolerancja, urbanizac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"/>
          <p:cNvSpPr/>
          <p:nvPr/>
        </p:nvSpPr>
        <p:spPr>
          <a:xfrm>
            <a:off x="6670800" y="4156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iedza symboliczna </a:t>
            </a:r>
            <a:br>
              <a:rPr sz="1800"/>
            </a:b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(super-creative 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6"/>
          <p:cNvSpPr/>
          <p:nvPr/>
        </p:nvSpPr>
        <p:spPr>
          <a:xfrm>
            <a:off x="5025240" y="285264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iedza analityczna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(naukow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>
            <a:off x="3507840" y="148428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wiedza syntetyczna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(inżyniers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8"/>
          <p:cNvSpPr/>
          <p:nvPr/>
        </p:nvSpPr>
        <p:spPr>
          <a:xfrm>
            <a:off x="1243440" y="6453360"/>
            <a:ext cx="213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(wg. Bjřrna T. Asheim’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Opierajmy się na wiedzy… ale jakie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8"/>
          <p:cNvSpPr/>
          <p:nvPr/>
        </p:nvSpPr>
        <p:spPr>
          <a:xfrm>
            <a:off x="684360" y="1341360"/>
            <a:ext cx="7667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0800" bIns="46800" anchor="t">
            <a:noAutofit/>
          </a:bodyPr>
          <a:p>
            <a:pPr marL="533520" indent="-495360">
              <a:lnSpc>
                <a:spcPct val="110000"/>
              </a:lnSpc>
              <a:spcBef>
                <a:spcPts val="5100"/>
              </a:spcBef>
              <a:buClr>
                <a:srgbClr val="ff3300"/>
              </a:buClr>
              <a:buFont typeface="Wingdings" charset="2"/>
              <a:buChar char="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66"/>
                </a:solidFill>
                <a:latin typeface="Calibri"/>
              </a:rPr>
              <a:t>symboliczni analitycy”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inżynierowie, prawnicy, naukowcy, kadra zarządzająca, dziennikarze, konsultanci itp. (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mind worker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95360">
              <a:lnSpc>
                <a:spcPct val="110000"/>
              </a:lnSpc>
              <a:spcBef>
                <a:spcPts val="5100"/>
              </a:spcBef>
              <a:buClr>
                <a:srgbClr val="ff3300"/>
              </a:buClr>
              <a:buFont typeface="Wingdings" charset="2"/>
              <a:buChar char="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66"/>
                </a:solidFill>
                <a:latin typeface="Calibri"/>
              </a:rPr>
              <a:t>pracownicy rutynowi”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robotnicy, brygadziści, nadzorcy, „przetwórcy” danych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95360">
              <a:lnSpc>
                <a:spcPct val="110000"/>
              </a:lnSpc>
              <a:spcBef>
                <a:spcPts val="5100"/>
              </a:spcBef>
              <a:buClr>
                <a:srgbClr val="ff3300"/>
              </a:buClr>
              <a:buFont typeface="Wingdings" charset="2"/>
              <a:buChar char="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66"/>
                </a:solidFill>
                <a:latin typeface="Calibri"/>
              </a:rPr>
              <a:t>pracownicy usług osobistych”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kelnerzy, opiekunowie, fryzjerzy, sprzedawcy i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250920" y="358920"/>
            <a:ext cx="8748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Typy pracy (wg. Roberta Reich’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5"/>
          <p:cNvSpPr/>
          <p:nvPr/>
        </p:nvSpPr>
        <p:spPr>
          <a:xfrm>
            <a:off x="701640" y="9810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ziom wied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1542960" y="1424160"/>
            <a:ext cx="0" cy="4721040"/>
          </a:xfrm>
          <a:prstGeom prst="line">
            <a:avLst/>
          </a:prstGeom>
          <a:ln w="19080">
            <a:solidFill>
              <a:srgbClr val="10253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1542960" y="6167520"/>
            <a:ext cx="6696000" cy="0"/>
          </a:xfrm>
          <a:prstGeom prst="line">
            <a:avLst/>
          </a:prstGeom>
          <a:ln w="19080">
            <a:solidFill>
              <a:srgbClr val="10253f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9"/>
          <p:cNvSpPr/>
          <p:nvPr/>
        </p:nvSpPr>
        <p:spPr>
          <a:xfrm>
            <a:off x="6370200" y="62308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ybkość zmi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6"/>
          <p:cNvGrpSpPr/>
          <p:nvPr/>
        </p:nvGrpSpPr>
        <p:grpSpPr>
          <a:xfrm>
            <a:off x="1626840" y="3718080"/>
            <a:ext cx="6384600" cy="1873080"/>
            <a:chOff x="1626840" y="3718080"/>
            <a:chExt cx="6384600" cy="1873080"/>
          </a:xfrm>
        </p:grpSpPr>
        <p:cxnSp>
          <p:nvCxnSpPr>
            <p:cNvPr id="220" name="AutoShape 28"/>
            <p:cNvCxnSpPr>
              <a:endCxn id="221" idx="6"/>
            </p:cNvCxnSpPr>
            <p:nvPr/>
          </p:nvCxnSpPr>
          <p:spPr>
            <a:xfrm flipV="1">
              <a:off x="1626840" y="3771360"/>
              <a:ext cx="4607640" cy="16023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sp>
          <p:nvSpPr>
            <p:cNvPr id="222" name="Rectangle 30"/>
            <p:cNvSpPr/>
            <p:nvPr/>
          </p:nvSpPr>
          <p:spPr>
            <a:xfrm>
              <a:off x="5549040" y="3999240"/>
              <a:ext cx="24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Arial"/>
                </a:rPr>
                <a:t>„</a:t>
              </a:r>
              <a:r>
                <a:rPr b="0" lang="pl-PL" sz="1800" spc="-1" strike="noStrike">
                  <a:solidFill>
                    <a:srgbClr val="000066"/>
                  </a:solidFill>
                  <a:latin typeface="Arial"/>
                </a:rPr>
                <a:t>symboliczni analitycy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31"/>
            <p:cNvSpPr/>
            <p:nvPr/>
          </p:nvSpPr>
          <p:spPr>
            <a:xfrm>
              <a:off x="3287160" y="471816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Arial"/>
                </a:rPr>
                <a:t>„</a:t>
              </a:r>
              <a:r>
                <a:rPr b="0" lang="pl-PL" sz="1800" spc="-1" strike="noStrike">
                  <a:solidFill>
                    <a:srgbClr val="000066"/>
                  </a:solidFill>
                  <a:latin typeface="Arial"/>
                </a:rPr>
                <a:t>pracownicy rutynowi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2"/>
            <p:cNvSpPr/>
            <p:nvPr/>
          </p:nvSpPr>
          <p:spPr>
            <a:xfrm>
              <a:off x="1928880" y="5222880"/>
              <a:ext cx="32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66"/>
                  </a:solidFill>
                  <a:latin typeface="Arial"/>
                </a:rPr>
                <a:t>„</a:t>
              </a:r>
              <a:r>
                <a:rPr b="0" lang="pl-PL" sz="1800" spc="-1" strike="noStrike">
                  <a:solidFill>
                    <a:srgbClr val="000066"/>
                  </a:solidFill>
                  <a:latin typeface="Arial"/>
                </a:rPr>
                <a:t>pracownicy usług osobistych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3"/>
            <p:cNvSpPr/>
            <p:nvPr/>
          </p:nvSpPr>
          <p:spPr>
            <a:xfrm>
              <a:off x="6091560" y="3718080"/>
              <a:ext cx="142560" cy="1429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4"/>
            <p:cNvSpPr/>
            <p:nvPr/>
          </p:nvSpPr>
          <p:spPr>
            <a:xfrm>
              <a:off x="4003920" y="4438800"/>
              <a:ext cx="142920" cy="1429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35"/>
            <p:cNvSpPr/>
            <p:nvPr/>
          </p:nvSpPr>
          <p:spPr>
            <a:xfrm>
              <a:off x="2347920" y="5013360"/>
              <a:ext cx="142920" cy="14292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52"/>
          <p:cNvGrpSpPr/>
          <p:nvPr/>
        </p:nvGrpSpPr>
        <p:grpSpPr>
          <a:xfrm>
            <a:off x="1626840" y="1341360"/>
            <a:ext cx="6396480" cy="3600000"/>
            <a:chOff x="1626840" y="1341360"/>
            <a:chExt cx="6396480" cy="3600000"/>
          </a:xfrm>
        </p:grpSpPr>
        <p:cxnSp>
          <p:nvCxnSpPr>
            <p:cNvPr id="228" name="AutoShape 38"/>
            <p:cNvCxnSpPr/>
            <p:nvPr/>
          </p:nvCxnSpPr>
          <p:spPr>
            <a:xfrm flipV="1">
              <a:off x="1626840" y="1405440"/>
              <a:ext cx="6350760" cy="3536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sp>
          <p:nvSpPr>
            <p:cNvPr id="229" name="AutoShape 42"/>
            <p:cNvSpPr/>
            <p:nvPr/>
          </p:nvSpPr>
          <p:spPr>
            <a:xfrm>
              <a:off x="7848720" y="1341360"/>
              <a:ext cx="174600" cy="18396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43"/>
            <p:cNvSpPr/>
            <p:nvPr/>
          </p:nvSpPr>
          <p:spPr>
            <a:xfrm>
              <a:off x="4854600" y="2997000"/>
              <a:ext cx="174600" cy="18576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44"/>
            <p:cNvSpPr/>
            <p:nvPr/>
          </p:nvSpPr>
          <p:spPr>
            <a:xfrm>
              <a:off x="2684520" y="4213080"/>
              <a:ext cx="174600" cy="185760"/>
            </a:xfrm>
            <a:prstGeom prst="pi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2" name="AutoShape 47"/>
          <p:cNvCxnSpPr>
            <a:stCxn id="226" idx="5"/>
            <a:endCxn id="231" idx="5"/>
          </p:cNvCxnSpPr>
          <p:nvPr/>
        </p:nvCxnSpPr>
        <p:spPr>
          <a:xfrm flipV="1">
            <a:off x="2376360" y="4398480"/>
            <a:ext cx="342000" cy="758160"/>
          </a:xfrm>
          <a:prstGeom prst="straightConnector1">
            <a:avLst/>
          </a:prstGeom>
          <a:ln w="9360">
            <a:solidFill>
              <a:srgbClr val="0000b8"/>
            </a:solidFill>
            <a:prstDash val="dash"/>
            <a:miter/>
          </a:ln>
        </p:spPr>
      </p:cxnSp>
      <p:cxnSp>
        <p:nvCxnSpPr>
          <p:cNvPr id="233" name="AutoShape 48"/>
          <p:cNvCxnSpPr>
            <a:stCxn id="225" idx="5"/>
            <a:endCxn id="230" idx="5"/>
          </p:cNvCxnSpPr>
          <p:nvPr/>
        </p:nvCxnSpPr>
        <p:spPr>
          <a:xfrm flipV="1">
            <a:off x="4075200" y="3182040"/>
            <a:ext cx="813600" cy="1256760"/>
          </a:xfrm>
          <a:prstGeom prst="straightConnector1">
            <a:avLst/>
          </a:prstGeom>
          <a:ln w="9360">
            <a:solidFill>
              <a:srgbClr val="0000b8"/>
            </a:solidFill>
            <a:prstDash val="dash"/>
            <a:miter/>
          </a:ln>
        </p:spPr>
      </p:cxnSp>
      <p:cxnSp>
        <p:nvCxnSpPr>
          <p:cNvPr id="234" name="AutoShape 49"/>
          <p:cNvCxnSpPr>
            <a:stCxn id="221" idx="5"/>
            <a:endCxn id="229" idx="5"/>
          </p:cNvCxnSpPr>
          <p:nvPr/>
        </p:nvCxnSpPr>
        <p:spPr>
          <a:xfrm flipV="1">
            <a:off x="6119280" y="1525320"/>
            <a:ext cx="1762920" cy="2335680"/>
          </a:xfrm>
          <a:prstGeom prst="straightConnector1">
            <a:avLst/>
          </a:prstGeom>
          <a:ln w="9360">
            <a:solidFill>
              <a:srgbClr val="0000b8"/>
            </a:solidFill>
            <a:prstDash val="dash"/>
            <a:miter/>
          </a:ln>
        </p:spPr>
      </p:cxnSp>
      <p:sp>
        <p:nvSpPr>
          <p:cNvPr id="235" name="Text Box 2"/>
          <p:cNvSpPr/>
          <p:nvPr/>
        </p:nvSpPr>
        <p:spPr>
          <a:xfrm>
            <a:off x="250920" y="71280"/>
            <a:ext cx="8748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Znaczenie kształcenia ustawicz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6:21:36Z</dcterms:created>
  <dc:creator>Kamil Barański</dc:creator>
  <dc:description/>
  <dc:language>en-US</dc:language>
  <cp:lastModifiedBy>Barański</cp:lastModifiedBy>
  <dcterms:modified xsi:type="dcterms:W3CDTF">2011-05-16T18:53:03Z</dcterms:modified>
  <cp:revision>11</cp:revision>
  <dc:subject/>
  <dc:title>Slajd 1</dc:title>
</cp:coreProperties>
</file>